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188D-37AF-4155-A2DC-65A424BBC2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F99D-B55C-42BE-A77B-4B259CF30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93E0-3FA9-4D4C-BD5A-383FB202C6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14C2-8246-481C-860E-14DD455936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9C09-DDBE-429B-B347-093714F127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69CE-CF5B-4561-8E16-D4A8E88FB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7668-AF29-4F43-B24D-A0C8F1B9F0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120-A522-40E4-87ED-BDF07E9C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39D-6E65-43E3-929A-A63BDE3F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C01-FE1D-4002-B9E5-F900964E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841-F274-4EFA-812A-ED91CFB4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950D-628D-442B-A009-263D2A0F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2556-DABD-46E5-A0E6-936C05A3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D084-CC91-48E4-A7BF-B480CC51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819F-71FE-413E-A2D3-8DFD83EC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A1AD-F0E4-4057-BF1C-8AB78D13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BA61-BE84-4D98-A5CD-E08F753F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2BF7-0E1F-4FFB-B686-1B55533B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528-5D41-4C55-9C8F-B740B792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A041-338D-4786-8B72-9DE3DEF3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149A-EF70-45C1-91A7-8BA658C0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5350-FA50-44E6-9283-9075A0FA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8228-12F6-4EDA-B237-CA24F992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E5C0-E5CC-4B70-959A-DBF42BDD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07D04-8B51-48FC-A4D4-69F2EF6A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B2CC-5A14-4C4C-A7D2-194DF849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C852-F77E-4094-A8D6-471C3D0E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7AE2A-CF7F-40A5-BEC6-BECB1B7E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59FF2-F040-4E3B-9B4B-35F3F6C7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172-DBF9-4845-9D1A-0241C75A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A4EE-15BE-4B0F-9B7B-A2C6986B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E535-7597-4EDB-9923-7585063D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F29EF-E9A7-4602-BDCD-4FD4700D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D51D-1B48-4040-91AA-00513B4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3C7A9-0A4D-43CC-AAE4-A97A3CAA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AF1B5-EC70-4B93-B01C-9845F3A2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59BE-F875-462F-9D52-2F86F54E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4B854-77C0-4529-8982-5C5968F2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0412A-74D0-4FE5-875D-D07E5406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68A5-0DD0-46BE-8C70-104DA41A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853-C9CF-46B7-AB77-E580268C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DE74-DF92-4D9B-B9F1-818B75D0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7D82E-4E6C-4038-BE7E-038AE1E1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37895-D9E5-45D0-866F-769C41D5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693D-F931-4B9B-9779-339ACBD4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39079-6A1C-43A2-9A04-027A9E15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8255-D080-4E15-A146-DD804142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0E3A-AAEE-46D5-897F-27881AA7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D310C-6909-471B-904B-754F4BD9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B8073-9A8C-428E-B29C-7EF09FB1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5BFBE-FF0C-4018-90B3-D96CF35B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960-241B-4553-9CB2-1A065BFD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E6649-FB77-4F1B-9B61-EB3F0519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2401E-750E-4D43-8273-CAD84230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52157-445C-42B4-8E4C-BDECB6A8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6F20B-69B2-403B-982B-181E021C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3D1D1-4E4E-48D3-9267-9A92C491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5E46D-F9ED-4D3E-800E-09D25452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129E7-D71C-4D3C-BCCF-0FE8E21A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78B0C-A90F-403B-B3F3-164E7667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AB45E-E1F8-4776-BC7C-FFC7EA48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9A44-09BF-4BDC-B629-2B91B320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191-9246-4F93-89DA-4F3D867D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47B92-491A-4C92-9D75-D04D0F0E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960-414C-4E05-97BF-5FC1F18C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D15-6058-421D-A35A-A5D18827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192-1D70-4786-B711-E836727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C40E-9791-4813-89C0-EC21725C10E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584C-3444-427F-B84B-4BF1546F1F9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F33A-D028-4B4F-B19C-D533B02DE31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11A3-8D26-4016-A6D6-2C5B673AA0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8FE2-35AB-4D92-82FB-1E71E28335C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7120" y="189000"/>
            <a:ext cx="7786800" cy="316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2139e"/>
                </a:solidFill>
                <a:latin typeface="Verdana"/>
              </a:rPr>
              <a:t>Являются ли семейные ценности основой школьной успешности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-360" y="556236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 Black"/>
              </a:rPr>
              <a:t>Беседа с родител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1071720" y="1714680"/>
            <a:ext cx="7143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714240" y="928800"/>
            <a:ext cx="77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 можем придумывать или находить миллион причин, почему в наших семьях отсутствуют семейные ценности. Разве мы не сами в ответе за свою жизнь и жизнь наших семей? Разве имеем мы право перекладывать ответственность за воспитание своих детей на обще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2920" y="1341360"/>
            <a:ext cx="77835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23232"/>
                </a:solidFill>
                <a:latin typeface="Verdana"/>
              </a:rPr>
              <a:t>Проблема:                               </a:t>
            </a:r>
            <a:br>
              <a:rPr sz="4800"/>
            </a:br>
            <a:r>
              <a:rPr b="1" lang="ru-RU" sz="4800" spc="-1" strike="noStrike">
                <a:solidFill>
                  <a:srgbClr val="323232"/>
                </a:solidFill>
                <a:latin typeface="Verdana"/>
              </a:rPr>
              <a:t>      </a:t>
            </a:r>
            <a:r>
              <a:rPr b="1" lang="ru-RU" sz="3600" spc="-1" strike="noStrike">
                <a:solidFill>
                  <a:srgbClr val="323232"/>
                </a:solidFill>
                <a:latin typeface="Verdana"/>
              </a:rPr>
              <a:t>успех ребёнка в школе</a:t>
            </a:r>
            <a:r>
              <a:rPr b="1" lang="ru-RU" sz="4800" spc="-1" strike="noStrike">
                <a:solidFill>
                  <a:srgbClr val="323232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50920" y="3567240"/>
            <a:ext cx="8178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23232"/>
                </a:solidFill>
                <a:latin typeface="Arial Black"/>
              </a:rPr>
              <a:t>Цель: </a:t>
            </a:r>
            <a:br>
              <a:rPr sz="4800"/>
            </a:br>
            <a:r>
              <a:rPr b="1" lang="ru-RU" sz="4000" spc="-1" strike="noStrike">
                <a:solidFill>
                  <a:srgbClr val="323232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23232"/>
                </a:solidFill>
                <a:latin typeface="Arial Black"/>
              </a:rPr>
              <a:t>определение роли </a:t>
            </a:r>
            <a:br>
              <a:rPr sz="3600"/>
            </a:br>
            <a:r>
              <a:rPr b="0" lang="ru-RU" sz="3600" spc="-1" strike="noStrike">
                <a:solidFill>
                  <a:srgbClr val="323232"/>
                </a:solidFill>
                <a:latin typeface="Arial Black"/>
              </a:rPr>
              <a:t>   родителей в успехах</a:t>
            </a:r>
            <a:r>
              <a:rPr b="0" lang="en-US" sz="3600" spc="-1" strike="noStrike">
                <a:solidFill>
                  <a:srgbClr val="323232"/>
                </a:solidFill>
                <a:latin typeface="Arial Black"/>
              </a:rPr>
              <a:t>   </a:t>
            </a:r>
            <a:r>
              <a:rPr b="0" lang="ru-RU" sz="3600" spc="-1" strike="noStrike">
                <a:solidFill>
                  <a:srgbClr val="323232"/>
                </a:solidFill>
                <a:latin typeface="Arial Black"/>
              </a:rPr>
              <a:t>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600" y="1484280"/>
            <a:ext cx="79995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Verdana"/>
              </a:rPr>
              <a:t>«Привычки, вырабатываемые с детства, определяют всю нашу жизнь»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286240" y="4221000"/>
            <a:ext cx="3214800" cy="6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232"/>
                </a:solidFill>
                <a:latin typeface="Arial Black"/>
              </a:rPr>
              <a:t>Аристо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42600" y="5229000"/>
            <a:ext cx="3357720" cy="1128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Толковый словар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С.И.Ожего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" descr="25000389656"/>
          <p:cNvPicPr/>
          <p:nvPr/>
        </p:nvPicPr>
        <p:blipFill>
          <a:blip r:embed="rId1"/>
          <a:stretch/>
        </p:blipFill>
        <p:spPr>
          <a:xfrm>
            <a:off x="642960" y="1071720"/>
            <a:ext cx="3132000" cy="41036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5"/>
          <p:cNvSpPr/>
          <p:nvPr/>
        </p:nvSpPr>
        <p:spPr>
          <a:xfrm>
            <a:off x="4284720" y="1413000"/>
            <a:ext cx="4859280" cy="3816360"/>
          </a:xfrm>
          <a:prstGeom prst="wedgeRoundRectCallout">
            <a:avLst>
              <a:gd name="adj1" fmla="val -76625"/>
              <a:gd name="adj2" fmla="val -11398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3232"/>
                </a:solidFill>
                <a:latin typeface="Arial Black"/>
              </a:rPr>
              <a:t>Успешный, -ая, -ое.   </a:t>
            </a:r>
            <a:br>
              <a:rPr sz="2400"/>
            </a:br>
            <a:r>
              <a:rPr b="1" lang="ru-RU" sz="2400" spc="-1" strike="noStrike">
                <a:solidFill>
                  <a:srgbClr val="323232"/>
                </a:solidFill>
                <a:latin typeface="Arial Black"/>
              </a:rPr>
              <a:t>Заключающий в себе успех, удач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3232"/>
                </a:solidFill>
                <a:latin typeface="Arial Black"/>
              </a:rPr>
              <a:t>Успех, -а,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3232"/>
                </a:solidFill>
                <a:latin typeface="Arial Black"/>
              </a:rPr>
              <a:t>1.Хорошие результаты в работе, учё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3232"/>
                </a:solidFill>
                <a:latin typeface="Arial Black"/>
              </a:rPr>
              <a:t>2. Общественное при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57120" y="856800"/>
            <a:ext cx="8212320" cy="444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 Black"/>
              </a:rPr>
              <a:t>Успешный ребёнок имеет положительную самооценку и, наряду с хорошей успеваемостью, умеет преодолевать жизненные трудности, находить друзей и сохранять здоровье, избавляться от негативных мысл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28400" y="529920"/>
            <a:ext cx="807228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воря о семейных ценностях (согласитесь, это достаточно широкое понятие), давайте конкретизируем, что большинство из нас имеет ввиду. Скорее всего, это принципы взаимоотношений как между супругами, так и в отношениях родителей и детей, которые включают в себя……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2643120" y="4857840"/>
            <a:ext cx="4071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3"/>
          <p:cNvSpPr/>
          <p:nvPr/>
        </p:nvSpPr>
        <p:spPr>
          <a:xfrm>
            <a:off x="571680" y="128592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юбовь, заботу, взаимопонимание, терпение, верность, жертвенность, уважение, сострадание, взаимоподдержку, честность, искренность, довери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многое друго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ажны ли о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714240" y="1285920"/>
            <a:ext cx="792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заимопоним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785880" y="1785960"/>
            <a:ext cx="75722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Arial"/>
              </a:rPr>
              <a:t>доверие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6:29:23Z</dcterms:created>
  <dc:creator>Admin</dc:creator>
  <dc:description/>
  <cp:keywords/>
  <dc:language>en-US</dc:language>
  <cp:lastModifiedBy>WIN7XP</cp:lastModifiedBy>
  <dcterms:modified xsi:type="dcterms:W3CDTF">2012-02-27T16:13:32Z</dcterms:modified>
  <cp:revision>16</cp:revision>
  <dc:subject/>
  <dc:title>Как помочь ребёнку стать успешны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