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F4D-31DF-4444-AE33-AA581A030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0CC4-1433-421E-98B0-4F112D9A7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2635-007A-4AB0-8DC3-53B62838D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4D5-2D7D-41EC-8856-46FCF626F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B658-4A34-4802-AEB1-DBD2DF077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31C7-99CC-4408-AEC9-4A3D9EC78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7D0B-C205-4F86-BE17-B23B77E897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B31-7BFA-44D1-B4AE-0DA76643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943-8DF2-4496-B1EF-8C1BC0A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96D-B65E-4684-8A76-97CF6CBC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111-3CEF-4AB4-BC58-5318DCB2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35B9-9848-4C99-801E-2F5C80E9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5B94-637E-42B0-8E69-AD8DE1A4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929F-F47F-44C8-BE4B-6F76975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7921-2530-4165-8606-566431B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3BC-D90D-4BFE-87C9-70DF65C1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8270-1B44-4C91-A32E-7F9F373D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25AF-5531-493E-B28E-C99BA9A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6CA-4269-4C4F-A87D-1824C15B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D62A-4760-4CA6-B799-E80D943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9E44-CD6D-4466-B2B5-3F911B4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6C5-F1E8-4FD1-AFD1-0B32918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9BC-CA3F-4463-AAA4-325DCD2C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3634-EB8B-4F39-9EE9-845D3188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36BF-E5F5-4A92-8A17-CB8891F6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AC87-555C-46F6-BF00-B94F3F61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41E5-4B98-4AFE-B785-8D1F023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159E-BAB8-4733-B340-34AFDDC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C560-4D18-4B94-9D43-D2E4A0D1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C12-30AF-40BB-8EB0-8641C48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A006-5785-47A3-9642-BE071660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CBFB-184B-4AEF-8BF2-89002BB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BC44-C428-4076-BE7E-9B163CF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D5F1-A636-461B-AE2E-08D5760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DDC4-E19C-4227-8688-C7E48DE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8A15-F9B4-41E9-A236-122D8169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9700-43D2-4CD1-A4FA-0C70C4D6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3CF7-5CC2-4FCF-B936-EEADAB76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48A1-91C1-4899-B76B-3424EAE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5F92-D0EC-4EA5-BB86-5682B394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6CA-DDD1-4C73-8EC0-1C82B264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9EDD-472E-48C1-8957-D6D72E17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36E0-75D3-42C1-BB1B-14BADDC4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2AE9-4338-412B-8908-1527818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746F9-0788-41C3-A694-E11D927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A183-6F58-4607-98BE-2083C67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DCE5-05DB-43EC-9E69-B778388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8154-9514-4B92-8349-AEF9EC8B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A0DB-9FB7-40A5-9104-28199A07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0A81-75E8-45B2-A687-10F43E23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61E9-6732-441E-8175-4719AB91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C65-9085-4062-9739-39DAFB61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3C53-98F4-4EB7-A314-793E6D38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C2BD-08CD-4F2A-B3F3-E4BE9C7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E40A-F19D-4133-BC15-6038E739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ED2BF-AF2D-4159-95A0-88C7439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8854-7E9E-4AFE-A781-DA08E7E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B556-0194-40EF-B111-1A58098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E122-31FD-4F20-8DFD-470B7B1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0544-F5BA-473B-89A4-F02A56F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0692E-12E8-442C-AFB0-1DE06EA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D3300-D578-4C02-8E03-C1523903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315-743D-4AFD-8F5D-3C686D8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892D-F400-4727-92C3-666F5439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29D-9FB2-4D6D-9304-A06CE50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9A1-99EE-4B12-976A-71959A5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C82-295B-4EB2-A698-C2AEDBA6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F5D8-E9D5-44B0-B104-CC4B28B6B7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398D-D7FF-484E-89E0-B947E83248F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9D8-F85B-4DC5-A93D-1A61A8521E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897-3328-4ABB-8F91-D91E52A51A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C507-CC50-48AE-BBE0-C7A3C1FE56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189000"/>
            <a:ext cx="7786800" cy="316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2139e"/>
                </a:solidFill>
                <a:latin typeface="Verdana"/>
              </a:rPr>
              <a:t>Являются ли семейные ценности основой школьной успешност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139e"/>
                </a:solidFill>
                <a:latin typeface="Arial Black"/>
              </a:rPr>
              <a:t>Беседа с родител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071720" y="1714680"/>
            <a:ext cx="71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714240" y="928800"/>
            <a:ext cx="77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можем придумывать или находить миллион причин, почему в наших семьях отсутствуют семейные ценности. Разве мы не сами в ответе за свою жизнь и жизнь наших семей? Разве имеем мы право перекладывать ответственность за воспитание своих детей на обще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2920" y="1341360"/>
            <a:ext cx="77835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Проблема:      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323232"/>
                </a:solidFill>
                <a:latin typeface="Verdana"/>
              </a:rPr>
              <a:t>успех ребёнка в школе</a:t>
            </a:r>
            <a:r>
              <a:rPr b="1" lang="ru-RU" sz="4800" spc="-1" strike="noStrike">
                <a:solidFill>
                  <a:srgbClr val="323232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50920" y="3567240"/>
            <a:ext cx="8178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23232"/>
                </a:solidFill>
                <a:latin typeface="Arial Black"/>
              </a:rPr>
              <a:t>Цель: </a:t>
            </a:r>
            <a:br>
              <a:rPr sz="4800"/>
            </a:br>
            <a:r>
              <a:rPr b="1" lang="ru-RU" sz="4000" spc="-1" strike="noStrike">
                <a:solidFill>
                  <a:srgbClr val="32323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23232"/>
                </a:solidFill>
                <a:latin typeface="Arial Black"/>
              </a:rPr>
              <a:t>определение роли </a:t>
            </a:r>
            <a:br>
              <a:rPr sz="3600"/>
            </a:br>
            <a:r>
              <a:rPr b="0" lang="ru-RU" sz="3600" spc="-1" strike="noStrike">
                <a:solidFill>
                  <a:srgbClr val="323232"/>
                </a:solidFill>
                <a:latin typeface="Arial Black"/>
              </a:rPr>
              <a:t>   родителей в успехах</a:t>
            </a:r>
            <a:r>
              <a:rPr b="0" lang="en-US" sz="3600" spc="-1" strike="noStrike">
                <a:solidFill>
                  <a:srgbClr val="323232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323232"/>
                </a:solidFill>
                <a:latin typeface="Arial Black"/>
              </a:rPr>
              <a:t>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600" y="1484280"/>
            <a:ext cx="79995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Verdana"/>
              </a:rPr>
              <a:t>«Привычки, вырабатываемые с детства, определяют всю нашу жизнь»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286240" y="4221000"/>
            <a:ext cx="3214800" cy="6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Arial Black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42600" y="5229000"/>
            <a:ext cx="3357720" cy="1128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Толковый словар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С.И.Ожего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25000389656"/>
          <p:cNvPicPr/>
          <p:nvPr/>
        </p:nvPicPr>
        <p:blipFill>
          <a:blip r:embed="rId1"/>
          <a:stretch/>
        </p:blipFill>
        <p:spPr>
          <a:xfrm>
            <a:off x="642960" y="1071720"/>
            <a:ext cx="3132000" cy="4103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4284720" y="1413000"/>
            <a:ext cx="4859280" cy="3816360"/>
          </a:xfrm>
          <a:prstGeom prst="wedgeRoundRectCallout">
            <a:avLst>
              <a:gd name="adj1" fmla="val -76625"/>
              <a:gd name="adj2" fmla="val -11398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Успешный, -ая, -ое.   </a:t>
            </a:r>
            <a:br>
              <a:rPr sz="2400"/>
            </a:b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Заключающий в себе успех, удач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Успех, -а,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1.Хорошие результаты в работе, учё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Arial Black"/>
              </a:rPr>
              <a:t>2. Общественно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7120" y="856800"/>
            <a:ext cx="8212320" cy="444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 Black"/>
              </a:rPr>
              <a:t>Успешный ребёнок имеет положительную самооценку и, наряду с хорошей успеваемостью, умеет преодолевать жизненные трудности, находить друзей и сохранять здоровье, избавляться от негативных мысл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400" y="529920"/>
            <a:ext cx="807228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воря о семейных ценностях (согласитесь, это достаточно широкое понятие), давайте конкретизируем, что большинство из нас имеет ввиду. Скорее всего, это принципы взаимоотношений как между супругами, так и в отношениях родителей и детей, которые включают в себя……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2643120" y="485784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3"/>
          <p:cNvSpPr/>
          <p:nvPr/>
        </p:nvSpPr>
        <p:spPr>
          <a:xfrm>
            <a:off x="571680" y="128592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бовь, заботу, взаимопонимание, терпение, верность, жертвенность, уважение, сострадание, взаимоподдержку, честность, искренность, довери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многое друг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ажны ли о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14240" y="1285920"/>
            <a:ext cx="792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заимопоним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85880" y="1785960"/>
            <a:ext cx="7572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6:29:23Z</dcterms:created>
  <dc:creator>Admin</dc:creator>
  <dc:description/>
  <cp:keywords/>
  <dc:language>en-US</dc:language>
  <cp:lastModifiedBy>WIN7XP</cp:lastModifiedBy>
  <dcterms:modified xsi:type="dcterms:W3CDTF">2012-02-27T16:13:32Z</dcterms:modified>
  <cp:revision>16</cp:revision>
  <dc:subject/>
  <dc:title>Как помочь ребёнку стать успешны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