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6A6-4950-48F5-B49F-43844BC5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BFF-4380-4D40-AFCE-A342E1F4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DFF-D1F0-41C6-86CA-C7EEC31A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954-B0F4-4288-BB0B-570AA4AB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F7DD-5996-43F9-B7F2-F5A52BB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BEB3-C5BD-4A33-AA9C-0AB9BB8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4590-C7CB-4041-8B35-2A46AD84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AF5-2D8C-409C-94DB-D9C9A7F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E58C-AAC1-4C04-9110-B99EC37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025D-2CF0-4497-B8DF-F0CA700F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CC6-7D1B-4B31-8223-1FB750B5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D3-5712-4292-BEE8-F6C50F1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F17C-F6B2-407E-ACD0-5CC3178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6B33-BB37-4EDB-A264-A3D57FE5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E9E-903D-4499-9473-D24ECB6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50BB-BA14-49ED-AB2B-512CDECD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62ED-B17C-4953-9380-25172E3B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07E-57E5-475D-9128-CF9AE96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9F1-DE89-44F2-A4DD-7F3F7947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C3D-FFA3-41E1-BBE8-99733BA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31A-73CA-483F-8D84-5547257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09E-DE3D-4811-BB8A-387054E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523-F9A7-45BB-9020-FFA3A49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B06-4768-4A0B-B4FB-F9C4F26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446-374B-408D-8C56-AD3D964E7F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F00-0116-49A7-9507-D9AC1793C340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manskaya.ru/p0002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29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олшебные точки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9000" y="457200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дготовила 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м. Заведующего по ВМР Верхозина Л.Г. МБДОУ № 36, г. Ангарс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84916"/>
          <p:cNvPicPr/>
          <p:nvPr/>
        </p:nvPicPr>
        <p:blipFill>
          <a:blip r:embed="rId1"/>
          <a:stretch/>
        </p:blipFill>
        <p:spPr>
          <a:xfrm>
            <a:off x="214200" y="214200"/>
            <a:ext cx="8785440" cy="6432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067280" y="1341360"/>
            <a:ext cx="48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"Здоровье — это драгоценность и притом единственная, ради которой стоит не только не пожалеть времени, сил, труда и социальных благ, но и пожертвовать ради него частицей самой жизни, поскольку жизнь без него становится нестерпимой и унизительной"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ишель Монтен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.А. Ума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офессор А.А. Уманская, заведующая лабораторией «Прогнозирование, профилактика и реабилитация эмбриогенетического нейроэндокринного иммунного дефицита (ЭНЭИДа)» Московской медицинской академии им. Сеченова, заведующая кафедрой «Основы здоровья народа» Международного института стратегии развития личности и социума, действительный член РАЕН, говорит о резервах физического здоровья человека, о том, как мы самостоятельно можем отрегулировать работу своего организма и научить этому наших дете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7" descr="i05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73360"/>
            <a:ext cx="3809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ечный массаж биологически активных точек организма по системе профессора Аллы Алексеевны УМАНСКО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ответьте на эти вопросы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. Хватит ли у вас терпения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ежедневно, на протяжении долгих месяце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делать этот массаж своему ребенку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. Всегда ли вы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найдете для этого время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hildren"/>
          <p:cNvPicPr/>
          <p:nvPr/>
        </p:nvPicPr>
        <p:blipFill>
          <a:blip r:embed="rId1"/>
          <a:stretch/>
        </p:blipFill>
        <p:spPr>
          <a:xfrm>
            <a:off x="0" y="1916280"/>
            <a:ext cx="11415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1280" y="1185480"/>
            <a:ext cx="5975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– область всей грудины, которая связана со слизистой оболочкой трахеи, бронхов, а также костным мозгом. При массаже этой точки уменьшается кашель, улучшается кроветворени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2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нижних отделов глотки, гортани, а также тимусом (вилочковой железой), регулирующим иммунные функции организма. 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3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 особыми образованиями, контролирующими химический состав крови и одновременно повышающими защитные свойства слизистой оболочки глотки и гортани. Массаж этой точки улучшает кровообращение, обмен веществ, выработку гормонов.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7" descr="children"/>
          <p:cNvPicPr/>
          <p:nvPr/>
        </p:nvPicPr>
        <p:blipFill>
          <a:blip r:embed="rId2"/>
          <a:stretch/>
        </p:blipFill>
        <p:spPr>
          <a:xfrm>
            <a:off x="0" y="1916280"/>
            <a:ext cx="234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820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4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задней стенки глотки, гортани и верхним шейным симпатическим нервным узлом. Массаж этой точки активизирует кровоснабжение головы, шеи, туловища. 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5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расположена в области 7 шейного и 1 грудного позвонка. Она связана со слизистой оболочкой трахеи, глотки, пищевода, а главное - с нижним шейным симпатическим нервным узлом. Массаж этой точки способствует нормализации деятельности сосудов, сердца, бронхов, легки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6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связана с передней и средней долями гипофиза. Массаж этой точки улучшает кровоснабжение слизистой оболочки носа, гайморовых полостей, а главное гипофиза. Дыхание через нос становиться свободным, насморк проходит. 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7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решетчатых образований полости носа и лобных пазух, а также с лобными отделами головного мозга. Массаж этой точки улучшает кровообращение слизистой оболочки верхних отделов полости носа, а также области глазного яблока и лобных отделов головного мозга. Улучшается зрение, стимулируется умственное развити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8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массаж этой точки, расположенной в районе ушных козелков, положительно воздействует на орган слуха и вестибулярный аппарат. 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9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массаж этой зоны на кистях рук  нормализует многие функции организма, т.к. руки человека через шейные отделы спинного мозга и определенные области коры больших полушарий связаны со всеми вышеперечисленными точками. 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45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Как воздействовать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рядок воздейств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608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2864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еред тем как приступить к занятиям с ребенком, необходимо немного подготовиться: остричь ногти, вымыть тщательно руки, смазать питательным кремом  и согреть и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жде чем применить методику к вашему малышу, попробуйте ее сначала на себ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ачать точечный массаж можно уже на 3-й день после рождения. По мере роста ребенка вовлекайте его в участие в процедуре. Уже с 3-месячного возраста прикладывайте детские пальчики к биозонам на грудке, шейке, возле носика, ушек и вместе массируйте их, считайте вслух.  Если следовать этой рекомендации, малыш уже в 7-8 месяцев сможет воздействовать на свои биозоны самостоятельно! Начать массаж никогда не поздно, и если ваш ребенок подрос, одновременно с массажем читайте ему стихотворение, которое сочинила Алла Алексеевна. Такое сопровождение сделает процедуру увлекательной игро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3:31:52Z</dcterms:created>
  <dc:creator>Верхозина</dc:creator>
  <dc:description/>
  <dc:language>en-US</dc:language>
  <cp:lastModifiedBy>Admin</cp:lastModifiedBy>
  <dcterms:modified xsi:type="dcterms:W3CDTF">2013-02-07T15:16:29Z</dcterms:modified>
  <cp:revision>4</cp:revision>
  <dc:subject/>
  <dc:title>Волшебные точки здоровья</dc:title>
</cp:coreProperties>
</file>