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C2D-47B0-4589-8D69-A30A2289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22F-39A9-45F2-AFAF-CADF6BA0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EE0-2DE0-4B55-BF6C-8A585952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2E5-CE35-4572-B89D-358DE64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A883-0B89-4294-B2F7-B4AAC7F2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4F6E-ADB9-44BD-A597-ED5934F3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0AE0-D4EA-45BB-8D47-AF3683F0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5DE6-BFA3-47B8-A606-3486358A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019F-BA32-4A0F-BC72-534AE72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A058-35ED-4DE6-B35A-8A4FE67C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0849-8414-465E-BDD4-00E708B2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94C-1FA0-42B5-9BDB-D43F5636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8002-6B0F-4B40-A58B-2D8714CF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D49A-A34C-473E-87AB-77237F3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CD90-23AF-4D53-A0E2-E55D9DE7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8E42-F594-4B50-B166-09FAB3ED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E8CB-00C8-4542-8CAE-51CA978F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C2B-760C-4F69-9A50-AB1A31AA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CD7-1272-4577-9CC3-E30F99EB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CA5-085C-42C8-8155-D527FEB7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845-DA96-4F36-8F6B-7B622BBD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3A8-1D9B-4148-9686-FCCE2C5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AC9-3DD5-4AEE-A436-1A532720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338-8163-4F54-921E-90ED5BB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3D68-BD5F-471B-987F-C7232FE0E3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51F-8F70-498B-BCD4-64D5A4345FFE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manskaya.ru/p0002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29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Волшебные точки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9000" y="457200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дготовила 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ам. Заведующего по ВМР Верхозина Л.Г. МБДОУ № 36, г. Ангарс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j0284916"/>
          <p:cNvPicPr/>
          <p:nvPr/>
        </p:nvPicPr>
        <p:blipFill>
          <a:blip r:embed="rId1"/>
          <a:stretch/>
        </p:blipFill>
        <p:spPr>
          <a:xfrm>
            <a:off x="214200" y="214200"/>
            <a:ext cx="8785440" cy="6432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067280" y="1341360"/>
            <a:ext cx="48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"Здоровье — это драгоценность и притом единственная, ради которой стоит не только не пожалеть времени, сил, труда и социальных благ, но и пожертвовать ради него частицей самой жизни, поскольку жизнь без него становится нестерпимой и унизительной"</a:t>
            </a:r>
            <a:br>
              <a:rPr sz="2400"/>
            </a:b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ишель Монтен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А.А. Ума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720" y="1484280"/>
            <a:ext cx="43257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офессор А.А. Уманская, заведующая лабораторией «Прогнозирование, профилактика и реабилитация эмбриогенетического нейроэндокринного иммунного дефицита (ЭНЭИДа)» Московской медицинской академии им. Сеченова, заведующая кафедрой «Основы здоровья народа» Международного института стратегии развития личности и социума, действительный член РАЕН, говорит о резервах физического здоровья человека, о том, как мы самостоятельно можем отрегулировать работу своего организма и научить этому наших дете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Picture 7" descr="i05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773360"/>
            <a:ext cx="3809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ечный массаж биологически активных точек организма по системе профессора Аллы Алексеевны УМАНСКО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ответьте на эти вопросы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. Хватит ли у вас терпения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ежедневно, на протяжении долгих месяцев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делать этот массаж своему ребенку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. Всегда ли вы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найдете для этого время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hildren"/>
          <p:cNvPicPr/>
          <p:nvPr/>
        </p:nvPicPr>
        <p:blipFill>
          <a:blip r:embed="rId1"/>
          <a:stretch/>
        </p:blipFill>
        <p:spPr>
          <a:xfrm>
            <a:off x="0" y="1916280"/>
            <a:ext cx="11415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1280" y="1185480"/>
            <a:ext cx="5975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– область всей грудины, которая связана со слизистой оболочкой трахеи, бронхов, а также костным мозгом. При массаже этой точки уменьшается кашель, улучшается кроветворени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2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связана со слизистой оболочкой нижних отделов глотки, гортани, а также тимусом (вилочковой железой), регулирующим иммунные функции организма. 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3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связана с особыми образованиями, контролирующими химический состав крови и одновременно повышающими защитные свойства слизистой оболочки глотки и гортани. Массаж этой точки улучшает кровообращение, обмен веществ, выработку гормонов.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7" descr="children"/>
          <p:cNvPicPr/>
          <p:nvPr/>
        </p:nvPicPr>
        <p:blipFill>
          <a:blip r:embed="rId2"/>
          <a:stretch/>
        </p:blipFill>
        <p:spPr>
          <a:xfrm>
            <a:off x="0" y="1916280"/>
            <a:ext cx="2340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820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Точка 4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- связана со слизистой оболочкой задней стенки глотки, гортани и верхним шейным симпатическим нервным узлом. Массаж этой точки активизирует кровоснабжение головы, шеи, туловища. 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Точка 5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- расположена в области 7 шейного и 1 грудного позвонка. Она связана со слизистой оболочкой трахеи, глотки, пищевода, а главное - с нижним шейным симпатическим нервным узлом. Массаж этой точки способствует нормализации деятельности сосудов, сердца, бронхов, легки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Точка 6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- связана с передней и средней долями гипофиза. Массаж этой точки улучшает кровоснабжение слизистой оболочки носа, гайморовых полостей, а главное гипофиза. Дыхание через нос становиться свободным, насморк проходит. 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7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связана со слизистой оболочкой решетчатых образований полости носа и лобных пазух, а также с лобными отделами головного мозга. Массаж этой точки улучшает кровообращение слизистой оболочки верхних отделов полости носа, а также области глазного яблока и лобных отделов головного мозга. Улучшается зрение, стимулируется умственное развити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8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- массаж этой точки, расположенной в районе ушных козелков, положительно воздействует на орган слуха и вестибулярный аппарат. 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Точка 9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массаж этой зоны на кистях рук  нормализует многие функции организма, т.к. руки человека через шейные отделы спинного мозга и определенные области коры больших полушарий связаны со всеми вышеперечисленными точками. 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и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345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Как воздействовать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рядок воздейств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608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2864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еред тем как приступить к занятиям с ребенком, необходимо немного подготовиться: остричь ногти, вымыть тщательно руки, смазать питательным кремом  и согреть и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ежде чем применить методику к вашему малышу, попробуйте ее сначала на себ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ачать точечный массаж можно уже на 3-й день после рождения. По мере роста ребенка вовлекайте его в участие в процедуре. Уже с 3-месячного возраста прикладывайте детские пальчики к биозонам на грудке, шейке, возле носика, ушек и вместе массируйте их, считайте вслух.  Если следовать этой рекомендации, малыш уже в 7-8 месяцев сможет воздействовать на свои биозоны самостоятельно! Начать массаж никогда не поздно, и если ваш ребенок подрос, одновременно с массажем читайте ему стихотворение, которое сочинила Алла Алексеевна. Такое сопровождение сделает процедуру увлекательной игрой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03:31:52Z</dcterms:created>
  <dc:creator>Верхозина</dc:creator>
  <dc:description/>
  <dc:language>en-US</dc:language>
  <cp:lastModifiedBy>Admin</cp:lastModifiedBy>
  <dcterms:modified xsi:type="dcterms:W3CDTF">2013-02-07T15:16:29Z</dcterms:modified>
  <cp:revision>4</cp:revision>
  <dc:subject/>
  <dc:title>Волшебные точки здоровья</dc:title>
</cp:coreProperties>
</file>