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wmf" ContentType="image/x-wmf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.jpeg" ContentType="image/jpeg"/>
  <Override PartName="/ppt/media/image15.wmf" ContentType="image/x-wmf"/>
  <Override PartName="/ppt/media/image14.jpeg" ContentType="image/jpeg"/>
  <Override PartName="/ppt/media/image3.wmf" ContentType="image/x-wmf"/>
  <Override PartName="/ppt/media/image1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182A-1577-44B4-834D-6E8E461B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00A0-F065-4F2B-BBEB-39508768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45E0-C882-4081-B0C0-322B0950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B8D6-0180-4EAF-85B3-48C297B66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4695-C9BB-4FD2-9C73-71011771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FD71-B87D-4F69-8450-30F6AF43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79A4-C941-40F6-A63C-9EC97614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2AFF-2DC3-46A3-BC3D-26B4D1A5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33BF-BFF6-4064-92E1-8A1FE4B7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B280-A898-4F50-8B3D-4EA48189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DAD7-90EF-4F2D-B55B-575DD3F9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BB70-34EC-479E-B30B-19A3B764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DEB9-6F7D-4365-9908-FDC5A8EE9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71800" y="152280"/>
            <a:ext cx="6172200" cy="16304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Что в имени теб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моем</a:t>
            </a: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1905120"/>
            <a:ext cx="3504960" cy="33858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аботу выполн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ченица 6б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ОУ ООШ №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аклыкова Анаста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учный руководит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ихалева Окса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4920" y="416160"/>
            <a:ext cx="85341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бор имени зависит от национальности: Оксана (Украина), Даяна (в переводе с татарского «вечная», Гульнур (в переводе с татарского «жить», Ислам (в честь религии Ислам). У второй категории (взрослые) такие ответы не встрети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ногие из моих сверстников получили имя в честь героев сказок (Анастасия, Алеша, Владимир), а вот людей старшего поколения называли в честь героев книг русской классики (Наташа – Наташа Ростов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мена людей старшего поколения связаны с русскими праздниками и временами года (Татьяна - Татьянин День, Света – светлая, родилась зимо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до заметить, что в первой и во второй категориях часто отвечали «Не знаю» на мой вопрос, то есть люди не задумывались и не интересовались у своих родителей, почему их так назв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28600" y="3049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Клички в Сургу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295280"/>
            <a:ext cx="8458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Англичане говорят: </a:t>
            </a:r>
            <a:r>
              <a:rPr b="1" i="1" lang="en-US" sz="2800" spc="-1" strike="noStrike">
                <a:solidFill>
                  <a:srgbClr val="990033"/>
                </a:solidFill>
                <a:latin typeface="Comic Sans MS"/>
              </a:rPr>
              <a:t>«Дайте отличному щенку плохое имя, и вы можете смело его утопить!»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Я решила узнать, чем руководствуются люди нашего города, когда выбирают кличку для своего питом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Я провела опрос среди горожа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В результате я получила очень интересные сведения, которые представляю в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Во-первых, все опрошенные поделились                     на две категории: те, у кого есть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домашние животные и те, у кого их нет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indefinite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1371600" y="1060560"/>
          <a:ext cx="6477120" cy="4878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060560"/>
                    <a:ext cx="6477120" cy="48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4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38080" y="2743200"/>
            <a:ext cx="79250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cc"/>
                </a:solidFill>
                <a:latin typeface="Comic Sans MS"/>
              </a:rPr>
              <a:t>Во-вторых, выявились самые любимые животные. Ими оказались кошки, собаки, попугаи, хомяки, крысы, шиншил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2280" y="4038480"/>
            <a:ext cx="3095640" cy="2322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429000" y="380880"/>
            <a:ext cx="2881440" cy="2160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019920" y="4038480"/>
            <a:ext cx="2895480" cy="2303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04920" y="380880"/>
            <a:ext cx="2895480" cy="2133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3352680" y="4572000"/>
            <a:ext cx="2619360" cy="2048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6477120" y="380880"/>
            <a:ext cx="228600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447920" y="1065240"/>
            <a:ext cx="64767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2" dur="2000" fill="hold"/>
                                        <p:tgtEl>
                                          <p:spTgt spid="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3733920" cy="44960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28600" y="1143000"/>
            <a:ext cx="4952880" cy="62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тветы были самыми разными, но мне удалось разбить их на 5 групп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ногие дают кличку животному по его внешнему виду: </a:t>
            </a:r>
            <a:r>
              <a:rPr b="1" lang="ru-RU" sz="2000" spc="-1" strike="noStrike">
                <a:solidFill>
                  <a:srgbClr val="990033"/>
                </a:solidFill>
                <a:latin typeface="Comic Sans MS"/>
              </a:rPr>
              <a:t>Шарик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(морда напоминает шар), </a:t>
            </a:r>
            <a:r>
              <a:rPr b="1" lang="ru-RU" sz="2000" spc="-1" strike="noStrike">
                <a:solidFill>
                  <a:srgbClr val="990033"/>
                </a:solidFill>
                <a:latin typeface="Comic Sans MS"/>
              </a:rPr>
              <a:t>Ромео и Джульетта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(потому что как два влюбленных), </a:t>
            </a:r>
            <a:r>
              <a:rPr b="1" lang="ru-RU" sz="2000" spc="-1" strike="noStrike">
                <a:solidFill>
                  <a:srgbClr val="990033"/>
                </a:solidFill>
                <a:latin typeface="Comic Sans MS"/>
              </a:rPr>
              <a:t>Белыш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(белый), </a:t>
            </a:r>
            <a:r>
              <a:rPr b="1" lang="ru-RU" sz="2000" spc="-1" strike="noStrike">
                <a:solidFill>
                  <a:srgbClr val="990033"/>
                </a:solidFill>
                <a:latin typeface="Comic Sans MS"/>
              </a:rPr>
              <a:t>Чирик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(много чирикает), </a:t>
            </a:r>
            <a:r>
              <a:rPr b="1" lang="ru-RU" sz="2000" spc="-1" strike="noStrike">
                <a:solidFill>
                  <a:srgbClr val="990033"/>
                </a:solidFill>
                <a:latin typeface="Comic Sans MS"/>
              </a:rPr>
              <a:t>Рыжик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(потому что рыжий), </a:t>
            </a:r>
            <a:r>
              <a:rPr b="1" lang="ru-RU" sz="2000" spc="-1" strike="noStrike">
                <a:solidFill>
                  <a:srgbClr val="990033"/>
                </a:solidFill>
                <a:latin typeface="Comic Sans MS"/>
              </a:rPr>
              <a:t>Соня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(много спит) и так дал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осто потому, что так принято: </a:t>
            </a:r>
            <a:r>
              <a:rPr b="1" lang="ru-RU" sz="2000" spc="-1" strike="noStrike">
                <a:solidFill>
                  <a:srgbClr val="990033"/>
                </a:solidFill>
                <a:latin typeface="Comic Sans MS"/>
              </a:rPr>
              <a:t>Вася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(всех котов называют так), </a:t>
            </a:r>
            <a:r>
              <a:rPr b="1" lang="ru-RU" sz="2000" spc="-1" strike="noStrike">
                <a:solidFill>
                  <a:srgbClr val="990033"/>
                </a:solidFill>
                <a:latin typeface="Comic Sans MS"/>
              </a:rPr>
              <a:t>Рэкс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(самая распространенная собачья клич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22860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Comic Sans MS"/>
              </a:rPr>
              <a:t>Почему вы назвали своего питомца именно т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cc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3353040" cy="3048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0880" y="3432240"/>
            <a:ext cx="3353040" cy="2882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86200" y="228600"/>
            <a:ext cx="5029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В честь кого-либ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го-то из членов семьи: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Илюш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отец),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Рин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бабушка), София (тет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нее живущих животных: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Рыжик, Маврик, Даша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Снежок, Фи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роев мультфильмов и фильмов: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Ларис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мультик про крокодила Гену), 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Алис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Алиса в стране чудес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Просто нравится имя: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Люся, Афо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Так захотелось: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Суффи, Филя, Тузик, Дон, Маврик, Куз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572000" y="12193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Выв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2286000"/>
            <a:ext cx="6248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    </a:t>
            </a:r>
            <a:r>
              <a:rPr b="1" i="1" lang="en-US" sz="2800" spc="-1" strike="noStrike">
                <a:solidFill>
                  <a:srgbClr val="605f2f"/>
                </a:solidFill>
                <a:latin typeface="Comic Sans MS"/>
              </a:rPr>
              <a:t>Теперь я знаю основные способы образования имен и кличек в Англии. И я еще подумаю как мне назвать попугайчика, которого мне скоро подарят. Ведь имена и клички могут рассказать о своем хозяине больше, чем он сам дум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419720" y="914400"/>
            <a:ext cx="4516200" cy="5181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57200" y="2362320"/>
            <a:ext cx="373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8120" y="152280"/>
            <a:ext cx="5715000" cy="147708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ктуальность 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8120" y="1600200"/>
            <a:ext cx="5715000" cy="4582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читаю, что тема выбора имени всегда была, есть и будет актуаль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юди стремятся к лучшему в своей жизни. Родители задолго до рождения тщательно выбирают и дают имена своим детям, считая, что это будет залогом их успешности в будущ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8120" y="152280"/>
            <a:ext cx="5790960" cy="147708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босн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523880"/>
            <a:ext cx="8534520" cy="47865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уроках английского языка мы часто сталкиваемся с английскими именами и фамилиями. Некоторые из них кажутся обычными, другие – непонятными, третьи – смешными, четвертые - редкими и так далее. И мы практически никогда не задумываемся над такими вопросами как «А почему у этого мистера такая фамилия?» или «Как англичане выбирают кличку своему питомцу?». Я решила выяснить и понять, как образуются английские имена и кли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124080" y="228600"/>
            <a:ext cx="6019920" cy="173988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Цель</a:t>
            </a:r>
            <a:r>
              <a:rPr b="0" lang="en-US" sz="36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знакомство с историей имен и кличек в Англ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981080"/>
            <a:ext cx="8686800" cy="4480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еделить способы образования имен и кли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делить наиболее популярные имена и клички в Англ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явить самые распространенные имена и клички в нашем горо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657600" y="11430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тоды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2362320"/>
            <a:ext cx="754380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3614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36142"/>
                </a:solidFill>
                <a:latin typeface="Comic Sans MS"/>
              </a:rPr>
              <a:t>сбор информации</a:t>
            </a:r>
            <a:r>
              <a:rPr b="1" i="1" lang="en-US" sz="3200" spc="-1" strike="noStrike">
                <a:solidFill>
                  <a:srgbClr val="536142"/>
                </a:solidFill>
                <a:latin typeface="Comic Sans MS"/>
              </a:rPr>
              <a:t>;</a:t>
            </a:r>
            <a:r>
              <a:rPr b="1" i="1" lang="ru-RU" sz="3200" spc="-1" strike="noStrike">
                <a:solidFill>
                  <a:srgbClr val="536142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3614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3614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36142"/>
                </a:solidFill>
                <a:latin typeface="Comic Sans MS"/>
              </a:rPr>
              <a:t>опис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3614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3614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36142"/>
                </a:solidFill>
                <a:latin typeface="Comic Sans MS"/>
              </a:rPr>
              <a:t>интервью</a:t>
            </a:r>
            <a:r>
              <a:rPr b="1" i="1" lang="en-US" sz="3200" spc="-1" strike="noStrike">
                <a:solidFill>
                  <a:srgbClr val="536142"/>
                </a:solidFill>
                <a:latin typeface="Comic Sans MS"/>
              </a:rPr>
              <a:t>;</a:t>
            </a:r>
            <a:r>
              <a:rPr b="1" i="1" lang="ru-RU" sz="3200" spc="-1" strike="noStrike">
                <a:solidFill>
                  <a:srgbClr val="536142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3614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3614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36142"/>
                </a:solidFill>
                <a:latin typeface="Comic Sans MS"/>
              </a:rPr>
              <a:t>систематизация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019920" y="2743200"/>
            <a:ext cx="25146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62120" y="2438280"/>
            <a:ext cx="777240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361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36142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536142"/>
                </a:solidFill>
                <a:latin typeface="Comic Sans MS"/>
              </a:rPr>
              <a:t>Определение цели проек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3614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36142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536142"/>
                </a:solidFill>
                <a:latin typeface="Comic Sans MS"/>
              </a:rPr>
              <a:t>Составление плана рабо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3614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36142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536142"/>
                </a:solidFill>
                <a:latin typeface="Comic Sans MS"/>
              </a:rPr>
              <a:t>Разработка структуры рабо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3614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36142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536142"/>
                </a:solidFill>
                <a:latin typeface="Comic Sans MS"/>
              </a:rPr>
              <a:t>Поиск и отбор материа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3614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36142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536142"/>
                </a:solidFill>
                <a:latin typeface="Comic Sans MS"/>
              </a:rPr>
              <a:t>Проведение интервь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3614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36142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536142"/>
                </a:solidFill>
                <a:latin typeface="Comic Sans MS"/>
              </a:rPr>
              <a:t>Обработка и систематизация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36142"/>
                </a:solidFill>
                <a:latin typeface="Comic Sans MS"/>
              </a:rPr>
              <a:t>  </a:t>
            </a:r>
            <a:r>
              <a:rPr b="1" i="1" lang="en-US" sz="3200" spc="-1" strike="noStrike">
                <a:solidFill>
                  <a:srgbClr val="536142"/>
                </a:solidFill>
                <a:latin typeface="Comic Sans MS"/>
              </a:rPr>
              <a:t>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3614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13716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9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812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617220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орманны – «северные люд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04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Имена в Англ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990720"/>
            <a:ext cx="419076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l Johnson (Bill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Johnson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мил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les B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ck Long, Mary Li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in Williamson (son of Willi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son (son of Pe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venson (son of Stev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’B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zwilli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5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2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434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876920" y="3049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Клички в Англ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1066680"/>
            <a:ext cx="388620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 Motion, Flying Ro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 Penny, Double Cheque, English G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ck Honey, Pink R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e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ncy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чу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ryman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сельча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5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4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7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0" dur="2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7200" y="3808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Имена в Сургу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1164240"/>
            <a:ext cx="830556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Эта группа опрошенных получила имена просто потому, что кому-то в семье очень это имя нравилось (ответы были такими: «Так хотел папа», «Назвал брат», «Имя нравилось бабушке»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 честь кого-либо из родственников: в    честь деда (Виктор-Виктория), отца или матери (Рустам, Ирина, Надежда, Степа, Александр), бабушки, тети, прабабу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мя должно быть созвучно с фамилией и отчеством. Многие получили имя по данному принцип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indefinite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pire 5684WLMI</cp:lastModifiedBy>
  <dcterms:modified xsi:type="dcterms:W3CDTF">2009-03-24T08:39:19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