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230-178D-4E56-97FE-7B73312B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C0E-1BCD-4719-9C40-F74B5472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FF48-B36F-405E-ADD1-573E449B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32B-B509-4D53-A742-E3D33948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5EB8-423B-402C-95CE-46918B45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80A-4725-43EF-8DFF-4A5C422E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BF0-96FE-482C-B751-AF14EE81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9DF7-754D-4A88-BC77-6985E241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0B6-70F6-45E2-ADAF-4B4CEC1E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DD3-CB4E-4D8D-8A66-369EAF71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E2E8-4FEA-4C96-918E-0D89B1AB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E7D2-1D27-4511-8EA5-4CC32723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B2A4-62D1-4772-92F5-9BFC32069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1800" y="152280"/>
            <a:ext cx="6172200" cy="16304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Что в имени теб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моем</a:t>
            </a: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1905120"/>
            <a:ext cx="3504960" cy="33858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боту 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ченица 6б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У ООШ №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аклыкова Анаста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учный руковод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ихалева Окс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416160"/>
            <a:ext cx="8534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бор имени зависит от национальности: Оксана (Украина), Даяна (в переводе с татарского «вечная», Гульнур (в переводе с татарского «жить», Ислам (в честь религии Ислам). У второй категории (взрослые) такие ответы не встрет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ногие из моих сверстников получили имя в честь героев сказок (Анастасия, Алеша, Владимир), а вот людей старшего поколения называли в честь героев книг русской классики (Наташа – Наташа Росто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мена людей старшего поколения связаны с русскими праздниками и временами года (Татьяна - Татьянин День, Света – светлая, родилась зимо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до заметить, что в первой и во второй категориях часто отвечали «Не знаю» на мой вопрос, то есть люди не задумывались и не интересовались у своих родителей, почему их так назв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Клички в Сургу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295280"/>
            <a:ext cx="8458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Англичане говорят: </a:t>
            </a:r>
            <a:r>
              <a:rPr b="1" i="1" lang="en-US" sz="2800" spc="-1" strike="noStrike">
                <a:solidFill>
                  <a:srgbClr val="990033"/>
                </a:solidFill>
                <a:latin typeface="Comic Sans MS"/>
              </a:rPr>
              <a:t>«Дайте отличному щенку плохое имя, и вы можете смело его утопить!»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Я решила узнать, чем руководствуются люди нашего города, когда выбирают кличку для своего питом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Я провела опрос среди горожа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В результате я получила очень интересные сведения, которые представляю в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Во-первых, все опрошенные поделились                     на две категории: те, у кого ест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домашние животные и те, у кого их нет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1371600" y="1060560"/>
          <a:ext cx="6477120" cy="487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060560"/>
                    <a:ext cx="647712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4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38080" y="2743200"/>
            <a:ext cx="79250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Comic Sans MS"/>
              </a:rPr>
              <a:t>Во-вторых, выявились самые любимые животные. Ими оказались кошки, собаки, попугаи, хомяки, крысы, шиншил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280" y="4038480"/>
            <a:ext cx="3095640" cy="2322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019920" y="4038480"/>
            <a:ext cx="2895480" cy="2303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04920" y="380880"/>
            <a:ext cx="2895480" cy="2133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352680" y="4572000"/>
            <a:ext cx="2619360" cy="2048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477120" y="380880"/>
            <a:ext cx="228600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447920" y="1065240"/>
            <a:ext cx="647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2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733920" cy="4496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8600" y="1143000"/>
            <a:ext cx="4952880" cy="62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тветы были самыми разными, но мне удалось разбить их на 5 груп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ногие дают кличку животному по его внешнему виду: </a:t>
            </a:r>
            <a:r>
              <a:rPr b="1" lang="ru-RU" sz="2000" spc="-1" strike="noStrike">
                <a:solidFill>
                  <a:srgbClr val="990033"/>
                </a:solidFill>
                <a:latin typeface="Comic Sans MS"/>
              </a:rPr>
              <a:t>Шарик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(морда напоминает шар), </a:t>
            </a:r>
            <a:r>
              <a:rPr b="1" lang="ru-RU" sz="2000" spc="-1" strike="noStrike">
                <a:solidFill>
                  <a:srgbClr val="990033"/>
                </a:solidFill>
                <a:latin typeface="Comic Sans MS"/>
              </a:rPr>
              <a:t>Ромео и Джульетт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(потому что как два влюбленных), </a:t>
            </a:r>
            <a:r>
              <a:rPr b="1" lang="ru-RU" sz="2000" spc="-1" strike="noStrike">
                <a:solidFill>
                  <a:srgbClr val="990033"/>
                </a:solidFill>
                <a:latin typeface="Comic Sans MS"/>
              </a:rPr>
              <a:t>Белыш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(белый), </a:t>
            </a:r>
            <a:r>
              <a:rPr b="1" lang="ru-RU" sz="2000" spc="-1" strike="noStrike">
                <a:solidFill>
                  <a:srgbClr val="990033"/>
                </a:solidFill>
                <a:latin typeface="Comic Sans MS"/>
              </a:rPr>
              <a:t>Чирик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(много чирикает), </a:t>
            </a:r>
            <a:r>
              <a:rPr b="1" lang="ru-RU" sz="2000" spc="-1" strike="noStrike">
                <a:solidFill>
                  <a:srgbClr val="990033"/>
                </a:solidFill>
                <a:latin typeface="Comic Sans MS"/>
              </a:rPr>
              <a:t>Рыжик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(потому что рыжий), </a:t>
            </a:r>
            <a:r>
              <a:rPr b="1" lang="ru-RU" sz="2000" spc="-1" strike="noStrike">
                <a:solidFill>
                  <a:srgbClr val="990033"/>
                </a:solidFill>
                <a:latin typeface="Comic Sans MS"/>
              </a:rPr>
              <a:t>Соня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(много спит) и так дал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сто потому, что так принято: </a:t>
            </a:r>
            <a:r>
              <a:rPr b="1" lang="ru-RU" sz="2000" spc="-1" strike="noStrike">
                <a:solidFill>
                  <a:srgbClr val="990033"/>
                </a:solidFill>
                <a:latin typeface="Comic Sans MS"/>
              </a:rPr>
              <a:t>Вася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(всех котов называют так), </a:t>
            </a:r>
            <a:r>
              <a:rPr b="1" lang="ru-RU" sz="2000" spc="-1" strike="noStrike">
                <a:solidFill>
                  <a:srgbClr val="990033"/>
                </a:solidFill>
                <a:latin typeface="Comic Sans MS"/>
              </a:rPr>
              <a:t>Рэкс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(самая распространенная собачья клич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2860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Comic Sans MS"/>
              </a:rPr>
              <a:t>Почему вы назвали своего питомца именно т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353040" cy="3048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3432240"/>
            <a:ext cx="3353040" cy="2882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86200" y="228600"/>
            <a:ext cx="5029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В честь кого-либ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о-то из членов семьи: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Илюш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отец),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Ри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бабушка), София (тет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ее живущих животных: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Рыжик, Маврик, Даша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нежок, Фи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оев мультфильмов и фильмов: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Ларис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мультик про крокодила Гену),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лис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Алиса в стране чудес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осто нравится имя: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Люся, Афо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Так захотелось: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уффи, Филя, Тузик, Дон, Маврик, Ку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0" y="1219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286000"/>
            <a:ext cx="6248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    </a:t>
            </a:r>
            <a:r>
              <a:rPr b="1" i="1" lang="en-US" sz="2800" spc="-1" strike="noStrike">
                <a:solidFill>
                  <a:srgbClr val="605f2f"/>
                </a:solidFill>
                <a:latin typeface="Comic Sans MS"/>
              </a:rPr>
              <a:t>Теперь я знаю основные способы образования имен и кличек в Англии. И я еще подумаю как мне назвать попугайчика, которого мне скоро подарят. Ведь имена и клички могут рассказать о своем хозяине больше, чем он сам дум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19720" y="914400"/>
            <a:ext cx="4516200" cy="5181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236232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8120" y="152280"/>
            <a:ext cx="5715000" cy="14770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ктуальность 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1600200"/>
            <a:ext cx="5715000" cy="4582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читаю, что тема выбора имени всегда была, есть и будет актуаль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ди стремятся к лучшему в своей жизни. Родители задолго до рождения тщательно выбирают и дают имена своим детям, считая, что это будет залогом их успешности в будущ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8120" y="152280"/>
            <a:ext cx="5790960" cy="14770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осн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523880"/>
            <a:ext cx="8534520" cy="4786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уроках английского языка мы часто сталкиваемся с английскими именами и фамилиями. Некоторые из них кажутся обычными, другие – непонятными, третьи – смешными, четвертые - редкими и так далее. И мы практически никогда не задумываемся над такими вопросами как «А почему у этого мистера такая фамилия?» или «Как англичане выбирают кличку своему питомцу?». Я решила выяснить и понять, как образуются английские имена и кли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24080" y="228600"/>
            <a:ext cx="6019920" cy="17398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Цель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знакомство с историей имен и кличек в Англ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981080"/>
            <a:ext cx="8686800" cy="4480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ить способы образования имен и кли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лить наиболее популярные имена и клички в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вить самые распространенные имена и клички в нашем гор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57600" y="11430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тоды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362320"/>
            <a:ext cx="754380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36142"/>
                </a:solidFill>
                <a:latin typeface="Comic Sans MS"/>
              </a:rPr>
              <a:t>сбор информации</a:t>
            </a: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;</a:t>
            </a:r>
            <a:r>
              <a:rPr b="1" i="1" lang="ru-RU" sz="3200" spc="-1" strike="noStrike">
                <a:solidFill>
                  <a:srgbClr val="536142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36142"/>
                </a:solidFill>
                <a:latin typeface="Comic Sans MS"/>
              </a:rPr>
              <a:t>опис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36142"/>
                </a:solidFill>
                <a:latin typeface="Comic Sans MS"/>
              </a:rPr>
              <a:t>интервью</a:t>
            </a: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;</a:t>
            </a:r>
            <a:r>
              <a:rPr b="1" i="1" lang="ru-RU" sz="3200" spc="-1" strike="noStrike">
                <a:solidFill>
                  <a:srgbClr val="536142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36142"/>
                </a:solidFill>
                <a:latin typeface="Comic Sans MS"/>
              </a:rPr>
              <a:t>систематизация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19920" y="2743200"/>
            <a:ext cx="2514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62120" y="2438280"/>
            <a:ext cx="77724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361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36142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Определение цели про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Составление плана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Разработка структуры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Поиск и отбор матери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Проведение интерв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Обработка и систематизация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3614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13716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61722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рманны – «северные лю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04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Имена в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990720"/>
            <a:ext cx="419076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 Johnson (Bill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ohnso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мил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es B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 Long, Mary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in Williamson (son of Willi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son (son of Pe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venson (son of Stev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’B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zwilli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876920" y="3049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Клички в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1066680"/>
            <a:ext cx="388620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Motion, Flying Ro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Penny, Double Cheque, English 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 Honey, Pink 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ncy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у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ryman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ельча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380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Имена в Сургу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164240"/>
            <a:ext cx="830556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та группа опрошенных получила имена просто потому, что кому-то в семье очень это имя нравилось (ответы были такими: «Так хотел папа», «Назвал брат», «Имя нравилось бабушке»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честь кого-либо из родственников: в    честь деда (Виктор-Виктория), отца или матери (Рустам, Ирина, Надежда, Степа, Александр), бабушки, тети, прабаб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мя должно быть созвучно с фамилией и отчеством. Многие получили имя по данному принцип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indefinite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pire 5684WLMI</cp:lastModifiedBy>
  <dcterms:modified xsi:type="dcterms:W3CDTF">2009-03-24T08:39:1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