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101-C1AF-4B6A-8350-1BA87288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CD9-5700-450F-BDF7-248B65AC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647-48CC-48E1-85F7-B2C95A72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A64-1A54-4D4B-BE4A-75991290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B5D-CB28-47F1-8CA3-0D62781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B9D-C3C4-4D5A-B47B-E70060B4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75D-669D-4397-AE8E-3AD6864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5D9-0F48-4DF2-B068-2BA06AF6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DCE-D181-4011-BD92-9E7FE95F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9F3-0574-4C51-B48F-EE5C4F4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E98-6A29-42AF-96F6-598F0BC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0B7-1550-481A-AE4E-DC38B84A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7215-ADA9-4440-B4D1-E11DCF826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omic Sans MS"/>
              </a:rPr>
              <a:t>ИСТОРИЯ ЁЛОЧНЫХ ИГРУШ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5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5105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4287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972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6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олон, космонавты игрушки на прищепках, макушки вместо звёзд, сосуль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284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61722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7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ый 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552456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91040" y="1371600"/>
            <a:ext cx="41529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8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7162920" cy="594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7600" y="2819520"/>
            <a:ext cx="1976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9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5524560" cy="3504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5943600" cy="442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6019920"/>
            <a:ext cx="48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це 90-х становятся популярны цветные искусственные ё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игрушках отражается мода на всевозможные горо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Начало 21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2000х популярны ёлки, украшенные игрушками двух цветов, по-европей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второго десятилетия 21 века – возврат к традиции изготовления игрушек, винтажные ё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Как возникли ёлочные игруш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игрушках переплелись символы язычества и христиа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чи – духо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блоки – плоды дерева Добра и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ощи и фрукты – плодород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езда – Вифлеемская звезда, приведшая волхвов к месту рождения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45320" y="1523880"/>
            <a:ext cx="3298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16 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начально все украшения для ёлок были съедобны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блоки и св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фли и сахарные фигур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ехи, фрукты, ов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д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226040"/>
            <a:ext cx="4191120" cy="263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15160" y="1981080"/>
            <a:ext cx="322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18 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ялся переход к предкам нынешних игруш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мажные ц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тунные феи и анге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чёные орехи и ши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исанная яичная скорл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Конец 18- начало 19 ве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вропе начали изготавливать первые шары из стекла. Их изнутри покрывали свинцом, а сверху посыпали блёс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ередине 19 века стеклодувы повысили мастерство, начали изготавливать несложные фигурки. На смену свинцу пришли золотое и серебряное напы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87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1702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Начало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е игрушки появились в России. Стеклянные игрушки были очень дороги, популярностью пользовались украшения из прессованного картона – рыбки и птички с разноцветными хвостами из ни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8120" y="3621240"/>
            <a:ext cx="5600520" cy="323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2900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езденский картон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545240" y="0"/>
            <a:ext cx="159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Револю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революции 1917 года ёлки, так популярные в царской России, отменили на 18 лет – до 193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937 году традицию возродили, и состоялась первая Кремлёвская ё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502920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429000"/>
            <a:ext cx="380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езда превратилась в пятиконечную, на шарах появились портреты руководителей государства, советская симво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Великая Отечественн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ая темат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й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енная тех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вновь делают игрушки самостоятельно из картона, перегоревших лам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68920" y="4038480"/>
            <a:ext cx="257508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2143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13-02-07T16:27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