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A8D-7E1F-422A-8490-96420BFE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AEE-DA63-4ACB-81CB-8DC92F3C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1A93-AF47-4522-AF78-BBA54490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35B-F59B-449B-A2D8-745A012B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250B-8593-4C99-996C-B2EAD6B5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7DC7-2743-436D-9450-CC2C5A6A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2DCA-294B-410E-AF80-953DBEF2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C53-76F6-4B2C-8947-15ABB91E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D50-2D6F-414B-B75B-B89215D7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CC23-A123-4AE8-A5EB-6F810798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E72-AECE-4AEF-9005-2A08A116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303C-29F0-424E-909F-4CB2DDF2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DF81-64AF-44BA-9683-F2DD80682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Comic Sans MS"/>
              </a:rPr>
              <a:t>ИСТОРИЯ ЁЛОЧНЫХ ИГРУШ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50-е годы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105520" y="38289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51055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4287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09720" cy="3429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60-е годы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олон, космонавты игрушки на прищепках, макушки вместо звёзд, сосуль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876920" y="3657600"/>
            <a:ext cx="4267080" cy="2844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617220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70-е годы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овый 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5524560" cy="4038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91040" y="1371600"/>
            <a:ext cx="415296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80-е годы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7162920" cy="594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167600" y="2819520"/>
            <a:ext cx="1976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90-е годы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5524560" cy="3504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5943600" cy="4427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6019920"/>
            <a:ext cx="48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онце 90-х становятся популярны цветные искусственные ё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152388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игрушках отражается мода на всевозможные гороск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Начало 21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чале 2000х популярны ёлки, украшенные игрушками двух цветов, по-европей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чале второго десятилетия 21 века – возврат к традиции изготовления игрушек, винтажные ё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141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Как возникли ёлочные игруш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игрушках переплелись символы язычества и христиан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ечи – духовный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блоки – плоды дерева Добра и З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вощи и фрукты – плодород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везда – Вифлеемская звезда, приведшая волхвов к месту рождения Хри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45320" y="1523880"/>
            <a:ext cx="32986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16 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начально все украшения для ёлок были съедобны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блоки и све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фли и сахарные фигур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ехи, фрукты, овощ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ад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226040"/>
            <a:ext cx="4191120" cy="2631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915160" y="1981080"/>
            <a:ext cx="3228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18 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оялся переход к предкам нынешних игруш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мажные цв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тунные феи и анге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олочёные орехи и шиш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исанная яичная скорлу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Конец 18- начало 19 ве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Европе начали изготавливать первые шары из стекла. Их изнутри покрывали свинцом, а сверху посыпали блёс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ередине 19 века стеклодувы повысили мастерство, начали изготавливать несложные фигурки. На смену свинцу пришли золотое и серебряное напы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87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17024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34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Начало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ые игрушки появились в России. Стеклянные игрушки были очень дороги, популярностью пользовались украшения из прессованного картона – рыбки и птички с разноцветными хвостами из ни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8120" y="3621240"/>
            <a:ext cx="5600520" cy="3236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429000" y="3657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резденский картон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545240" y="0"/>
            <a:ext cx="1598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Comic Sans MS"/>
              </a:rPr>
              <a:t>Револю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революции 1917 года ёлки, так популярные в царской России, отменили на 18 лет – до 1935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1937 году традицию возродили, и состоялась первая Кремлёвская ёл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114800" y="3200400"/>
            <a:ext cx="5029200" cy="335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429000"/>
            <a:ext cx="3809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везда превратилась в пятиконечную, на шарах появились портреты руководителей государства, советская символ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Великая Отечественная во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вая темати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йц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енная тех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ти вновь делают игрушки самостоятельно из картона, перегоревших ламп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68920" y="4038480"/>
            <a:ext cx="2575080" cy="2819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19920" y="15238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2143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ня</cp:lastModifiedBy>
  <dcterms:modified xsi:type="dcterms:W3CDTF">2013-02-07T16:27:4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