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37.gif" ContentType="image/gif"/>
  <Override PartName="/ppt/media/image27.jpeg" ContentType="image/jpeg"/>
  <Override PartName="/ppt/media/image24.png" ContentType="image/png"/>
  <Override PartName="/ppt/media/image1.gif" ContentType="image/gif"/>
  <Override PartName="/ppt/media/image23.jpeg" ContentType="image/jpeg"/>
  <Override PartName="/ppt/media/image21.jpeg" ContentType="image/jpeg"/>
  <Override PartName="/ppt/media/image5.gif" ContentType="image/gif"/>
  <Override PartName="/ppt/media/image10.gif" ContentType="image/gif"/>
  <Override PartName="/ppt/media/image18.wmf" ContentType="image/x-wmf"/>
  <Override PartName="/ppt/media/image32.jpeg" ContentType="image/jpeg"/>
  <Override PartName="/ppt/media/image35.png" ContentType="image/png"/>
  <Override PartName="/ppt/media/image8.gif" ContentType="image/gif"/>
  <Override PartName="/ppt/media/image36.png" ContentType="image/png"/>
  <Override PartName="/ppt/media/image13.gif" ContentType="image/gif"/>
  <Override PartName="/ppt/media/image9.gif" ContentType="image/gif"/>
  <Override PartName="/ppt/media/image16.jpeg" ContentType="image/jpeg"/>
  <Override PartName="/ppt/media/image11.gif" ContentType="image/gif"/>
  <Override PartName="/ppt/media/image30.jpeg" ContentType="image/jpeg"/>
  <Override PartName="/ppt/media/image34.png" ContentType="image/png"/>
  <Override PartName="/ppt/media/image33.jpeg" ContentType="image/jpeg"/>
  <Override PartName="/ppt/media/image4.gif" ContentType="image/gif"/>
  <Override PartName="/ppt/media/image22.jpeg" ContentType="image/jpeg"/>
  <Override PartName="/ppt/media/image6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28.jpeg" ContentType="image/jpeg"/>
  <Override PartName="/ppt/media/image12.gif" ContentType="image/gif"/>
  <Override PartName="/ppt/media/image17.jpeg" ContentType="image/jpeg"/>
  <Override PartName="/ppt/media/image26.png" ContentType="image/png"/>
  <Override PartName="/ppt/media/image3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5C2-3266-430E-8093-C03A80AE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D58-21E0-4DB0-934C-5FDB9128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647-FD31-48F9-A8D3-314F6754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A91-422D-4CE6-8DC3-03488C23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71C-64ED-45A8-AB46-226806A8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691-18C9-4559-B22F-A86FCFB9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2BB-7302-458D-8D49-35E17690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DEE-6538-44B1-A8D9-91604884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F99-0358-4C7D-A62E-3DC4BD9F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EBA-38FC-4F86-A408-EFD66EE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8AB-B18E-4354-9BE8-95D47879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C1A-8597-429D-9D0C-E373E31D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5D28-D240-4B01-8EE8-4CDF3CA27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miles.33b.ru/smile.105209.html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smiles.33b.ru/smile.105209.html" TargetMode="Externa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miles.33b.ru/smile.106621.html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5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4103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0000"/>
                </a:solidFill>
                <a:latin typeface="Comic Sans MS"/>
              </a:rPr>
              <a:t>Знай правила </a:t>
            </a:r>
            <a:r>
              <a:rPr b="1" lang="en-US" sz="6800" spc="-1" strike="noStrike">
                <a:solidFill>
                  <a:srgbClr val="ffff00"/>
                </a:solidFill>
                <a:latin typeface="Comic Sans MS"/>
              </a:rPr>
              <a:t>движения, как </a:t>
            </a:r>
            <a:r>
              <a:rPr b="1" lang="en-US" sz="6800" spc="-1" strike="noStrike">
                <a:solidFill>
                  <a:srgbClr val="00ff00"/>
                </a:solidFill>
                <a:latin typeface="Comic Sans MS"/>
              </a:rPr>
              <a:t>таблицу умножения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>
            <a:lum contrast="48000"/>
          </a:blip>
          <a:stretch/>
        </p:blipFill>
        <p:spPr>
          <a:xfrm rot="10800000">
            <a:off x="0" y="551628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4365720"/>
          </a:xfrm>
          <a:prstGeom prst="wedgeEllipseCallout">
            <a:avLst>
              <a:gd name="adj1" fmla="val -49685"/>
              <a:gd name="adj2" fmla="val 49018"/>
            </a:avLst>
          </a:prstGeom>
          <a:solidFill>
            <a:srgbClr val="66ff33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помнить это очень прост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ам переход, где перекрё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 перекрёстка погля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ашины нет — пере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верь у середин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 справа нет маш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-324000" y="3716280"/>
            <a:ext cx="4321440" cy="3643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04000" y="4149720"/>
            <a:ext cx="2340000" cy="24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276720" y="4365720"/>
            <a:ext cx="4535280" cy="2492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 rot="5248200">
            <a:off x="4428360" y="4410720"/>
            <a:ext cx="1942920" cy="295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3529080"/>
          </a:xfrm>
          <a:prstGeom prst="rect">
            <a:avLst/>
          </a:prstGeom>
          <a:solidFill>
            <a:srgbClr val="15e5f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УЛИЦА ПОЛН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НЕОЖИДАННОСТ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И ОПАСНОСТ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20519" r="0" b="0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51640" y="691920"/>
            <a:ext cx="302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На школьном дворе или детской площадке можно играть, не боясь попасть под маш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407" t="12152" r="0" b="2453"/>
          <a:stretch/>
        </p:blipFill>
        <p:spPr>
          <a:xfrm>
            <a:off x="611280" y="549360"/>
            <a:ext cx="5021280" cy="568944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095640" cy="610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о иногда дети на улице ведут себя беспеч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67280" y="836640"/>
            <a:ext cx="4321080" cy="5113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НЕ ПОСТУПАЙ ТА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680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1079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НЕ ПОСТУПАЙ ТА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3002"/>
          <a:stretch/>
        </p:blipFill>
        <p:spPr>
          <a:xfrm>
            <a:off x="2050920" y="1916280"/>
            <a:ext cx="5256360" cy="432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7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1152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НЕ ПОСТУПАЙ ТА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7364"/>
          <a:stretch/>
        </p:blipFill>
        <p:spPr>
          <a:xfrm>
            <a:off x="2124000" y="1773360"/>
            <a:ext cx="5256360" cy="4535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100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НЕ ПОСТУПАЙ ТА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608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10748" t="6963" r="57116" b="1994"/>
          <a:stretch/>
        </p:blipFill>
        <p:spPr>
          <a:xfrm>
            <a:off x="8459640" y="0"/>
            <a:ext cx="684360" cy="1628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10748" t="6963" r="57116" b="1994"/>
          <a:stretch/>
        </p:blipFill>
        <p:spPr>
          <a:xfrm>
            <a:off x="0" y="0"/>
            <a:ext cx="755640" cy="162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10748" t="6963" r="57116" b="1994"/>
          <a:stretch/>
        </p:blipFill>
        <p:spPr>
          <a:xfrm>
            <a:off x="0" y="5373720"/>
            <a:ext cx="755640" cy="162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10748" t="6963" r="57116" b="1994"/>
          <a:stretch/>
        </p:blipFill>
        <p:spPr>
          <a:xfrm>
            <a:off x="8388360" y="5373720"/>
            <a:ext cx="755640" cy="162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СВЕТОФ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669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 виду грозный и серьёз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чень важный 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 перекрёстка, с перекрё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 меня глядит в уп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сё, что хочет он сказ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Я умею, я умею по гла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го чит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зличать ты должен ясн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Цвет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зелёны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жёлты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40360" y="692280"/>
            <a:ext cx="2916360" cy="56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236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орожные знаки – твои помощники. Надо понимать    их язык и строго выполнять    их указ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924280"/>
            <a:ext cx="7775280" cy="3292920"/>
          </a:xfrm>
          <a:prstGeom prst="rect">
            <a:avLst/>
          </a:prstGeom>
          <a:solidFill>
            <a:srgbClr val="15e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З А П О М Н И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Д О Р О Ж Н Ы Е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З Н А К И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0836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77164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357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4508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0" y="544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6732720" y="6281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766764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856764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8567640" y="537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8567640" y="4437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8567640" y="3500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>
            <a:off x="5651640" y="6281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>
            <a:off x="90000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>
            <a:off x="1835280" y="6281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>
            <a:off x="90000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0" y="83664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0" y="184464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1"/>
          <a:stretch/>
        </p:blipFill>
        <p:spPr>
          <a:xfrm>
            <a:off x="752472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2"/>
          <a:stretch/>
        </p:blipFill>
        <p:spPr>
          <a:xfrm>
            <a:off x="1835280" y="0"/>
            <a:ext cx="610920" cy="549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3"/>
          <a:stretch/>
        </p:blipFill>
        <p:spPr>
          <a:xfrm>
            <a:off x="8532720" y="184464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4"/>
          <a:stretch/>
        </p:blipFill>
        <p:spPr>
          <a:xfrm>
            <a:off x="8532720" y="90792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5"/>
          <a:stretch/>
        </p:blipFill>
        <p:spPr>
          <a:xfrm>
            <a:off x="853272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6"/>
          <a:stretch/>
        </p:blipFill>
        <p:spPr>
          <a:xfrm>
            <a:off x="277164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7"/>
          <a:stretch/>
        </p:blipFill>
        <p:spPr>
          <a:xfrm>
            <a:off x="370836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8"/>
          <a:stretch/>
        </p:blipFill>
        <p:spPr>
          <a:xfrm>
            <a:off x="658800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9"/>
          <a:stretch/>
        </p:blipFill>
        <p:spPr>
          <a:xfrm>
            <a:off x="464328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0"/>
          <a:stretch/>
        </p:blipFill>
        <p:spPr>
          <a:xfrm>
            <a:off x="558000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1"/>
          <a:stretch/>
        </p:blipFill>
        <p:spPr>
          <a:xfrm>
            <a:off x="8532720" y="2637000"/>
            <a:ext cx="611280" cy="549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2"/>
          <a:stretch/>
        </p:blipFill>
        <p:spPr>
          <a:xfrm>
            <a:off x="0" y="2708280"/>
            <a:ext cx="611280" cy="54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Предупреждающие знаки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66364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203640" y="29242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156360" y="4221000"/>
            <a:ext cx="2663640" cy="223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77960" y="378936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ешех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3120" y="37162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ер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6080" y="5516640"/>
            <a:ext cx="10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67640" y="155736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Светофорное регул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-252360" y="-171360"/>
            <a:ext cx="9648720" cy="72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Запрещающие зна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303640" cy="21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6300720" y="4365720"/>
            <a:ext cx="23749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492360" y="2781360"/>
            <a:ext cx="2303640" cy="223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43280" y="155736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вижение     пешеходов запрещ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11920" y="371628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ви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11600" y="5549760"/>
            <a:ext cx="492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вижение на велосипед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прещ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38920" y="364500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прещ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-252360" y="-171360"/>
            <a:ext cx="9577440" cy="72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Указательные зна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564000" y="2565360"/>
            <a:ext cx="2305080" cy="2449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516720" y="4508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374920" cy="2232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27680" y="364500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О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5680" y="1484280"/>
            <a:ext cx="40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ешеходный пер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33880" y="5734080"/>
            <a:ext cx="37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дземный пер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65640" y="364500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автоб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-181080" y="-243000"/>
            <a:ext cx="9506160" cy="727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Предписывающие зна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374920" cy="2158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00360" y="12682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орожка для пешех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и 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16520" y="342900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ор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3357720"/>
            <a:ext cx="301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54000" y="5445000"/>
            <a:ext cx="42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ви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легковых автомоб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-181080" y="-171360"/>
            <a:ext cx="9504360" cy="72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bfa">
                  <a:alpha val="53333"/>
                </a:srgbClr>
              </a:gs>
              <a:gs pos="100000">
                <a:srgbClr val="5e9eff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Arial"/>
              </a:rPr>
              <a:t>Дисциплина                      на улице – </a:t>
            </a:r>
            <a:br>
              <a:rPr sz="5400"/>
            </a:br>
            <a:r>
              <a:rPr b="1" lang="en-US" sz="5400" spc="-1" strike="noStrike">
                <a:solidFill>
                  <a:srgbClr val="cc00cc"/>
                </a:solidFill>
                <a:latin typeface="Arial"/>
              </a:rPr>
              <a:t>залог безопасности!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cc00cc"/>
                </a:solidFill>
                <a:latin typeface="Arial"/>
              </a:rPr>
              <a:t>Дети,</a:t>
            </a:r>
            <a:br>
              <a:rPr sz="5400"/>
            </a:br>
            <a:r>
              <a:rPr b="1" lang="en-US" sz="5400" spc="-1" strike="noStrike">
                <a:solidFill>
                  <a:srgbClr val="cc00cc"/>
                </a:solidFill>
                <a:latin typeface="Arial"/>
              </a:rPr>
              <a:t>запомните эт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689440" cy="352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Если свет зажёгся крас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ит двигаться опа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14596" r="0" b="0"/>
          <a:stretch/>
        </p:blipFill>
        <p:spPr>
          <a:xfrm>
            <a:off x="1187280" y="1916280"/>
            <a:ext cx="2916360" cy="436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0920" y="357336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4941720"/>
            <a:ext cx="115272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615400">
            <a:off x="1332000" y="3716280"/>
            <a:ext cx="28728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627400">
            <a:off x="1331640" y="5084280"/>
            <a:ext cx="2872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1677800">
            <a:off x="3634920" y="3715920"/>
            <a:ext cx="28728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1677800">
            <a:off x="3634920" y="5083920"/>
            <a:ext cx="287280" cy="10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5148360" y="1628640"/>
            <a:ext cx="360036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Жёлтый свет –  предупреждень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Жди сигнала для движен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4596" r="0" b="0"/>
          <a:stretch/>
        </p:blipFill>
        <p:spPr>
          <a:xfrm>
            <a:off x="5364000" y="2276640"/>
            <a:ext cx="2916360" cy="4365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27640" y="2421000"/>
            <a:ext cx="11527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5229360"/>
            <a:ext cx="11527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1677800">
            <a:off x="7811640" y="2707920"/>
            <a:ext cx="28728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1677800">
            <a:off x="7811640" y="5444280"/>
            <a:ext cx="287280" cy="10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823600">
            <a:off x="5508360" y="2707920"/>
            <a:ext cx="28728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705400">
            <a:off x="5508360" y="5444640"/>
            <a:ext cx="2872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187280" y="1484280"/>
            <a:ext cx="3097440" cy="51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вет зелёный говори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«Проходите, путь открыт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4211640" y="1916280"/>
            <a:ext cx="4680000" cy="453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14596" r="0" b="0"/>
          <a:stretch/>
        </p:blipFill>
        <p:spPr>
          <a:xfrm>
            <a:off x="684360" y="2060640"/>
            <a:ext cx="2916000" cy="4365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2276640"/>
            <a:ext cx="115272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716280"/>
            <a:ext cx="115272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823600">
            <a:off x="826560" y="2491920"/>
            <a:ext cx="28764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823600">
            <a:off x="826560" y="3860280"/>
            <a:ext cx="28764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1773200">
            <a:off x="3131280" y="2492280"/>
            <a:ext cx="28764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1702400">
            <a:off x="3139560" y="3860280"/>
            <a:ext cx="28764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1138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Ты идёшь по улице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184464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413000"/>
            <a:ext cx="8642160" cy="2952720"/>
          </a:xfrm>
          <a:prstGeom prst="wedgeEllipseCallout">
            <a:avLst>
              <a:gd name="adj1" fmla="val -49083"/>
              <a:gd name="adj2" fmla="val 59356"/>
            </a:avLst>
          </a:prstGeom>
          <a:solidFill>
            <a:srgbClr val="ff66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стовая для маш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ешеходам — п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вобо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 дорожке пешех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84360" y="3860640"/>
            <a:ext cx="3816360" cy="299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933720"/>
          </a:xfrm>
          <a:prstGeom prst="wedgeEllipseCallout">
            <a:avLst>
              <a:gd name="adj1" fmla="val 48750"/>
              <a:gd name="adj2" fmla="val 46083"/>
            </a:avLst>
          </a:prstGeom>
          <a:solidFill>
            <a:srgbClr val="ffff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Гоняя мяч по мостов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скует мальчик голов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тведены вам для иг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 спортплощадки и дв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9280" y="3141720"/>
            <a:ext cx="3961080" cy="39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>
            <a:lum contrast="78000"/>
          </a:blip>
          <a:stretch/>
        </p:blipFill>
        <p:spPr>
          <a:xfrm>
            <a:off x="4643280" y="2924280"/>
            <a:ext cx="36738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89000"/>
            <a:ext cx="8785440" cy="3456000"/>
          </a:xfrm>
          <a:prstGeom prst="wedgeEllipseCallout">
            <a:avLst>
              <a:gd name="adj1" fmla="val -45282"/>
              <a:gd name="adj2" fmla="val 87939"/>
            </a:avLst>
          </a:prstGeom>
          <a:solidFill>
            <a:srgbClr val="ff33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здят часто Вова с Пе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 одном велосипед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еужели им неяс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Что езда вдвоём опас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619280" y="3860640"/>
            <a:ext cx="5761080" cy="299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333360"/>
            <a:ext cx="8207280" cy="3600360"/>
          </a:xfrm>
          <a:prstGeom prst="wedgeEllipseCallout">
            <a:avLst>
              <a:gd name="adj1" fmla="val 50620"/>
              <a:gd name="adj2" fmla="val 52601"/>
            </a:avLst>
          </a:prstGeom>
          <a:solidFill>
            <a:srgbClr val="15e5fb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бходи машины сзад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 трамваи сперед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 шоссе и автостра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о обочине хо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8920" y="3860640"/>
            <a:ext cx="7058160" cy="33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7:09:59Z</dcterms:created>
  <dc:creator>ooo</dc:creator>
  <dc:description/>
  <dc:language>en-US</dc:language>
  <cp:lastModifiedBy>я</cp:lastModifiedBy>
  <dcterms:modified xsi:type="dcterms:W3CDTF">2013-02-06T22:34:18Z</dcterms:modified>
  <cp:revision>7</cp:revision>
  <dc:subject/>
  <dc:title>Слайд 1</dc:title>
</cp:coreProperties>
</file>