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37.gif" ContentType="image/gif"/>
  <Override PartName="/ppt/media/image27.jpeg" ContentType="image/jpeg"/>
  <Override PartName="/ppt/media/image24.png" ContentType="image/png"/>
  <Override PartName="/ppt/media/image1.gif" ContentType="image/gif"/>
  <Override PartName="/ppt/media/image23.jpeg" ContentType="image/jpeg"/>
  <Override PartName="/ppt/media/image21.jpeg" ContentType="image/jpeg"/>
  <Override PartName="/ppt/media/image5.gif" ContentType="image/gif"/>
  <Override PartName="/ppt/media/image10.gif" ContentType="image/gif"/>
  <Override PartName="/ppt/media/image18.wmf" ContentType="image/x-wmf"/>
  <Override PartName="/ppt/media/image32.jpeg" ContentType="image/jpeg"/>
  <Override PartName="/ppt/media/image35.png" ContentType="image/png"/>
  <Override PartName="/ppt/media/image8.gif" ContentType="image/gif"/>
  <Override PartName="/ppt/media/image36.png" ContentType="image/png"/>
  <Override PartName="/ppt/media/image13.gif" ContentType="image/gif"/>
  <Override PartName="/ppt/media/image9.gif" ContentType="image/gif"/>
  <Override PartName="/ppt/media/image16.jpeg" ContentType="image/jpeg"/>
  <Override PartName="/ppt/media/image11.gif" ContentType="image/gif"/>
  <Override PartName="/ppt/media/image30.jpeg" ContentType="image/jpeg"/>
  <Override PartName="/ppt/media/image34.png" ContentType="image/png"/>
  <Override PartName="/ppt/media/image33.jpeg" ContentType="image/jpeg"/>
  <Override PartName="/ppt/media/image4.gif" ContentType="image/gif"/>
  <Override PartName="/ppt/media/image22.jpeg" ContentType="image/jpeg"/>
  <Override PartName="/ppt/media/image6.wmf" ContentType="image/x-wmf"/>
  <Override PartName="/ppt/media/image2.png" ContentType="image/png"/>
  <Override PartName="/ppt/media/image19.jpeg" ContentType="image/jpeg"/>
  <Override PartName="/ppt/media/image25.png" ContentType="image/png"/>
  <Override PartName="/ppt/media/image31.jpeg" ContentType="image/jpeg"/>
  <Override PartName="/ppt/media/image14.gif" ContentType="image/gif"/>
  <Override PartName="/ppt/media/image15.gif" ContentType="image/gif"/>
  <Override PartName="/ppt/media/image28.jpeg" ContentType="image/jpeg"/>
  <Override PartName="/ppt/media/image12.gif" ContentType="image/gif"/>
  <Override PartName="/ppt/media/image17.jpeg" ContentType="image/jpeg"/>
  <Override PartName="/ppt/media/image26.png" ContentType="image/png"/>
  <Override PartName="/ppt/media/image3.gif" ContentType="image/gif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0C5-8F8B-45C8-81FD-9BE54748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D98-F3BC-4C49-A03B-CB51F428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D67A-BB86-47E9-9746-1FA2E5FE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B76F-071A-4118-8A3F-A31B05A1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B46C-A5C1-4D82-BA0F-4EA9AE77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E5C1-FF71-426B-927E-74855719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0F71-3706-4C93-9CA8-11E1A91F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849-1DBE-4D1E-9A69-23E3E0AD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1E3-2155-449C-A460-10B09E03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6C3-1E6D-4A58-B763-E9D26B7E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196-F7B6-485E-AFC1-3AA8CB04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3D7-EAF9-4779-9B85-CA12A5F2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1E48-19AC-4336-A9EC-E68E78077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miles.33b.ru/smile.105209.html" TargetMode="External"/><Relationship Id="rId2" Type="http://schemas.openxmlformats.org/officeDocument/2006/relationships/image" Target="../media/image1.gif"/><Relationship Id="rId3" Type="http://schemas.openxmlformats.org/officeDocument/2006/relationships/hyperlink" Target="http://smiles.33b.ru/smile.105209.html" TargetMode="External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miles.33b.ru/smile.106621.html" TargetMode="External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5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6.png"/><Relationship Id="rId19" Type="http://schemas.openxmlformats.org/officeDocument/2006/relationships/image" Target="../media/image26.png"/><Relationship Id="rId20" Type="http://schemas.openxmlformats.org/officeDocument/2006/relationships/image" Target="../media/image26.png"/><Relationship Id="rId21" Type="http://schemas.openxmlformats.org/officeDocument/2006/relationships/image" Target="../media/image26.png"/><Relationship Id="rId22" Type="http://schemas.openxmlformats.org/officeDocument/2006/relationships/image" Target="../media/image26.png"/><Relationship Id="rId23" Type="http://schemas.openxmlformats.org/officeDocument/2006/relationships/image" Target="../media/image26.png"/><Relationship Id="rId24" Type="http://schemas.openxmlformats.org/officeDocument/2006/relationships/image" Target="../media/image26.png"/><Relationship Id="rId25" Type="http://schemas.openxmlformats.org/officeDocument/2006/relationships/image" Target="../media/image26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25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4103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0000"/>
                </a:solidFill>
                <a:latin typeface="Comic Sans MS"/>
              </a:rPr>
              <a:t>Знай правила </a:t>
            </a:r>
            <a:r>
              <a:rPr b="1" lang="en-US" sz="6800" spc="-1" strike="noStrike">
                <a:solidFill>
                  <a:srgbClr val="ffff00"/>
                </a:solidFill>
                <a:latin typeface="Comic Sans MS"/>
              </a:rPr>
              <a:t>движения, как </a:t>
            </a:r>
            <a:r>
              <a:rPr b="1" lang="en-US" sz="6800" spc="-1" strike="noStrike">
                <a:solidFill>
                  <a:srgbClr val="00ff00"/>
                </a:solidFill>
                <a:latin typeface="Comic Sans MS"/>
              </a:rPr>
              <a:t>таблицу умножения!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>
            <a:lum contrast="48000"/>
          </a:blip>
          <a:stretch/>
        </p:blipFill>
        <p:spPr>
          <a:xfrm rot="10800000">
            <a:off x="0" y="551628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4365720"/>
          </a:xfrm>
          <a:prstGeom prst="wedgeEllipseCallout">
            <a:avLst>
              <a:gd name="adj1" fmla="val -49685"/>
              <a:gd name="adj2" fmla="val 49018"/>
            </a:avLst>
          </a:prstGeom>
          <a:solidFill>
            <a:srgbClr val="66ff33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Запомнить это очень прост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ам переход, где перекрёс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У перекрёстка погля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Машины нет — перехо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оверь у середины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А справа нет маш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>
            <a:lum contrast="60000"/>
          </a:blip>
          <a:stretch/>
        </p:blipFill>
        <p:spPr>
          <a:xfrm>
            <a:off x="-324000" y="3716280"/>
            <a:ext cx="4321440" cy="3643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804000" y="4149720"/>
            <a:ext cx="2340000" cy="2419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3276720" y="4365720"/>
            <a:ext cx="4535280" cy="2492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 rot="5248200">
            <a:off x="4428360" y="4410720"/>
            <a:ext cx="1942920" cy="2951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9144000" cy="3529080"/>
          </a:xfrm>
          <a:prstGeom prst="rect">
            <a:avLst/>
          </a:prstGeom>
          <a:solidFill>
            <a:srgbClr val="15e5f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УЛИЦА ПОЛН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НЕОЖИДАННОСТЕ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И ОПАСНОСТЕ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6281640"/>
            <a:ext cx="9144000" cy="576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20519" r="0" b="0"/>
          <a:stretch/>
        </p:blipFill>
        <p:spPr>
          <a:xfrm>
            <a:off x="0" y="62064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51640" y="691920"/>
            <a:ext cx="302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На школьном дворе или детской площадке можно играть, не боясь попасть под маш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407" t="12152" r="0" b="2453"/>
          <a:stretch/>
        </p:blipFill>
        <p:spPr>
          <a:xfrm>
            <a:off x="611280" y="549360"/>
            <a:ext cx="5021280" cy="568944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3095640" cy="610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Но иногда дети на улице ведут себя беспеч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067280" y="836640"/>
            <a:ext cx="4321080" cy="51134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НЕ ПОСТУПАЙ ТА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472360" cy="4680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96000" cy="1079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НЕ ПОСТУПАЙ ТАК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0" b="13002"/>
          <a:stretch/>
        </p:blipFill>
        <p:spPr>
          <a:xfrm>
            <a:off x="2050920" y="1916280"/>
            <a:ext cx="5256360" cy="4321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7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1152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НЕ ПОСТУПАЙ ТАК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7364"/>
          <a:stretch/>
        </p:blipFill>
        <p:spPr>
          <a:xfrm>
            <a:off x="2124000" y="1773360"/>
            <a:ext cx="5256360" cy="45352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42160" cy="1008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НЕ ПОСТУПАЙ ТАК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417080" cy="4608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10748" t="6963" r="57116" b="1994"/>
          <a:stretch/>
        </p:blipFill>
        <p:spPr>
          <a:xfrm>
            <a:off x="8459640" y="0"/>
            <a:ext cx="684360" cy="1628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rcRect l="10748" t="6963" r="57116" b="1994"/>
          <a:stretch/>
        </p:blipFill>
        <p:spPr>
          <a:xfrm>
            <a:off x="0" y="0"/>
            <a:ext cx="755640" cy="1628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rcRect l="10748" t="6963" r="57116" b="1994"/>
          <a:stretch/>
        </p:blipFill>
        <p:spPr>
          <a:xfrm>
            <a:off x="0" y="5373720"/>
            <a:ext cx="755640" cy="162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rcRect l="10748" t="6963" r="57116" b="1994"/>
          <a:stretch/>
        </p:blipFill>
        <p:spPr>
          <a:xfrm>
            <a:off x="8388360" y="5373720"/>
            <a:ext cx="755640" cy="162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Comic Sans MS"/>
              </a:rPr>
              <a:t>СВЕТОФ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669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 виду грозный и серьёз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чень важный свето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 перекрёстка, с перекрёс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 меня глядит в уп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сё, что хочет он сказа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Я умею, я умею по глаз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го чит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азличать ты должен ясно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Цвет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зелёный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                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жёлтый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красный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40360" y="692280"/>
            <a:ext cx="2916360" cy="561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848360" cy="236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Дорожные знаки – твои помощники. Надо понимать    их язык и строго выполнять    их указ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2924280"/>
            <a:ext cx="7775280" cy="3292920"/>
          </a:xfrm>
          <a:prstGeom prst="rect">
            <a:avLst/>
          </a:prstGeom>
          <a:solidFill>
            <a:srgbClr val="15e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Arial"/>
              </a:rPr>
              <a:t>З А П О М Н И 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Arial"/>
              </a:rPr>
              <a:t>Д О Р О Ж Н Ы Е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Arial"/>
              </a:rPr>
              <a:t>З Н А К И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328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0836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77164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0" y="357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0" y="450864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0" y="5445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6732720" y="6281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766764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0"/>
          <a:stretch/>
        </p:blipFill>
        <p:spPr>
          <a:xfrm>
            <a:off x="856764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1"/>
          <a:stretch/>
        </p:blipFill>
        <p:spPr>
          <a:xfrm>
            <a:off x="8567640" y="5373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2"/>
          <a:stretch/>
        </p:blipFill>
        <p:spPr>
          <a:xfrm>
            <a:off x="8567640" y="4437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3"/>
          <a:stretch/>
        </p:blipFill>
        <p:spPr>
          <a:xfrm>
            <a:off x="8567640" y="3500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4"/>
          <a:stretch/>
        </p:blipFill>
        <p:spPr>
          <a:xfrm>
            <a:off x="5651640" y="6281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5"/>
          <a:stretch/>
        </p:blipFill>
        <p:spPr>
          <a:xfrm>
            <a:off x="90000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6"/>
          <a:stretch/>
        </p:blipFill>
        <p:spPr>
          <a:xfrm>
            <a:off x="1835280" y="6281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8"/>
          <a:stretch/>
        </p:blipFill>
        <p:spPr>
          <a:xfrm>
            <a:off x="900000" y="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9"/>
          <a:stretch/>
        </p:blipFill>
        <p:spPr>
          <a:xfrm>
            <a:off x="0" y="83664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0"/>
          <a:stretch/>
        </p:blipFill>
        <p:spPr>
          <a:xfrm>
            <a:off x="0" y="184464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1"/>
          <a:stretch/>
        </p:blipFill>
        <p:spPr>
          <a:xfrm>
            <a:off x="7524720" y="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2"/>
          <a:stretch/>
        </p:blipFill>
        <p:spPr>
          <a:xfrm>
            <a:off x="1835280" y="0"/>
            <a:ext cx="610920" cy="549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3"/>
          <a:stretch/>
        </p:blipFill>
        <p:spPr>
          <a:xfrm>
            <a:off x="8532720" y="184464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4"/>
          <a:stretch/>
        </p:blipFill>
        <p:spPr>
          <a:xfrm>
            <a:off x="8532720" y="90792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5"/>
          <a:stretch/>
        </p:blipFill>
        <p:spPr>
          <a:xfrm>
            <a:off x="8532720" y="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6"/>
          <a:stretch/>
        </p:blipFill>
        <p:spPr>
          <a:xfrm>
            <a:off x="2771640" y="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7"/>
          <a:stretch/>
        </p:blipFill>
        <p:spPr>
          <a:xfrm>
            <a:off x="3708360" y="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8"/>
          <a:stretch/>
        </p:blipFill>
        <p:spPr>
          <a:xfrm>
            <a:off x="6588000" y="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9"/>
          <a:stretch/>
        </p:blipFill>
        <p:spPr>
          <a:xfrm>
            <a:off x="4643280" y="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0"/>
          <a:stretch/>
        </p:blipFill>
        <p:spPr>
          <a:xfrm>
            <a:off x="5580000" y="0"/>
            <a:ext cx="611280" cy="549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1"/>
          <a:stretch/>
        </p:blipFill>
        <p:spPr>
          <a:xfrm>
            <a:off x="8532720" y="2637000"/>
            <a:ext cx="611280" cy="549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2"/>
          <a:stretch/>
        </p:blipFill>
        <p:spPr>
          <a:xfrm>
            <a:off x="0" y="2708280"/>
            <a:ext cx="611280" cy="54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omic Sans MS"/>
              </a:rPr>
              <a:t>Предупреждающие знаки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2663640" cy="237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203640" y="29242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6156360" y="4221000"/>
            <a:ext cx="2663640" cy="2232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77960" y="378936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ешех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73120" y="371628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ере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6080" y="5516640"/>
            <a:ext cx="10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67640" y="1557360"/>
            <a:ext cx="53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Светофорное регулир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-252360" y="-171360"/>
            <a:ext cx="9648720" cy="720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Запрещающие зна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2303640" cy="2158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>
            <a:lum contrast="60000"/>
          </a:blip>
          <a:stretch/>
        </p:blipFill>
        <p:spPr>
          <a:xfrm>
            <a:off x="6300720" y="4365720"/>
            <a:ext cx="2374920" cy="2232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492360" y="2781360"/>
            <a:ext cx="2303640" cy="2232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843280" y="155736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Движение     пешеходов запрещ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11920" y="3716280"/>
            <a:ext cx="20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Дви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11600" y="5549760"/>
            <a:ext cx="492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Движение на велосипед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запрещ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38920" y="364500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запрещ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-252360" y="-171360"/>
            <a:ext cx="9577440" cy="720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Указательные знак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564000" y="2565360"/>
            <a:ext cx="2305080" cy="2449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516720" y="450864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374920" cy="2232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327680" y="364500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Остан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15680" y="1484280"/>
            <a:ext cx="40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ешеходный пере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33880" y="5734080"/>
            <a:ext cx="376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Подземный пере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65640" y="3645000"/>
            <a:ext cx="17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автоб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-181080" y="-243000"/>
            <a:ext cx="9506160" cy="727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Предписывающие зна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2303280" cy="2232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03640" y="2637000"/>
            <a:ext cx="230328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2374920" cy="2158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700360" y="126828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Дорожка для пешех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и велосипед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16520" y="342900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Доро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24360" y="3357720"/>
            <a:ext cx="301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велосипед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54000" y="5445000"/>
            <a:ext cx="424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Дви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легковых автомоби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-181080" y="-171360"/>
            <a:ext cx="9504360" cy="720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bfa">
                  <a:alpha val="53333"/>
                </a:srgbClr>
              </a:gs>
              <a:gs pos="100000">
                <a:srgbClr val="5e9eff">
                  <a:alpha val="5333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cc"/>
                </a:solidFill>
                <a:latin typeface="Arial"/>
              </a:rPr>
              <a:t>Дисциплина                      на улице – </a:t>
            </a:r>
            <a:br>
              <a:rPr sz="5400"/>
            </a:br>
            <a:r>
              <a:rPr b="1" lang="en-US" sz="5400" spc="-1" strike="noStrike">
                <a:solidFill>
                  <a:srgbClr val="cc00cc"/>
                </a:solidFill>
                <a:latin typeface="Arial"/>
              </a:rPr>
              <a:t>залог безопасности!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cc00cc"/>
                </a:solidFill>
                <a:latin typeface="Arial"/>
              </a:rPr>
              <a:t>Дети,</a:t>
            </a:r>
            <a:br>
              <a:rPr sz="5400"/>
            </a:br>
            <a:r>
              <a:rPr b="1" lang="en-US" sz="5400" spc="-1" strike="noStrike">
                <a:solidFill>
                  <a:srgbClr val="cc00cc"/>
                </a:solidFill>
                <a:latin typeface="Arial"/>
              </a:rPr>
              <a:t>запомните эт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689440" cy="352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Если свет зажёгся красны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начит двигаться опа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14596" r="0" b="0"/>
          <a:stretch/>
        </p:blipFill>
        <p:spPr>
          <a:xfrm>
            <a:off x="1187280" y="1916280"/>
            <a:ext cx="2916360" cy="4365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0920" y="3573360"/>
            <a:ext cx="1081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4941720"/>
            <a:ext cx="115272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0615400">
            <a:off x="1332000" y="3716280"/>
            <a:ext cx="287280" cy="93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627400">
            <a:off x="1331640" y="5084280"/>
            <a:ext cx="287280" cy="9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1677800">
            <a:off x="3634920" y="3715920"/>
            <a:ext cx="287280" cy="93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1677800">
            <a:off x="3634920" y="5083920"/>
            <a:ext cx="287280" cy="100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5148360" y="1628640"/>
            <a:ext cx="3600360" cy="475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Жёлтый свет –  предупрежденье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Жди сигнала для движень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14596" r="0" b="0"/>
          <a:stretch/>
        </p:blipFill>
        <p:spPr>
          <a:xfrm>
            <a:off x="5364000" y="2276640"/>
            <a:ext cx="2916360" cy="4365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227640" y="2421000"/>
            <a:ext cx="115272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27640" y="5229360"/>
            <a:ext cx="115272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1677800">
            <a:off x="7811640" y="2707920"/>
            <a:ext cx="287280" cy="93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1677800">
            <a:off x="7811640" y="5444280"/>
            <a:ext cx="287280" cy="100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0823600">
            <a:off x="5508360" y="2707920"/>
            <a:ext cx="287280" cy="93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0705400">
            <a:off x="5508360" y="5444640"/>
            <a:ext cx="287280" cy="9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1187280" y="1484280"/>
            <a:ext cx="3097440" cy="518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Свет зелёный говори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«Проходите, путь открыт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contrast="90000"/>
          </a:blip>
          <a:stretch/>
        </p:blipFill>
        <p:spPr>
          <a:xfrm>
            <a:off x="4211640" y="1916280"/>
            <a:ext cx="4680000" cy="453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14596" r="0" b="0"/>
          <a:stretch/>
        </p:blipFill>
        <p:spPr>
          <a:xfrm>
            <a:off x="684360" y="2060640"/>
            <a:ext cx="2916000" cy="4365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2276640"/>
            <a:ext cx="115272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3716280"/>
            <a:ext cx="115272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0823600">
            <a:off x="826560" y="2491920"/>
            <a:ext cx="287640" cy="9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0823600">
            <a:off x="826560" y="3860280"/>
            <a:ext cx="287640" cy="9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1773200">
            <a:off x="3131280" y="2492280"/>
            <a:ext cx="287640" cy="9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1702400">
            <a:off x="3139560" y="3860280"/>
            <a:ext cx="28764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63" y="3323"/>
                  <a:pt x="18525" y="5080"/>
                  <a:pt x="18525" y="10800"/>
                </a:cubicBezTo>
                <a:cubicBezTo>
                  <a:pt x="18525" y="16520"/>
                  <a:pt x="20063" y="1827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1138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Ты идёшь по улице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16360" y="1844640"/>
            <a:ext cx="42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413000"/>
            <a:ext cx="8642160" cy="2952720"/>
          </a:xfrm>
          <a:prstGeom prst="wedgeEllipseCallout">
            <a:avLst>
              <a:gd name="adj1" fmla="val -49083"/>
              <a:gd name="adj2" fmla="val 59356"/>
            </a:avLst>
          </a:prstGeom>
          <a:solidFill>
            <a:srgbClr val="ff66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Мостовая для маши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ешеходам — п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вобод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о дорожке пешех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84360" y="3860640"/>
            <a:ext cx="3816360" cy="299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3933720"/>
          </a:xfrm>
          <a:prstGeom prst="wedgeEllipseCallout">
            <a:avLst>
              <a:gd name="adj1" fmla="val 48750"/>
              <a:gd name="adj2" fmla="val 46083"/>
            </a:avLst>
          </a:prstGeom>
          <a:solidFill>
            <a:srgbClr val="ffff6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Гоняя мяч по мостов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скует мальчик голов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Отведены вам для игр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И спортплощадки и дво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79280" y="3141720"/>
            <a:ext cx="3961080" cy="393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>
            <a:lum contrast="78000"/>
          </a:blip>
          <a:stretch/>
        </p:blipFill>
        <p:spPr>
          <a:xfrm>
            <a:off x="4643280" y="2924280"/>
            <a:ext cx="3673800" cy="39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9280" y="189000"/>
            <a:ext cx="8785440" cy="3456000"/>
          </a:xfrm>
          <a:prstGeom prst="wedgeEllipseCallout">
            <a:avLst>
              <a:gd name="adj1" fmla="val -45282"/>
              <a:gd name="adj2" fmla="val 87939"/>
            </a:avLst>
          </a:prstGeom>
          <a:solidFill>
            <a:srgbClr val="ff33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Ездят часто Вова с Пет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На одном велосипед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Неужели им неясн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Что езда вдвоём опас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619280" y="3860640"/>
            <a:ext cx="5761080" cy="299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333360"/>
            <a:ext cx="8207280" cy="3600360"/>
          </a:xfrm>
          <a:prstGeom prst="wedgeEllipseCallout">
            <a:avLst>
              <a:gd name="adj1" fmla="val 50620"/>
              <a:gd name="adj2" fmla="val 52601"/>
            </a:avLst>
          </a:prstGeom>
          <a:solidFill>
            <a:srgbClr val="15e5fb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Обходи машины сзад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А трамваи сперед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На шоссе и автострад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По обочине хо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58920" y="3860640"/>
            <a:ext cx="7058160" cy="331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7:09:59Z</dcterms:created>
  <dc:creator>ooo</dc:creator>
  <dc:description/>
  <dc:language>en-US</dc:language>
  <cp:lastModifiedBy>я</cp:lastModifiedBy>
  <dcterms:modified xsi:type="dcterms:W3CDTF">2013-02-06T22:34:18Z</dcterms:modified>
  <cp:revision>7</cp:revision>
  <dc:subject/>
  <dc:title>Слайд 1</dc:title>
</cp:coreProperties>
</file>