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-11796840" y="-11796840"/>
            <a:ext cx="11796840" cy="11796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Кликаем по надпис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72C0D00-43F6-48A7-82C9-5550A5C28670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533F-3FA2-497B-912F-647EFEF40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E5A9-3B01-47FD-ABCA-9EA47BFBB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9461-EE64-4291-8791-FE6DF2E25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2241-A78E-42FE-8492-ED06E3C1F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A40E-44F1-485D-8EFF-AEA76BF0BB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8441-13F9-4DF1-BAC1-E678BB2A07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7CB1-C688-4B87-8EC0-F73A11AA82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F3FF-D9A2-45DD-966E-FD7EC97BA7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6E24-7B95-4720-AADC-56A2D8CAF2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7260-4CA0-4D9E-9670-EB38AFF816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BD51-9C80-4A0B-AFE5-7D281121C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E654-864B-454E-B7C5-DE258BC82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83FB8-6DC0-42D7-8E8A-F4897D66E2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0712-5D9F-465E-A3A2-FE93574A25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5869-49FD-4D85-AFCC-A02EEC2B92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91D4-D845-4DDA-88D1-296A9BD91D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3A09-6A99-4479-BA77-2988AB5B65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1E9EB-32D3-4CAB-B1AB-E32D1F32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8035C-60CE-46E5-9AF4-BCF4EF03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0FBAC-CD85-4A46-BE2E-0E7F4A9F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84C5C-EE2C-465A-A136-731DDA2B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E0730-CF10-428C-BFB9-2A6CF2A4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07D3-3232-41B6-B866-6933AACC55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C85C9-E5A1-4BF6-92E1-5B087F6E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5716B-069B-4B4A-BA83-56F2C5E1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7B0D8-ED84-4765-BFF9-6D4A89DF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0139E-E933-4D7A-96B4-FD68561A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952FE-8EC1-4E02-B436-F4D856CA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A819B-EAC3-4E48-86B4-425EDAA2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B0AA1-9753-4E55-B824-104CA9B5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878C-B1C6-4D4E-BD40-6792B57EB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0E97-44E3-43C3-81A7-EF057C29B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AD24-4AEB-467D-9EE3-D698CCFD1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3690-3455-4B3E-8736-F16B291FB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6FA0-26F3-44B4-A75B-56E4D20B6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ABD4-F062-4EE6-B043-E50C353C6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A2A464-B901-4D63-B48B-85C0E052501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3072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7280" cy="1028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0880" cy="2030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5680" cy="64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1960" cy="592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2760" cy="1904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18800" cy="1760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4560" cy="6062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6000" cy="2746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6240" cy="1047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768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6960" cy="18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3200" cy="39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5560" cy="23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8480" cy="37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5240" cy="69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5640" cy="263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9400" cy="9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0840" cy="39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8160" cy="212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4000" cy="22640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4000" cy="25909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893280" y="-142200"/>
            <a:ext cx="2983680" cy="2847240"/>
            <a:chOff x="6893280" y="-142200"/>
            <a:chExt cx="2983680" cy="2847240"/>
          </a:xfrm>
        </p:grpSpPr>
        <p:grpSp>
          <p:nvGrpSpPr>
            <p:cNvPr id="39" name=""/>
            <p:cNvGrpSpPr/>
            <p:nvPr/>
          </p:nvGrpSpPr>
          <p:grpSpPr>
            <a:xfrm>
              <a:off x="6893280" y="-142200"/>
              <a:ext cx="2983680" cy="2847240"/>
              <a:chOff x="6893280" y="-142200"/>
              <a:chExt cx="2983680" cy="284724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400" y="1725120"/>
                <a:ext cx="96840" cy="45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6893280" y="-142200"/>
                <a:ext cx="2983680" cy="2847240"/>
                <a:chOff x="6893280" y="-142200"/>
                <a:chExt cx="2983680" cy="284724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775280" y="-23040"/>
                  <a:ext cx="349200" cy="224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7906320" y="641160"/>
                  <a:ext cx="613800" cy="790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503120" y="411120"/>
                  <a:ext cx="1155600" cy="1622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517520" y="66960"/>
                  <a:ext cx="1734840" cy="2428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78280" y="1860480"/>
                  <a:ext cx="385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290440" y="1655640"/>
                  <a:ext cx="412920" cy="258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804800" y="298800"/>
                  <a:ext cx="4129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744680" y="131760"/>
                  <a:ext cx="408240" cy="24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5120" y="235080"/>
            <a:ext cx="3786480" cy="1776240"/>
            <a:chOff x="195120" y="235080"/>
            <a:chExt cx="3786480" cy="1776240"/>
          </a:xfrm>
        </p:grpSpPr>
        <p:sp>
          <p:nvSpPr>
            <p:cNvPr id="89" name=""/>
            <p:cNvSpPr/>
            <p:nvPr/>
          </p:nvSpPr>
          <p:spPr>
            <a:xfrm>
              <a:off x="281160" y="281160"/>
              <a:ext cx="3570120" cy="16128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3520" y="414360"/>
              <a:ext cx="356076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00" y="546120"/>
              <a:ext cx="2360520" cy="14572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5120" y="235080"/>
              <a:ext cx="3786480" cy="1714320"/>
              <a:chOff x="195120" y="235080"/>
              <a:chExt cx="3786480" cy="1714320"/>
            </a:xfrm>
          </p:grpSpPr>
          <p:sp>
            <p:nvSpPr>
              <p:cNvPr id="93" name=""/>
              <p:cNvSpPr/>
              <p:nvPr/>
            </p:nvSpPr>
            <p:spPr>
              <a:xfrm>
                <a:off x="3182760" y="1482840"/>
                <a:ext cx="335160" cy="33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120" y="235080"/>
                <a:ext cx="3786480" cy="171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4440" y="250920"/>
                <a:ext cx="2674800" cy="9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9440" y="398520"/>
                <a:ext cx="358560" cy="64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43160" y="851040"/>
                <a:ext cx="1095120" cy="57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701480" y="4236120"/>
            <a:ext cx="1161720" cy="1324080"/>
            <a:chOff x="7701480" y="4236120"/>
            <a:chExt cx="1161720" cy="1324080"/>
          </a:xfrm>
        </p:grpSpPr>
        <p:sp>
          <p:nvSpPr>
            <p:cNvPr id="99" name=""/>
            <p:cNvSpPr/>
            <p:nvPr/>
          </p:nvSpPr>
          <p:spPr>
            <a:xfrm rot="7320000">
              <a:off x="7791480" y="4659840"/>
              <a:ext cx="996840" cy="461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320000">
              <a:off x="7770600" y="4640040"/>
              <a:ext cx="993960" cy="4572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7320000">
              <a:off x="7935840" y="4627080"/>
              <a:ext cx="658800" cy="4176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701480" y="4236120"/>
              <a:ext cx="1161720" cy="1324080"/>
              <a:chOff x="7701480" y="4236120"/>
              <a:chExt cx="1161720" cy="1324080"/>
            </a:xfrm>
          </p:grpSpPr>
          <p:sp>
            <p:nvSpPr>
              <p:cNvPr id="103" name=""/>
              <p:cNvSpPr/>
              <p:nvPr/>
            </p:nvSpPr>
            <p:spPr>
              <a:xfrm rot="7320000">
                <a:off x="7808400" y="5071680"/>
                <a:ext cx="100800" cy="12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7320000">
                <a:off x="7703640" y="4574520"/>
                <a:ext cx="1157040" cy="64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320000">
                <a:off x="8034120" y="4712400"/>
                <a:ext cx="818640" cy="36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320000">
                <a:off x="8598960" y="4510440"/>
                <a:ext cx="107280" cy="24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320000">
                <a:off x="8142480" y="4728960"/>
                <a:ext cx="333720" cy="2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251543-C8B4-4292-8FFD-6B0076B5CB1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.06.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4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оменская Виктория Григор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5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5977FC1-6820-4B32-B6E7-C8D2E72CF3B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1511280"/>
            <a:ext cx="6400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Логические зада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7120" y="371484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-108000"/>
            <a:ext cx="6870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ведите два отрезка так, чтобы получилось восемь одинаковых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604960" y="2637000"/>
            <a:ext cx="3934080" cy="38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-108000"/>
            <a:ext cx="6870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ведите две прямые так, чтобы получилось восемь одинаковых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43120" y="2643120"/>
            <a:ext cx="3933720" cy="3819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786040" y="2786040"/>
            <a:ext cx="3571920" cy="35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784600" y="2786040"/>
            <a:ext cx="3574800" cy="357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285920" y="0"/>
            <a:ext cx="57862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150840"/>
            <a:ext cx="6870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дите одну линию так, чтобы получилось девять треугольник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63532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150840"/>
            <a:ext cx="6870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28800" y="3214800"/>
            <a:ext cx="6352920" cy="2038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928800" y="4213080"/>
            <a:ext cx="642924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14680" y="0"/>
            <a:ext cx="57625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Найди закономерность и продолжи ря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828440"/>
            <a:ext cx="85694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, А, 4, Б, 6, В, … , …, …, … 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5, 8, 13, 6, 11,…, …, …, … 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4005360"/>
            <a:ext cx="936360" cy="144360"/>
          </a:xfrm>
          <a:custGeom>
            <a:avLst/>
            <a:gdLst>
              <a:gd name="textAreaLeft" fmla="*/ 163800 w 936360"/>
              <a:gd name="textAreaRight" fmla="*/ 678960 w 93636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005360"/>
            <a:ext cx="936720" cy="144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74440" y="23241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1280" y="23493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66720" y="23493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87960" y="2349360"/>
            <a:ext cx="5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92480" y="35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4920" y="350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92840" y="35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56560" y="3500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30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22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1408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77720" y="407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020000" y="51577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Какое число должно стоять вместо «?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2421000"/>
            <a:ext cx="3024360" cy="2232000"/>
          </a:xfrm>
          <a:prstGeom prst="triangle">
            <a:avLst>
              <a:gd name="adj" fmla="val 50000"/>
            </a:avLst>
          </a:prstGeom>
          <a:solidFill>
            <a:srgbClr val="46eef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2421000"/>
            <a:ext cx="3024360" cy="2232000"/>
          </a:xfrm>
          <a:prstGeom prst="triangle">
            <a:avLst>
              <a:gd name="adj" fmla="val 50000"/>
            </a:avLst>
          </a:prstGeom>
          <a:solidFill>
            <a:srgbClr val="46eef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55640" y="3858840"/>
            <a:ext cx="151272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8360" y="2421000"/>
            <a:ext cx="180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3860640"/>
            <a:ext cx="15116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3280" y="3858840"/>
            <a:ext cx="151308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6360" y="2421000"/>
            <a:ext cx="144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6360" y="3860640"/>
            <a:ext cx="151128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3213000"/>
            <a:ext cx="7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128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992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51120" y="3213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0072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62680" y="3933720"/>
            <a:ext cx="3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9360" y="4005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732720" y="522936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Найди неизвест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елёдка        лё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олистка       лис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72 35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41497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69320" y="4149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2924280"/>
            <a:ext cx="7207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2924280"/>
            <a:ext cx="6490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3789360"/>
            <a:ext cx="7207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48000" y="3789360"/>
            <a:ext cx="7192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4581360"/>
            <a:ext cx="7207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4581360"/>
            <a:ext cx="7923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952720" y="144360"/>
            <a:ext cx="40006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 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57160" y="857160"/>
            <a:ext cx="73580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У Кощея Бессмертного три темницы.  В одной томится Василиса Прекрасная, в другой – Марья-искусница, а в третьей - дракон.  Помоги Ивану освободить Марью и Василису.  Помни, что все надписи – ложны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58120" y="6143760"/>
            <a:ext cx="5000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720000">
            <a:off x="4384800" y="2644920"/>
            <a:ext cx="207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960000">
            <a:off x="1596600" y="2638440"/>
            <a:ext cx="2071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900000">
            <a:off x="7048080" y="2612880"/>
            <a:ext cx="2071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" y="7488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.06.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56000" y="7122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оменская Виктория Григо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4240" y="3071880"/>
            <a:ext cx="2357640" cy="2500200"/>
          </a:xfrm>
          <a:custGeom>
            <a:avLst/>
            <a:gdLst/>
            <a:ahLst/>
            <a:rect l="l" t="t" r="r" b="b"/>
            <a:pathLst>
              <a:path w="9704" h="8126">
                <a:moveTo>
                  <a:pt x="8126" y="0"/>
                </a:moveTo>
                <a:lnTo>
                  <a:pt x="-1578" y="0"/>
                </a:lnTo>
                <a:lnTo>
                  <a:pt x="6548" y="8126"/>
                </a:lnTo>
                <a:lnTo>
                  <a:pt x="6548" y="3671"/>
                </a:lnTo>
                <a:lnTo>
                  <a:pt x="3274" y="6945"/>
                </a:lnTo>
                <a:lnTo>
                  <a:pt x="3274" y="6945"/>
                </a:lnTo>
                <a:lnTo>
                  <a:pt x="0" y="3671"/>
                </a:lnTo>
                <a:lnTo>
                  <a:pt x="0" y="812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3071880"/>
            <a:ext cx="2357280" cy="2500200"/>
          </a:xfrm>
          <a:custGeom>
            <a:avLst/>
            <a:gdLst/>
            <a:ahLst/>
            <a:rect l="l" t="t" r="r" b="b"/>
            <a:pathLst>
              <a:path w="9704" h="8126">
                <a:moveTo>
                  <a:pt x="8126" y="0"/>
                </a:moveTo>
                <a:lnTo>
                  <a:pt x="-1578" y="0"/>
                </a:lnTo>
                <a:lnTo>
                  <a:pt x="6548" y="8126"/>
                </a:lnTo>
                <a:lnTo>
                  <a:pt x="6548" y="3671"/>
                </a:lnTo>
                <a:lnTo>
                  <a:pt x="3274" y="6945"/>
                </a:lnTo>
                <a:lnTo>
                  <a:pt x="3274" y="6945"/>
                </a:lnTo>
                <a:lnTo>
                  <a:pt x="0" y="3671"/>
                </a:lnTo>
                <a:lnTo>
                  <a:pt x="0" y="812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7632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43760" y="3071880"/>
            <a:ext cx="2357280" cy="2500200"/>
          </a:xfrm>
          <a:custGeom>
            <a:avLst/>
            <a:gdLst/>
            <a:ahLst/>
            <a:rect l="l" t="t" r="r" b="b"/>
            <a:pathLst>
              <a:path w="9704" h="8126">
                <a:moveTo>
                  <a:pt x="8126" y="0"/>
                </a:moveTo>
                <a:lnTo>
                  <a:pt x="-1578" y="0"/>
                </a:lnTo>
                <a:lnTo>
                  <a:pt x="6548" y="8126"/>
                </a:lnTo>
                <a:lnTo>
                  <a:pt x="6548" y="3671"/>
                </a:lnTo>
                <a:lnTo>
                  <a:pt x="3274" y="6945"/>
                </a:lnTo>
                <a:lnTo>
                  <a:pt x="3274" y="6945"/>
                </a:lnTo>
                <a:lnTo>
                  <a:pt x="0" y="3671"/>
                </a:lnTo>
                <a:lnTo>
                  <a:pt x="0" y="812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7632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643200" y="3071880"/>
            <a:ext cx="1928880" cy="251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643200" y="3857760"/>
            <a:ext cx="1928880" cy="1253880"/>
          </a:xfrm>
          <a:custGeom>
            <a:avLst/>
            <a:gdLst/>
            <a:ahLst/>
            <a:rect l="l" t="t" r="r" b="b"/>
            <a:pathLst>
              <a:path w="5358" h="22925">
                <a:moveTo>
                  <a:pt x="3449" y="-2243"/>
                </a:moveTo>
                <a:cubicBezTo>
                  <a:pt x="4085" y="5234"/>
                  <a:pt x="4722" y="-9720"/>
                  <a:pt x="5358" y="-2243"/>
                </a:cubicBezTo>
                <a:lnTo>
                  <a:pt x="1909" y="5728"/>
                </a:lnTo>
                <a:cubicBezTo>
                  <a:pt x="1273" y="-1749"/>
                  <a:pt x="636" y="13205"/>
                  <a:pt x="0" y="57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асилис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 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6"/>
          <a:srcRect l="7259" t="7129" r="0" b="0"/>
          <a:stretch/>
        </p:blipFill>
        <p:spPr>
          <a:xfrm>
            <a:off x="1000080" y="2928960"/>
            <a:ext cx="2000160" cy="25509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28800" y="3857760"/>
            <a:ext cx="1928880" cy="1143000"/>
          </a:xfrm>
          <a:custGeom>
            <a:avLst/>
            <a:gdLst/>
            <a:ahLst/>
            <a:rect l="l" t="t" r="r" b="b"/>
            <a:pathLst>
              <a:path w="5358" h="20887">
                <a:moveTo>
                  <a:pt x="3449" y="-2044"/>
                </a:moveTo>
                <a:cubicBezTo>
                  <a:pt x="4085" y="4768"/>
                  <a:pt x="4722" y="-8856"/>
                  <a:pt x="5358" y="-2044"/>
                </a:cubicBezTo>
                <a:lnTo>
                  <a:pt x="1909" y="5219"/>
                </a:lnTo>
                <a:cubicBezTo>
                  <a:pt x="1273" y="-1593"/>
                  <a:pt x="636" y="12031"/>
                  <a:pt x="0" y="5219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рак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7"/>
          <a:srcRect l="10300" t="16352" r="5897" b="10044"/>
          <a:stretch/>
        </p:blipFill>
        <p:spPr>
          <a:xfrm>
            <a:off x="5025960" y="2870280"/>
            <a:ext cx="4041720" cy="2754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357960" y="3857760"/>
            <a:ext cx="1928880" cy="1143000"/>
          </a:xfrm>
          <a:custGeom>
            <a:avLst/>
            <a:gdLst/>
            <a:ahLst/>
            <a:rect l="l" t="t" r="r" b="b"/>
            <a:pathLst>
              <a:path w="5358" h="20887">
                <a:moveTo>
                  <a:pt x="3449" y="-2044"/>
                </a:moveTo>
                <a:cubicBezTo>
                  <a:pt x="4085" y="4768"/>
                  <a:pt x="4722" y="-8856"/>
                  <a:pt x="5358" y="-2044"/>
                </a:cubicBezTo>
                <a:lnTo>
                  <a:pt x="1909" y="5219"/>
                </a:lnTo>
                <a:cubicBezTo>
                  <a:pt x="1273" y="-1593"/>
                  <a:pt x="636" y="12031"/>
                  <a:pt x="0" y="5219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ар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71920" y="2500200"/>
            <a:ext cx="2071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сил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28800" y="2500200"/>
            <a:ext cx="207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86680" y="2500200"/>
            <a:ext cx="207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dur="indefinite" restart="whenNotActive" nodeType="interactiveSeq" fill="hold">
                <p:childTnLst>
                  <p:par>
                    <p:cTn id="155" dur="indefinite" fill="hold"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dur="indefinite" restart="whenNotActive" nodeType="interactiveSeq" fill="hold">
                <p:childTnLst>
                  <p:par>
                    <p:cTn id="176" dur="indefinite" fill="hold"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dur="indefinite" restart="whenNotActive" nodeType="interactiveSeq" fill="hold">
                <p:childTnLst>
                  <p:par>
                    <p:cTn id="197" dur="indefinite" fill="hold"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6:24:59Z</dcterms:created>
  <dc:creator>Admin</dc:creator>
  <dc:description/>
  <dc:language>en-US</dc:language>
  <cp:lastModifiedBy>User</cp:lastModifiedBy>
  <dcterms:modified xsi:type="dcterms:W3CDTF">2012-03-15T17:21:38Z</dcterms:modified>
  <cp:revision>32</cp:revision>
  <dc:subject/>
  <dc:title>Логические задачки</dc:title>
</cp:coreProperties>
</file>