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gif" ContentType="image/gif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8280" cy="124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-11796840" y="-11796840"/>
            <a:ext cx="11796840" cy="1179684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-11798280" y="-11798280"/>
            <a:ext cx="11799720" cy="1179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  <a:tab algn="l" pos="115822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Кликаем по надписям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  <a:tab algn="l" pos="115822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-11798280" y="-11798280"/>
            <a:ext cx="11799720" cy="117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  <a:tab algn="l" pos="11582280"/>
              </a:tabLst>
            </a:pPr>
            <a:fld id="{120A181F-0313-484E-8094-5F4A1A904798}" type="slidenum">
              <a:rPr b="0" lang="ru-RU" sz="18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A86A85-12B3-4EC8-9F80-80D1CF0C09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0452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0452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9EA235-E107-4A9A-A234-735804C062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39258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9560" y="1604880"/>
            <a:ext cx="39258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39258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9560" y="3681360"/>
            <a:ext cx="39258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1D1FB6-B2A6-4C81-86AD-5D999B4615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5902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177360" y="1604880"/>
            <a:ext cx="25902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97520" y="1604880"/>
            <a:ext cx="25902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5902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177360" y="3681360"/>
            <a:ext cx="25902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97520" y="3681360"/>
            <a:ext cx="25902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5BF4CC-04BE-4561-A771-A90C8D4720A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86F49C-FFAF-429C-BE7E-E8997CB9AC8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0452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BDCA22-03AF-45EF-86A1-4B3F604FAC6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0452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4062FF-BF75-40C0-A679-C58CA64E539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39258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579560" y="1604880"/>
            <a:ext cx="39258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CD2F23-C22F-48CF-A3A9-62BE896F334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A99AC0-3046-4544-8A1C-1950EBBD961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3DA456-FE15-49D6-8382-89EB84F3A23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39258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579560" y="1604880"/>
            <a:ext cx="39258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39258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E4AA88-0991-4ABE-982F-001412CBFD8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0452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E2529E-6B71-4D8B-A12B-B491D33C2F5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39258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579560" y="1604880"/>
            <a:ext cx="39258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9560" y="3681360"/>
            <a:ext cx="39258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89E15A-6BB7-4E96-ABF6-3BE2775B124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39258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579560" y="1604880"/>
            <a:ext cx="39258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0452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18F533-F0B8-41E9-8B20-86A4E9A7B2A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0452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0452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30F340-0C4E-4C66-83FA-C7B65C74761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39258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9560" y="1604880"/>
            <a:ext cx="39258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39258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579560" y="3681360"/>
            <a:ext cx="39258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E185B6-46A4-406E-8C52-B5341F5F355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5902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177360" y="1604880"/>
            <a:ext cx="25902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97520" y="1604880"/>
            <a:ext cx="25902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5902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177360" y="3681360"/>
            <a:ext cx="25902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97520" y="3681360"/>
            <a:ext cx="25902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32F366-FF04-4888-9F26-9B0626B474F3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F23346-C6AD-450C-942F-881179539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0452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408EDD-4900-409C-9DEB-1FCB89290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0452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011D55-23BC-4D0F-8345-95FC96D16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39258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9560" y="1604880"/>
            <a:ext cx="39258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07E463-D00E-4421-8617-15F45FF7D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054576-7242-4BF8-93FD-3FDB6AD53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0452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DA1509-2C21-4638-8479-CDB0E607946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135E3A-6839-4844-98C0-C85A3139D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39258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579560" y="1604880"/>
            <a:ext cx="39258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39258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1700EB-CCE8-4E0E-9C54-7E7D16F0A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39258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579560" y="1604880"/>
            <a:ext cx="39258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9560" y="3681360"/>
            <a:ext cx="39258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512ED4-37FA-4A4C-AD40-5FD7FB852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39258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9560" y="1604880"/>
            <a:ext cx="39258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0452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7EA083-94CD-4B94-997D-655A158AB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0452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0452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721427-A6FB-4EE1-A8E7-406809202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39258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9560" y="1604880"/>
            <a:ext cx="39258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39258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579560" y="3681360"/>
            <a:ext cx="39258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FFD7A7-CD18-4BE0-B8E7-A1E39AFA3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5902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77360" y="1604880"/>
            <a:ext cx="25902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897520" y="1604880"/>
            <a:ext cx="25902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5902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77360" y="3681360"/>
            <a:ext cx="25902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897520" y="3681360"/>
            <a:ext cx="25902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780EB3-F823-485B-827D-13FA2FC0C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39258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579560" y="1604880"/>
            <a:ext cx="39258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CE40F1-BAC8-4383-8555-626D3788F7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2AB693-6385-416E-BDD3-CFBB1EC4B9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222174-3482-4D65-AF1C-75C96C3BAD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39258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79560" y="1604880"/>
            <a:ext cx="39258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39258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96FBE0-0118-4A19-BBEB-AA5C8BA255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39258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9560" y="1604880"/>
            <a:ext cx="39258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9560" y="3681360"/>
            <a:ext cx="39258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A65DBE-51FB-4D65-8F28-8B7AA6CF7B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39258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9560" y="1604880"/>
            <a:ext cx="39258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0452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FBCA08-8272-402B-BB86-19F1060A5E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0000">
            <a:off x="7776360" y="-13680"/>
            <a:ext cx="1161720" cy="208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-352800"/>
            <a:ext cx="6869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440"/>
            <a:ext cx="76946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"/>
          <p:cNvSpPr/>
          <p:nvPr/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71796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7170C7E-3D78-4740-A067-7C1F214BF897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0000">
            <a:off x="7865280" y="24840"/>
            <a:ext cx="1164960" cy="2097000"/>
          </a:xfrm>
          <a:prstGeom prst="pie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0000">
            <a:off x="7830720" y="193320"/>
            <a:ext cx="1025640" cy="157140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2720" cy="1244520"/>
            <a:chOff x="7920" y="5540400"/>
            <a:chExt cx="1782720" cy="12445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7280" cy="102888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0880" cy="20304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5680" cy="64944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1960" cy="59220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2760" cy="1904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18800" cy="1760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4560" cy="6062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6000" cy="27468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6240" cy="10476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2720" cy="1236600"/>
              <a:chOff x="7920" y="5540400"/>
              <a:chExt cx="1782720" cy="12366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68680" cy="1122480"/>
                <a:chOff x="792000" y="5654520"/>
                <a:chExt cx="868680" cy="11224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7680" cy="1364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0720" cy="2095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6960" cy="184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3200" cy="3952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5560" cy="2332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8480" cy="376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2720" cy="1074600"/>
                <a:chOff x="7920" y="5540400"/>
                <a:chExt cx="1782720" cy="10746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7360" cy="1364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5240" cy="696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5640" cy="2635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09400" cy="9414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0840" cy="3985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8160" cy="212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5920" cy="334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7360" cy="1350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4480" cy="4307040"/>
            <a:chOff x="8680320" y="2116080"/>
            <a:chExt cx="384480" cy="430704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4000" cy="226404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4000" cy="259092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6893280" y="-142200"/>
            <a:ext cx="2983680" cy="2847240"/>
            <a:chOff x="6893280" y="-142200"/>
            <a:chExt cx="2983680" cy="2847240"/>
          </a:xfrm>
        </p:grpSpPr>
        <p:grpSp>
          <p:nvGrpSpPr>
            <p:cNvPr id="39" name=""/>
            <p:cNvGrpSpPr/>
            <p:nvPr/>
          </p:nvGrpSpPr>
          <p:grpSpPr>
            <a:xfrm>
              <a:off x="6893280" y="-142200"/>
              <a:ext cx="2983680" cy="2847240"/>
              <a:chOff x="6893280" y="-142200"/>
              <a:chExt cx="2983680" cy="2847240"/>
            </a:xfrm>
          </p:grpSpPr>
          <p:sp>
            <p:nvSpPr>
              <p:cNvPr id="40" name=""/>
              <p:cNvSpPr/>
              <p:nvPr/>
            </p:nvSpPr>
            <p:spPr>
              <a:xfrm rot="18420000">
                <a:off x="8618400" y="1725120"/>
                <a:ext cx="96840" cy="455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6893280" y="-142200"/>
                <a:ext cx="2983680" cy="2847240"/>
                <a:chOff x="6893280" y="-142200"/>
                <a:chExt cx="2983680" cy="2847240"/>
              </a:xfrm>
            </p:grpSpPr>
            <p:sp>
              <p:nvSpPr>
                <p:cNvPr id="42" name=""/>
                <p:cNvSpPr/>
                <p:nvPr/>
              </p:nvSpPr>
              <p:spPr>
                <a:xfrm rot="18420000">
                  <a:off x="7775280" y="-23040"/>
                  <a:ext cx="349200" cy="2242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0000">
                  <a:off x="7906320" y="641160"/>
                  <a:ext cx="613800" cy="7902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0000">
                  <a:off x="7503120" y="411120"/>
                  <a:ext cx="1155600" cy="16225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0000">
                  <a:off x="7517520" y="66960"/>
                  <a:ext cx="1734840" cy="2428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0000">
                  <a:off x="8378280" y="1860480"/>
                  <a:ext cx="385560" cy="218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0000">
                  <a:off x="8290440" y="1655640"/>
                  <a:ext cx="412920" cy="2584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0000">
                  <a:off x="7804800" y="298800"/>
                  <a:ext cx="412920" cy="263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0000">
                  <a:off x="7744680" y="131760"/>
                  <a:ext cx="408240" cy="247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5160" cy="150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prstGeom prst="pie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195120" y="235080"/>
            <a:ext cx="3786480" cy="1776240"/>
            <a:chOff x="195120" y="235080"/>
            <a:chExt cx="3786480" cy="1776240"/>
          </a:xfrm>
        </p:grpSpPr>
        <p:sp>
          <p:nvSpPr>
            <p:cNvPr id="89" name=""/>
            <p:cNvSpPr/>
            <p:nvPr/>
          </p:nvSpPr>
          <p:spPr>
            <a:xfrm>
              <a:off x="281160" y="281160"/>
              <a:ext cx="3570120" cy="161280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63520" y="414360"/>
              <a:ext cx="3560760" cy="15969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52400" y="546120"/>
              <a:ext cx="2360520" cy="145728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2" name=""/>
            <p:cNvGrpSpPr/>
            <p:nvPr/>
          </p:nvGrpSpPr>
          <p:grpSpPr>
            <a:xfrm>
              <a:off x="195120" y="235080"/>
              <a:ext cx="3786480" cy="1714320"/>
              <a:chOff x="195120" y="235080"/>
              <a:chExt cx="3786480" cy="1714320"/>
            </a:xfrm>
          </p:grpSpPr>
          <p:sp>
            <p:nvSpPr>
              <p:cNvPr id="93" name=""/>
              <p:cNvSpPr/>
              <p:nvPr/>
            </p:nvSpPr>
            <p:spPr>
              <a:xfrm>
                <a:off x="3182760" y="1482840"/>
                <a:ext cx="335160" cy="338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95120" y="235080"/>
                <a:ext cx="3786480" cy="17143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514440" y="250920"/>
                <a:ext cx="2674800" cy="973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649440" y="398520"/>
                <a:ext cx="358560" cy="649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343160" y="851040"/>
                <a:ext cx="1095120" cy="576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8" name=""/>
          <p:cNvGrpSpPr/>
          <p:nvPr/>
        </p:nvGrpSpPr>
        <p:grpSpPr>
          <a:xfrm>
            <a:off x="7701480" y="4236120"/>
            <a:ext cx="1161720" cy="1324080"/>
            <a:chOff x="7701480" y="4236120"/>
            <a:chExt cx="1161720" cy="1324080"/>
          </a:xfrm>
        </p:grpSpPr>
        <p:sp>
          <p:nvSpPr>
            <p:cNvPr id="99" name=""/>
            <p:cNvSpPr/>
            <p:nvPr/>
          </p:nvSpPr>
          <p:spPr>
            <a:xfrm rot="7320000">
              <a:off x="7791480" y="4659840"/>
              <a:ext cx="996840" cy="46188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rot="7320000">
              <a:off x="7770600" y="4640040"/>
              <a:ext cx="993960" cy="45720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 rot="7320000">
              <a:off x="7935840" y="4627080"/>
              <a:ext cx="658800" cy="41760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2" name=""/>
            <p:cNvGrpSpPr/>
            <p:nvPr/>
          </p:nvGrpSpPr>
          <p:grpSpPr>
            <a:xfrm>
              <a:off x="7701480" y="4236120"/>
              <a:ext cx="1161720" cy="1324080"/>
              <a:chOff x="7701480" y="4236120"/>
              <a:chExt cx="1161720" cy="1324080"/>
            </a:xfrm>
          </p:grpSpPr>
          <p:sp>
            <p:nvSpPr>
              <p:cNvPr id="103" name=""/>
              <p:cNvSpPr/>
              <p:nvPr/>
            </p:nvSpPr>
            <p:spPr>
              <a:xfrm rot="7320000">
                <a:off x="7808400" y="5071680"/>
                <a:ext cx="100800" cy="1252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7320000">
                <a:off x="7703640" y="4574520"/>
                <a:ext cx="1157040" cy="646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320000">
                <a:off x="8034120" y="4712400"/>
                <a:ext cx="818640" cy="366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320000">
                <a:off x="8598960" y="4510440"/>
                <a:ext cx="107280" cy="242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320000">
                <a:off x="8142480" y="4728960"/>
                <a:ext cx="333720" cy="215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8" name=""/>
          <p:cNvSpPr/>
          <p:nvPr/>
        </p:nvSpPr>
        <p:spPr>
          <a:xfrm>
            <a:off x="901800" y="5054760"/>
            <a:ext cx="6807240" cy="728640"/>
          </a:xfrm>
          <a:prstGeom prst="pie">
            <a:avLst/>
          </a:pr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076640" y="1930320"/>
            <a:ext cx="889200" cy="381240"/>
          </a:xfrm>
          <a:prstGeom prst="pie">
            <a:avLst/>
          </a:pr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-352800"/>
            <a:ext cx="6869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440"/>
            <a:ext cx="76946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sldNum" idx="2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55224C77-D2B4-4E71-A815-22A4AFCFE8B6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dt" idx="3"/>
          </p:nvPr>
        </p:nvSpPr>
        <p:spPr>
          <a:xfrm>
            <a:off x="-11798280" y="-11798280"/>
            <a:ext cx="11798280" cy="117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  <a:tab algn="l" pos="11582280"/>
              </a:tabLst>
              <a:defRPr b="0" lang="ru-RU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  <a:tab algn="l" pos="115822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23.06.20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ftr" idx="4"/>
          </p:nvPr>
        </p:nvSpPr>
        <p:spPr>
          <a:xfrm>
            <a:off x="-11798280" y="-11798280"/>
            <a:ext cx="11798280" cy="117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  <a:tab algn="l" pos="11582280"/>
              </a:tabLst>
              <a:defRPr b="0" lang="ru-RU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  <a:tab algn="l" pos="115822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оломенская Виктория Григорьевн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sldNum" idx="5"/>
          </p:nvPr>
        </p:nvSpPr>
        <p:spPr>
          <a:xfrm>
            <a:off x="-11798280" y="-11798280"/>
            <a:ext cx="11798280" cy="117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  <a:tab algn="l" pos="11582280"/>
              </a:tabLst>
              <a:defRPr b="0" lang="ru-RU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  <a:tab algn="l" pos="11582280"/>
              </a:tabLst>
            </a:pPr>
            <a:fld id="{9BEA32D0-E17A-4DC0-9ADF-FDB54CA9D342}" type="slidenum">
              <a:rPr b="0" lang="ru-RU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0452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2000"/>
          </a:bodyPr>
          <a:p>
            <a:pPr marL="31536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15360" indent="-3153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15360" indent="-3153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15360" indent="-3153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15360" indent="-3153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15360" indent="-3153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15360" indent="-3153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image" Target="../media/image8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25.xml"/><Relationship Id="rId9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1371600" y="1511280"/>
            <a:ext cx="640080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omic Sans MS"/>
              </a:rPr>
              <a:t>Логические задач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357120" y="3714840"/>
            <a:ext cx="2143080" cy="235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685800" y="-108000"/>
            <a:ext cx="687060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Проведите два отрезка так, чтобы получилось восемь одинаковых треугольник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2604960" y="2637000"/>
            <a:ext cx="3934080" cy="3819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685800" y="-108000"/>
            <a:ext cx="687060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Проведите две прямые так, чтобы получилось восемь одинаковых треугольник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2643120" y="2643120"/>
            <a:ext cx="3933720" cy="381960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2786040" y="2786040"/>
            <a:ext cx="3571920" cy="3500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784600" y="2786040"/>
            <a:ext cx="3574800" cy="3571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2"/>
          <a:stretch/>
        </p:blipFill>
        <p:spPr>
          <a:xfrm>
            <a:off x="1285920" y="0"/>
            <a:ext cx="5786280" cy="2428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685800" y="150840"/>
            <a:ext cx="6870600" cy="21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Проведите одну линию так, чтобы получилось девять треугольников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900000" y="3213000"/>
            <a:ext cx="6353280" cy="2038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685800" y="150840"/>
            <a:ext cx="6870600" cy="21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928800" y="3214800"/>
            <a:ext cx="6352920" cy="203832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 flipV="1">
            <a:off x="928800" y="4213080"/>
            <a:ext cx="6429240" cy="2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2"/>
          <a:stretch/>
        </p:blipFill>
        <p:spPr>
          <a:xfrm>
            <a:off x="1714680" y="0"/>
            <a:ext cx="5762520" cy="257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440" y="15048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Comic Sans MS"/>
              </a:rPr>
              <a:t>Найди закономерность и продолжи ряд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95280" y="1828440"/>
            <a:ext cx="8569440" cy="465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1640"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2, А, 4, Б, 6, В, … , …, …, … .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1640"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15, 8, 13, 6, 11,…, …, …, … 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"/>
          <p:cNvSpPr/>
          <p:nvPr/>
        </p:nvSpPr>
        <p:spPr>
          <a:xfrm>
            <a:off x="1187280" y="4005360"/>
            <a:ext cx="936720" cy="144360"/>
          </a:xfrm>
          <a:custGeom>
            <a:avLst/>
            <a:gdLst>
              <a:gd name="textAreaLeft" fmla="*/ 163800 w 936720"/>
              <a:gd name="textAreaRight" fmla="*/ 679320 w 936720"/>
              <a:gd name="textAreaTop" fmla="*/ 19080 h 144360"/>
              <a:gd name="textAreaBottom" fmla="*/ 125280 h 1443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995640" y="4005360"/>
            <a:ext cx="936720" cy="144360"/>
          </a:xfrm>
          <a:custGeom>
            <a:avLst/>
            <a:gdLst>
              <a:gd name="textAreaLeft" fmla="*/ 163800 w 936720"/>
              <a:gd name="textAreaRight" fmla="*/ 679320 w 936720"/>
              <a:gd name="textAreaTop" fmla="*/ 19080 h 144360"/>
              <a:gd name="textAreaBottom" fmla="*/ 125280 h 1443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059280" y="4005360"/>
            <a:ext cx="936360" cy="144360"/>
          </a:xfrm>
          <a:custGeom>
            <a:avLst/>
            <a:gdLst>
              <a:gd name="textAreaLeft" fmla="*/ 163800 w 936360"/>
              <a:gd name="textAreaRight" fmla="*/ 678960 w 936360"/>
              <a:gd name="textAreaTop" fmla="*/ 19080 h 144360"/>
              <a:gd name="textAreaBottom" fmla="*/ 125280 h 1443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124000" y="4005360"/>
            <a:ext cx="936720" cy="144360"/>
          </a:xfrm>
          <a:custGeom>
            <a:avLst/>
            <a:gdLst>
              <a:gd name="textAreaLeft" fmla="*/ 163800 w 936720"/>
              <a:gd name="textAreaRight" fmla="*/ 679320 w 936720"/>
              <a:gd name="textAreaTop" fmla="*/ 19080 h 144360"/>
              <a:gd name="textAreaBottom" fmla="*/ 125280 h 1443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374440" y="2324160"/>
            <a:ext cx="44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omic Sans MS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371280" y="2349360"/>
            <a:ext cx="43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omic Sans MS"/>
              </a:rPr>
              <a:t>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966720" y="2349360"/>
            <a:ext cx="70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omic Sans MS"/>
              </a:rPr>
              <a:t>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7887960" y="2349360"/>
            <a:ext cx="529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omic Sans MS"/>
              </a:rPr>
              <a:t>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476360" y="3429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392480" y="3500280"/>
            <a:ext cx="49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-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284920" y="3500280"/>
            <a:ext cx="58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+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192840" y="3500280"/>
            <a:ext cx="49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-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156560" y="3500280"/>
            <a:ext cx="58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+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230080" y="4076640"/>
            <a:ext cx="44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omic Sans MS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022080" y="4076640"/>
            <a:ext cx="44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omic Sans MS"/>
              </a:rPr>
              <a:t>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814080" y="4076640"/>
            <a:ext cx="44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7677720" y="4076640"/>
            <a:ext cx="44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omic Sans MS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7020000" y="5157720"/>
            <a:ext cx="1218960" cy="1219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fill="hold">
                      <p:stCondLst>
                        <p:cond delay="indefinite"/>
                      </p:stCondLst>
                      <p:childTnLst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dur="indefinite" fill="hold">
                      <p:stCondLst>
                        <p:cond delay="indefinite"/>
                      </p:stCondLst>
                      <p:childTnLst>
                        <p:par>
                          <p:cTn id="1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dur="indefinite" fill="hold">
                      <p:stCondLst>
                        <p:cond delay="indefinite"/>
                      </p:stCondLst>
                      <p:childTnLst>
                        <p:par>
                          <p:cTn id="2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dur="indefinite" fill="hold">
                      <p:stCondLst>
                        <p:cond delay="indefinite"/>
                      </p:stCondLst>
                      <p:childTnLst>
                        <p:par>
                          <p:cTn id="2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dur="indefinite" fill="hold">
                      <p:stCondLst>
                        <p:cond delay="indefinite"/>
                      </p:stCondLst>
                      <p:childTnLst>
                        <p:par>
                          <p:cTn id="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fill="hold">
                      <p:stCondLst>
                        <p:cond delay="indefinite"/>
                      </p:stCondLst>
                      <p:childTnLst>
                        <p:par>
                          <p:cTn id="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dur="indefinite" fill="hold">
                      <p:stCondLst>
                        <p:cond delay="indefinite"/>
                      </p:stCondLst>
                      <p:childTnLst>
                        <p:par>
                          <p:cTn id="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dur="indefinite" fill="hold">
                      <p:stCondLst>
                        <p:cond delay="indefinite"/>
                      </p:stCondLst>
                      <p:childTnLst>
                        <p:par>
                          <p:cTn id="4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dur="indefinite" fill="hold">
                      <p:stCondLst>
                        <p:cond delay="indefinite"/>
                      </p:stCondLst>
                      <p:childTnLst>
                        <p:par>
                          <p:cTn id="5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dur="indefinite" fill="hold">
                      <p:stCondLst>
                        <p:cond delay="indefinite"/>
                      </p:stCondLst>
                      <p:childTnLst>
                        <p:par>
                          <p:cTn id="5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440" y="15048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Comic Sans MS"/>
              </a:rPr>
              <a:t>Какое число должно стоять вместо «?»</a:t>
            </a: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"/>
          <p:cNvSpPr/>
          <p:nvPr/>
        </p:nvSpPr>
        <p:spPr>
          <a:xfrm>
            <a:off x="755640" y="2421000"/>
            <a:ext cx="3024360" cy="2232000"/>
          </a:xfrm>
          <a:prstGeom prst="triangle">
            <a:avLst>
              <a:gd name="adj" fmla="val 50000"/>
            </a:avLst>
          </a:prstGeom>
          <a:solidFill>
            <a:srgbClr val="46eef6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643280" y="2421000"/>
            <a:ext cx="3024360" cy="2232000"/>
          </a:xfrm>
          <a:prstGeom prst="triangle">
            <a:avLst>
              <a:gd name="adj" fmla="val 50000"/>
            </a:avLst>
          </a:prstGeom>
          <a:solidFill>
            <a:srgbClr val="46eef6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755640" y="3858840"/>
            <a:ext cx="1512720" cy="795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268360" y="2421000"/>
            <a:ext cx="1800" cy="1439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268360" y="3860640"/>
            <a:ext cx="1511640" cy="792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643280" y="3858840"/>
            <a:ext cx="1513080" cy="795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6156360" y="2421000"/>
            <a:ext cx="1440" cy="1439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156360" y="3860640"/>
            <a:ext cx="1511280" cy="792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19280" y="3213000"/>
            <a:ext cx="73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411280" y="3213000"/>
            <a:ext cx="4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059920" y="400536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451120" y="321300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300720" y="3213000"/>
            <a:ext cx="4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962680" y="3933720"/>
            <a:ext cx="39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084720" y="40766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949360" y="400536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omic Sans MS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6732720" y="5229360"/>
            <a:ext cx="1218960" cy="1218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dur="indefinite" fill="hold">
                      <p:stCondLst>
                        <p:cond delay="indefinite"/>
                      </p:stCondLst>
                      <p:childTnLst>
                        <p:par>
                          <p:cTn id="6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dur="indefinite" fill="hold">
                      <p:stCondLst>
                        <p:cond delay="indefinite"/>
                      </p:stCondLst>
                      <p:childTnLst>
                        <p:par>
                          <p:cTn id="6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440" y="15048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Comic Sans MS"/>
              </a:rPr>
              <a:t>Найди неизвестное число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ru-RU" sz="4800" spc="-1" strike="noStrike">
                <a:solidFill>
                  <a:srgbClr val="000000"/>
                </a:solidFill>
                <a:latin typeface="Comic Sans MS"/>
              </a:rPr>
              <a:t>селёдка        лёд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ru-RU" sz="4800" spc="-1" strike="noStrike">
                <a:solidFill>
                  <a:srgbClr val="000000"/>
                </a:solidFill>
                <a:latin typeface="Comic Sans MS"/>
              </a:rPr>
              <a:t>солистка       лист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ru-RU" sz="4800" spc="-1" strike="noStrike">
                <a:solidFill>
                  <a:srgbClr val="000000"/>
                </a:solidFill>
                <a:latin typeface="Comic Sans MS"/>
              </a:rPr>
              <a:t>72 350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1" name=""/>
          <p:cNvSpPr/>
          <p:nvPr/>
        </p:nvSpPr>
        <p:spPr>
          <a:xfrm>
            <a:off x="6084720" y="4149720"/>
            <a:ext cx="503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169320" y="4149720"/>
            <a:ext cx="52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Comic Sans MS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187280" y="2924280"/>
            <a:ext cx="720720" cy="144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059280" y="2924280"/>
            <a:ext cx="649080" cy="144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258920" y="3789360"/>
            <a:ext cx="720720" cy="144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348000" y="3789360"/>
            <a:ext cx="719280" cy="144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619280" y="4581360"/>
            <a:ext cx="720720" cy="18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987640" y="4581360"/>
            <a:ext cx="792360" cy="18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dur="indefinite" fill="hold">
                      <p:stCondLst>
                        <p:cond delay="indefinite"/>
                      </p:stCondLst>
                      <p:childTnLst>
                        <p:par>
                          <p:cTn id="7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dur="indefinite" fill="hold">
                      <p:stCondLst>
                        <p:cond delay="indefinite"/>
                      </p:stCondLst>
                      <p:childTnLst>
                        <p:par>
                          <p:cTn id="7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dur="indefinite" fill="hold">
                      <p:stCondLst>
                        <p:cond delay="indefinite"/>
                      </p:stCondLst>
                      <p:childTnLst>
                        <p:par>
                          <p:cTn id="8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dur="indefinite" fill="hold">
                      <p:stCondLst>
                        <p:cond delay="indefinite"/>
                      </p:stCondLst>
                      <p:childTnLst>
                        <p:par>
                          <p:cTn id="8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dur="indefinite" fill="hold">
                      <p:stCondLst>
                        <p:cond delay="indefinite"/>
                      </p:stCondLst>
                      <p:childTnLst>
                        <p:par>
                          <p:cTn id="8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dur="indefinite" fill="hold">
                      <p:stCondLst>
                        <p:cond delay="indefinite"/>
                      </p:stCondLst>
                      <p:childTnLst>
                        <p:par>
                          <p:cTn id="9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dur="indefinite" fill="hold">
                      <p:stCondLst>
                        <p:cond delay="indefinite"/>
                      </p:stCondLst>
                      <p:childTnLst>
                        <p:par>
                          <p:cTn id="9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dur="indefinite" fill="hold">
                      <p:stCondLst>
                        <p:cond delay="indefinite"/>
                      </p:stCondLst>
                      <p:childTnLst>
                        <p:par>
                          <p:cTn id="10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2952720" y="144360"/>
            <a:ext cx="4000680" cy="51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ЗАДАЧА №  8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857160" y="857160"/>
            <a:ext cx="7358040" cy="155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17375e"/>
                </a:solidFill>
                <a:latin typeface="Calibri"/>
              </a:rPr>
              <a:t>У Кощея Бессмертного три темницы.  В одной томится Василиса Прекрасная, в другой – Марья-искусница, а в третьей - дракон.  Помоги Ивану освободить Марью и Василису.  Помни, что все надписи – ложные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8358120" y="6143760"/>
            <a:ext cx="500040" cy="500040"/>
          </a:xfrm>
          <a:prstGeom prst="rect">
            <a:avLst/>
          </a:prstGeom>
          <a:solidFill>
            <a:srgbClr val="4f81bd"/>
          </a:solidFill>
          <a:ln w="25560">
            <a:solidFill>
              <a:srgbClr val="3a5f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 rot="720000">
            <a:off x="4384800" y="2644920"/>
            <a:ext cx="2071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ЛОЖ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rot="960000">
            <a:off x="1596600" y="2638440"/>
            <a:ext cx="2071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ЛОЖ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 rot="900000">
            <a:off x="7048080" y="2612880"/>
            <a:ext cx="2071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ЛОЖ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431640" y="74883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23.06.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456000" y="7122960"/>
            <a:ext cx="28954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оломенская Виктория Григорь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714240" y="3071880"/>
            <a:ext cx="2357640" cy="2500200"/>
          </a:xfrm>
          <a:custGeom>
            <a:avLst/>
            <a:gdLst/>
            <a:ahLst/>
            <a:rect l="l" t="t" r="r" b="b"/>
            <a:pathLst>
              <a:path w="9704" h="8126">
                <a:moveTo>
                  <a:pt x="8126" y="0"/>
                </a:moveTo>
                <a:lnTo>
                  <a:pt x="-1578" y="0"/>
                </a:lnTo>
                <a:lnTo>
                  <a:pt x="6548" y="8126"/>
                </a:lnTo>
                <a:lnTo>
                  <a:pt x="6548" y="3671"/>
                </a:lnTo>
                <a:lnTo>
                  <a:pt x="3274" y="6945"/>
                </a:lnTo>
                <a:lnTo>
                  <a:pt x="3274" y="6945"/>
                </a:lnTo>
                <a:lnTo>
                  <a:pt x="0" y="3671"/>
                </a:lnTo>
                <a:lnTo>
                  <a:pt x="0" y="8126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76320">
            <a:solidFill>
              <a:srgbClr val="9848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429000" y="3071880"/>
            <a:ext cx="2357280" cy="2500200"/>
          </a:xfrm>
          <a:custGeom>
            <a:avLst/>
            <a:gdLst/>
            <a:ahLst/>
            <a:rect l="l" t="t" r="r" b="b"/>
            <a:pathLst>
              <a:path w="9704" h="8126">
                <a:moveTo>
                  <a:pt x="8126" y="0"/>
                </a:moveTo>
                <a:lnTo>
                  <a:pt x="-1578" y="0"/>
                </a:lnTo>
                <a:lnTo>
                  <a:pt x="6548" y="8126"/>
                </a:lnTo>
                <a:lnTo>
                  <a:pt x="6548" y="3671"/>
                </a:lnTo>
                <a:lnTo>
                  <a:pt x="3274" y="6945"/>
                </a:lnTo>
                <a:lnTo>
                  <a:pt x="3274" y="6945"/>
                </a:lnTo>
                <a:lnTo>
                  <a:pt x="0" y="3671"/>
                </a:lnTo>
                <a:lnTo>
                  <a:pt x="0" y="8126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76320">
            <a:solidFill>
              <a:srgbClr val="9848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6143760" y="3071880"/>
            <a:ext cx="2357280" cy="2500200"/>
          </a:xfrm>
          <a:custGeom>
            <a:avLst/>
            <a:gdLst/>
            <a:ahLst/>
            <a:rect l="l" t="t" r="r" b="b"/>
            <a:pathLst>
              <a:path w="9704" h="8126">
                <a:moveTo>
                  <a:pt x="8126" y="0"/>
                </a:moveTo>
                <a:lnTo>
                  <a:pt x="-1578" y="0"/>
                </a:lnTo>
                <a:lnTo>
                  <a:pt x="6548" y="8126"/>
                </a:lnTo>
                <a:lnTo>
                  <a:pt x="6548" y="3671"/>
                </a:lnTo>
                <a:lnTo>
                  <a:pt x="3274" y="6945"/>
                </a:lnTo>
                <a:lnTo>
                  <a:pt x="3274" y="6945"/>
                </a:lnTo>
                <a:lnTo>
                  <a:pt x="0" y="3671"/>
                </a:lnTo>
                <a:lnTo>
                  <a:pt x="0" y="8126"/>
                </a:lnTo>
                <a:close/>
              </a:path>
            </a:pathLst>
          </a:custGeom>
          <a:blipFill rotWithShape="0">
            <a:blip r:embed="rId4"/>
            <a:srcRect/>
            <a:stretch/>
          </a:blipFill>
          <a:ln w="76320">
            <a:solidFill>
              <a:srgbClr val="9848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5"/>
          <a:stretch/>
        </p:blipFill>
        <p:spPr>
          <a:xfrm>
            <a:off x="3643200" y="3071880"/>
            <a:ext cx="1928880" cy="251784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/>
          <p:nvPr/>
        </p:nvSpPr>
        <p:spPr>
          <a:xfrm>
            <a:off x="3643200" y="3857760"/>
            <a:ext cx="1928880" cy="1253880"/>
          </a:xfrm>
          <a:custGeom>
            <a:avLst/>
            <a:gdLst/>
            <a:ahLst/>
            <a:rect l="l" t="t" r="r" b="b"/>
            <a:pathLst>
              <a:path w="5358" h="22925">
                <a:moveTo>
                  <a:pt x="3449" y="-2243"/>
                </a:moveTo>
                <a:cubicBezTo>
                  <a:pt x="4085" y="5234"/>
                  <a:pt x="4722" y="-9720"/>
                  <a:pt x="5358" y="-2243"/>
                </a:cubicBezTo>
                <a:lnTo>
                  <a:pt x="1909" y="5728"/>
                </a:lnTo>
                <a:cubicBezTo>
                  <a:pt x="1273" y="-1749"/>
                  <a:pt x="636" y="13205"/>
                  <a:pt x="0" y="5728"/>
                </a:cubicBezTo>
                <a:close/>
              </a:path>
            </a:pathLst>
          </a:custGeom>
          <a:solidFill>
            <a:srgbClr val="4f81bd"/>
          </a:solidFill>
          <a:ln w="25560">
            <a:solidFill>
              <a:srgbClr val="3a5f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Василиса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не здес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6"/>
          <a:srcRect l="7259" t="7129" r="0" b="0"/>
          <a:stretch/>
        </p:blipFill>
        <p:spPr>
          <a:xfrm>
            <a:off x="1000080" y="2928960"/>
            <a:ext cx="2000160" cy="255096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>
            <a:off x="928800" y="3857760"/>
            <a:ext cx="1928880" cy="1143000"/>
          </a:xfrm>
          <a:custGeom>
            <a:avLst/>
            <a:gdLst/>
            <a:ahLst/>
            <a:rect l="l" t="t" r="r" b="b"/>
            <a:pathLst>
              <a:path w="5358" h="20887">
                <a:moveTo>
                  <a:pt x="3449" y="-2044"/>
                </a:moveTo>
                <a:cubicBezTo>
                  <a:pt x="4085" y="4768"/>
                  <a:pt x="4722" y="-8856"/>
                  <a:pt x="5358" y="-2044"/>
                </a:cubicBezTo>
                <a:lnTo>
                  <a:pt x="1909" y="5219"/>
                </a:lnTo>
                <a:cubicBezTo>
                  <a:pt x="1273" y="-1593"/>
                  <a:pt x="636" y="12031"/>
                  <a:pt x="0" y="5219"/>
                </a:cubicBezTo>
                <a:close/>
              </a:path>
            </a:pathLst>
          </a:custGeom>
          <a:solidFill>
            <a:srgbClr val="4f81bd"/>
          </a:solidFill>
          <a:ln w="25560">
            <a:solidFill>
              <a:srgbClr val="3a5f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Дракон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здес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7"/>
          <a:srcRect l="10300" t="16352" r="5897" b="10044"/>
          <a:stretch/>
        </p:blipFill>
        <p:spPr>
          <a:xfrm>
            <a:off x="5025960" y="2870280"/>
            <a:ext cx="4041720" cy="275436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>
            <a:off x="6357960" y="3857760"/>
            <a:ext cx="1928880" cy="1143000"/>
          </a:xfrm>
          <a:custGeom>
            <a:avLst/>
            <a:gdLst/>
            <a:ahLst/>
            <a:rect l="l" t="t" r="r" b="b"/>
            <a:pathLst>
              <a:path w="5358" h="20887">
                <a:moveTo>
                  <a:pt x="3449" y="-2044"/>
                </a:moveTo>
                <a:cubicBezTo>
                  <a:pt x="4085" y="4768"/>
                  <a:pt x="4722" y="-8856"/>
                  <a:pt x="5358" y="-2044"/>
                </a:cubicBezTo>
                <a:lnTo>
                  <a:pt x="1909" y="5219"/>
                </a:lnTo>
                <a:cubicBezTo>
                  <a:pt x="1273" y="-1593"/>
                  <a:pt x="636" y="12031"/>
                  <a:pt x="0" y="5219"/>
                </a:cubicBezTo>
                <a:close/>
              </a:path>
            </a:pathLst>
          </a:custGeom>
          <a:solidFill>
            <a:srgbClr val="4f81bd"/>
          </a:solidFill>
          <a:ln w="25560">
            <a:solidFill>
              <a:srgbClr val="3a5f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Здес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Мар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571920" y="2500200"/>
            <a:ext cx="2071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асили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928800" y="2500200"/>
            <a:ext cx="2071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Марь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6286680" y="2500200"/>
            <a:ext cx="2071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Драк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dur="indefinite" fill="hold">
                      <p:stCondLst>
                        <p:cond delay="indefinite"/>
                      </p:stCondLst>
                      <p:childTnLst>
                        <p:par>
                          <p:cTn id="10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500" fill="hold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500" fill="hold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 fill="hold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4" dur="indefinite" restart="whenNotActive" nodeType="interactiveSeq" fill="hold">
                <p:childTnLst>
                  <p:par>
                    <p:cTn id="155" dur="indefinite" fill="hold">
                      <p:childTnLst>
                        <p:par>
                          <p:cTn id="15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0" dur="1000" fill="hold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500" fill="hold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5" dur="indefinite" restart="whenNotActive" nodeType="interactiveSeq" fill="hold">
                <p:childTnLst>
                  <p:par>
                    <p:cTn id="176" dur="indefinite" fill="hold">
                      <p:childTnLst>
                        <p:par>
                          <p:cTn id="17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8" dur="indefinite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1" dur="1000" fill="hold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6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500" fill="hold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2" dur="indefinite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6" dur="indefinite" restart="whenNotActive" nodeType="interactiveSeq" fill="hold">
                <p:childTnLst>
                  <p:par>
                    <p:cTn id="197" dur="indefinite" fill="hold">
                      <p:childTnLst>
                        <p:par>
                          <p:cTn id="19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02" dur="1000" fill="hold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7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500" fill="hold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3" dur="indefinite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1T16:24:59Z</dcterms:created>
  <dc:creator>Admin</dc:creator>
  <dc:description/>
  <dc:language>en-US</dc:language>
  <cp:lastModifiedBy>User</cp:lastModifiedBy>
  <dcterms:modified xsi:type="dcterms:W3CDTF">2012-03-15T17:21:38Z</dcterms:modified>
  <cp:revision>32</cp:revision>
  <dc:subject/>
  <dc:title>Логические задачки</dc:title>
</cp:coreProperties>
</file>