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07C-91B8-4C04-B093-BA5B887D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418-601D-43CE-AF68-6DCFCDE0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424-70DD-4A74-A7EE-0E285AB7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C00-A469-46E2-8B70-1ABDBE57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074-5D07-45A9-A8EF-F20E27D4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309-ADE8-44E8-8132-A3DA9E68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53A-FD06-4120-9622-414702D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019-684E-42C0-AB57-5D7B8D52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45F-5A33-43D8-A0F3-358377D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6F6-66F4-4520-AFE3-6B24FE3D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22E-EFD5-49BA-A06A-0BE2292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AD9-8709-4D35-A5F5-941D4BC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D14D-48B7-4D1D-8C51-9466DAF1B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-fotki.yandex.ru/get/3305/paxme.5/0_20f9c_bcf5e98f_X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062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ети и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Холокост</a:t>
            </a:r>
            <a:br>
              <a:rPr sz="5400"/>
            </a:br>
            <a:br>
              <a:rPr sz="54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ель МБОУ-гимназии№174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малова Ирина Борис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цлагерь Аушв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19640" y="1452600"/>
            <a:ext cx="319572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здан 27 апреля 1940 г. по приказу Гиммлера в предместье польского города Освен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 был самый большой из созданных немцами лагерей во всей оккупированной ими Ев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28C-E5C9-4144-B6BF-C0C48D6F0A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Холокост"/>
          <p:cNvPicPr/>
          <p:nvPr/>
        </p:nvPicPr>
        <p:blipFill>
          <a:blip r:embed="rId2"/>
          <a:stretch/>
        </p:blipFill>
        <p:spPr>
          <a:xfrm>
            <a:off x="4716360" y="476280"/>
            <a:ext cx="39196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8000" y="242100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D32-B566-41E0-8AE8-44103A8B91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Дети в Освенц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 1 миллиона 300 тысяч узников Освенцима дети подростки не старше 18 лет составили около 234 0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 них - 220 000 еврейских дете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ольшинство еврейских детей уничтожались сразу же после прибытия. 12 сентября 1944 г., например, 12 300 детей из Каунаса были направлены в газовые ка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098960" cy="34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818-84B3-417A-A960-8B66B6276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Холокост"/>
          <p:cNvPicPr/>
          <p:nvPr/>
        </p:nvPicPr>
        <p:blipFill>
          <a:blip r:embed="rId2"/>
          <a:stretch/>
        </p:blipFill>
        <p:spPr>
          <a:xfrm>
            <a:off x="2843280" y="404640"/>
            <a:ext cx="5987880" cy="4526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4752720" cy="330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9F2-3D15-49E6-8FFA-5EF53B75E2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абий Я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1680" y="1989000"/>
            <a:ext cx="3809880" cy="374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Бабий Яр архив"/>
          <p:cNvPicPr/>
          <p:nvPr/>
        </p:nvPicPr>
        <p:blipFill>
          <a:blip r:embed="rId3"/>
          <a:stretch/>
        </p:blipFill>
        <p:spPr>
          <a:xfrm>
            <a:off x="4572000" y="1989000"/>
            <a:ext cx="40384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D4A-232C-41CC-8CB7-306A58FBFE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абий Я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БИЙ ЯР – лощина на окраине Киева, где 29–30 сентября 1941 года были расстреляны более 30 тысяч еврее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Бабий Яр архив"/>
          <p:cNvPicPr/>
          <p:nvPr/>
        </p:nvPicPr>
        <p:blipFill>
          <a:blip r:embed="rId2"/>
          <a:stretch/>
        </p:blipFill>
        <p:spPr>
          <a:xfrm>
            <a:off x="4067280" y="1700280"/>
            <a:ext cx="5003640" cy="4243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CD7-6F9B-4731-8F07-6D13658A6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98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99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Холокост"/>
          <p:cNvPicPr/>
          <p:nvPr/>
        </p:nvPicPr>
        <p:blipFill>
          <a:blip r:embed="rId3"/>
          <a:stretch/>
        </p:blipFill>
        <p:spPr>
          <a:xfrm>
            <a:off x="3743280" y="2276640"/>
            <a:ext cx="5400720" cy="4417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Холокост"/>
          <p:cNvPicPr/>
          <p:nvPr/>
        </p:nvPicPr>
        <p:blipFill>
          <a:blip r:embed="rId4"/>
          <a:stretch/>
        </p:blipFill>
        <p:spPr>
          <a:xfrm>
            <a:off x="0" y="0"/>
            <a:ext cx="4211640" cy="387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248-BDF5-4255-80DF-AB424E535D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трашные цифры Холок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6 млн человек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было уничтоже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том числ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,5 млн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4427280" cy="3771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E:\Новая папка (4)\09.jpg"/>
          <p:cNvPicPr/>
          <p:nvPr/>
        </p:nvPicPr>
        <p:blipFill>
          <a:blip r:embed="rId3"/>
          <a:stretch/>
        </p:blipFill>
        <p:spPr>
          <a:xfrm>
            <a:off x="4932360" y="2565360"/>
            <a:ext cx="39607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720-487D-45EB-AB37-3C6CC4D130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Память о Холокосте необходима, чтобы наши дети никогда не были жертвами, палачами или равнодушными наблюдателями»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И.Бауэр, исследователь Холок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92360" y="1819440"/>
            <a:ext cx="5499000" cy="40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46E-BC9F-42D5-B520-A45C6FD7A0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локос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т греческого слов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ocausto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всесожжение, жертвоприношение с помощью огня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наиболее распространенный термин, обозначающий преследование и уничтожение 6 миллионов евреев нацистами и их пособниками после прихода к власти Гитлера и до окончания Второй мировой войны (1933 – 1945 гг.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етт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в годы Холокоста часть города, окруженная колючей проволокой или стенами, где обязаны были проживать евреи из прилегающих рай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E95-339E-48E1-AE52-B80A25CE5F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5 из 18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692280"/>
            <a:ext cx="8215560" cy="573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F3A-741A-4CCA-B629-4AFE1E0CF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еждународный день памяти жертв Холок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7 января, по решению ООН, во всем мире отмечается как Международный день памяти жертв Холокоста. В 1945г. в этот день Советская Армия освободила крупнейший из нацистских концентрационных лагерей — Освенцим (Аушвиц-Биркена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5136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98960" cy="40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571-6835-452C-92B6-138809C4A0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 всей Германии прокатилась волна еврейских погромов, самый крупный из которых, произошедший 9-10 ноября 1938года, получил название «Хрустальная ночь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Новая папка (4)\11.jpg"/>
          <p:cNvPicPr/>
          <p:nvPr/>
        </p:nvPicPr>
        <p:blipFill>
          <a:blip r:embed="rId2"/>
          <a:srcRect l="10162" t="0" r="7224" b="0"/>
          <a:stretch/>
        </p:blipFill>
        <p:spPr>
          <a:xfrm>
            <a:off x="4140360" y="1844640"/>
            <a:ext cx="4464000" cy="39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F47-FF02-4A59-BCEF-559B6CC823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Холокост"/>
          <p:cNvPicPr/>
          <p:nvPr/>
        </p:nvPicPr>
        <p:blipFill>
          <a:blip r:embed="rId2"/>
          <a:stretch/>
        </p:blipFill>
        <p:spPr>
          <a:xfrm>
            <a:off x="3564000" y="765000"/>
            <a:ext cx="5256000" cy="367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3997440" cy="443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2F4-6CF4-4FD0-8319-D58F6BD7C2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нуш Кор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7701" t="0" r="4618" b="0"/>
          <a:stretch/>
        </p:blipFill>
        <p:spPr>
          <a:xfrm>
            <a:off x="276120" y="1700280"/>
            <a:ext cx="4367160" cy="46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Януш Корчак - директор «Дома Сирот»"/>
          <p:cNvPicPr/>
          <p:nvPr/>
        </p:nvPicPr>
        <p:blipFill>
          <a:blip r:embed="rId3"/>
          <a:srcRect l="0" t="4073" r="0" b="4913"/>
          <a:stretch/>
        </p:blipFill>
        <p:spPr>
          <a:xfrm>
            <a:off x="4788000" y="1628640"/>
            <a:ext cx="4133880" cy="482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1BE-AC76-4CB1-B492-B441D28D25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мятник Янушу Корчаку и его ученикам в мемориальном комплексе Яд Вашем (Израиль, Иерусали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632040" cy="482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22E-3C9E-421A-A2E2-7B4AAF1E46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Дневник Анны Франк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2 июня 1942 - 1августа 19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247239434_92ea164879"/>
          <p:cNvPicPr/>
          <p:nvPr/>
        </p:nvPicPr>
        <p:blipFill>
          <a:blip r:embed="rId2"/>
          <a:stretch/>
        </p:blipFill>
        <p:spPr>
          <a:xfrm>
            <a:off x="250920" y="1989000"/>
            <a:ext cx="4182840" cy="388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8320" y="1989000"/>
            <a:ext cx="4100400" cy="38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CAA-94F0-4BC9-BE73-1DAC0AE64D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6:15:40Z</dcterms:created>
  <dc:creator>Юрий</dc:creator>
  <dc:description/>
  <dc:language>en-US</dc:language>
  <cp:lastModifiedBy>Юрий</cp:lastModifiedBy>
  <dcterms:modified xsi:type="dcterms:W3CDTF">2013-01-30T07:28:49Z</dcterms:modified>
  <cp:revision>11</cp:revision>
  <dc:subject/>
  <dc:title>Память о Холокосте</dc:title>
</cp:coreProperties>
</file>