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C51-02A4-4A02-A14A-7AC71934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7D3-C4CA-4FCD-A376-46B14157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427-4456-40D2-9F19-C16FBB79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806-F017-4F69-9458-4124569A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78F-66F2-413A-A065-D69D2D26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7B3-7FAE-418F-9CDB-6E22912E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E96-CEC6-45BB-AA3F-E2C2682C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699-85A0-4313-8BAC-E2630E53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934-E19D-413E-B1FB-55EBE7E8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004-4178-4F0E-83DE-F0DBEB2B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B0F-8728-4D8F-80C8-41B292D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7AA-8AFF-420D-9958-26B83268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1BC8-D4A9-41E4-8499-C4960114F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-fotki.yandex.ru/get/3305/paxme.5/0_20f9c_bcf5e98f_X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80629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ети и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Холокост</a:t>
            </a:r>
            <a:br>
              <a:rPr sz="5400"/>
            </a:br>
            <a:br>
              <a:rPr sz="54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итель МБОУ-гимназии№174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амалова Ирина Борис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нцлагерь Аушв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19640" y="1452600"/>
            <a:ext cx="3195720" cy="4929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здан 27 апреля 1940 г. по приказу Гиммлера в предместье польского города Освенц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о был самый большой из созданных немцами лагерей во всей оккупированной ими Евро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143-CC4D-47CC-A895-52415F91E5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Холокост"/>
          <p:cNvPicPr/>
          <p:nvPr/>
        </p:nvPicPr>
        <p:blipFill>
          <a:blip r:embed="rId2"/>
          <a:stretch/>
        </p:blipFill>
        <p:spPr>
          <a:xfrm>
            <a:off x="4716360" y="476280"/>
            <a:ext cx="39196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8000" y="242100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0F6-9764-4232-9D66-E6FC59171F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Дети в Освенц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з 1 миллиона 300 тысяч узников Освенцима дети подростки не старше 18 лет составили около 234 0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з них - 220 000 еврейских дете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ольшинство еврейских детей уничтожались сразу же после прибытия. 12 сентября 1944 г., например, 12 300 детей из Каунаса были направлены в газовые ка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098960" cy="34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A1C-7686-4A56-84A0-37152B3F81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Холокост"/>
          <p:cNvPicPr/>
          <p:nvPr/>
        </p:nvPicPr>
        <p:blipFill>
          <a:blip r:embed="rId2"/>
          <a:stretch/>
        </p:blipFill>
        <p:spPr>
          <a:xfrm>
            <a:off x="2843280" y="404640"/>
            <a:ext cx="5987880" cy="4526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4752720" cy="330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6F4-F064-4C6D-8FCF-11D227AFFE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Бабий Я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1680" y="1989000"/>
            <a:ext cx="3809880" cy="374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Бабий Яр архив"/>
          <p:cNvPicPr/>
          <p:nvPr/>
        </p:nvPicPr>
        <p:blipFill>
          <a:blip r:embed="rId3"/>
          <a:stretch/>
        </p:blipFill>
        <p:spPr>
          <a:xfrm>
            <a:off x="4572000" y="1989000"/>
            <a:ext cx="403848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BD3-E3CF-4ECF-BF2E-B7DC06279D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Бабий Я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БИЙ ЯР – лощина на окраине Киева, где 29–30 сентября 1941 года были расстреляны более 30 тысяч еврее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Бабий Яр архив"/>
          <p:cNvPicPr/>
          <p:nvPr/>
        </p:nvPicPr>
        <p:blipFill>
          <a:blip r:embed="rId2"/>
          <a:stretch/>
        </p:blipFill>
        <p:spPr>
          <a:xfrm>
            <a:off x="4067280" y="1700280"/>
            <a:ext cx="5003640" cy="4243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0E9-5F78-44C0-862F-6D8E952001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98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299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Холокост"/>
          <p:cNvPicPr/>
          <p:nvPr/>
        </p:nvPicPr>
        <p:blipFill>
          <a:blip r:embed="rId3"/>
          <a:stretch/>
        </p:blipFill>
        <p:spPr>
          <a:xfrm>
            <a:off x="3743280" y="2276640"/>
            <a:ext cx="5400720" cy="4417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Холокост"/>
          <p:cNvPicPr/>
          <p:nvPr/>
        </p:nvPicPr>
        <p:blipFill>
          <a:blip r:embed="rId4"/>
          <a:stretch/>
        </p:blipFill>
        <p:spPr>
          <a:xfrm>
            <a:off x="0" y="0"/>
            <a:ext cx="4211640" cy="387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8C4-A101-4AD5-8B19-140DBB8E6E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трашные цифры Холоко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6 млн человек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было уничтоже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том числ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,5 млн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4427280" cy="3771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E:\Новая папка (4)\09.jpg"/>
          <p:cNvPicPr/>
          <p:nvPr/>
        </p:nvPicPr>
        <p:blipFill>
          <a:blip r:embed="rId3"/>
          <a:stretch/>
        </p:blipFill>
        <p:spPr>
          <a:xfrm>
            <a:off x="4932360" y="2565360"/>
            <a:ext cx="39607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43D-6515-4C15-AF97-DA4F691679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Память о Холокосте необходима, чтобы наши дети никогда не были жертвами, палачами или равнодушными наблюдателями»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И.Бауэр, исследователь Холок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92360" y="1819440"/>
            <a:ext cx="5499000" cy="40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8E2-E1CD-4573-96D8-2938640DF0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локос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от греческого слов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ocausto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всесожжение, жертвоприношение с помощью огня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- наиболее распространенный термин, обозначающий преследование и уничтожение 6 миллионов евреев нацистами и их пособниками после прихода к власти Гитлера и до окончания Второй мировой войны (1933 – 1945 гг.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етт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в годы Холокоста часть города, окруженная колючей проволокой или стенами, где обязаны были проживать евреи из прилегающих рай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A46-FDB8-437A-90B4-91ACB7C04A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5 из 18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692280"/>
            <a:ext cx="8215560" cy="573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A6D-2591-4987-9E68-95B2B73C31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еждународный день памяти жертв Холоко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7 января, по решению ООН, во всем мире отмечается как Международный день памяти жертв Холокоста. В 1945г. в этот день Советская Армия освободила крупнейший из нацистских концентрационных лагерей — Освенцим (Аушвиц-Биркена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5136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98960" cy="40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E0E-BF98-4DD2-B304-21FD259CC3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 всей Германии прокатилась волна еврейских погромов, самый крупный из которых, произошедший 9-10 ноября 1938года, получил название «Хрустальная ночь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Новая папка (4)\11.jpg"/>
          <p:cNvPicPr/>
          <p:nvPr/>
        </p:nvPicPr>
        <p:blipFill>
          <a:blip r:embed="rId2"/>
          <a:srcRect l="10162" t="0" r="7224" b="0"/>
          <a:stretch/>
        </p:blipFill>
        <p:spPr>
          <a:xfrm>
            <a:off x="4140360" y="1844640"/>
            <a:ext cx="4464000" cy="39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697-DB9B-4996-B9CD-845C4C7F32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Холокост"/>
          <p:cNvPicPr/>
          <p:nvPr/>
        </p:nvPicPr>
        <p:blipFill>
          <a:blip r:embed="rId2"/>
          <a:stretch/>
        </p:blipFill>
        <p:spPr>
          <a:xfrm>
            <a:off x="3564000" y="765000"/>
            <a:ext cx="5256000" cy="367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3997440" cy="443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1BC-D87F-465C-9763-CC41D2F48F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Януш Кор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7701" t="0" r="4618" b="0"/>
          <a:stretch/>
        </p:blipFill>
        <p:spPr>
          <a:xfrm>
            <a:off x="276120" y="1700280"/>
            <a:ext cx="4367160" cy="46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Януш Корчак - директор «Дома Сирот»"/>
          <p:cNvPicPr/>
          <p:nvPr/>
        </p:nvPicPr>
        <p:blipFill>
          <a:blip r:embed="rId3"/>
          <a:srcRect l="0" t="4073" r="0" b="4913"/>
          <a:stretch/>
        </p:blipFill>
        <p:spPr>
          <a:xfrm>
            <a:off x="4788000" y="1628640"/>
            <a:ext cx="4133880" cy="482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BC8-E726-4AA5-BF82-32262F97C4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мятник Янушу Корчаку и его ученикам в мемориальном комплексе Яд Вашем (Израиль, Иерусали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00360" y="1484280"/>
            <a:ext cx="3632040" cy="482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C1F-DAB8-4283-B0C7-D794D710CC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Дневник Анны Франк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2 июня 1942 - 1августа 19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247239434_92ea164879"/>
          <p:cNvPicPr/>
          <p:nvPr/>
        </p:nvPicPr>
        <p:blipFill>
          <a:blip r:embed="rId2"/>
          <a:stretch/>
        </p:blipFill>
        <p:spPr>
          <a:xfrm>
            <a:off x="250920" y="1989000"/>
            <a:ext cx="4182840" cy="388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48320" y="1989000"/>
            <a:ext cx="4100400" cy="38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D98-9D74-446A-86C3-8F33BA81DA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6:15:40Z</dcterms:created>
  <dc:creator>Юрий</dc:creator>
  <dc:description/>
  <dc:language>en-US</dc:language>
  <cp:lastModifiedBy>Юрий</cp:lastModifiedBy>
  <dcterms:modified xsi:type="dcterms:W3CDTF">2013-01-30T07:28:49Z</dcterms:modified>
  <cp:revision>11</cp:revision>
  <dc:subject/>
  <dc:title>Память о Холокосте</dc:title>
</cp:coreProperties>
</file>