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528-5AF5-44E5-BB62-F3039867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D2D-87C4-44BC-A9CD-B66ED8A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316-923B-4BA5-A9B5-A5CA4F7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695-1100-480B-8E52-E6229BD2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8A8-E3FE-40EA-A115-0FB32016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3D7-858A-4BC9-B3FC-013E9696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AEF-C6A3-4331-BD01-B4D7B28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8E7-8CC1-4971-918B-5C4EB2D6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3DA-FF60-45CC-9750-2254E28D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5DB-98D0-4A6F-82D1-C75AA55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FD4-8718-4143-92F8-E962AD5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A18-1CE4-46A7-AF8F-57856FE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A0BB8-65E2-444F-8FA5-CC68306548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festival.1september.ru/articles/312327/" TargetMode="External"/><Relationship Id="rId3" Type="http://schemas.openxmlformats.org/officeDocument/2006/relationships/hyperlink" Target="http://images.yandex.ru/yandsearch?p=13&amp;text=&#1086;&#1073;%D0%25B%B8&#1080;&amp;noreask=1&amp;img_url=www.obouka.ru%2Fwallpapers%2F7897348a9de8daafd802382983c51a54%2F1239_1.jpg&amp;pos=415&amp;rpt=simage&amp;lr=12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9440"/>
            <a:ext cx="798984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6000"/>
            </a:br>
            <a:r>
              <a:rPr b="1" lang="ru-RU" sz="6600" spc="-1" strike="noStrike">
                <a:solidFill>
                  <a:srgbClr val="000080"/>
                </a:solidFill>
                <a:latin typeface="Times New Roman"/>
              </a:rPr>
              <a:t>Площадь геометрической фигуры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cdb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533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площади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981000"/>
            <a:ext cx="1828800" cy="17528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1197000"/>
            <a:ext cx="1143000" cy="762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8019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85264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сдела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221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028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способы сравнения площадей фигур рассмотре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числите и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2852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ложили треугольник на ром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3213000"/>
            <a:ext cx="1828800" cy="17528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573360"/>
            <a:ext cx="1143000" cy="762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5877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 глаз, наложени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000" y="914400"/>
            <a:ext cx="80647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ктическая рабо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я модели фигур 1,2,3,4   сравните пары фигур по площади путем наложения одной фигуры на другую, запишите в тетрадя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площади 1 и 2 фигур, затем 1 и 3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125360"/>
            <a:ext cx="38124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48428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84464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20500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220500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184464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20500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781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112536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184464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728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191628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119700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91628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119700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155736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227664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35772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можем сравнить их площад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6320" y="3573360"/>
            <a:ext cx="59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 площади фигур выражают в кв. е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149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овите чему равны площади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14972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7 кв. ед., 7 кв. ед., 6 кв. е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9040" y="450864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щади каких фигур рав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50864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 и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040" y="4869000"/>
            <a:ext cx="484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у 1 и 3 фигур какие площади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7080" y="4869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ные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00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овите три способа сравнения площадей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99960" y="5661000"/>
            <a:ext cx="632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 глаз ,наложением, подсчетом квадра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авна площадь каждого прямоугольни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63700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щадь первого прямоугольника 8 кв. ед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торого 12 кв. е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560" y="35002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мы увидим ,если наложим один прямоугольник на друг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3789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ни совпадут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1800" y="3933720"/>
            <a:ext cx="407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ой вывод можем сдел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2080" y="43624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, нужно ввести единицу площа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7440" y="53737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значение 1см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373720"/>
            <a:ext cx="504720" cy="503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4365720"/>
            <a:ext cx="136836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кв.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4797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дратный сантиметр это площадь квадрата со стороной 1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31640" y="1197000"/>
          <a:ext cx="1943280" cy="103500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6000"/>
                <a:gridCol w="485640"/>
              </a:tblGrid>
              <a:tr h="51768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51732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92360" y="1197000"/>
          <a:ext cx="2015640" cy="1035000"/>
        </p:xfrm>
        <a:graphic>
          <a:graphicData uri="http://schemas.openxmlformats.org/drawingml/2006/table">
            <a:tbl>
              <a:tblPr/>
              <a:tblGrid>
                <a:gridCol w="335160"/>
                <a:gridCol w="335160"/>
                <a:gridCol w="334800"/>
                <a:gridCol w="336960"/>
                <a:gridCol w="335520"/>
                <a:gridCol w="338040"/>
              </a:tblGrid>
              <a:tr h="51768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1732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0.00532 L -0.22535 0.00532 E">
                                      <p:cBhvr>
                                        <p:cTn id="33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92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192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404640"/>
            <a:ext cx="8353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Начертите квадрат, длина стороны котор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риант- 5см,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ариант- 8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числите площадь квадрата , при помощи модели квадратного сантимет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57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429000"/>
            <a:ext cx="835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я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риант- 25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ариант- 64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49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53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Что значит измерить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300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рить площадь- значит узнать, сколько квадратных сантиметров содержит фигу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2860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ый  деци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: Вспомните понятие кв.с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йте понятие  кв.д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276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зыва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124080"/>
            <a:ext cx="2819520" cy="2667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34340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ение 1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33520"/>
            <a:ext cx="84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:сколько кв.см содержится в кв.д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но, 100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ычисли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514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а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276720"/>
            <a:ext cx="304812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3581280"/>
            <a:ext cx="5715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37339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952880" y="2743200"/>
          <a:ext cx="2209680" cy="2082600"/>
        </p:xfrm>
        <a:graphic>
          <a:graphicData uri="http://schemas.openxmlformats.org/drawingml/2006/table">
            <a:tbl>
              <a:tblPr/>
              <a:tblGrid>
                <a:gridCol w="220680"/>
                <a:gridCol w="221040"/>
                <a:gridCol w="221040"/>
                <a:gridCol w="221040"/>
                <a:gridCol w="221040"/>
                <a:gridCol w="221040"/>
                <a:gridCol w="221040"/>
                <a:gridCol w="221040"/>
                <a:gridCol w="221040"/>
                <a:gridCol w="220680"/>
              </a:tblGrid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79640" y="33336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ый 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981000"/>
            <a:ext cx="8064720" cy="70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помним понятие кв.см, кв.д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см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дм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йте понятие кв. 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демонстрирует кв. м ( в натуральную величину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: вычислите площадь квадрата со сторо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иант- 6см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ариант- 9д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1628640"/>
            <a:ext cx="504720" cy="503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1557360"/>
            <a:ext cx="2819160" cy="26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6094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3352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сколько кв.дм содержится в кв.мет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делали? (10х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получили? (100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3200400"/>
            <a:ext cx="304776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886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огично выясняем, ч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572000"/>
            <a:ext cx="304812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0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648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вспомн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4572000"/>
            <a:ext cx="304776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410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ение соотношений между единицами площ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380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Times New Roman"/>
              </a:rPr>
              <a:t>Палет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33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9900cc"/>
                </a:solidFill>
                <a:uFillTx/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етка- прозрачная пластинка, разбитая на квадра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8305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9280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палет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ладываем палетку на фигу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читаем число полных квадр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читаем число не полных квадратов и делим это число на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ладываем полученные чис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360" y="506520"/>
            <a:ext cx="885672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800000"/>
                </a:solidFill>
                <a:uFillTx/>
                <a:latin typeface="Times New Roman"/>
              </a:rPr>
              <a:t>Цели: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работать навыки нахождения неизвестного компонента;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логическое мышлен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оспитывать самостоятельность, аккуратность и дисциплинированность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оспитание внимательного отношения друг к другу и окружающи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установление эмоционального и психологического контакта с деть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87280" y="204840"/>
            <a:ext cx="4248360" cy="6491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81680" y="181080"/>
            <a:ext cx="3614760" cy="66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7280" y="792000"/>
            <a:ext cx="88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festival.1september.ru/articles/312327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images.yandex.ru/yandsearch?p=13&amp;text=%D0%BE%D0%B1%D0%B%B8%D0%B8&amp;noreask=1&amp;img_url=www.obouka.ru%2Fwallpapers%2F7897348a9de8daafd802382983c51a54%2F1239_1.jpg&amp;pos=415&amp;rpt=simage&amp;lr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087640" y="36036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ный счет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3887640"/>
            <a:ext cx="1690560" cy="1413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2760" y="4076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78760" y="4076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186840" y="2365200"/>
            <a:ext cx="3024360" cy="115128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11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655640"/>
            <a:ext cx="118908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2205000"/>
            <a:ext cx="2016000" cy="1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44560" y="1268280"/>
            <a:ext cx="137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+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35000" y="2637000"/>
            <a:ext cx="88092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50640" y="4221000"/>
            <a:ext cx="88092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516640"/>
            <a:ext cx="201636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516640"/>
            <a:ext cx="180036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54320" y="278136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60" y="3672000"/>
            <a:ext cx="137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+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0320" y="53737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34080" y="53737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2916000" y="3949200"/>
            <a:ext cx="5832360" cy="1008360"/>
          </a:xfrm>
          <a:prstGeom prst="wedgeEllipseCallout">
            <a:avLst>
              <a:gd name="adj1" fmla="val -16777"/>
              <a:gd name="adj2" fmla="val 646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35280" y="414972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,Руслан!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0480" y="472428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3480" y="4944960"/>
            <a:ext cx="1316160" cy="125424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3680" y="15559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6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56000" y="1573200"/>
            <a:ext cx="1268280" cy="117468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2400" y="3213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5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51120" y="3252960"/>
            <a:ext cx="1173240" cy="1152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4040" y="486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7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3680" y="486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7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5040360"/>
            <a:ext cx="1295280" cy="129528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869000"/>
            <a:ext cx="1190880" cy="1152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79640" y="549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92280"/>
            <a:ext cx="583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76500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ометрический матери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62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зываются эти фигур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276640"/>
            <a:ext cx="712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565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256536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565360"/>
            <a:ext cx="865080" cy="8636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2492280"/>
            <a:ext cx="127476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2492280"/>
            <a:ext cx="9144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92280"/>
            <a:ext cx="1057320" cy="9874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2781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07664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похожи фигуры под №4 и №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отличаю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перимет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413000"/>
            <a:ext cx="815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Times New Roman"/>
              </a:rPr>
              <a:t>Понятие площади фигур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65360"/>
            <a:ext cx="921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ощадь - понятие неопределяем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73360"/>
            <a:ext cx="8785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ощадь - количество занимаемого места фигур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плоск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09440" y="1285920"/>
            <a:ext cx="9207720" cy="2998800"/>
            <a:chOff x="109440" y="1285920"/>
            <a:chExt cx="9207720" cy="2998800"/>
          </a:xfrm>
        </p:grpSpPr>
        <p:sp>
          <p:nvSpPr>
            <p:cNvPr id="100" name=""/>
            <p:cNvSpPr/>
            <p:nvPr/>
          </p:nvSpPr>
          <p:spPr>
            <a:xfrm>
              <a:off x="620640" y="1285920"/>
              <a:ext cx="1612800" cy="1643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8080" y="1389240"/>
              <a:ext cx="1101600" cy="12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440" y="3763800"/>
              <a:ext cx="92077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08000" y="360360"/>
            <a:ext cx="64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перед вами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57720"/>
            <a:ext cx="88200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акая фигура занимает больше места на плоскости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005360"/>
            <a:ext cx="84247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площадь круга больше площади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508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фигура занимает меньше места на плоскост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040" y="5394240"/>
            <a:ext cx="7930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площадь треугольника меньше площади 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2536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 определили это на  гл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514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438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3816360"/>
            <a:ext cx="1979640" cy="1822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860640"/>
            <a:ext cx="1476360" cy="1395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611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ы это определил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98900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можно проверить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198900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ложить треугольник на кру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565360"/>
            <a:ext cx="48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о. Показыв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площади этих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19810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676520"/>
            <a:ext cx="838080" cy="76176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781360"/>
            <a:ext cx="53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снуйте свой отв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3520" y="3622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2846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19810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029200"/>
            <a:ext cx="838080" cy="7621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овери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314172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ложени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720" y="3952800"/>
            <a:ext cx="2872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о. Показыв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3:27:58Z</dcterms:created>
  <dc:creator>Template</dc:creator>
  <dc:description/>
  <dc:language>en-US</dc:language>
  <cp:lastModifiedBy>Гурий</cp:lastModifiedBy>
  <dcterms:modified xsi:type="dcterms:W3CDTF">2005-12-11T18:38:16Z</dcterms:modified>
  <cp:revision>9</cp:revision>
  <dc:subject/>
  <dc:title> Площадь фигуры.</dc:title>
</cp:coreProperties>
</file>