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8001-9DB5-4E44-A101-C7100A48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52AD-5C4F-4E9F-8EF3-CEBDB1FD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29C5-CA92-4405-AD89-E7EFD87C0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57A6-2BC1-4263-975D-ABC95405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26B4-505C-4BDA-B27F-541628BF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672B-658D-4100-9F27-0B91EA39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E737-298C-4302-A74C-1C3B6777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491C-BD82-4AD6-8F85-B6F95DFF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4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D5BE-2178-4421-9E68-38494E31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9596-006D-4644-931B-24E5ED6C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2D4-2828-431F-BE7D-1E13AC4B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E4B9-BDCF-47C1-BE44-8B368FC1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516BB-20ED-486E-91DB-6F6F854EBDC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festival.1september.ru/articles/312327/" TargetMode="External"/><Relationship Id="rId3" Type="http://schemas.openxmlformats.org/officeDocument/2006/relationships/hyperlink" Target="http://images.yandex.ru/yandsearch?p=13&amp;text=&#1086;&#1073;%D0%25B%B8&#1080;&amp;noreask=1&amp;img_url=www.obouka.ru%2Fwallpapers%2F7897348a9de8daafd802382983c51a54%2F1239_1.jpg&amp;pos=415&amp;rpt=simage&amp;lr=12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9440"/>
            <a:ext cx="798984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Тема урока: </a:t>
            </a:r>
            <a:br>
              <a:rPr sz="6000"/>
            </a:br>
            <a:r>
              <a:rPr b="1" lang="ru-RU" sz="6600" spc="-1" strike="noStrike">
                <a:solidFill>
                  <a:srgbClr val="000080"/>
                </a:solidFill>
                <a:latin typeface="Times New Roman"/>
              </a:rPr>
              <a:t>Площадь геометрической фигуры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cdb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0880" y="5335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авните площади фигу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981000"/>
            <a:ext cx="1828800" cy="17528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1197000"/>
            <a:ext cx="1143000" cy="762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380196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2852640"/>
            <a:ext cx="22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сделал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42210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4940280"/>
            <a:ext cx="662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ие способы сравнения площадей фигур рассмотрел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числите и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71640" y="28526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наложили треугольник на ром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3213000"/>
            <a:ext cx="1828800" cy="17528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3573360"/>
            <a:ext cx="1143000" cy="762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3640" y="587700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на глаз, наложение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dur="indefinite" fill="hold">
                      <p:stCondLst>
                        <p:cond delay="indefinite"/>
                      </p:stCondLst>
                      <p:childTnLst>
                        <p:par>
                          <p:cTn id="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99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92000" y="914400"/>
            <a:ext cx="80647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актическая рабо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спользуя модели фигур 1,2,3,4   сравните пары фигур по площади путем наложения одной фигуры на другую, запишите в тетрадях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9480" y="533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авните площади 1 и 2 фигур, затем 1 и 3 фигу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1125360"/>
            <a:ext cx="38124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1484280"/>
            <a:ext cx="3812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1844640"/>
            <a:ext cx="3812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2205000"/>
            <a:ext cx="3812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87280" y="2205000"/>
            <a:ext cx="3812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87280" y="1844640"/>
            <a:ext cx="3812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47640" y="2205000"/>
            <a:ext cx="3812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27813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48000" y="1125360"/>
            <a:ext cx="38088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48428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08360" y="148428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48000" y="148428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27640" y="220500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27640" y="184464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67280" y="148428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95640" y="27813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32720" y="1916280"/>
            <a:ext cx="38088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32720" y="1197000"/>
            <a:ext cx="38088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1916280"/>
            <a:ext cx="38088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1197000"/>
            <a:ext cx="38088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32720" y="1557360"/>
            <a:ext cx="38088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32720" y="2276640"/>
            <a:ext cx="38088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270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3357720"/>
            <a:ext cx="69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можем сравнить их площад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6320" y="3573360"/>
            <a:ext cx="598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так, площади фигур выражают в кв. ед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414972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овите чему равны площади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03640" y="4149720"/>
            <a:ext cx="489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 7 кв. ед., 7 кв. ед., 6 кв. е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9040" y="450864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ощади каких фигур равн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4508640"/>
            <a:ext cx="201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1 и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7040" y="4869000"/>
            <a:ext cx="4844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у 1 и 3 фигур какие площади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7080" y="48690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разные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530064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овите три способа сравнения площадей фигу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99960" y="5661000"/>
            <a:ext cx="632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на глаз ,наложением, подсчетом квадрат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 fill="hold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dur="indefinite" fill="hold">
                      <p:stCondLst>
                        <p:cond delay="indefinite"/>
                      </p:stCondLst>
                      <p:childTnLst>
                        <p:par>
                          <p:cTn id="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dur="indefinite" fill="hold">
                      <p:stCondLst>
                        <p:cond delay="indefinite"/>
                      </p:stCondLst>
                      <p:childTnLst>
                        <p:par>
                          <p:cTn id="2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dur="indefinite" fill="hold">
                      <p:stCondLst>
                        <p:cond delay="indefinite"/>
                      </p:stCondLst>
                      <p:childTnLst>
                        <p:par>
                          <p:cTn id="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м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равна площадь каждого прямоугольни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2637000"/>
            <a:ext cx="7620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ощадь первого прямоугольника 8 кв. ед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второго 12 кв. ед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560" y="3500280"/>
            <a:ext cx="75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 мы увидим ,если наложим один прямоугольник на друго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378936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Они совпадут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1800" y="3933720"/>
            <a:ext cx="407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ой вывод можем сделат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2080" y="4362480"/>
            <a:ext cx="48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начит, нужно ввести единицу площад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57440" y="537372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означение 1см 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80360" y="5373720"/>
            <a:ext cx="504720" cy="503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35640" y="4365720"/>
            <a:ext cx="1368360" cy="31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 кв.с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479736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вадратный сантиметр это площадь квадрата со стороной 1 с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31640" y="1197000"/>
          <a:ext cx="1943280" cy="1035000"/>
        </p:xfrm>
        <a:graphic>
          <a:graphicData uri="http://schemas.openxmlformats.org/drawingml/2006/table">
            <a:tbl>
              <a:tblPr/>
              <a:tblGrid>
                <a:gridCol w="486000"/>
                <a:gridCol w="485640"/>
                <a:gridCol w="486000"/>
                <a:gridCol w="485640"/>
              </a:tblGrid>
              <a:tr h="517680"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517320"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592360" y="1197000"/>
          <a:ext cx="2015640" cy="1035000"/>
        </p:xfrm>
        <a:graphic>
          <a:graphicData uri="http://schemas.openxmlformats.org/drawingml/2006/table">
            <a:tbl>
              <a:tblPr/>
              <a:tblGrid>
                <a:gridCol w="335160"/>
                <a:gridCol w="335160"/>
                <a:gridCol w="334800"/>
                <a:gridCol w="336960"/>
                <a:gridCol w="335520"/>
                <a:gridCol w="338040"/>
              </a:tblGrid>
              <a:tr h="517680"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</a:tr>
              <a:tr h="517320"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163440" bIns="46800" anchor="b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dur="indefinite" fill="hold">
                      <p:stCondLst>
                        <p:cond delay="indefinite"/>
                      </p:stCondLst>
                      <p:childTnLst>
                        <p:par>
                          <p:cTn id="3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dur="indefinite" fill="hold">
                      <p:stCondLst>
                        <p:cond delay="indefinite"/>
                      </p:stCondLst>
                      <p:childTnLst>
                        <p:par>
                          <p:cTn id="3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dur="indefinite" fill="hold">
                      <p:stCondLst>
                        <p:cond delay="indefinite"/>
                      </p:stCondLst>
                      <p:childTnLst>
                        <p:par>
                          <p:cTn id="3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65 0.00532 L -0.22535 0.00532 E">
                                      <p:cBhvr>
                                        <p:cTn id="335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dur="indefinite" fill="hold">
                      <p:stCondLst>
                        <p:cond delay="indefinite"/>
                      </p:stCondLst>
                      <p:childTnLst>
                        <p:par>
                          <p:cTn id="3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dur="indefinite" fill="hold">
                      <p:stCondLst>
                        <p:cond delay="indefinite"/>
                      </p:stCondLst>
                      <p:childTnLst>
                        <p:par>
                          <p:cTn id="3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 fill="hold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dur="indefinite" fill="hold">
                      <p:stCondLst>
                        <p:cond delay="indefinite"/>
                      </p:stCondLst>
                      <p:childTnLst>
                        <p:par>
                          <p:cTn id="3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 fill="hold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dur="indefinite" fill="hold">
                      <p:stCondLst>
                        <p:cond delay="indefinite"/>
                      </p:stCondLst>
                      <p:childTnLst>
                        <p:par>
                          <p:cTn id="3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dur="indefinite" fill="hold">
                      <p:stCondLst>
                        <p:cond delay="indefinite"/>
                      </p:stCondLst>
                      <p:childTnLst>
                        <p:par>
                          <p:cTn id="3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 fill="hold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dur="indefinite" fill="hold">
                      <p:stCondLst>
                        <p:cond delay="indefinite"/>
                      </p:stCondLst>
                      <p:childTnLst>
                        <p:par>
                          <p:cTn id="3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 fill="hold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dur="indefinite" fill="hold">
                      <p:stCondLst>
                        <p:cond delay="indefinite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92" fill="hold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192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3" dur="3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4" dur="192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5" dur="3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6" dur="192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7" dur="3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0920" y="404640"/>
            <a:ext cx="83534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Начертите квадрат, длина стороны которо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риант- 5см,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вариант- 8с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числите площадь квадрата , при помощи модели квадратного сантиметр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3573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3429000"/>
            <a:ext cx="835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ря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риант- 25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вариант- 64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14972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46530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Что значит измерить площад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530064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рить площадь- значит узнать, сколько квадратных сантиметров содержит фигур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dur="indefinite" fill="hold">
                      <p:stCondLst>
                        <p:cond delay="indefinite"/>
                      </p:stCondLst>
                      <p:childTnLst>
                        <p:par>
                          <p:cTn id="3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 fill="hold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dur="indefinite" fill="hold">
                      <p:stCondLst>
                        <p:cond delay="indefinite"/>
                      </p:stCondLst>
                      <p:childTnLst>
                        <p:par>
                          <p:cTn id="3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dur="indefinite" fill="hold">
                      <p:stCondLst>
                        <p:cond delay="indefinite"/>
                      </p:stCondLst>
                      <p:childTnLst>
                        <p:par>
                          <p:cTn id="3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228600"/>
            <a:ext cx="8153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вадратный  децимет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готовка: Вспомните понятие кв.с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айте понятие  кв.д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32767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казыва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3124080"/>
            <a:ext cx="2819520" cy="2667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434340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означение 1д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09480" y="53352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533520"/>
            <a:ext cx="8424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ясним :сколько кв.см содержится в кв.д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рно, 100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вычислил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2514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так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3276720"/>
            <a:ext cx="3048120" cy="520560"/>
          </a:xfrm>
          <a:prstGeom prst="rect">
            <a:avLst/>
          </a:prstGeom>
          <a:noFill/>
          <a:ln w="7632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д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100 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05120" y="3581280"/>
            <a:ext cx="5715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37339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952880" y="2743200"/>
          <a:ext cx="2209680" cy="2082600"/>
        </p:xfrm>
        <a:graphic>
          <a:graphicData uri="http://schemas.openxmlformats.org/drawingml/2006/table">
            <a:tbl>
              <a:tblPr/>
              <a:tblGrid>
                <a:gridCol w="220680"/>
                <a:gridCol w="221040"/>
                <a:gridCol w="221040"/>
                <a:gridCol w="221040"/>
                <a:gridCol w="221040"/>
                <a:gridCol w="221040"/>
                <a:gridCol w="221040"/>
                <a:gridCol w="221040"/>
                <a:gridCol w="221040"/>
                <a:gridCol w="220680"/>
              </a:tblGrid>
              <a:tr h="2080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080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08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08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080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08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08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080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08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080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68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979640" y="33336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вадратный мет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981000"/>
            <a:ext cx="8064720" cy="70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помним понятие кв.см, кв.д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см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дм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йте понятие кв. ме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 демонстрирует кв. м ( в натуральную величину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ние: вычислите площадь квадрата со сторо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риант- 6см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ариант- 9д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92360" y="1628640"/>
            <a:ext cx="504720" cy="503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67280" y="1557360"/>
            <a:ext cx="2819160" cy="266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dur="indefinite" fill="hold">
                      <p:stCondLst>
                        <p:cond delay="indefinite"/>
                      </p:stCondLst>
                      <p:childTnLst>
                        <p:par>
                          <p:cTn id="3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77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0" dur="770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2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4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38080" y="609480"/>
            <a:ext cx="685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533520"/>
            <a:ext cx="8229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ясним сколько кв.дм содержится в кв.метр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сделали? (10х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лько получили? (100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так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33720" y="3200400"/>
            <a:ext cx="3047760" cy="520560"/>
          </a:xfrm>
          <a:prstGeom prst="rect">
            <a:avLst/>
          </a:prstGeom>
          <a:noFill/>
          <a:ln w="7632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100 см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886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алогично выясняем, чт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4572000"/>
            <a:ext cx="3048120" cy="520560"/>
          </a:xfrm>
          <a:prstGeom prst="rect">
            <a:avLst/>
          </a:prstGeom>
          <a:noFill/>
          <a:ln w="7632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10000 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4648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вспомним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91320" y="4572000"/>
            <a:ext cx="3047760" cy="520560"/>
          </a:xfrm>
          <a:prstGeom prst="rect">
            <a:avLst/>
          </a:prstGeom>
          <a:noFill/>
          <a:ln w="7632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д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100 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54100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репление соотношений между единицами площад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62120" y="3808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9900cc"/>
                </a:solidFill>
                <a:uFillTx/>
                <a:latin typeface="Times New Roman"/>
              </a:rPr>
              <a:t>Палетк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5335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9900cc"/>
                </a:solidFill>
                <a:uFillTx/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14479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летка- прозрачная пластинка, разбитая на квадра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2362320"/>
            <a:ext cx="83059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49280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а с палетк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4928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кладываем палетку на фигур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4928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читаем число полных квадра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4928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читаем число не полных квадратов и делим это число на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4928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ладываем полученные чис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360" y="506520"/>
            <a:ext cx="8856720" cy="53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 u="sng">
                <a:solidFill>
                  <a:srgbClr val="800000"/>
                </a:solidFill>
                <a:uFillTx/>
                <a:latin typeface="Times New Roman"/>
              </a:rPr>
              <a:t>Цели:</a:t>
            </a:r>
            <a:r>
              <a:rPr b="1" lang="ru-RU" sz="6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работать навыки нахождения неизвестного компонента;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вать логическое мышление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воспитывать самостоятельность, аккуратность и дисциплинированность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воспитание внимательного отношения друг к другу и окружающим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установление эмоционального и психологического контакта с деть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87280" y="204840"/>
            <a:ext cx="4248360" cy="6491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981680" y="181080"/>
            <a:ext cx="3614760" cy="66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87280" y="792000"/>
            <a:ext cx="8810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пользованные ресурс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festival.1september.ru/articles/312327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images.yandex.ru/yandsearch?p=13&amp;text=%D0%BE%D0%B1%D0%B%B8%D0%B8&amp;noreask=1&amp;img_url=www.obouka.ru%2Fwallpapers%2F7897348a9de8daafd802382983c51a54%2F1239_1.jpg&amp;pos=415&amp;rpt=simage&amp;lr=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087640" y="360360"/>
            <a:ext cx="5400720" cy="9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стный счет</a:t>
            </a:r>
            <a:endParaRPr b="1" lang="en-US" sz="24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е следующее число?</a:t>
            </a:r>
            <a:endParaRPr b="1" lang="en-US" sz="24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6000" y="3887640"/>
            <a:ext cx="1690560" cy="1413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24000" y="4076640"/>
            <a:ext cx="136692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4076640"/>
            <a:ext cx="136656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4076640"/>
            <a:ext cx="136692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35640" y="4076640"/>
            <a:ext cx="136692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22760" y="407664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78760" y="407664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186840" y="2365200"/>
            <a:ext cx="3024360" cy="1151280"/>
          </a:xfrm>
          <a:prstGeom prst="wedgeEllipseCallout">
            <a:avLst>
              <a:gd name="adj1" fmla="val -87064"/>
              <a:gd name="adj2" fmla="val -6186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2637000"/>
            <a:ext cx="2449440" cy="514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мечательно!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611280" y="189000"/>
            <a:ext cx="5400720" cy="115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что здесь получится?</a:t>
            </a:r>
            <a:endParaRPr b="1" lang="en-US" sz="24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7280" y="1655640"/>
            <a:ext cx="118908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Times New Roman"/>
              </a:rPr>
              <a:t>5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2205000"/>
            <a:ext cx="2016000" cy="18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44560" y="1268280"/>
            <a:ext cx="1377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+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835000" y="2637000"/>
            <a:ext cx="880920" cy="8632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250640" y="4221000"/>
            <a:ext cx="880920" cy="8636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5516640"/>
            <a:ext cx="2016360" cy="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5516640"/>
            <a:ext cx="1800360" cy="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54320" y="278136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760" y="3672000"/>
            <a:ext cx="1377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+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30320" y="537372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34080" y="537372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-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2916000" y="3949200"/>
            <a:ext cx="5832360" cy="1008360"/>
          </a:xfrm>
          <a:prstGeom prst="wedgeEllipseCallout">
            <a:avLst>
              <a:gd name="adj1" fmla="val -16777"/>
              <a:gd name="adj2" fmla="val 6462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635280" y="4149720"/>
            <a:ext cx="432144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,Руслан!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70480" y="4724280"/>
            <a:ext cx="129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Times New Roman"/>
              </a:rPr>
              <a:t>6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3480" y="4944960"/>
            <a:ext cx="1316160" cy="125424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33680" y="155592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Times New Roman"/>
              </a:rPr>
              <a:t>6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56000" y="1573200"/>
            <a:ext cx="1268280" cy="117468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22400" y="32130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Times New Roman"/>
              </a:rPr>
              <a:t>5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51120" y="3252960"/>
            <a:ext cx="1173240" cy="115236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4040" y="48690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Times New Roman"/>
              </a:rPr>
              <a:t>7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33680" y="48690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Times New Roman"/>
              </a:rPr>
              <a:t>7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0360" y="5040360"/>
            <a:ext cx="1295280" cy="129528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30440" y="4869000"/>
            <a:ext cx="1190880" cy="115236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79640" y="549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63640" y="692280"/>
            <a:ext cx="5832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765000"/>
            <a:ext cx="74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еометрический материа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162864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называются эти фигур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2276640"/>
            <a:ext cx="7128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256536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24000" y="2565360"/>
            <a:ext cx="914400" cy="914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2565360"/>
            <a:ext cx="865080" cy="8636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96360" y="2492280"/>
            <a:ext cx="1274760" cy="9144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16360" y="2492280"/>
            <a:ext cx="914400" cy="9144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2492280"/>
            <a:ext cx="1057320" cy="9874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27813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4076640"/>
            <a:ext cx="6985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м похожи фигуры под №4 и №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м отличают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такое периметр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9640" y="1413000"/>
            <a:ext cx="8153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9900cc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9900cc"/>
                </a:solidFill>
                <a:uFillTx/>
                <a:latin typeface="Times New Roman"/>
              </a:rPr>
              <a:t>Понятие площади фигур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565360"/>
            <a:ext cx="921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лощадь - понятие неопределяемо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573360"/>
            <a:ext cx="87850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лощадь - количество занимаемого места фигурой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 плоск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09440" y="1285920"/>
            <a:ext cx="9207720" cy="2998800"/>
            <a:chOff x="109440" y="1285920"/>
            <a:chExt cx="9207720" cy="2998800"/>
          </a:xfrm>
        </p:grpSpPr>
        <p:sp>
          <p:nvSpPr>
            <p:cNvPr id="100" name=""/>
            <p:cNvSpPr/>
            <p:nvPr/>
          </p:nvSpPr>
          <p:spPr>
            <a:xfrm>
              <a:off x="620640" y="1285920"/>
              <a:ext cx="1612800" cy="1643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88080" y="1389240"/>
              <a:ext cx="1101600" cy="12315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9440" y="3763800"/>
              <a:ext cx="920772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008000" y="360360"/>
            <a:ext cx="642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перед вами?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3357720"/>
            <a:ext cx="88200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акая фигура занимает больше места на плоскости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4005360"/>
            <a:ext cx="8424720" cy="23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чит, площадь круга больше площади треуголь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45086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ая фигура занимает меньше места на плоскости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3040" y="5394240"/>
            <a:ext cx="7930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чит, площадь треугольника меньше площади круг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12536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 определили это на  гл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2514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24382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3816360"/>
            <a:ext cx="1979640" cy="1822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3860640"/>
            <a:ext cx="1476360" cy="1395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56116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вы это определили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1989000"/>
            <a:ext cx="82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можно проверить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35280" y="1989000"/>
            <a:ext cx="489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наложить треугольник на кру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565360"/>
            <a:ext cx="489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рно. Показыва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088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авните площади этих фигу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876920"/>
            <a:ext cx="1981080" cy="1066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1676520"/>
            <a:ext cx="838080" cy="761760"/>
          </a:xfrm>
          <a:prstGeom prst="ellipse">
            <a:avLst/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2781360"/>
            <a:ext cx="53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оснуйте свой отве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3520" y="36226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328464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447920"/>
            <a:ext cx="1981080" cy="1066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5029200"/>
            <a:ext cx="838080" cy="762120"/>
          </a:xfrm>
          <a:prstGeom prst="ellipse">
            <a:avLst/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141720"/>
            <a:ext cx="705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проверим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71640" y="3141720"/>
            <a:ext cx="31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наложение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0720" y="3952800"/>
            <a:ext cx="2872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рно. Показыва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dur="indefinite" fill="hold">
                      <p:stCondLst>
                        <p:cond delay="indefinite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3:27:58Z</dcterms:created>
  <dc:creator>Template</dc:creator>
  <dc:description/>
  <dc:language>en-US</dc:language>
  <cp:lastModifiedBy>Гурий</cp:lastModifiedBy>
  <dcterms:modified xsi:type="dcterms:W3CDTF">2005-12-11T18:38:16Z</dcterms:modified>
  <cp:revision>9</cp:revision>
  <dc:subject/>
  <dc:title> Площадь фигуры.</dc:title>
</cp:coreProperties>
</file>