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12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15.gif" ContentType="image/gif"/>
  <Override PartName="/ppt/media/image28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AFD-351A-4944-8ED5-8E4FE890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C09-29D2-4575-A8A8-45D7357E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430-9B72-4E82-A2D6-5633010C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758-F0A1-4D84-A6FA-053C21AE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92FF-256D-442B-B099-F95DC1DC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ED72-F7F1-4DBE-AFB9-6FC813C1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12B2-5038-4359-B1F4-6EB9D1BE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E859-CAB5-4A7A-8C72-C1EC2437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5DAB-F5B4-4C81-B580-7C66D7CC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AA88-A182-4F56-A395-EA70BC7D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F4C8-3268-4782-9CB5-A159D899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6B4-9A3F-449D-A12B-AD511306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0082-A746-43A1-8717-678E8EE8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D02A-9080-458A-A79F-280BAD05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0262-933F-4FC9-B1C3-C4503809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EC92-2AE8-4823-AFFB-834CA734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E6ED-686C-458D-96B8-4576A105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C1A-0AC3-4B3F-A799-9D264681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188-78FC-48FC-B1ED-FC805349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9EB-5AE3-429B-BDF9-54CCFACD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E3D-7AD2-41B5-887E-27115B0F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B1D-2400-401E-ADFB-1B68E919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E01-AE0D-4343-B11C-85F387BC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F50-3431-4557-B67D-C7E053A6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751F-88F3-4346-9A88-DCBDAE9E05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2CD6-8FE7-4AC4-B25A-0AE7A4D14D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hyperlink" Target="http://rw6ase.narod.ru/000/rez2/eo7_00.jpg" TargetMode="External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1440" y="1136520"/>
            <a:ext cx="723888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8000" spc="-1" strike="noStrike" u="sng">
                <a:solidFill>
                  <a:srgbClr val="006666"/>
                </a:solidFill>
                <a:uFillTx/>
                <a:latin typeface="Arial"/>
              </a:rPr>
              <a:t>РЕЗОНАНС</a:t>
            </a:r>
            <a:endParaRPr b="0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5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втор работы: учитель физи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БОУ СОШ № 135 г.Казани 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Широкова Ирина Борисо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6012000" y="2637000"/>
            <a:ext cx="2658960" cy="199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2658960" cy="19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30028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Резонанс на службе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у древних люде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Picture 10" descr="malta2"/>
          <p:cNvPicPr/>
          <p:nvPr/>
        </p:nvPicPr>
        <p:blipFill>
          <a:blip r:embed="rId1"/>
          <a:stretch/>
        </p:blipFill>
        <p:spPr>
          <a:xfrm>
            <a:off x="324000" y="1557360"/>
            <a:ext cx="5040000" cy="377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d9GcTfQlUDA3lDD5uKxtijeZ8BEtttXGo0KeB6s1bC_U6LSTKP_YKS"/>
          <p:cNvPicPr/>
          <p:nvPr/>
        </p:nvPicPr>
        <p:blipFill>
          <a:blip r:embed="rId2"/>
          <a:stretch/>
        </p:blipFill>
        <p:spPr>
          <a:xfrm>
            <a:off x="5003640" y="4221000"/>
            <a:ext cx="4027680" cy="2492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5"/>
          <p:cNvSpPr/>
          <p:nvPr/>
        </p:nvSpPr>
        <p:spPr>
          <a:xfrm>
            <a:off x="39528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Как без подъемных кранов и другой техники древние люди передвигали многотонные глыбы на различные расстоя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5435640" y="35002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СТОУНХЕНД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Удивительный факт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Если связать толстой металлической проволокой два фортепиано в разных комнатах и играть на одном из них, то второе (</a:t>
            </a:r>
            <a:r>
              <a:rPr b="1" lang="ru-RU" sz="2900" spc="-1" strike="noStrike" u="sng">
                <a:solidFill>
                  <a:srgbClr val="000066"/>
                </a:solidFill>
                <a:uFillTx/>
                <a:latin typeface="Verdana"/>
              </a:rPr>
              <a:t>с нажатой педалью</a:t>
            </a: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!) будет играть ту же мелодию само собой, без пиани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5038560"/>
            <a:ext cx="1612800" cy="181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images[6]"/>
          <p:cNvPicPr/>
          <p:nvPr/>
        </p:nvPicPr>
        <p:blipFill>
          <a:blip r:embed="rId2"/>
          <a:stretch/>
        </p:blipFill>
        <p:spPr>
          <a:xfrm>
            <a:off x="0" y="0"/>
            <a:ext cx="1979640" cy="1568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mages[8] (2)"/>
          <p:cNvPicPr/>
          <p:nvPr/>
        </p:nvPicPr>
        <p:blipFill>
          <a:blip r:embed="rId3"/>
          <a:stretch/>
        </p:blipFill>
        <p:spPr>
          <a:xfrm>
            <a:off x="6732720" y="4976640"/>
            <a:ext cx="2149200" cy="1703520"/>
          </a:xfrm>
          <a:prstGeom prst="rect">
            <a:avLst/>
          </a:prstGeom>
          <a:ln w="0">
            <a:noFill/>
          </a:ln>
        </p:spPr>
      </p:pic>
      <p:cxnSp>
        <p:nvCxnSpPr>
          <p:cNvPr id="130" name="AutoShape 7"/>
          <p:cNvCxnSpPr/>
          <p:nvPr/>
        </p:nvCxnSpPr>
        <p:spPr>
          <a:xfrm>
            <a:off x="755280" y="1197000"/>
            <a:ext cx="7628760" cy="4923360"/>
          </a:xfrm>
          <a:prstGeom prst="curvedConnector5">
            <a:avLst>
              <a:gd name="adj1" fmla="val 2369"/>
              <a:gd name="adj2" fmla="val 53301"/>
              <a:gd name="adj3" fmla="val 2369"/>
            </a:avLst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66578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Удивительный фак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5640" y="162864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Шум, который мы слышим, когда подносим к уху раковину, вовсе не шум прибоя, а звук собственный крови, струящейся по венам в ух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hell2"/>
          <p:cNvPicPr/>
          <p:nvPr/>
        </p:nvPicPr>
        <p:blipFill>
          <a:blip r:embed="rId1"/>
          <a:stretch/>
        </p:blipFill>
        <p:spPr>
          <a:xfrm>
            <a:off x="324000" y="2276640"/>
            <a:ext cx="3671640" cy="292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0_65bc3_28f2368e_L"/>
          <p:cNvPicPr/>
          <p:nvPr/>
        </p:nvPicPr>
        <p:blipFill>
          <a:blip r:embed="rId2"/>
          <a:stretch/>
        </p:blipFill>
        <p:spPr>
          <a:xfrm>
            <a:off x="6804000" y="5157720"/>
            <a:ext cx="20937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3137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А вы знаете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217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Инфразвук высокой интенсивности, влекущий з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собой резонанс, из-за совпадения частот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колебаний внутренних органов и инфразвука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приводит к нарушению работы практически всех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внутренних органов,  возможен смертельный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исход из-за остановки сердца, или разрыв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 Unicode MS"/>
              </a:rPr>
              <a:t>кровеносных сосудов.</a:t>
            </a: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cc0000"/>
                </a:solidFill>
                <a:latin typeface="Verdana"/>
              </a:rPr>
              <a:t>Следует принимать особые меры защиты против появления звуковых колебаний со следующими частотами, потому - что совпадение частот приводит к возникновению резонанса: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8101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8" y="14482"/>
                  <a:pt x="14524" y="14482"/>
                </a:cubicBezTo>
                <a:lnTo>
                  <a:pt x="16187" y="14482"/>
                </a:lnTo>
                <a:cubicBezTo>
                  <a:pt x="17222" y="14482"/>
                  <a:pt x="18023" y="13751"/>
                  <a:pt x="18023" y="12828"/>
                </a:cubicBezTo>
                <a:lnTo>
                  <a:pt x="18023" y="7493"/>
                </a:lnTo>
                <a:lnTo>
                  <a:pt x="16187" y="7493"/>
                </a:lnTo>
                <a:lnTo>
                  <a:pt x="19694" y="3985"/>
                </a:lnTo>
                <a:lnTo>
                  <a:pt x="23367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4" y="18155"/>
                  <a:pt x="16187" y="18155"/>
                </a:cubicBezTo>
                <a:lnTo>
                  <a:pt x="14524" y="18155"/>
                </a:lnTo>
                <a:cubicBezTo>
                  <a:pt x="11756" y="18155"/>
                  <a:pt x="9180" y="15596"/>
                  <a:pt x="918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809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900000" y="1052640"/>
          <a:ext cx="7999560" cy="5803920"/>
        </p:xfrm>
        <a:graphic>
          <a:graphicData uri="http://schemas.openxmlformats.org/drawingml/2006/table">
            <a:tbl>
              <a:tblPr/>
              <a:tblGrid>
                <a:gridCol w="4032360"/>
                <a:gridCol w="396720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0-30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голов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40-100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глаз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0.5-13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вестибулярного аппарат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4-6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сердц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-3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желудк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-4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кишечник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6-8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почек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-5 Г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езонанс рук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-7 Г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вызывает чувство страха и паники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47"/>
          <p:cNvSpPr/>
          <p:nvPr/>
        </p:nvSpPr>
        <p:spPr>
          <a:xfrm>
            <a:off x="300240" y="259560"/>
            <a:ext cx="87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ственные (резонансные) частоты некоторых частей тела челове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3640" y="549000"/>
            <a:ext cx="442584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РЕЗОНАНС ТОКО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7" descr="резонанс токов"/>
          <p:cNvPicPr/>
          <p:nvPr/>
        </p:nvPicPr>
        <p:blipFill>
          <a:blip r:embed="rId1"/>
          <a:stretch/>
        </p:blipFill>
        <p:spPr>
          <a:xfrm>
            <a:off x="7812000" y="11592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img1"/>
          <p:cNvPicPr/>
          <p:nvPr/>
        </p:nvPicPr>
        <p:blipFill>
          <a:blip r:embed="rId2"/>
          <a:stretch/>
        </p:blipFill>
        <p:spPr>
          <a:xfrm>
            <a:off x="108000" y="189000"/>
            <a:ext cx="2905200" cy="1485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mg3"/>
          <p:cNvPicPr/>
          <p:nvPr/>
        </p:nvPicPr>
        <p:blipFill>
          <a:blip r:embed="rId3"/>
          <a:stretch/>
        </p:blipFill>
        <p:spPr>
          <a:xfrm>
            <a:off x="108000" y="4076640"/>
            <a:ext cx="2879640" cy="2546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2"/>
          <p:cNvSpPr/>
          <p:nvPr/>
        </p:nvSpPr>
        <p:spPr>
          <a:xfrm>
            <a:off x="3059280" y="1695240"/>
            <a:ext cx="592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резонанс в электрической цепи переменного тока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явление резкого возрастания амплитуды вынужденных колебаний  силы тока в колебательном контуре при совпадении частоты внешнего переменного напряжения с частотой свободных незатухающих колебаний в контур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3059280" y="3320280"/>
            <a:ext cx="568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Явление электрического резонанса широк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используется при осуществлен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радиосвязи в схемах настройки радиоприёмник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(для выделения сигнала требуемой частоты), усилителей, генераторов высокочастотных колеба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Явление электрического резонанса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еобходимо учитывать при расчё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золяции электрических цепей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69120" y="1773360"/>
            <a:ext cx="3032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олебательный контур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ботающий в режим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езонанса токов, являет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дним из основных узл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ектронных  генератор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а явлении резонанса основана работа многих электроизмерительных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иборов. Например, резонансный волномер используется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ля измерения частоты и является основной частью генератора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тандартного вида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Picture 5" descr="item1341"/>
          <p:cNvPicPr/>
          <p:nvPr/>
        </p:nvPicPr>
        <p:blipFill>
          <a:blip r:embed="rId1"/>
          <a:stretch/>
        </p:blipFill>
        <p:spPr>
          <a:xfrm>
            <a:off x="179280" y="1557360"/>
            <a:ext cx="3600720" cy="251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bp_ukr2"/>
          <p:cNvPicPr/>
          <p:nvPr/>
        </p:nvPicPr>
        <p:blipFill>
          <a:blip r:embed="rId2"/>
          <a:stretch/>
        </p:blipFill>
        <p:spPr>
          <a:xfrm>
            <a:off x="6012000" y="119700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913119_w640_h640_g8"/>
          <p:cNvPicPr/>
          <p:nvPr/>
        </p:nvPicPr>
        <p:blipFill>
          <a:blip r:embed="rId3"/>
          <a:stretch/>
        </p:blipFill>
        <p:spPr>
          <a:xfrm>
            <a:off x="179280" y="4076640"/>
            <a:ext cx="3384720" cy="2606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87497"/>
          <p:cNvPicPr/>
          <p:nvPr/>
        </p:nvPicPr>
        <p:blipFill>
          <a:blip r:embed="rId4"/>
          <a:stretch/>
        </p:blipFill>
        <p:spPr>
          <a:xfrm>
            <a:off x="179280" y="11592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t12_2"/>
          <p:cNvPicPr/>
          <p:nvPr/>
        </p:nvPicPr>
        <p:blipFill>
          <a:blip r:embed="rId5"/>
          <a:stretch/>
        </p:blipFill>
        <p:spPr>
          <a:xfrm>
            <a:off x="6012000" y="3716280"/>
            <a:ext cx="2955960" cy="2955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hm1"/>
          <p:cNvPicPr/>
          <p:nvPr/>
        </p:nvPicPr>
        <p:blipFill>
          <a:blip r:embed="rId6"/>
          <a:stretch/>
        </p:blipFill>
        <p:spPr>
          <a:xfrm>
            <a:off x="3564000" y="4797360"/>
            <a:ext cx="2808360" cy="1868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Электронный осциллограф ''ЭО-7'' (С1-1)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64000" y="1557360"/>
            <a:ext cx="2457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тветьте на вопрос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В чем заключается явление, называемое резонансом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К каким колебаниям – свободным или вынужденным – применимо понятие резонанса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Приведите примеры, показывающие, что в одних случаях резонанс может быть полезным явлением, а в других вредным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6" descr="g"/>
          <p:cNvPicPr/>
          <p:nvPr/>
        </p:nvPicPr>
        <p:blipFill>
          <a:blip r:embed="rId1"/>
          <a:stretch/>
        </p:blipFill>
        <p:spPr>
          <a:xfrm>
            <a:off x="7389720" y="115920"/>
            <a:ext cx="160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489744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бственный голос в запис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2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Если вы когда-нибудь записывали на магнитофон свой голос, то вас наверняка удивило, насколько высоким он кажется при прослушивании записи. Запись же голосов друг людей казалась вам вполне  нормальной. Но ваш голос — был совсем другой. В чем здесь причина?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гда вы слышите собственный голос, большая часть звуков, особенно низкочастотных, поступает к вам в ухо непосредственно через кости черепа. Окружающие же слышат ваш голос лишенным тех низкочастотных составляющих, которые для вас окрашивают собственный голос в более сочные, глубокие тона. Слушая свой голос в записи на хорошем магнитофоне, вы воспринимаете его таким же, каким его слышат окружающи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062451[1]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416720" cy="62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РЕЗОНАНС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резкое возрастание </a:t>
            </a:r>
            <a:br>
              <a:rPr sz="36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ампл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и</a:t>
            </a: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туды </a:t>
            </a:r>
            <a:br>
              <a:rPr sz="36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колебаний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, 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в результате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совпадения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собственной 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частоты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с частотой 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вынуждающей сил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6600" y="1628640"/>
            <a:ext cx="4025880" cy="4329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61128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Существует при вынужденных к</a:t>
            </a: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о</a:t>
            </a: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леб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чет и использование резонанса в быту и промышлен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Раскачивание тяжелого языка большого колокола при действии небольшой силы с частотой, равной собственной частоте язык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Сильное раскачивание железнодорожного вагона при случайном совпадении его собственной частоты колебаний на рессорах с частотой ударов колес на стыках рельс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Verdana"/>
              </a:rPr>
              <a:t>Сильное раскачивание пароходов на волнах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96284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вление резонанса может приводить к крупным разрушениям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827360"/>
            <a:ext cx="8432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1906 год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оссия Санкт-Петербург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Мост через Фонтан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брушился от резонанса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вызванного отрядом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солдат, марширующи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строе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через канал Грибоедова"/>
          <p:cNvPicPr/>
          <p:nvPr/>
        </p:nvPicPr>
        <p:blipFill>
          <a:blip r:embed="rId1"/>
          <a:stretch/>
        </p:blipFill>
        <p:spPr>
          <a:xfrm>
            <a:off x="5435640" y="1557360"/>
            <a:ext cx="34066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вление резонанса может приводить к крупным разрушениям:</a:t>
            </a:r>
            <a:br>
              <a:rPr sz="32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40 году США мост Тэйкома обрушился от автоколебаний, вызванных ветром</a:t>
            </a:r>
            <a:br>
              <a:rPr sz="24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1960560" y="2227320"/>
          <a:ext cx="479124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0560" y="2227320"/>
                    <a:ext cx="479124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3137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Акустический резонанс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8393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Знаменитый певец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Шаляпин мог запеть так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что лопались плафон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в люстрах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Резонанс вызван совпадением частоты собственных колебаний стеклянного сосуда с частотой звука, но петь при этом необходимо  так же громко, как Шаляп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разбитый бокал"/>
          <p:cNvPicPr/>
          <p:nvPr/>
        </p:nvPicPr>
        <p:blipFill>
          <a:blip r:embed="rId1"/>
          <a:stretch/>
        </p:blipFill>
        <p:spPr>
          <a:xfrm>
            <a:off x="3059280" y="4890960"/>
            <a:ext cx="2304720" cy="15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шаляпин"/>
          <p:cNvPicPr/>
          <p:nvPr/>
        </p:nvPicPr>
        <p:blipFill>
          <a:blip r:embed="rId2"/>
          <a:stretch/>
        </p:blipFill>
        <p:spPr>
          <a:xfrm>
            <a:off x="6156360" y="1159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31376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Акустический резонан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568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широко применяется в музыкальных инструментах 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пустые полости в них имеют такой объем и форму, что усиливают извлекаемый звук, издаваемый струнам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8" descr="ANd9GcTO2tiPJ-UPr_WSmQxHvo_6HRstS4u9cLqj2DZWsy_C82NXldOk"/>
          <p:cNvPicPr/>
          <p:nvPr/>
        </p:nvPicPr>
        <p:blipFill>
          <a:blip r:embed="rId1"/>
          <a:stretch/>
        </p:blipFill>
        <p:spPr>
          <a:xfrm>
            <a:off x="6300720" y="3333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kamerton2"/>
          <p:cNvPicPr/>
          <p:nvPr/>
        </p:nvPicPr>
        <p:blipFill>
          <a:blip r:embed="rId2"/>
          <a:stretch/>
        </p:blipFill>
        <p:spPr>
          <a:xfrm>
            <a:off x="6084720" y="4365720"/>
            <a:ext cx="28004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2978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Акустический резонан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Verdana"/>
              </a:rPr>
              <a:t>Аналогично, для усиления звука проектируются объем и форма внутренних помещений, в которых планируется петь или играть музык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zal"/>
          <p:cNvPicPr/>
          <p:nvPr/>
        </p:nvPicPr>
        <p:blipFill>
          <a:blip r:embed="rId1"/>
          <a:stretch/>
        </p:blipFill>
        <p:spPr>
          <a:xfrm>
            <a:off x="611280" y="4149720"/>
            <a:ext cx="36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scena"/>
          <p:cNvPicPr/>
          <p:nvPr/>
        </p:nvPicPr>
        <p:blipFill>
          <a:blip r:embed="rId2"/>
          <a:stretch/>
        </p:blipFill>
        <p:spPr>
          <a:xfrm>
            <a:off x="4859280" y="4221000"/>
            <a:ext cx="374976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209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Ящик камертона, корпус музыкальных инструментов, трубы духовых инструментов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резонатор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усиливающие их звуч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062451[1]"/>
          <p:cNvPicPr/>
          <p:nvPr/>
        </p:nvPicPr>
        <p:blipFill>
          <a:blip r:embed="rId1"/>
          <a:stretch/>
        </p:blipFill>
        <p:spPr>
          <a:xfrm>
            <a:off x="2195640" y="2133720"/>
            <a:ext cx="4249440" cy="2879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632160" y="5318280"/>
            <a:ext cx="7959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Человек имеет собственный резонатор –</a:t>
            </a: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Verdana"/>
              </a:rPr>
              <a:t>полость р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8:50:45Z</dcterms:created>
  <dc:creator>ShirokovaIB</dc:creator>
  <dc:description/>
  <dc:language>en-US</dc:language>
  <cp:lastModifiedBy>Ирина</cp:lastModifiedBy>
  <dcterms:modified xsi:type="dcterms:W3CDTF">2013-02-07T20:08:17Z</dcterms:modified>
  <cp:revision>18</cp:revision>
  <dc:subject/>
  <dc:title> РЕЗОНАНС</dc:title>
</cp:coreProperties>
</file>