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2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AF5-6D90-4C3B-A8E2-630F7A5B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C05-2A6C-4B78-AB26-33A59DC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7BA-E446-4060-8C18-31CB9E57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0A7-8816-47DE-AAB2-670CA666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572-3829-4B6F-8BAA-B6375F03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005-3515-4384-AF93-D8BD78C3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501B-92D2-4F7B-ACE9-86CB15A8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CB33-36DE-4D28-87A8-C46439C7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EF7-941F-4BA5-B0CD-D12465D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B69-7E8B-4F43-8DFF-76AC878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52EB-A9F2-476F-9EE9-3B3EF3B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FDE-106A-444A-A604-F78A499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A60-5569-486B-BD30-013457F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028-998C-424E-B0F8-75D5A15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9E0-ACFD-4B5A-9AA0-5A3714E7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6D6-6AB1-4C1A-B0C8-EF4C8519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A6C-7F87-4638-9EC5-597CCABA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FF4-8041-453D-8F4D-4434FAF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D92-4065-4F6D-93A6-55BF606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F3D-1BD5-4B78-BD95-EA87767F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60-98CB-4A79-AAAE-04080CD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48A-4C6F-4A39-9DDC-1752E53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CB9-6B01-47B0-AB62-3D40CEF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534-CD2B-4922-9A5D-39C505B1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A78-2058-4572-AB47-F26B561FE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1994-F2A0-4116-8966-ED6FBEFE6E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hyperlink" Target="http://rw6ase.narod.ru/000/rez2/eo7_00.jpg" TargetMode="External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1440" y="1136520"/>
            <a:ext cx="72388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8000" spc="-1" strike="noStrike" u="sng">
                <a:solidFill>
                  <a:srgbClr val="006666"/>
                </a:solidFill>
                <a:uFillTx/>
                <a:latin typeface="Arial"/>
              </a:rPr>
              <a:t>РЕЗОНАНС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втор работы: учитель физи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БОУ СОШ № 135 г.Казани 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Широкова Ирина Борис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658960" cy="199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265896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зонанс на службе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у древних люде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10" descr="malta2"/>
          <p:cNvPicPr/>
          <p:nvPr/>
        </p:nvPicPr>
        <p:blipFill>
          <a:blip r:embed="rId1"/>
          <a:stretch/>
        </p:blipFill>
        <p:spPr>
          <a:xfrm>
            <a:off x="324000" y="1557360"/>
            <a:ext cx="5040000" cy="377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TfQlUDA3lDD5uKxtijeZ8BEtttXGo0KeB6s1bC_U6LSTKP_YKS"/>
          <p:cNvPicPr/>
          <p:nvPr/>
        </p:nvPicPr>
        <p:blipFill>
          <a:blip r:embed="rId2"/>
          <a:stretch/>
        </p:blipFill>
        <p:spPr>
          <a:xfrm>
            <a:off x="5003640" y="4221000"/>
            <a:ext cx="4027680" cy="2492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5"/>
          <p:cNvSpPr/>
          <p:nvPr/>
        </p:nvSpPr>
        <p:spPr>
          <a:xfrm>
            <a:off x="39528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Как без подъемных кранов и другой техники древние люди передвигали многотонные глыбы на различные расстоя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5435640" y="3500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СТОУНХЕНД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Удивительный факт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Если связать толстой металлической проволокой два фортепиано в разных комнатах и играть на одном из них, то второе (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Verdana"/>
              </a:rPr>
              <a:t>с нажатой педалью</a:t>
            </a: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!) будет играть ту же мелодию само собой, без пиани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5038560"/>
            <a:ext cx="1612800" cy="181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mages[6]"/>
          <p:cNvPicPr/>
          <p:nvPr/>
        </p:nvPicPr>
        <p:blipFill>
          <a:blip r:embed="rId2"/>
          <a:stretch/>
        </p:blipFill>
        <p:spPr>
          <a:xfrm>
            <a:off x="0" y="0"/>
            <a:ext cx="19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ages[8] (2)"/>
          <p:cNvPicPr/>
          <p:nvPr/>
        </p:nvPicPr>
        <p:blipFill>
          <a:blip r:embed="rId3"/>
          <a:stretch/>
        </p:blipFill>
        <p:spPr>
          <a:xfrm>
            <a:off x="6732720" y="4976640"/>
            <a:ext cx="2149200" cy="1703520"/>
          </a:xfrm>
          <a:prstGeom prst="rect">
            <a:avLst/>
          </a:prstGeom>
          <a:ln w="0">
            <a:noFill/>
          </a:ln>
        </p:spPr>
      </p:pic>
      <p:cxnSp>
        <p:nvCxnSpPr>
          <p:cNvPr id="130" name="AutoShape 7"/>
          <p:cNvCxnSpPr/>
          <p:nvPr/>
        </p:nvCxnSpPr>
        <p:spPr>
          <a:xfrm>
            <a:off x="755280" y="1197000"/>
            <a:ext cx="7628760" cy="4923360"/>
          </a:xfrm>
          <a:prstGeom prst="curvedConnector5">
            <a:avLst>
              <a:gd name="adj1" fmla="val 2369"/>
              <a:gd name="adj2" fmla="val 53301"/>
              <a:gd name="adj3" fmla="val 2369"/>
            </a:avLst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66578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Удивительный фа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5640" y="162864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Шум, который мы слышим, когда подносим к уху раковину, вовсе не шум прибоя, а звук собственный крови, струящейся по венам в ух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hell2"/>
          <p:cNvPicPr/>
          <p:nvPr/>
        </p:nvPicPr>
        <p:blipFill>
          <a:blip r:embed="rId1"/>
          <a:stretch/>
        </p:blipFill>
        <p:spPr>
          <a:xfrm>
            <a:off x="324000" y="2276640"/>
            <a:ext cx="3671640" cy="292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0_65bc3_28f2368e_L"/>
          <p:cNvPicPr/>
          <p:nvPr/>
        </p:nvPicPr>
        <p:blipFill>
          <a:blip r:embed="rId2"/>
          <a:stretch/>
        </p:blipFill>
        <p:spPr>
          <a:xfrm>
            <a:off x="6804000" y="5157720"/>
            <a:ext cx="20937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 вы знаете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21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Инфразвук высокой интенсивности, влекущий з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собой резонанс, из-за совпадения частот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колебаний внутренних органов и инфразвука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приводит к нарушению работы практически все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внутренних органов,  возможен смертельны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исход из-за остановки сердца, или разры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кровеносных сосудов.</a:t>
            </a: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cc0000"/>
                </a:solidFill>
                <a:latin typeface="Verdana"/>
              </a:rPr>
              <a:t>Следует принимать особые меры защиты против появления звуковых колебаний со следующими частотами, потому - что совпадение частот приводит к возникновению резонанса: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101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809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00000" y="1052640"/>
          <a:ext cx="7999560" cy="5803920"/>
        </p:xfrm>
        <a:graphic>
          <a:graphicData uri="http://schemas.openxmlformats.org/drawingml/2006/table">
            <a:tbl>
              <a:tblPr/>
              <a:tblGrid>
                <a:gridCol w="4032360"/>
                <a:gridCol w="396720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0-30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голов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40-100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глаз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.5-13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вестибулярного аппарат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4-6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сердц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3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желуд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4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кишечни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-8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поче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5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ру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-7 Г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вызывает чувство страха и паники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7"/>
          <p:cNvSpPr/>
          <p:nvPr/>
        </p:nvSpPr>
        <p:spPr>
          <a:xfrm>
            <a:off x="300240" y="259560"/>
            <a:ext cx="87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ственные (резонансные) частоты некоторых частей тела челове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44258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РЕЗОНАНС ТОКО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7" descr="резонанс токов"/>
          <p:cNvPicPr/>
          <p:nvPr/>
        </p:nvPicPr>
        <p:blipFill>
          <a:blip r:embed="rId1"/>
          <a:stretch/>
        </p:blipFill>
        <p:spPr>
          <a:xfrm>
            <a:off x="7812000" y="11592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mg1"/>
          <p:cNvPicPr/>
          <p:nvPr/>
        </p:nvPicPr>
        <p:blipFill>
          <a:blip r:embed="rId2"/>
          <a:stretch/>
        </p:blipFill>
        <p:spPr>
          <a:xfrm>
            <a:off x="108000" y="189000"/>
            <a:ext cx="2905200" cy="1485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mg3"/>
          <p:cNvPicPr/>
          <p:nvPr/>
        </p:nvPicPr>
        <p:blipFill>
          <a:blip r:embed="rId3"/>
          <a:stretch/>
        </p:blipFill>
        <p:spPr>
          <a:xfrm>
            <a:off x="108000" y="4076640"/>
            <a:ext cx="2879640" cy="2546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3059280" y="1695240"/>
            <a:ext cx="592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резонанс в электрической цепи переменного тока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явление резкого возрастания амплитуды вынужденных колебаний  силы тока в колебательном контуре при совпадении частоты внешнего переменного напряжения с частотой свободных незатухающих колебаний в контур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059280" y="3320280"/>
            <a:ext cx="56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Явление электрического резонанса широк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используется при осуществлен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радиосвязи в схемах настройки радиоприёмни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(для выделения сигнала требуемой частоты), усилителей, генераторов высокочастотных колеб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Явление электрического резонанса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обходимо учитывать при расчё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золяции электрических цепей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9120" y="1773360"/>
            <a:ext cx="303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лебательный контур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ботающий в режим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зонанса токов, являе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дним из основных узл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ектронных  генерато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 явлении резонанса основана работа многих электроизмерительных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боров. Например, резонансный волномер используется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измерения частоты и является основной частью генератора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андартного вид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item1341"/>
          <p:cNvPicPr/>
          <p:nvPr/>
        </p:nvPicPr>
        <p:blipFill>
          <a:blip r:embed="rId1"/>
          <a:stretch/>
        </p:blipFill>
        <p:spPr>
          <a:xfrm>
            <a:off x="179280" y="1557360"/>
            <a:ext cx="3600720" cy="251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bp_ukr2"/>
          <p:cNvPicPr/>
          <p:nvPr/>
        </p:nvPicPr>
        <p:blipFill>
          <a:blip r:embed="rId2"/>
          <a:stretch/>
        </p:blipFill>
        <p:spPr>
          <a:xfrm>
            <a:off x="6012000" y="119700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913119_w640_h640_g8"/>
          <p:cNvPicPr/>
          <p:nvPr/>
        </p:nvPicPr>
        <p:blipFill>
          <a:blip r:embed="rId3"/>
          <a:stretch/>
        </p:blipFill>
        <p:spPr>
          <a:xfrm>
            <a:off x="179280" y="4076640"/>
            <a:ext cx="3384720" cy="260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87497"/>
          <p:cNvPicPr/>
          <p:nvPr/>
        </p:nvPicPr>
        <p:blipFill>
          <a:blip r:embed="rId4"/>
          <a:stretch/>
        </p:blipFill>
        <p:spPr>
          <a:xfrm>
            <a:off x="179280" y="11592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t12_2"/>
          <p:cNvPicPr/>
          <p:nvPr/>
        </p:nvPicPr>
        <p:blipFill>
          <a:blip r:embed="rId5"/>
          <a:stretch/>
        </p:blipFill>
        <p:spPr>
          <a:xfrm>
            <a:off x="6012000" y="3716280"/>
            <a:ext cx="2955960" cy="2955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hm1"/>
          <p:cNvPicPr/>
          <p:nvPr/>
        </p:nvPicPr>
        <p:blipFill>
          <a:blip r:embed="rId6"/>
          <a:stretch/>
        </p:blipFill>
        <p:spPr>
          <a:xfrm>
            <a:off x="3564000" y="4797360"/>
            <a:ext cx="2808360" cy="186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Электронный осциллограф ''ЭО-7'' (С1-1)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1557360"/>
            <a:ext cx="2457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тветьте на вопро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В чем заключается явление, называемое резонансо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К каким колебаниям – свободным или вынужденным – применимо понятие резонанс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Приведите примеры, показывающие, что в одних случаях резонанс может быть полезным явлением, а в других вредны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g"/>
          <p:cNvPicPr/>
          <p:nvPr/>
        </p:nvPicPr>
        <p:blipFill>
          <a:blip r:embed="rId1"/>
          <a:stretch/>
        </p:blipFill>
        <p:spPr>
          <a:xfrm>
            <a:off x="7389720" y="115920"/>
            <a:ext cx="160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489744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бственный голос в запис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Если вы когда-нибудь записывали на магнитофон свой голос, то вас наверняка удивило, насколько высоким он кажется при прослушивании записи. Запись же голосов друг людей казалась вам вполне  нормальной. Но ваш голос — был совсем другой. В чем здесь причина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гда вы слышите собственный голос, большая часть звуков, особенно низкочастотных, поступает к вам в ухо непосредственно через кости черепа. Окружающие же слышат ваш голос лишенным тех низкочастотных составляющих, которые для вас окрашивают собственный голос в более сочные, глубокие тона. Слушая свой голос в записи на хорошем магнитофоне, вы воспринимаете его таким же, каким его слышат окружающи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062451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41672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РЕЗОНАНС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резкое возрастание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ампл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туды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колебаний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,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 результат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овпадения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обственной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частоты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 частотой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ынуждающей си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6600" y="1628640"/>
            <a:ext cx="4025880" cy="4329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61128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Существует при вынужденных к</a:t>
            </a: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о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леб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ет и использование резонанса в быту и промышлен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Раскачивание тяжелого языка большого колокола при действии небольшой силы с частотой, равной собственной частоте язы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Сильное раскачивание железнодорожного вагона при случайном совпадении его собственной частоты колебаний на рессорах с частотой ударов колес на стыках рельс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Сильное раскачивание пароходов на волнах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9628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вление резонанса может приводить к крупным разрушениям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82736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906 год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оссия Санкт-Петербург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Мост через Фонтан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брушился от резонанс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ызванного отря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олдат, марширующи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тро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через канал Грибоедова"/>
          <p:cNvPicPr/>
          <p:nvPr/>
        </p:nvPicPr>
        <p:blipFill>
          <a:blip r:embed="rId1"/>
          <a:stretch/>
        </p:blipFill>
        <p:spPr>
          <a:xfrm>
            <a:off x="5435640" y="1557360"/>
            <a:ext cx="34066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вление резонанса может приводить к крупным разрушениям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40 году США мост Тэйкома обрушился от автоколебаний, вызванных ветром</a:t>
            </a:r>
            <a:br>
              <a:rPr sz="24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960560" y="2227320"/>
          <a:ext cx="479124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0560" y="2227320"/>
                    <a:ext cx="47912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137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8393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Знаменитый певец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Шаляпин мог запеть та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что лопались плафон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 люстра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Резонанс вызван совпадением частоты собственных колебаний стеклянного сосуда с частотой звука, но петь при этом необходимо  так же громко, как Шаляп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разбитый бокал"/>
          <p:cNvPicPr/>
          <p:nvPr/>
        </p:nvPicPr>
        <p:blipFill>
          <a:blip r:embed="rId1"/>
          <a:stretch/>
        </p:blipFill>
        <p:spPr>
          <a:xfrm>
            <a:off x="3059280" y="4890960"/>
            <a:ext cx="2304720" cy="15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шаляпин"/>
          <p:cNvPicPr/>
          <p:nvPr/>
        </p:nvPicPr>
        <p:blipFill>
          <a:blip r:embed="rId2"/>
          <a:stretch/>
        </p:blipFill>
        <p:spPr>
          <a:xfrm>
            <a:off x="6156360" y="115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31376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568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широко применяется в музыкальных инструментах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пустые полости в них имеют такой объем и форму, что усиливают извлекаемый звук, издаваемый струна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8" descr="ANd9GcTO2tiPJ-UPr_WSmQxHvo_6HRstS4u9cLqj2DZWsy_C82NXldOk"/>
          <p:cNvPicPr/>
          <p:nvPr/>
        </p:nvPicPr>
        <p:blipFill>
          <a:blip r:embed="rId1"/>
          <a:stretch/>
        </p:blipFill>
        <p:spPr>
          <a:xfrm>
            <a:off x="6300720" y="3333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kamerton2"/>
          <p:cNvPicPr/>
          <p:nvPr/>
        </p:nvPicPr>
        <p:blipFill>
          <a:blip r:embed="rId2"/>
          <a:stretch/>
        </p:blipFill>
        <p:spPr>
          <a:xfrm>
            <a:off x="6084720" y="4365720"/>
            <a:ext cx="2800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297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Аналогично, для усиления звука проектируются объем и форма внутренних помещений, в которых планируется петь или играть музык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zal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cena"/>
          <p:cNvPicPr/>
          <p:nvPr/>
        </p:nvPicPr>
        <p:blipFill>
          <a:blip r:embed="rId2"/>
          <a:stretch/>
        </p:blipFill>
        <p:spPr>
          <a:xfrm>
            <a:off x="4859280" y="4221000"/>
            <a:ext cx="374976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щик камертона, корпус музыкальных инструментов, трубы духовых инструментов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резона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усиливающие их звуч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062451[1]"/>
          <p:cNvPicPr/>
          <p:nvPr/>
        </p:nvPicPr>
        <p:blipFill>
          <a:blip r:embed="rId1"/>
          <a:stretch/>
        </p:blipFill>
        <p:spPr>
          <a:xfrm>
            <a:off x="2195640" y="2133720"/>
            <a:ext cx="42494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632160" y="5318280"/>
            <a:ext cx="795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Человек имеет собственный резонатор –</a:t>
            </a: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полость р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8:50:45Z</dcterms:created>
  <dc:creator>ShirokovaIB</dc:creator>
  <dc:description/>
  <dc:language>en-US</dc:language>
  <cp:lastModifiedBy>Ирина</cp:lastModifiedBy>
  <dcterms:modified xsi:type="dcterms:W3CDTF">2013-02-07T20:08:17Z</dcterms:modified>
  <cp:revision>18</cp:revision>
  <dc:subject/>
  <dc:title> РЕЗОНАНС</dc:title>
</cp:coreProperties>
</file>