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773-1651-4B16-9EA4-E89D56EF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E2E-FAD9-412A-ADDD-7E02CB5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7E0-643C-433D-87A6-6F64B799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5A7-4127-4B42-9AAA-18C92F42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35E9-8C94-4BE4-9B6A-BB58C5E5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0E86-BD81-4117-96CE-887DDD5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4728-848D-46F2-ADAE-6DFF52B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BCFC-8C02-4676-B15F-8F36A8A9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8D93-D6F3-4859-A989-425ACE1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3CFF-6004-461C-A34F-B9184F3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D2A1-5833-474A-991E-3A0FA24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01A-3673-49B0-A8B4-9052B88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19A5-6A83-4EA1-A93F-1A72721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AF2-8595-45DB-A0D8-00040E8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103-735F-4EF5-B2C2-E28B08D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45B-893D-4A6D-8174-034AA32A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15DF-00C2-468E-B1D7-A8019F01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C23-2F87-463A-A474-41702B4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C3B-6082-4498-BC1B-636772AF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D59-8239-4B04-AAA1-BF27583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73F-7621-463E-B441-98D17EA5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5DE-64F7-4893-A0DD-067C632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735-E7F0-4FC8-9B0F-530D666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271-FB15-4A6A-B50E-FE7D051E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1CAE-4471-4DD8-A9B2-E8CF4C6297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9F43-0ABA-4779-91E8-C912880C41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elpvika.jimdo.com/&#1087;&#1088;&#1072;&#1074;&#1080;&#1083;&#1100;&#1085;&#1086;&#1077;-&#1087;&#1080;&#1090;&#1072;&#1085;&#1080;&#1077;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равильное пит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63640" y="335736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 учен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-а класса Мельникова Тать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: Лобова Надежда Борис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модедово - 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4. Сезонность питания</a:t>
            </a: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и летом необходимо увеличивать количество растительной пищи. Зимой, напротив целесообразно добавлять в рацион питания продукты, богатые белками и жир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5. Ограничение в питании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веса всегда развивается на фоне энергетического дисбаланса, поэтому для снижения массы тела необходимо ограничивать энергетическую ценность рациона питания. Кроме того, переедание снижает работоспособность, вызывает устал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6. Определенное сочетание продукт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есть несовместимые блюда, и это обязательное правило. При неблагоприятных пищевых сочетаниях в кишечнике, активизируются процессы брожения и гниения пищи, и в организме происходит накопление шлаков и токсинов. Если принять во внимание тот факт, что около 90 процентов людей в возрасте свыше 40-ка лет страдают от вздутия живота, изжоги, горечи во рту, запоров и т.д., то всем им следует подумать об изменении характера пит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7. От пищи мы должны получать максимум удовольствия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жде всего, надо отказаться от спешки во время еды, от неприятных разговоров и от чт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так под итожим: правильное питание, как образ жизни – это разнообразная, свежая пища в умеренных количествах, съедаемая в удовольств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ramid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050920" y="26028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и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исок литерату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helpvika.jimdo.com/%D0%BF%D1%80%D0%B0%D0%B2%D0%B8%D0%BB%D1%8C%D0%BD%D0%BE%D0%B5-%D0%BF%D0%B8%D1%82%D0%B0%D0%BD%D0%B8%D0%B5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1. Правильное пит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2. Чего мы достигнем, питаясь правильно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3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Правильное питание и возраст</a:t>
            </a:r>
            <a:r>
              <a:rPr b="0" i="1" lang="ru-RU" sz="3200" spc="-1" strike="noStrike">
                <a:solidFill>
                  <a:srgbClr val="be796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4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О значении белков, жиров и углеводов.</a:t>
            </a: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5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Общие основы правильного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ильное пит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некоторых заболеваниях, связанных в основном с пищеварительной системой стоит питаться пять, шесть раз в день. Дневная норма еды распределяется таким образом: легкий завтрак, равный примерно трети всей дневной нормы; плотный обед и ужин, составляющий четверть дневной нормы. Большинство диетологов сходятся во мнении, что 4-х разовое питание – самый правильный выбор. Такая система правильного питания позволяет организму наиболее оптимально усваивать полезные вещества и витамин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 При этом блюда стоит подавать не горячее 50-ти градусов и не холоднее 10-ти градусов. Для хорошей усвояемости пищи, ее необходимо тщательно пережевывать. Беседы, телевизор, книги сильно отвлекают от правильного приема еды. Такое питание вредно и портит пищеварительную систему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нимайте еду по расписанию и не нарушайте его. Правильный и систематический прием пищи способствует профилактике работы желудочно-кишечного тракта. Питайтесь умеренно и пределах разумного, переедание приводит к накоплению жировой массы и вызывает множество разнообразных болезней, снижает активную работу иммунной систем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его мы достигнем, питаясь правильно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ректировав свой рацион, мы сможем уменьшить проявление хронических болезней, которыми болеем долгие годы. Так, например, снизив количество перца в ваших любимых блюдах, вы с легкостью позабудете об изжоге и гастри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Правильное питание и возраст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определенные ограничения, которые можно игнорировать в молодом возрасте и которые должны стать “библией” для людей старшего поколения. Молодому человеку со здоровой пищеварительной системой можно есть любые продукты. Я рекомендую, лишь знать меру и не налегать на какой-то один вид продукта. Людям старшего возраста не желательно есть сильно соленые блюда, чтобы не спровоцировать гипертонический криз. Людям старше 50-ти, особенно женщинам, нужно употреблять больше продуктов, содержащих кальций: это необходимая профилактика остеопороза (ломкости костей и частых переломов в старост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 значении белков, жиров и углевод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снове правильного питания лежит оптимальная пропорция белков, жиров и углеводов. Сколько их должно содержаться в еде для каждого человека, узнать не сложно. Все зависит от того, каким видом деятельности занимается человек. Люди умственного труда мало двигаются, но их мозг поглощает много энергии, поэтому в их рационе должно быть 100-110 грамм белка, 80-90 грамм жиров и 300-350 грамм углеводов в день. У людей, занятых физическим трудом больше энергии затрачивают мышцы, поэтому им необходимо 115-120 грамм белка, 80-90 грамм жиров и 400 грамм углеводов. Кроме этого каждый человек должен ежедневно получать витамины и клетчат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ым можно назвать рацион, в котором присутствуют мясо, рыба, молочные продукты, овощи и фрукты. Богатая углеводами пища хорошо утоляет голод (мучное, сладости), но пользы от такой пищи очень мало. Потребление сахара и мучных изделий лучше свести к минимуму. А если уж очень хочется сладкого, лучше съесть ложку меда, чем конфе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бщие основы правильного питания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1. Пища должна быть свежей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 При хранении неизбежно ухудшаются диетические качества. Приготовленную еду нельзя оставлять надолго. В ней начинают идти процессы брожения и гниения. Лучше кушать еду сразу после пригото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2. Правильное питание должно быть разнообразным и сбалансированным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вы питаетесь на рабочем месте, лучше заказывать доставку готовых обедов в офис. Это позволит вам поддерживать разнообразный и сбалансированный рацион. Чем больше разных продуктов включено в рацион, тем больше биологически активных веществ поступает в организ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3. В рационе должны присутствовать сырые овощи и фрукты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ырых плодах сконцентрирована живительная сила, в них сохраняется значительно больше витаминов и микроэлементов, чем в вареных. Сырые овощи и фрукты повышают скорость обменных процессов. Для людей с избыточным весом, флегматичным, склонным к депрессивным состояниям очень хорошо включать в рацион сырые овощи и фрукты, для повышения скорости обменных процессов. Людям же с повышенной возбудимостью лучше есть овощи и фрукты, приготовленные на пару или в духов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0:52:39Z</dcterms:created>
  <dc:creator>User</dc:creator>
  <dc:description/>
  <dc:language>en-US</dc:language>
  <cp:lastModifiedBy>DNA7 X86</cp:lastModifiedBy>
  <dcterms:modified xsi:type="dcterms:W3CDTF">2013-02-06T19:27:46Z</dcterms:modified>
  <cp:revision>6</cp:revision>
  <dc:subject/>
  <dc:title>Правильное питание</dc:title>
</cp:coreProperties>
</file>