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A98-00B4-4ABB-A366-E235643A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8F2-8213-4653-8447-3073F832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9CF-BF54-4BE7-909C-31A39F6D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993-E165-4527-A88D-1AD159A2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E6A5-CDAF-4206-883F-F9B7278C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80F6-AA06-4B38-9C4A-88E7E9C1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4A3E-5AFF-4219-9179-661CE9CE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D08B-4A48-47EB-8DF9-146ED6C2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BC79-7427-48DF-BF1B-1E536C48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76CC-899A-413D-8701-827A362A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CFD1-E003-47BE-BF34-CB032C7C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059-334C-41C0-80CF-16C9F8E3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6FD0-E0F5-46DF-B29B-A0AA48B4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DD73-0B9C-4246-B613-BAA89A51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5DA1-0256-4331-BE41-636982E6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0396-7215-46F9-A2AC-21C5A548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DD1F-942F-4C9A-9D9E-9D578F00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576-DA69-4F94-BE1B-2C65D48D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1DF-126C-4366-90E1-6CD3B948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3E5-B908-4132-B922-3233514A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475-D359-4C62-94B5-E159F7C7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226-B338-4052-B9D9-1176D0AB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55C-C610-4A83-B36D-61F25C87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658-0E90-4CFB-9AB2-6A46502D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64F4-B1B9-47FE-86DE-7D62C3FD68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BAFA-D55C-4364-9C2C-515248E52B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elpvika.jimdo.com/&#1087;&#1088;&#1072;&#1074;&#1080;&#1083;&#1100;&#1085;&#1086;&#1077;-&#1087;&#1080;&#1090;&#1072;&#1085;&#1080;&#1077;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равильное питани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63640" y="3357360"/>
            <a:ext cx="64008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выполнила учени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-а класса Мельникова Татья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: Лобова Надежда Борисо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модедово - 20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4. Сезонность питания</a:t>
            </a: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ной и летом необходимо увеличивать количество растительной пищи. Зимой, напротив целесообразно добавлять в рацион питания продукты, богатые белками и жир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5. Ограничение в питании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веса всегда развивается на фоне энергетического дисбаланса, поэтому для снижения массы тела необходимо ограничивать энергетическую ценность рациона питания. Кроме того, переедание снижает работоспособность, вызывает устал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6. Определенное сочетание продукто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льзя есть несовместимые блюда, и это обязательное правило. При неблагоприятных пищевых сочетаниях в кишечнике, активизируются процессы брожения и гниения пищи, и в организме происходит накопление шлаков и токсинов. Если принять во внимание тот факт, что около 90 процентов людей в возрасте свыше 40-ка лет страдают от вздутия живота, изжоги, горечи во рту, запоров и т.д., то всем им следует подумать об изменении характера пит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7. От пищи мы должны получать максимум удовольствия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жде всего, надо отказаться от спешки во время еды, от неприятных разговоров и от чт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так под итожим: правильное питание, как образ жизни – это разнообразная, свежая пища в умеренных количествах, съедаемая в удовольств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iramida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050920" y="26028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рило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исок литератур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helpvika.jimdo.com/%D0%BF%D1%80%D0%B0%D0%B2%D0%B8%D0%BB%D1%8C%D0%BD%D0%BE%D0%B5-%D0%BF%D0%B8%D1%82%D0%B0%D0%BD%D0%B8%D0%B5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1. Правильное пит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2. Чего мы достигнем, питаясь правильно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3. </a:t>
            </a:r>
            <a:r>
              <a:rPr b="1" i="1" lang="ru-RU" sz="3200" spc="-1" strike="noStrike">
                <a:solidFill>
                  <a:srgbClr val="be7960"/>
                </a:solidFill>
                <a:latin typeface="Tahoma"/>
              </a:rPr>
              <a:t>Правильное питание и возраст</a:t>
            </a:r>
            <a:r>
              <a:rPr b="0" i="1" lang="ru-RU" sz="3200" spc="-1" strike="noStrike">
                <a:solidFill>
                  <a:srgbClr val="be796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4. </a:t>
            </a:r>
            <a:r>
              <a:rPr b="1" i="1" lang="ru-RU" sz="3200" spc="-1" strike="noStrike">
                <a:solidFill>
                  <a:srgbClr val="be7960"/>
                </a:solidFill>
                <a:latin typeface="Tahoma"/>
              </a:rPr>
              <a:t>О значении белков, жиров и углеводов.</a:t>
            </a: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e7960"/>
                </a:solidFill>
                <a:latin typeface="Tahoma"/>
              </a:rPr>
              <a:t>5. </a:t>
            </a:r>
            <a:r>
              <a:rPr b="1" i="1" lang="ru-RU" sz="3200" spc="-1" strike="noStrike">
                <a:solidFill>
                  <a:srgbClr val="be7960"/>
                </a:solidFill>
                <a:latin typeface="Tahoma"/>
              </a:rPr>
              <a:t>Общие основы правильного 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ильное пит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авильное питание – определенные и постоянные часы приема еды. При этом пища распределяется в течение суток по количеству калорий, набору химических элементов содержащихся в еде. Кроме того, обязательно учитывается набор блюд и их количество. Зрелым и физически здоровым людям специалисты по правильному питанию рекомендуют кушать в течение суток три или четыре раз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 некоторых заболеваниях, связанных в основном с пищеварительной системой стоит питаться пять, шесть раз в день. Дневная норма еды распределяется таким образом: легкий завтрак, равный примерно трети всей дневной нормы; плотный обед и ужин, составляющий четверть дневной нормы. Большинство диетологов сходятся во мнении, что 4-х разовое питание – самый правильный выбор. Такая система правильного питания позволяет организму наиболее оптимально усваивать полезные вещества и витамины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спределение продуктов по часам приема очень сильно зависит от состава и энергетического потенциала. Например: продукты с высоким содержанием белка – мясо, рыба, бобовые стоит употреблять на завтрак или обед. Такие продукты повышают активность центральной нервной системы. Перед сном стоит кушать кисломолочные продукты, фрукты и овощи. Они не нагружают пищеварительные органы. Не стоит употреблять на ночь чай, кофе, острые приправы. Так вы можете активизировать нервную систему и нарушить сон. Излишнее количество еды или ее недостаток тоже ухудшают сон. Прием еды лучше всего стоит начинать с салатов или овощей. Так вы активизируете деятельность желудка и увеличите выделение желудочного сока. При этом блюда стоит подавать не горячее 50-ти градусов и не холоднее 10-ти градусов. Для хорошей усвояемости пищи, ее необходимо тщательно пережевывать. Беседы, телевизор, книги сильно отвлекают от правильного приема еды. Такое питание вредно и портит пищеварительную систему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нимайте еду по расписанию и не нарушайте его. Правильный и систематический прием пищи способствует профилактике работы желудочно-кишечного тракта. Питайтесь умеренно и пределах разумного, переедание приводит к накоплению жировой массы и вызывает множество разнообразных болезней, снижает активную работу иммунной систем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его мы достигнем, питаясь правильно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ректировав свой рацион, мы сможем уменьшить проявление хронических болезней, которыми болеем долгие годы. Так, например, снизив количество перца в ваших любимых блюдах, вы с легкостью позабудете об изжоге и гастрит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Правильное питание и возраст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уют определенные ограничения, которые можно игнорировать в молодом возрасте и которые должны стать “библией” для людей старшего поколения. Молодому человеку со здоровой пищеварительной системой можно есть любые продукты. Я рекомендую, лишь знать меру и не налегать на какой-то один вид продукта. Людям старшего возраста не желательно есть сильно соленые блюда, чтобы не спровоцировать гипертонический криз. Людям старше 50-ти, особенно женщинам, нужно употреблять больше продуктов, содержащих кальций: это необходимая профилактика остеопороза (ломкости костей и частых переломов в старост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О значении белков, жиров и углеводов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основе правильного питания лежит оптимальная пропорция белков, жиров и углеводов. Сколько их должно содержаться в еде для каждого человека, узнать не сложно. Все зависит от того, каким видом деятельности занимается человек. Люди умственного труда мало двигаются, но их мозг поглощает много энергии, поэтому в их рационе должно быть 100-110 грамм белка, 80-90 грамм жиров и 300-350 грамм углеводов в день. У людей, занятых физическим трудом больше энергии затрачивают мышцы, поэтому им необходимо 115-120 грамм белка, 80-90 грамм жиров и 400 грамм углеводов. Кроме этого каждый человек должен ежедневно получать витамины и клетчат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тимальным можно назвать рацион, в котором присутствуют мясо, рыба, молочные продукты, овощи и фрукты. Богатая углеводами пища хорошо утоляет голод (мучное, сладости), но пользы от такой пищи очень мало. Потребление сахара и мучных изделий лучше свести к минимуму. А если уж очень хочется сладкого, лучше съесть ложку меда, чем конфе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Общие основы правильного питания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1. Пища должна быть свежей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 При хранении неизбежно ухудшаются диетические качества. Приготовленную еду нельзя оставлять надолго. В ней начинают идти процессы брожения и гниения. Лучше кушать еду сразу после приготов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2. Правильное питание должно быть разнообразным и сбалансированным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вы питаетесь на рабочем месте, лучше заказывать доставку готовых обедов в офис. Это позволит вам поддерживать разнообразный и сбалансированный рацион. Чем больше разных продуктов включено в рацион, тем больше биологически активных веществ поступает в организ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3. В рационе должны присутствовать сырые овощи и фрукты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ырых плодах сконцентрирована живительная сила, в них сохраняется значительно больше витаминов и микроэлементов, чем в вареных. Сырые овощи и фрукты повышают скорость обменных процессов. Для людей с избыточным весом, флегматичным, склонным к депрессивным состояниям очень хорошо включать в рацион сырые овощи и фрукты, для повышения скорости обменных процессов. Людям же с повышенной возбудимостью лучше есть овощи и фрукты, приготовленные на пару или в духов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0:52:39Z</dcterms:created>
  <dc:creator>User</dc:creator>
  <dc:description/>
  <dc:language>en-US</dc:language>
  <cp:lastModifiedBy>DNA7 X86</cp:lastModifiedBy>
  <dcterms:modified xsi:type="dcterms:W3CDTF">2013-02-06T19:27:46Z</dcterms:modified>
  <cp:revision>6</cp:revision>
  <dc:subject/>
  <dc:title>Правильное питание</dc:title>
</cp:coreProperties>
</file>