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14.png" ContentType="image/png"/>
  <Override PartName="/ppt/media/image9.png" ContentType="image/png"/>
  <Override PartName="/ppt/media/image12.jpeg" ContentType="image/jpeg"/>
  <Override PartName="/ppt/media/image8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5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50D-C00B-484A-B714-B95AAD49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CB3-91AB-4BC6-81F0-D47A3D80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D9F-D26C-4C00-A000-FC3DF745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2A5-75A7-4697-B216-04886CBE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1281-B73B-4138-9DB8-C8D165BA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3D60-0B8F-4FBA-85BB-12F0EEBD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2F30-ECA1-4261-A737-964AC36C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57F3-91E3-4DA0-B933-DF4BEDC0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EC11-2BA9-42DC-BFD3-56ACC465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A5C0-148D-4AE0-94A5-845FF7E7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9671-7A3D-45BE-9353-DF7E4B35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708B-A03F-475A-A441-F3789BB5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9099-6DD4-454B-B656-EA888B62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063E-D343-484F-BDF3-3C75D47C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BE04-8AD0-4656-9E65-13A13C8E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7C73-4021-4919-A621-C13A6925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E557-9C98-42F6-AB5F-5CA6732B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6223F-C3DF-499A-A587-1021E85F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8F730-6DC5-4CF3-8C5C-FF4E7D11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1AFBF-9235-46B8-8FC8-DA31603C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88EC3-046C-41F3-A30D-6AAA0D3A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EC80D-9108-4255-88C0-7C991E1E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9D3-1D0E-43A0-883A-EBC85D9F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A3F06-3947-448F-9EB3-FC338804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75116-5B3F-4191-AB93-E97072EB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EB859-CFDE-40B0-9C0F-E495D81A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85172-6C6D-41B2-B803-BBDE84B4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0CE4-4F20-4F1B-A4BE-390F9C15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9D8C7-2C07-4A17-B5A3-8AD93E43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B7D21-ABEA-4A37-928D-E3755541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CFDE8-D4CE-425E-B8D6-3DC72FED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FC017-3579-4547-9B53-1E40147B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9F82F-D97F-4E94-886F-10CC6E04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178-B955-48F6-86E3-3463D1DB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D53AE-3DFD-49EE-82B7-25E8D995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22342-D4B5-4103-A30B-A8C996BA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E7FB-5725-406D-A00E-4C55ED10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94E2A-19E7-484F-B9D4-59121568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9DD75-EED6-4D2F-A79A-B707948D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45F7-C9FE-4C4C-8C22-D2F9A608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C8492-13E4-4312-BE74-C6C31EEC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02BFE-388B-4306-937F-1D993F60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C139-2AD7-4FA2-93AC-F5520E44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DBD27-E4F9-4EB3-8A9E-003E95C5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2C7-021D-4040-9B2A-E6B006FE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F1E8F-ED4B-4055-945B-D0C9FEAE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9B6CA-B6B0-4E8F-979B-CFFE372E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82782-5EE0-4BF1-929B-1C3C3C19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417C3-3E89-457A-A9FE-D68D4FB1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B4876-6981-4C6C-BCF4-3080471B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83725-21E1-4206-8FB7-E128CE1A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6222A-2C30-48CD-841B-716449A1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63C79-0647-4A20-977E-7B7AB826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C519C-67FD-4DD6-9505-8DB898B9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73ABD-F469-4C23-A4E5-F38EC526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444-F966-4092-8802-8659EE97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2956E-EFFD-4088-B388-E5B4055F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FC82C-7E67-48F7-86B9-C5614AA8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BF3C4-404A-4CC0-9CA3-29D73C7B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D57D6-DD02-4691-85A4-DEE0C310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F7E24-1BDD-4302-99F0-7054E0D9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3AFC1-893A-42AA-9FDC-A7334E91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B546E-0728-4C13-AAA8-0E1E8FE1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6F05F-EEB2-493E-A1F5-1A71F4A2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391CB-BA15-4D2E-8101-69553853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1C9CB-530E-491E-B0FE-7D1C34E4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0CF-0BA0-4D5C-809D-397D860A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724F2-7A97-49A9-BB70-B02801AA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A199F-7C64-44CB-BC3D-829801EE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3EC96-3064-4867-9D83-40C5CCF5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175-E1A3-4395-9724-F52F05DE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447-651E-4E94-9668-5D5B32F5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C1AF-9F00-4FBC-8133-D211928FD44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032B-EEFF-41CE-8079-9FD9E3CEABE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CA16-C066-4680-B8A0-E1E4FEEFDE1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4685-C280-4F30-8EBB-7C6A4CBD623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38F8-79D5-4E8F-A970-D7A3B475B11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6AD7-6703-4D79-BC91-2638E230348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3359160" y="1481040"/>
            <a:ext cx="5119560" cy="35974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643200" y="213840"/>
            <a:ext cx="5214960" cy="63579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Родительское собрание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по теме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У «Романовская СОШ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Шадринцева Ольга Викторов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3" descr="D:\мама\фото 3 - А\Снимок.JPG"/>
          <p:cNvPicPr/>
          <p:nvPr/>
        </p:nvPicPr>
        <p:blipFill>
          <a:blip r:embed="rId2"/>
          <a:stretch/>
        </p:blipFill>
        <p:spPr>
          <a:xfrm>
            <a:off x="285840" y="1143000"/>
            <a:ext cx="33606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-6480" y="2577960"/>
            <a:ext cx="3724560" cy="16401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85840" y="3642840"/>
            <a:ext cx="8572320" cy="27147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пагандировать здоровый образ   жиз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спитывать ответственное отношение к своему здоров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D:\мама\фото 3 - А\и.JPG"/>
          <p:cNvPicPr/>
          <p:nvPr/>
        </p:nvPicPr>
        <p:blipFill>
          <a:blip r:embed="rId2"/>
          <a:stretch/>
        </p:blipFill>
        <p:spPr>
          <a:xfrm>
            <a:off x="3643200" y="214200"/>
            <a:ext cx="52866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420840" y="853920"/>
            <a:ext cx="9094680" cy="47912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33080" y="3716280"/>
            <a:ext cx="3994200" cy="16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2" descr="D:\мама\фото 3 - А\Новая папка\P1060431.JPG"/>
          <p:cNvPicPr/>
          <p:nvPr/>
        </p:nvPicPr>
        <p:blipFill>
          <a:blip r:embed="rId2"/>
          <a:stretch/>
        </p:blipFill>
        <p:spPr>
          <a:xfrm>
            <a:off x="285840" y="285768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249120" y="353880"/>
            <a:ext cx="8613720" cy="1498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214200" y="2205000"/>
            <a:ext cx="8429760" cy="39607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родная мудрость гласит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«Деньги потерял – ничего не потерял. Время потерял – много потерял. Здоровье потерял – всё потерял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16"/>
          <p:cNvGrpSpPr/>
          <p:nvPr/>
        </p:nvGrpSpPr>
        <p:grpSpPr>
          <a:xfrm>
            <a:off x="6156360" y="2060640"/>
            <a:ext cx="2714400" cy="2142720"/>
            <a:chOff x="6156360" y="2060640"/>
            <a:chExt cx="2714400" cy="2142720"/>
          </a:xfrm>
        </p:grpSpPr>
        <p:sp>
          <p:nvSpPr>
            <p:cNvPr id="266" name="WordArt 17"/>
            <p:cNvSpPr txBox="1"/>
            <p:nvPr/>
          </p:nvSpPr>
          <p:spPr>
            <a:xfrm>
              <a:off x="6156360" y="2060640"/>
              <a:ext cx="2714400" cy="1074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5562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40186" dir="4303641" blurRad="0" rotWithShape="0">
                      <a:srgbClr val="ffffff"/>
                    </a:outerShdw>
                  </a:effectLst>
                  <a:latin typeface="Comic Sans MS"/>
                </a:rPr>
                <a:t>Запомни!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ffffff"/>
                  </a:outerShdw>
                </a:effectLst>
                <a:latin typeface="Comic Sans MS"/>
                <a:ea typeface="Comic Sans MS"/>
              </a:endParaRPr>
            </a:p>
          </p:txBody>
        </p:sp>
        <p:pic>
          <p:nvPicPr>
            <p:cNvPr id="267" name="Picture 18" descr="AN00790_"/>
            <p:cNvPicPr/>
            <p:nvPr/>
          </p:nvPicPr>
          <p:blipFill>
            <a:blip r:embed="rId2"/>
            <a:stretch/>
          </p:blipFill>
          <p:spPr>
            <a:xfrm>
              <a:off x="6156360" y="2133720"/>
              <a:ext cx="2339280" cy="206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378000" y="433440"/>
            <a:ext cx="8729640" cy="18525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33080" y="1773360"/>
            <a:ext cx="5924520" cy="4032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Здоровьесберегающие  образовательные технологии можно и нужно рассматривать  и как одну из  самых перспективных образовательных систем 21 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2" descr="D:\мама\фото 3 - А\Снимокт.JPG"/>
          <p:cNvPicPr/>
          <p:nvPr/>
        </p:nvPicPr>
        <p:blipFill>
          <a:blip r:embed="rId2"/>
          <a:stretch/>
        </p:blipFill>
        <p:spPr>
          <a:xfrm>
            <a:off x="6300720" y="1700280"/>
            <a:ext cx="257184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420840" y="328680"/>
            <a:ext cx="8369280" cy="1305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357440" y="1628640"/>
            <a:ext cx="4429080" cy="46087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обеспечить  учащимся в условиях комплексной информатизации образования возможность сохранения здоровья за период обучения в учреждении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2" descr="D:\мама\фото 3 - А\бб.JPG"/>
          <p:cNvPicPr/>
          <p:nvPr/>
        </p:nvPicPr>
        <p:blipFill>
          <a:blip r:embed="rId2"/>
          <a:stretch/>
        </p:blipFill>
        <p:spPr>
          <a:xfrm>
            <a:off x="428760" y="1785960"/>
            <a:ext cx="33573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D:\мама\фото 3 - А\ии.JPG"/>
          <p:cNvPicPr/>
          <p:nvPr/>
        </p:nvPicPr>
        <p:blipFill>
          <a:blip r:embed="rId1"/>
          <a:stretch/>
        </p:blipFill>
        <p:spPr>
          <a:xfrm>
            <a:off x="7358040" y="2714760"/>
            <a:ext cx="1617840" cy="3908160"/>
          </a:xfrm>
          <a:prstGeom prst="rect">
            <a:avLst/>
          </a:prstGeom>
          <a:ln w="0">
            <a:noFill/>
          </a:ln>
        </p:spPr>
      </p:pic>
      <p:pic>
        <p:nvPicPr>
          <p:cNvPr id="275" name="Заголовок 1" descr=""/>
          <p:cNvPicPr/>
          <p:nvPr/>
        </p:nvPicPr>
        <p:blipFill>
          <a:blip r:embed="rId2"/>
          <a:stretch/>
        </p:blipFill>
        <p:spPr>
          <a:xfrm>
            <a:off x="208080" y="189000"/>
            <a:ext cx="8680320" cy="12430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57120" y="1571760"/>
            <a:ext cx="8501040" cy="52862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Элементы движений (ходьба, бег, прыжк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изические упражнения (без предметов, с предметам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анцевальные упражнения (подготовительные  танцевальные упражнения, танец, музыкальное сопровожде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изкультминутки и подвижные переме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Эмоциональные разрядки и « минутки поко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имнастика ( оздоровительная гимнастика, пальчиковая, дыхательная, для бодрости, для профилактики простудных заболеван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Лечебная физкультура и подвижные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ассаж и самомассаж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сихогимнастика и тренин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585720"/>
            <a:ext cx="65358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5:32:27Z</dcterms:created>
  <dc:creator>Саня Мс</dc:creator>
  <dc:description/>
  <dc:language>en-US</dc:language>
  <cp:lastModifiedBy>александр</cp:lastModifiedBy>
  <dcterms:modified xsi:type="dcterms:W3CDTF">2011-02-27T12:38:24Z</dcterms:modified>
  <cp:revision>11</cp:revision>
  <dc:subject/>
  <dc:title>Школа  и  здоровье</dc:title>
</cp:coreProperties>
</file>