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5.png" ContentType="image/png"/>
  <Override PartName="/ppt/media/image14.png" ContentType="image/png"/>
  <Override PartName="/ppt/media/image9.png" ContentType="image/png"/>
  <Override PartName="/ppt/media/image12.jpeg" ContentType="image/jpeg"/>
  <Override PartName="/ppt/media/image8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5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5F0-C82E-4702-B0AA-BF1276B2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AFBC-179A-4539-9348-7C41865E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3A9B-A9F1-4DDC-A5DF-E1736A65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EC9B-A8DC-4039-9076-C0FF3B38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41C9-CF6B-4F60-ADFC-9A591E91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C9CA-B244-42FE-AF38-0F5E6D51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87A5-C110-4036-B46F-D209106B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846D-1974-4218-9520-4F5E2BB4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3EA3-F2E9-4C09-B986-809A0DBF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6EF5-1936-46E6-AFED-DB7154FD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25DE-DC8D-485F-A1F2-8F737E0E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EC85-8936-483C-A87B-8B87F7EA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C1DE-9D90-4995-8420-836F381E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421C-9DEF-44AF-B095-AB492840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7461-69B7-4F9B-8433-52F7ECA1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A9BF-59D9-4B8B-AE1D-F10CE1C4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DEF5-7C9D-4C80-83EA-13201DD3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00DFD-92E5-4173-AC8D-46A268EF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B4A83-86A3-4F07-8425-0BEACA8F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F5F15-F2F1-4983-9472-123D89C0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64E66-1448-43EC-9DD3-75DBCE00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18FA1-6995-41CB-A194-9692FCC9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4AB9-14BB-4F39-87B5-B75A2EE0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F7A36-4B6C-4470-8043-AAE442F7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270F5-1083-4D8B-B359-6F45BA95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54F35-496E-4AB2-9F2A-38E1830B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19B67-F494-443E-B425-507B5510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062DD-7AD4-4381-A546-F9159A73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89B07-0424-4D90-876B-C9B7CD67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FF6F-4203-490E-89BD-6C604348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435EB-19B8-41B3-B1E9-4585130C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404AE-A7E0-4D97-A33E-47C70547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6581E-3088-4DB6-9AAA-9E298A03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CCE-0C18-43EE-BE4C-752A323F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3532A-2F2E-440B-9E56-222DEF61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440CF-F2AD-4E8E-8034-CB86DECB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5F99A-6B7C-4335-A357-6AFD8211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55F76-9A78-4FB6-BC01-1E3C8F65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7C98C-24E0-4659-AB54-EC38D319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522CB-9C00-4AE6-8F7C-721848B5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B303D-C8CB-468B-AA20-2F05C813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3AE92-5211-4324-82DE-32C7A930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DC668-9DBC-4281-A4E3-9F4F22B9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00684-EF69-4A7A-8C79-ED99C498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DABB-E869-4DDB-85E7-506D5367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8402F-A8E0-4503-BFB5-E7AFAC7A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FEF50-0A33-460D-936F-5AA5CF7E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C4C0B-29AE-4978-8A52-6D18FD95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15B33-FFDD-4D8A-A546-55BA0708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9FBF9-32B0-4391-967E-A96BBC0F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4A8F1-BE32-49F7-A633-7EE57A6E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1844E-79E2-4881-BDE4-8B862645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C9AB1-8016-4FD3-923A-5C4760A2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D1B6C-E08F-4576-A094-3160C7F2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5B473-7C39-4AED-8D6E-B867BFBA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F18-6E77-43F2-89EA-0338FE55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90A59-642C-4E2F-9BFF-BB97727B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FD461-FA67-41BA-B537-10D53052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7EF71-2A6B-47D6-9A98-F6ABE706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586D6-45AD-4F51-AE70-5012EA45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86356-8F0D-4E5D-88E8-6042BD9F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31244-02CA-4A0D-BBD8-350DC5FC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9D89B-0453-46F1-9F54-296A48A2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7DF59-CDFC-4975-8C1A-15AA4834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1686B-1C09-4B1F-BDD2-6F8E668D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EDCBD-FE99-486B-92A8-EA3EA705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7C07-268B-46AA-9882-93A4E752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E4132-4C3A-49BB-AF3C-D6CEAAA2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C085B-84D8-4513-BD24-439CD370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B09C7-1421-4B08-9638-BAA39F8C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67A-5A3B-4987-ABB1-FA67CFF8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762D-A6A3-4185-AD47-B0C2A548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21AC-1D84-4237-9092-28E0235CBEF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77F1-7ABA-4155-BC82-5B2B212F0A0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3F93-D737-4E96-BAD6-0CEBD39AB18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6999-499F-4FCD-910B-0768CE67F22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A6F8-7C06-41DE-B882-CAC0B74BBCD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CA64-8EA4-4E2F-846A-7880D152B51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3359160" y="1481040"/>
            <a:ext cx="5119560" cy="35974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643200" y="213840"/>
            <a:ext cx="5214960" cy="63579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Родительское собрание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по теме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ОУ «Романовская СОШ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Шадринцева Ольга Викторов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3" descr="D:\мама\фото 3 - А\Снимок.JPG"/>
          <p:cNvPicPr/>
          <p:nvPr/>
        </p:nvPicPr>
        <p:blipFill>
          <a:blip r:embed="rId2"/>
          <a:stretch/>
        </p:blipFill>
        <p:spPr>
          <a:xfrm>
            <a:off x="285840" y="1143000"/>
            <a:ext cx="336060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-6480" y="2577960"/>
            <a:ext cx="3724560" cy="16401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85840" y="3642840"/>
            <a:ext cx="8572320" cy="27147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spcBef>
                <a:spcPts val="79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пагандировать здоровый образ   жиз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спитывать ответственное отношение к своему здоров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2" descr="D:\мама\фото 3 - А\и.JPG"/>
          <p:cNvPicPr/>
          <p:nvPr/>
        </p:nvPicPr>
        <p:blipFill>
          <a:blip r:embed="rId2"/>
          <a:stretch/>
        </p:blipFill>
        <p:spPr>
          <a:xfrm>
            <a:off x="3643200" y="214200"/>
            <a:ext cx="528660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420840" y="853920"/>
            <a:ext cx="9094680" cy="47912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33080" y="3716280"/>
            <a:ext cx="3994200" cy="16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2" descr="D:\мама\фото 3 - А\Новая папка\P1060431.JPG"/>
          <p:cNvPicPr/>
          <p:nvPr/>
        </p:nvPicPr>
        <p:blipFill>
          <a:blip r:embed="rId2"/>
          <a:stretch/>
        </p:blipFill>
        <p:spPr>
          <a:xfrm>
            <a:off x="285840" y="285768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249120" y="353880"/>
            <a:ext cx="8613720" cy="14986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214200" y="2205000"/>
            <a:ext cx="8429760" cy="39607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родная мудрость гласит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«Деньги потерял – ничего не потерял. Время потерял – много потерял. Здоровье потерял – всё потерял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16"/>
          <p:cNvGrpSpPr/>
          <p:nvPr/>
        </p:nvGrpSpPr>
        <p:grpSpPr>
          <a:xfrm>
            <a:off x="6156360" y="2060640"/>
            <a:ext cx="2714400" cy="2142720"/>
            <a:chOff x="6156360" y="2060640"/>
            <a:chExt cx="2714400" cy="2142720"/>
          </a:xfrm>
        </p:grpSpPr>
        <p:sp>
          <p:nvSpPr>
            <p:cNvPr id="266" name="WordArt 17"/>
            <p:cNvSpPr txBox="1"/>
            <p:nvPr/>
          </p:nvSpPr>
          <p:spPr>
            <a:xfrm>
              <a:off x="6156360" y="2060640"/>
              <a:ext cx="2714400" cy="1074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5562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40186" dir="4303641" blurRad="0" rotWithShape="0">
                      <a:srgbClr val="ffffff"/>
                    </a:outerShdw>
                  </a:effectLst>
                  <a:latin typeface="Comic Sans MS"/>
                </a:rPr>
                <a:t>Запомни!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ffffff"/>
                  </a:outerShdw>
                </a:effectLst>
                <a:latin typeface="Comic Sans MS"/>
                <a:ea typeface="Comic Sans MS"/>
              </a:endParaRPr>
            </a:p>
          </p:txBody>
        </p:sp>
        <p:pic>
          <p:nvPicPr>
            <p:cNvPr id="267" name="Picture 18" descr="AN00790_"/>
            <p:cNvPicPr/>
            <p:nvPr/>
          </p:nvPicPr>
          <p:blipFill>
            <a:blip r:embed="rId2"/>
            <a:stretch/>
          </p:blipFill>
          <p:spPr>
            <a:xfrm>
              <a:off x="6156360" y="2133720"/>
              <a:ext cx="2339280" cy="206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378000" y="433440"/>
            <a:ext cx="8729640" cy="18525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33080" y="1773360"/>
            <a:ext cx="5924520" cy="4032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Здоровьесберегающие  образовательные технологии можно и нужно рассматривать  и как одну из  самых перспективных образовательных систем 21 ве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2" descr="D:\мама\фото 3 - А\Снимокт.JPG"/>
          <p:cNvPicPr/>
          <p:nvPr/>
        </p:nvPicPr>
        <p:blipFill>
          <a:blip r:embed="rId2"/>
          <a:stretch/>
        </p:blipFill>
        <p:spPr>
          <a:xfrm>
            <a:off x="6300720" y="1700280"/>
            <a:ext cx="257184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420840" y="328680"/>
            <a:ext cx="8369280" cy="13050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357440" y="1628640"/>
            <a:ext cx="4429080" cy="46087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обеспечить  учащимся в условиях комплексной информатизации образования возможность сохранения здоровья за период обучения в учреждении обра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2" descr="D:\мама\фото 3 - А\бб.JPG"/>
          <p:cNvPicPr/>
          <p:nvPr/>
        </p:nvPicPr>
        <p:blipFill>
          <a:blip r:embed="rId2"/>
          <a:stretch/>
        </p:blipFill>
        <p:spPr>
          <a:xfrm>
            <a:off x="428760" y="1785960"/>
            <a:ext cx="33573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D:\мама\фото 3 - А\ии.JPG"/>
          <p:cNvPicPr/>
          <p:nvPr/>
        </p:nvPicPr>
        <p:blipFill>
          <a:blip r:embed="rId1"/>
          <a:stretch/>
        </p:blipFill>
        <p:spPr>
          <a:xfrm>
            <a:off x="7358040" y="2714760"/>
            <a:ext cx="1617840" cy="3908160"/>
          </a:xfrm>
          <a:prstGeom prst="rect">
            <a:avLst/>
          </a:prstGeom>
          <a:ln w="0">
            <a:noFill/>
          </a:ln>
        </p:spPr>
      </p:pic>
      <p:pic>
        <p:nvPicPr>
          <p:cNvPr id="275" name="Заголовок 1" descr=""/>
          <p:cNvPicPr/>
          <p:nvPr/>
        </p:nvPicPr>
        <p:blipFill>
          <a:blip r:embed="rId2"/>
          <a:stretch/>
        </p:blipFill>
        <p:spPr>
          <a:xfrm>
            <a:off x="208080" y="189000"/>
            <a:ext cx="8680320" cy="12430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357120" y="1571760"/>
            <a:ext cx="8501040" cy="52862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Элементы движений (ходьба, бег, прыжк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изические упражнения (без предметов, с предметам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Танцевальные упражнения (подготовительные  танцевальные упражнения, танец, музыкальное сопровожден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изкультминутки и подвижные переме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Эмоциональные разрядки и « минутки поко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имнастика ( оздоровительная гимнастика, пальчиковая, дыхательная, для бодрости, для профилактики простудных заболевани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Лечебная физкультура и подвижные иг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Массаж и самомассаж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сихогимнастика и тренин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Прямоугольник 1" descr=""/>
          <p:cNvPicPr/>
          <p:nvPr/>
        </p:nvPicPr>
        <p:blipFill>
          <a:blip r:embed="rId1"/>
          <a:stretch/>
        </p:blipFill>
        <p:spPr>
          <a:xfrm>
            <a:off x="1212840" y="585720"/>
            <a:ext cx="65358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5:32:27Z</dcterms:created>
  <dc:creator>Саня Мс</dc:creator>
  <dc:description/>
  <dc:language>en-US</dc:language>
  <cp:lastModifiedBy>александр</cp:lastModifiedBy>
  <dcterms:modified xsi:type="dcterms:W3CDTF">2011-02-27T12:38:24Z</dcterms:modified>
  <cp:revision>11</cp:revision>
  <dc:subject/>
  <dc:title>Школа  и  здоровье</dc:title>
</cp:coreProperties>
</file>