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82D-0DF0-4C83-9CC3-776ADC8C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EC3-A531-4A4D-B029-58FDF8A0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FB5-1F18-4E06-BF24-FC6A1A43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234-B14D-4B69-BA2A-B9B56A9D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B55-F272-48EF-B104-B71AA8A1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9FC-BD62-42ED-9826-01CB657E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56D-B419-4B18-B327-2F1E81DA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9DC-8A5C-40E1-85CC-E365104C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CD9-8386-4206-B193-54A1C1F7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ED3-09C4-4E56-A9D9-7F8A4E8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EA5-EA32-4556-9E71-35169241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E31-73EC-4E16-8ADB-5EBC0D1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368-4F85-483D-926C-50367F64A61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26A-32B4-47F6-89B6-40AD12BEEB7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0728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e0000"/>
                </a:solidFill>
                <a:latin typeface="Calibri"/>
              </a:rPr>
              <a:t>Родительское собрание</a:t>
            </a:r>
            <a:br>
              <a:rPr sz="3600"/>
            </a:br>
            <a:br>
              <a:rPr sz="3600"/>
            </a:br>
            <a:r>
              <a:rPr b="1" lang="ru-RU" sz="5400" spc="-1" strike="noStrike">
                <a:solidFill>
                  <a:srgbClr val="8e0000"/>
                </a:solidFill>
                <a:latin typeface="Calibri"/>
              </a:rPr>
              <a:t>«Застенчивый </a:t>
            </a:r>
            <a:br>
              <a:rPr sz="5400"/>
            </a:br>
            <a:r>
              <a:rPr b="1" lang="ru-RU" sz="5400" spc="-1" strike="noStrike">
                <a:solidFill>
                  <a:srgbClr val="8e0000"/>
                </a:solidFill>
                <a:latin typeface="Calibri"/>
              </a:rPr>
              <a:t>и тревожный ребёнок»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653000"/>
            <a:ext cx="69454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одготовила: Шадринцева О. В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учитель начальных классов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ОУ «Романовская СОШ»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ACB3-5728-4142-8AB1-6E06F7BC0F2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75B-E445-4849-883E-D74B49B95FD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45" name="Picture 7" descr="C:\Users\александр\Desktop\родит собр 2\1699628000a2ff9d9690eec006622b02c9e1541730.jpg"/>
          <p:cNvPicPr/>
          <p:nvPr/>
        </p:nvPicPr>
        <p:blipFill>
          <a:blip r:embed="rId1"/>
          <a:srcRect l="0" t="0" r="0" b="6195"/>
          <a:stretch/>
        </p:blipFill>
        <p:spPr>
          <a:xfrm>
            <a:off x="5796000" y="3789360"/>
            <a:ext cx="2747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:\Users\александр\Desktop\родит собр 2\82426_view.jpg"/>
          <p:cNvPicPr/>
          <p:nvPr/>
        </p:nvPicPr>
        <p:blipFill>
          <a:blip r:embed="rId1"/>
          <a:stretch/>
        </p:blipFill>
        <p:spPr>
          <a:xfrm>
            <a:off x="6516720" y="1700280"/>
            <a:ext cx="2012760" cy="1512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Рекомендации родителям застенчивых детей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изменение стиля семейного воспитания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(«…ребенок относится к себе так же, как относятся к нему родители» Луиза Хей )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              Основные задачи родителей: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- Развить у детей позитивное самовосприятие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Сформировать уверенность в себе и адекватную самооценку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Воспитать у ребенка чувство собственного достоинств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Все это в комплексе даст возможность состояться продуктивному общению с людьми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60E-A608-462A-B168-677D8002EC8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E4A-1BDC-4DA7-ACA5-A032D685F28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озитивное самовосприятие</a:t>
            </a:r>
            <a:br>
              <a:rPr sz="32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Не допускайте, чтобы ребенок говорил о себе плохо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Естественно, прежде всего сами не позволяйте говорить плохо о своем ребенке. Ребенок не должен быть таким, как все. Он должен быть самим собой. Помните, что ненависть к себе порождает утрату смысла жизн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BEF-61C2-48F1-9E24-22246534962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1F6-4120-47B6-B1BD-44E6745C9BF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7" name="Picture 1" descr="C:\Users\александр\Desktop\родит собр 2\img1.jpg"/>
          <p:cNvPicPr/>
          <p:nvPr/>
        </p:nvPicPr>
        <p:blipFill>
          <a:blip r:embed="rId1"/>
          <a:stretch/>
        </p:blipFill>
        <p:spPr>
          <a:xfrm>
            <a:off x="2411280" y="3284640"/>
            <a:ext cx="37674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5280" y="274320"/>
            <a:ext cx="469116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В. Леви, отечественный психотерапевт и психолог, советует, как себя полюбить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е сравнивать себя с другими, потому что каждый человек - индивидуальност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перестать себя оцениват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принимать себя как данность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DD9E-6E86-48A9-9501-C6D2311CBFD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977-AE26-4E9C-875B-2AD8CE125E1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2" name="Picture 2" descr="C:\Users\александр\Desktop\родит собр 2\t9676_1.jpg"/>
          <p:cNvPicPr/>
          <p:nvPr/>
        </p:nvPicPr>
        <p:blipFill>
          <a:blip r:embed="rId1"/>
          <a:stretch/>
        </p:blipFill>
        <p:spPr>
          <a:xfrm>
            <a:off x="900000" y="1268280"/>
            <a:ext cx="30243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Users\александр\Desktop\родит собр 2\devoir.jpg"/>
          <p:cNvPicPr/>
          <p:nvPr/>
        </p:nvPicPr>
        <p:blipFill>
          <a:blip r:embed="rId1"/>
          <a:stretch/>
        </p:blipFill>
        <p:spPr>
          <a:xfrm>
            <a:off x="5651640" y="3284640"/>
            <a:ext cx="3089160" cy="3089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6778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Самооценка и уверенность в себ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1. Повышение самооценки начинается с похвалы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Оценивать, хвалить можно только поступки и дела ребенка, а не его самого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2. Уверенность в себе вырабатывается за счет успеха. (Успех порождает успех, неудача - неудачу.) Ставьте перед ребенком задачи, которые он может реши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3. Изменяйте не ребенка, а его поведение. Поведение может быть неадекватным из-за отсутствия необходимых социальных навыков и высокого уровня тревожности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6A4-E5A3-4435-B2D8-36C7748012D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F9F6-57F4-45ED-A962-1187219259A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4. Понижайте тревожность всеми возможными способами. Например, ребенок комплексует из-за того, что у него криво растут зубы. Обратитесь к стоматологу, поставьте пластину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Хорошим помощником для снятия тревожности могут быть упражнения на расслабление - релаксация, медитац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5. Обучайте ребенка навыкам общения. Объясните ему, что для того, чтобы быть интересным для ровесников, нужно много читать, интересоваться явлениями и событиями и таким образом привлечь к себе внимани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6. Не позволяйте никому насмехаться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ад своим ребенк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AB38-6A3F-468F-B308-DEFDB820C61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C0A4-7AB9-4D9E-8995-A9B859F477F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0" name="Picture 2" descr="C:\Users\александр\Desktop\родит собр 2\400_F_4541190_rOtLy7i3VvokpDWPQ5Nv0YOcAV65e1RL.jpg"/>
          <p:cNvPicPr/>
          <p:nvPr/>
        </p:nvPicPr>
        <p:blipFill>
          <a:blip r:embed="rId1"/>
          <a:stretch/>
        </p:blipFill>
        <p:spPr>
          <a:xfrm>
            <a:off x="5616720" y="4508640"/>
            <a:ext cx="2912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Воспитание чувства собственного достоинства</a:t>
            </a:r>
            <a:br>
              <a:rPr sz="32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Внушите ребенку, что он не может обладать только негативными качествами (если ему так кажется). Обязательно в нем есть много хорошего. Задача родителей - найти сильные стороны личности своего ребенка и помочь ему самому их обнаружить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е воспитывайте детей пассивными и зависимыми от вас. Пусть они выражают несогласие с вами и вообще свое мнение. Конечно, послушные дети очень удобны, но "соглашатели" убивают собственную личност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076D-62AA-4A13-891E-97AA8291043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EA4-846C-4ADC-9563-294C8396C5D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4" name="Picture 1" descr="C:\Users\александр\Desktop\родит собр 2\family01.jpg"/>
          <p:cNvPicPr/>
          <p:nvPr/>
        </p:nvPicPr>
        <p:blipFill>
          <a:blip r:embed="rId1"/>
          <a:stretch/>
        </p:blipFill>
        <p:spPr>
          <a:xfrm>
            <a:off x="971640" y="4653000"/>
            <a:ext cx="2490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34544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Как можно раньше приучите детей к ответственности за свои поступки и принятию решен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аучите спокойно относиться к ошибкам, на которых учатся все и от которых никто не застрахова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Ребенок, преодолевший болезненную застенчивость, откроет для себя новый мир, почувствует вкус жизни и будет успешен и счастлив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9E8-11B1-474D-90AB-05236D4F57D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201-C3FA-4AA8-948A-B55768986AC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8" name="Picture 1" descr="C:\Users\александр\Desktop\родит собр 2\d0b8d0bdd182d0b5d0bbd0b5d0bad182-d180d0b5d0b1d0b5d0bdd0bad0b0-d0b3d0b8d0b1d0bdd0b5d182.jpeg"/>
          <p:cNvPicPr/>
          <p:nvPr/>
        </p:nvPicPr>
        <p:blipFill>
          <a:blip r:embed="rId1"/>
          <a:stretch/>
        </p:blipFill>
        <p:spPr>
          <a:xfrm>
            <a:off x="971640" y="4437000"/>
            <a:ext cx="1728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Пять советов, как помочь детям преодолеть застенчивость</a:t>
            </a:r>
            <a:br>
              <a:rPr sz="2800"/>
            </a:b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419280" y="1557000"/>
            <a:ext cx="5113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1.  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Поощряйте контакт взглядом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2.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Научите ребенка начинать и заканчивать разговор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3. Отрабатывайте поведение в тех или иных социальных ситуациях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4. Тренировка навыков общения с младшими детьми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5. Создавайте условия для игр в паре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4CCF-0589-49AF-A885-811A58C59C2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D09-4118-47F4-B40E-0C9820822B3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3" name="Picture 1" descr="C:\Users\александр\Desktop\родит собр 2\2006203.jpg"/>
          <p:cNvPicPr/>
          <p:nvPr/>
        </p:nvPicPr>
        <p:blipFill>
          <a:blip r:embed="rId1"/>
          <a:stretch/>
        </p:blipFill>
        <p:spPr>
          <a:xfrm>
            <a:off x="611280" y="1989000"/>
            <a:ext cx="2805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5113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Одна из основных причин застенчивости детей заключается в том, что их называют застенчивыми. Не позволяйте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никогда и никому 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азывать ребенка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застенчивым — 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и учителю, ни друзьям, ни родственникам, ни братьям и сестрам, ни незнакомым людям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91C-E3BB-41B1-BAA7-1EF296A544A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F63-4D0A-49E3-A1CB-CFCFC9A8DCD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7" name="Picture 2" descr="C:\Users\александр\Desktop\родит собр 2\1953397.jpg"/>
          <p:cNvPicPr/>
          <p:nvPr/>
        </p:nvPicPr>
        <p:blipFill>
          <a:blip r:embed="rId1"/>
          <a:stretch/>
        </p:blipFill>
        <p:spPr>
          <a:xfrm>
            <a:off x="684360" y="1125360"/>
            <a:ext cx="223200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94B-EBB8-4F86-B45D-3E394936EE8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B1C-7E4A-4039-B75D-DBD0AE7C5E6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5280" y="1328760"/>
            <a:ext cx="7802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5410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Робкие и застенчивые дети не ощущают всей полноты жизни. Они ограничивают свой опыт, не подвергая себя неизбежным социальным рискам, и в результате не чувствуют себя уверенными в различных ситуациях. Неспособность войти в компанию и завести новых друзей может преследовать их всю жизнь. 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Застенчивость   ни   в   коем   случае   не   относится   к "проблемному поведению", но поскольку это может стать препятствием в достижении социального успеха, она входит в число "38 типов проблемного поведения".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17D3-9EC1-4298-B536-E927A573348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CA3A-12DF-4915-9142-68D4347A48D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49" name="Picture 7" descr="C:\Users\александр\Desktop\родит собр 2\200016929-001_LR.jpg"/>
          <p:cNvPicPr/>
          <p:nvPr/>
        </p:nvPicPr>
        <p:blipFill>
          <a:blip r:embed="rId1"/>
          <a:stretch/>
        </p:blipFill>
        <p:spPr>
          <a:xfrm>
            <a:off x="5925960" y="1125360"/>
            <a:ext cx="26355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 школьников застенчивость сопровождается также и повышенной тревожностью, мнительностью, неуверенностью в себе, робостью. Некоторые полагают, что застенчивость в большей мере свойственна девочкам, но это далеко не так. На разных этапах возрастного развития 20-25% мальчиков страдают от застенчивости - приблизительно так же, как и девочки. 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7935-4876-44E4-8DCE-9BA9492B3DC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CB0B-FD67-4219-B5D0-7DE0E09F32D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3" name="Picture 1" descr="C:\Users\александр\Desktop\родит собр 2\69501.jpg"/>
          <p:cNvPicPr/>
          <p:nvPr/>
        </p:nvPicPr>
        <p:blipFill>
          <a:blip r:embed="rId1"/>
          <a:stretch/>
        </p:blipFill>
        <p:spPr>
          <a:xfrm>
            <a:off x="3276720" y="4149720"/>
            <a:ext cx="2608200" cy="179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александр\Desktop\родит собр 2\imagem7.jpg"/>
          <p:cNvPicPr/>
          <p:nvPr/>
        </p:nvPicPr>
        <p:blipFill>
          <a:blip r:embed="rId2"/>
          <a:stretch/>
        </p:blipFill>
        <p:spPr>
          <a:xfrm>
            <a:off x="6227640" y="38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александр\Desktop\родит собр 2\62614.jpg"/>
          <p:cNvPicPr/>
          <p:nvPr/>
        </p:nvPicPr>
        <p:blipFill>
          <a:blip r:embed="rId3"/>
          <a:stretch/>
        </p:blipFill>
        <p:spPr>
          <a:xfrm>
            <a:off x="900000" y="3500280"/>
            <a:ext cx="17416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Между тем они довольно часто обладают большими способностями, легко осваивают компьютерную технику, любят читать, рисовать, но одаренность и даже выраженные таланты блокированы комплексом неуверенности в себе, внутренним напряжением при общении со сверстниками, взрослыми. И как следствие - проигрывают менее способным, но более шустрым сверстникам. 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02C-B048-41C4-8E33-19796ABE9B9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234C-49E4-4746-B12B-C249BE59B13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9" name="Picture 1" descr="C:\Users\александр\Desktop\родит собр 2\36288-32782.jpg"/>
          <p:cNvPicPr/>
          <p:nvPr/>
        </p:nvPicPr>
        <p:blipFill>
          <a:blip r:embed="rId1"/>
          <a:stretch/>
        </p:blipFill>
        <p:spPr>
          <a:xfrm>
            <a:off x="755640" y="3645000"/>
            <a:ext cx="1947960" cy="249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александр\Desktop\родит собр 2\school-age-1.jpg"/>
          <p:cNvPicPr/>
          <p:nvPr/>
        </p:nvPicPr>
        <p:blipFill>
          <a:blip r:embed="rId2"/>
          <a:stretch/>
        </p:blipFill>
        <p:spPr>
          <a:xfrm>
            <a:off x="5435640" y="3933720"/>
            <a:ext cx="2968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:\Users\александр\Desktop\родит собр 2\69.jpg"/>
          <p:cNvPicPr/>
          <p:nvPr/>
        </p:nvPicPr>
        <p:blipFill>
          <a:blip r:embed="rId1"/>
          <a:stretch/>
        </p:blipFill>
        <p:spPr>
          <a:xfrm>
            <a:off x="6084720" y="4221000"/>
            <a:ext cx="2503800" cy="19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907560"/>
            <a:ext cx="72723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Чем чревата застенчивость?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- Ограничение контактов с людьми 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Конформизм - человек «наступает на горло собственной песне», не выражая своего мнения, он просто голосует за чужое, даже если оно ему чуждо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Застенчивость побуждает человека бесконечно заниматься самокопанием, самоедством и самообвинением. Известно, что самое страшное чувство - чувство вины. Застенчивый чаще всего "без вины виноватый"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 Застенчивость влечет за собой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еприятные переживания, развивает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тревожность, формирует страх и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комплекс неполноценности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3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D61B-1E7D-4EDD-9738-978152B3014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136A-FDA4-4CD0-B25E-ED0132A465F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Энергия растрачивается попусту: вместо того чтобы совершать поступки, личность занята переживаниями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акапливаются неотреагированные отрицательные эмоции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 Застенчивость мешает раскрытию личности и ее реализации.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В результате мало кто из застенчивых людей может достичь успеха в жизни. Ребенок боится незнакомых людей, школьного начальства, всевозможных контактов, необходимых в обществе. Пронеся по жизни свою застенчивость, будучи взрослым, он будет бояться начальства, общения с людьми, особенно с лицами противоположного пола, может быть, будет обречен на одиночеств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6FEE-DC29-42EF-AAC1-E137767B3A8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A255-0D78-461C-B3D4-655C17BC87F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                    </a:t>
            </a: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Симптомы застенчивости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- покраснение лица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- потливост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дрож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         - учащение сердцебиения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- стесненное дыхание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    - опущенные вниз глаза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- тихий голос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                    - скованность мышц и движений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278-EE3C-44D5-9E5F-C68AE1823A6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2EA-AE57-43FF-AE4E-FBB9C7BB899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1" name="Picture 1" descr="C:\Users\александр\Desktop\родит собр 2\неуверенный.jpg"/>
          <p:cNvPicPr/>
          <p:nvPr/>
        </p:nvPicPr>
        <p:blipFill>
          <a:blip r:embed="rId1"/>
          <a:stretch/>
        </p:blipFill>
        <p:spPr>
          <a:xfrm>
            <a:off x="755640" y="1341360"/>
            <a:ext cx="259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49672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Психологические особенности застенчивых людей можно свести в основном к следующему: смущение при контактах с людьми, высокая тревожность, страх, зависимость от мнения окружающих, безосновательное чувство вины - всё это на фоне неуверенности в себе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3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FBB7-EF7C-4DBE-9A1C-24494A6BA0A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AF9-C033-46AA-9515-2B1BA62B996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5" name="Picture 1" descr="C:\Users\александр\Desktop\родит собр 2\s1918_1216792389_1.jpg"/>
          <p:cNvPicPr/>
          <p:nvPr/>
        </p:nvPicPr>
        <p:blipFill>
          <a:blip r:embed="rId1"/>
          <a:stretch/>
        </p:blipFill>
        <p:spPr>
          <a:xfrm>
            <a:off x="5580000" y="191628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36007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ричины  застенчивости</a:t>
            </a:r>
            <a:br>
              <a:rPr sz="2400"/>
            </a:b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1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. Теория врожденной застенчивости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2. Теория бихевиоризма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3. Психоаналитическая теория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4. Концепция А. Адлера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5. Причинные факторы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- Природный фактор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- Социальный фактор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AB3-45DF-4E71-AB6A-97948405257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4BA-0D60-457C-89DC-9AA2434FEAD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9" name="Picture 1" descr="C:\Users\александр\Desktop\родит собр 2\800x1518660.jpg"/>
          <p:cNvPicPr/>
          <p:nvPr/>
        </p:nvPicPr>
        <p:blipFill>
          <a:blip r:embed="rId1"/>
          <a:stretch/>
        </p:blipFill>
        <p:spPr>
          <a:xfrm>
            <a:off x="4643280" y="2205000"/>
            <a:ext cx="3816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03:30Z</dcterms:created>
  <dc:creator>UZVER</dc:creator>
  <dc:description>http://aida.ucoz.ru</dc:description>
  <dc:language>en-US</dc:language>
  <cp:lastModifiedBy>александр</cp:lastModifiedBy>
  <dcterms:modified xsi:type="dcterms:W3CDTF">2010-12-09T17:59:03Z</dcterms:modified>
  <cp:revision>50</cp:revision>
  <dc:subject/>
  <dc:title>Проектирование модели внеурочной деятельности младших школьников </dc:title>
</cp:coreProperties>
</file>