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750-033B-420A-BB5A-561E020C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96A-B5CD-4548-A46A-07327CE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D84-5FDE-4C20-A959-A8250865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598-D267-433E-BF61-237CB309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DB0-D543-4B84-87AC-7AC92FC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9AD-D7FF-4D62-B24A-A3B6D84D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A08-AB67-4E86-901F-07C16351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6EA-11F4-40AD-B47C-36D88F58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9A0-0CE0-4F27-9079-B7499B49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E78-D4F8-4EF5-AE25-16DF766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6A2-F447-4611-B2F4-27B5FFB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62D-A255-458C-8EAA-E80E8BD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4B53-DCFD-407A-982A-75C3F844ADC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7144-11CE-4B5F-878D-96B0D253654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0728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e0000"/>
                </a:solidFill>
                <a:latin typeface="Calibri"/>
              </a:rPr>
              <a:t>Родительское собрание</a:t>
            </a:r>
            <a:br>
              <a:rPr sz="3600"/>
            </a:br>
            <a:br>
              <a:rPr sz="3600"/>
            </a:br>
            <a:r>
              <a:rPr b="1" lang="ru-RU" sz="5400" spc="-1" strike="noStrike">
                <a:solidFill>
                  <a:srgbClr val="8e0000"/>
                </a:solidFill>
                <a:latin typeface="Calibri"/>
              </a:rPr>
              <a:t>«Застенчивый </a:t>
            </a:r>
            <a:br>
              <a:rPr sz="5400"/>
            </a:br>
            <a:r>
              <a:rPr b="1" lang="ru-RU" sz="5400" spc="-1" strike="noStrike">
                <a:solidFill>
                  <a:srgbClr val="8e0000"/>
                </a:solidFill>
                <a:latin typeface="Calibri"/>
              </a:rPr>
              <a:t>и тревожный ребёнок»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653000"/>
            <a:ext cx="69454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Подготовила: Шадринцева О. В.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учитель начальных классов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0000"/>
                </a:solidFill>
                <a:latin typeface="Calibri"/>
              </a:rPr>
              <a:t>МОУ «Романовская СОШ»</a:t>
            </a: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0408-1583-4837-BDE8-91351A695A1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AFCF-38A4-495E-AB6F-301CF4E3222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45" name="Picture 7" descr="C:\Users\александр\Desktop\родит собр 2\1699628000a2ff9d9690eec006622b02c9e1541730.jpg"/>
          <p:cNvPicPr/>
          <p:nvPr/>
        </p:nvPicPr>
        <p:blipFill>
          <a:blip r:embed="rId1"/>
          <a:srcRect l="0" t="0" r="0" b="6195"/>
          <a:stretch/>
        </p:blipFill>
        <p:spPr>
          <a:xfrm>
            <a:off x="5796000" y="3789360"/>
            <a:ext cx="2747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:\Users\александр\Desktop\родит собр 2\82426_view.jpg"/>
          <p:cNvPicPr/>
          <p:nvPr/>
        </p:nvPicPr>
        <p:blipFill>
          <a:blip r:embed="rId1"/>
          <a:stretch/>
        </p:blipFill>
        <p:spPr>
          <a:xfrm>
            <a:off x="6516720" y="1700280"/>
            <a:ext cx="2012760" cy="1512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Рекомендации родителям застенчивых детей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изменение стиля семейного воспитания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(«…ребенок относится к себе так же, как относятся к нему родители» Луиза Хей )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              Основные задачи родителей: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- Развить у детей позитивное самовосприятие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Сформировать уверенность в себе и адекватную самооценку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Воспитать у ребенка чувство собственного достоинств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Все это в комплексе даст возможность состояться продуктивному общению с людьми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43E4-BAD2-4572-BC81-7DA7E14EE51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1D6B-DEB2-4452-9C1F-652952A0F29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Позитивное самовосприятие</a:t>
            </a:r>
            <a:br>
              <a:rPr sz="32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Не допускайте, чтобы ребенок говорил о себе плохо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Естественно, прежде всего сами не позволяйте говорить плохо о своем ребенке. Ребенок не должен быть таким, как все. Он должен быть самим собой. Помните, что ненависть к себе порождает утрату смысла жизн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1D4C-E0AF-447C-BA34-B243B8875DB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068-E891-4342-BCA4-5BACD2F190E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87" name="Picture 1" descr="C:\Users\александр\Desktop\родит собр 2\img1.jpg"/>
          <p:cNvPicPr/>
          <p:nvPr/>
        </p:nvPicPr>
        <p:blipFill>
          <a:blip r:embed="rId1"/>
          <a:stretch/>
        </p:blipFill>
        <p:spPr>
          <a:xfrm>
            <a:off x="2411280" y="3284640"/>
            <a:ext cx="37674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95280" y="274320"/>
            <a:ext cx="469116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В. Леви, отечественный психотерапевт и психолог, советует, как себя полюбить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е сравнивать себя с другими, потому что каждый человек - индивидуальност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перестать себя оцениват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принимать себя как данность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10E-9197-411F-A8BC-9CE37D4FADC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15EF-3A52-4A39-9ACA-F11866E4BB2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2" name="Picture 2" descr="C:\Users\александр\Desktop\родит собр 2\t9676_1.jpg"/>
          <p:cNvPicPr/>
          <p:nvPr/>
        </p:nvPicPr>
        <p:blipFill>
          <a:blip r:embed="rId1"/>
          <a:stretch/>
        </p:blipFill>
        <p:spPr>
          <a:xfrm>
            <a:off x="900000" y="1268280"/>
            <a:ext cx="30243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C:\Users\александр\Desktop\родит собр 2\devoir.jpg"/>
          <p:cNvPicPr/>
          <p:nvPr/>
        </p:nvPicPr>
        <p:blipFill>
          <a:blip r:embed="rId1"/>
          <a:stretch/>
        </p:blipFill>
        <p:spPr>
          <a:xfrm>
            <a:off x="5651640" y="3284640"/>
            <a:ext cx="3089160" cy="3089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67788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Самооценка и уверенность в себе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1. Повышение самооценки начинается с похвалы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Оценивать, хвалить можно только поступки и дела ребенка, а не его самого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2. Уверенность в себе вырабатывается за счет успеха. (Успех порождает успех, неудача - неудачу.) Ставьте перед ребенком задачи, которые он может решит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3. Изменяйте не ребенка, а его поведение. Поведение может быть неадекватным из-за отсутствия необходимых социальных навыков и высокого уровня тревожности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1F62-96F2-454A-AF04-9C51F50FDDF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DBC-0F43-498C-AE9F-8608F49131D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21844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4. Понижайте тревожность всеми возможными способами. Например, ребенок комплексует из-за того, что у него криво растут зубы. Обратитесь к стоматологу, поставьте пластину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Хорошим помощником для снятия тревожности могут быть упражнения на расслабление - релаксация, медитаци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5. Обучайте ребенка навыкам общения. Объясните ему, что для того, чтобы быть интересным для ровесников, нужно много читать, интересоваться явлениями и событиями и таким образом привлечь к себе внимани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6. Не позволяйте никому насмехаться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ад своим ребенк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59D3-697F-467F-92B9-185D0780014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76C9-D7B0-4D08-9AFE-68F966192B03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0" name="Picture 2" descr="C:\Users\александр\Desktop\родит собр 2\400_F_4541190_rOtLy7i3VvokpDWPQ5Nv0YOcAV65e1RL.jpg"/>
          <p:cNvPicPr/>
          <p:nvPr/>
        </p:nvPicPr>
        <p:blipFill>
          <a:blip r:embed="rId1"/>
          <a:stretch/>
        </p:blipFill>
        <p:spPr>
          <a:xfrm>
            <a:off x="5616720" y="4508640"/>
            <a:ext cx="29127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Воспитание чувства собственного достоинства</a:t>
            </a:r>
            <a:br>
              <a:rPr sz="32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Внушите ребенку, что он не может обладать только негативными качествами (если ему так кажется). Обязательно в нем есть много хорошего. Задача родителей - найти сильные стороны личности своего ребенка и помочь ему самому их обнаружить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е воспитывайте детей пассивными и зависимыми от вас. Пусть они выражают несогласие с вами и вообще свое мнение. Конечно, послушные дети очень удобны, но "соглашатели" убивают собственную личность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EDE-D135-4846-9463-2BAE059AF3D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575F-6A76-48A3-A894-F51C9F3CAF7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4" name="Picture 1" descr="C:\Users\александр\Desktop\родит собр 2\family01.jpg"/>
          <p:cNvPicPr/>
          <p:nvPr/>
        </p:nvPicPr>
        <p:blipFill>
          <a:blip r:embed="rId1"/>
          <a:stretch/>
        </p:blipFill>
        <p:spPr>
          <a:xfrm>
            <a:off x="971640" y="4653000"/>
            <a:ext cx="2490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34544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Как можно раньше приучите детей к ответственности за свои поступки и принятию решени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аучите спокойно относиться к ошибкам, на которых учатся все и от которых никто не застрахова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Ребенок, преодолевший болезненную застенчивость, откроет для себя новый мир, почувствует вкус жизни и будет успешен и счастлив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0B74-0775-4F51-A3BC-6EF57B9C5DC6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A9B9-7617-4C7C-8211-664FE2F742A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08" name="Picture 1" descr="C:\Users\александр\Desktop\родит собр 2\d0b8d0bdd182d0b5d0bbd0b5d0bad182-d180d0b5d0b1d0b5d0bdd0bad0b0-d0b3d0b8d0b1d0bdd0b5d182.jpeg"/>
          <p:cNvPicPr/>
          <p:nvPr/>
        </p:nvPicPr>
        <p:blipFill>
          <a:blip r:embed="rId1"/>
          <a:stretch/>
        </p:blipFill>
        <p:spPr>
          <a:xfrm>
            <a:off x="971640" y="4437000"/>
            <a:ext cx="1728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e0000"/>
                </a:solidFill>
                <a:latin typeface="Calibri"/>
              </a:rPr>
              <a:t>Пять советов, как помочь детям преодолеть застенчивость</a:t>
            </a:r>
            <a:br>
              <a:rPr sz="2800"/>
            </a:br>
            <a:endParaRPr b="0" lang="en-US" sz="2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419280" y="1557000"/>
            <a:ext cx="5113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1.  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Поощряйте контакт взглядом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2.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Научите ребенка начинать и заканчивать разговор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3. Отрабатывайте поведение в тех или иных социальных ситуациях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4. Тренировка навыков общения с младшими детьми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5. Создавайте условия для игр в паре.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F233-63A6-4D58-A9BE-C6380EE0C92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A72-5600-478B-A273-A5D71BF167E6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3" name="Picture 1" descr="C:\Users\александр\Desktop\родит собр 2\2006203.jpg"/>
          <p:cNvPicPr/>
          <p:nvPr/>
        </p:nvPicPr>
        <p:blipFill>
          <a:blip r:embed="rId1"/>
          <a:stretch/>
        </p:blipFill>
        <p:spPr>
          <a:xfrm>
            <a:off x="611280" y="1989000"/>
            <a:ext cx="2805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5113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Одна из основных причин застенчивости детей заключается в том, что их называют застенчивыми. Не позволяйте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никогда и никому 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азывать ребенка 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застенчивым — 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и учителю, ни друзьям, ни родственникам, ни братьям и сестрам, ни незнакомым людям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0557-7748-479B-8B33-474ACB6EA7F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C997-57D4-46A8-9F2D-F936BE87556D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17" name="Picture 2" descr="C:\Users\александр\Desktop\родит собр 2\1953397.jpg"/>
          <p:cNvPicPr/>
          <p:nvPr/>
        </p:nvPicPr>
        <p:blipFill>
          <a:blip r:embed="rId1"/>
          <a:stretch/>
        </p:blipFill>
        <p:spPr>
          <a:xfrm>
            <a:off x="684360" y="1125360"/>
            <a:ext cx="223200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46C7-C617-4B90-AAA4-8E40AE1BF8F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660-0DAB-4445-8955-3458A587691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5280" y="1328760"/>
            <a:ext cx="78022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5410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Робкие и застенчивые дети не ощущают всей полноты жизни. Они ограничивают свой опыт, не подвергая себя неизбежным социальным рискам, и в результате не чувствуют себя уверенными в различных ситуациях. Неспособность войти в компанию и завести новых друзей может преследовать их всю жизнь. 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Застенчивость   ни   в   коем   случае   не   относится   к "проблемному поведению", но поскольку это может стать препятствием в достижении социального успеха, она входит в число "38 типов проблемного поведения".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502B-8074-4B47-97D7-AD68F5AE773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6B91-B2FF-472D-ADA4-3236BA9A0F2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49" name="Picture 7" descr="C:\Users\александр\Desktop\родит собр 2\200016929-001_LR.jpg"/>
          <p:cNvPicPr/>
          <p:nvPr/>
        </p:nvPicPr>
        <p:blipFill>
          <a:blip r:embed="rId1"/>
          <a:stretch/>
        </p:blipFill>
        <p:spPr>
          <a:xfrm>
            <a:off x="5925960" y="1125360"/>
            <a:ext cx="26355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У школьников застенчивость сопровождается также и повышенной тревожностью, мнительностью, неуверенностью в себе, робостью. Некоторые полагают, что застенчивость в большей мере свойственна девочкам, но это далеко не так. На разных этапах возрастного развития 20-25% мальчиков страдают от застенчивости - приблизительно так же, как и девочки. 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DA5B-C3E8-4236-8DEF-6C67BE75E5F2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B2D-7423-4A16-AE46-C66992B4F6A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3" name="Picture 1" descr="C:\Users\александр\Desktop\родит собр 2\69501.jpg"/>
          <p:cNvPicPr/>
          <p:nvPr/>
        </p:nvPicPr>
        <p:blipFill>
          <a:blip r:embed="rId1"/>
          <a:stretch/>
        </p:blipFill>
        <p:spPr>
          <a:xfrm>
            <a:off x="3276720" y="4149720"/>
            <a:ext cx="2608200" cy="179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александр\Desktop\родит собр 2\imagem7.jpg"/>
          <p:cNvPicPr/>
          <p:nvPr/>
        </p:nvPicPr>
        <p:blipFill>
          <a:blip r:embed="rId2"/>
          <a:stretch/>
        </p:blipFill>
        <p:spPr>
          <a:xfrm>
            <a:off x="6227640" y="386064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александр\Desktop\родит собр 2\62614.jpg"/>
          <p:cNvPicPr/>
          <p:nvPr/>
        </p:nvPicPr>
        <p:blipFill>
          <a:blip r:embed="rId3"/>
          <a:stretch/>
        </p:blipFill>
        <p:spPr>
          <a:xfrm>
            <a:off x="900000" y="3500280"/>
            <a:ext cx="17416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Между тем они довольно часто обладают большими способностями, легко осваивают компьютерную технику, любят читать, рисовать, но одаренность и даже выраженные таланты блокированы комплексом неуверенности в себе, внутренним напряжением при общении со сверстниками, взрослыми. И как следствие - проигрывают менее способным, но более шустрым сверстникам. 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842-81DF-48A8-9F0D-529535C382B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A58-DCF7-48A6-8C6E-CF4B4084850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59" name="Picture 1" descr="C:\Users\александр\Desktop\родит собр 2\36288-32782.jpg"/>
          <p:cNvPicPr/>
          <p:nvPr/>
        </p:nvPicPr>
        <p:blipFill>
          <a:blip r:embed="rId1"/>
          <a:stretch/>
        </p:blipFill>
        <p:spPr>
          <a:xfrm>
            <a:off x="755640" y="3645000"/>
            <a:ext cx="1947960" cy="249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александр\Desktop\родит собр 2\school-age-1.jpg"/>
          <p:cNvPicPr/>
          <p:nvPr/>
        </p:nvPicPr>
        <p:blipFill>
          <a:blip r:embed="rId2"/>
          <a:stretch/>
        </p:blipFill>
        <p:spPr>
          <a:xfrm>
            <a:off x="5435640" y="3933720"/>
            <a:ext cx="2968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C:\Users\александр\Desktop\родит собр 2\69.jpg"/>
          <p:cNvPicPr/>
          <p:nvPr/>
        </p:nvPicPr>
        <p:blipFill>
          <a:blip r:embed="rId1"/>
          <a:stretch/>
        </p:blipFill>
        <p:spPr>
          <a:xfrm>
            <a:off x="6084720" y="4221000"/>
            <a:ext cx="2503800" cy="199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907560"/>
            <a:ext cx="727236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Чем чревата застенчивость?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- Ограничение контактов с людьми 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Конформизм - человек «наступает на горло собственной песне», не выражая своего мнения, он просто голосует за чужое, даже если оно ему чуждо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Застенчивость побуждает человека бесконечно заниматься самокопанием, самоедством и самообвинением. Известно, что самое страшное чувство - чувство вины. Застенчивый чаще всего "без вины виноватый"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 Застенчивость влечет за собой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неприятные переживания, развивает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тревожность, формирует страх и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комплекс неполноценности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3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DC66-D8D1-4062-AEA9-3544510A4C51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E565-6DF5-4918-A84A-7F0517113C3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Энергия растрачивается попусту: вместо того чтобы совершать поступки, личность занята переживаниями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Накапливаются неотреагированные отрицательные эмоции.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 Застенчивость мешает раскрытию личности и ее реализации. 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</a:t>
            </a:r>
            <a:r>
              <a:rPr b="0" i="1" lang="ru-RU" sz="2400" spc="-1" strike="noStrike">
                <a:solidFill>
                  <a:srgbClr val="8e0000"/>
                </a:solidFill>
                <a:latin typeface="Calibri"/>
              </a:rPr>
              <a:t>В результате мало кто из застенчивых людей может достичь успеха в жизни. Ребенок боится незнакомых людей, школьного начальства, всевозможных контактов, необходимых в обществе. Пронеся по жизни свою застенчивость, будучи взрослым, он будет бояться начальства, общения с людьми, особенно с лицами противоположного пола, может быть, будет обречен на одиночеств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6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0EEA-3DBF-46E4-AF5F-86BB45826D5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0D5-C97C-4570-ABD3-FA35B74E81E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                    </a:t>
            </a: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Симптомы застенчивости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- покраснение лица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- потливост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- дрожь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         - учащение сердцебиения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- стесненное дыхание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    - опущенные вниз глаза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- тихий голос;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                                       - скованность мышц и движений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9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B297-E304-4885-96F5-9ABF7826915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A3BF-F677-48BF-BBD8-C57CC26A4AF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1" name="Picture 1" descr="C:\Users\александр\Desktop\родит собр 2\неуверенный.jpg"/>
          <p:cNvPicPr/>
          <p:nvPr/>
        </p:nvPicPr>
        <p:blipFill>
          <a:blip r:embed="rId1"/>
          <a:stretch/>
        </p:blipFill>
        <p:spPr>
          <a:xfrm>
            <a:off x="755640" y="1341360"/>
            <a:ext cx="259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49672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Психологические особенности застенчивых людей можно свести в основном к следующему: смущение при контактах с людьми, высокая тревожность, страх, зависимость от мнения окружающих, безосновательное чувство вины - всё это на фоне неуверенности в себе.</a:t>
            </a:r>
            <a:br>
              <a:rPr sz="2400"/>
            </a:b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3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978-99F0-4A3B-A281-F22883FB454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7288-1638-4FD1-A86E-9A04509FB95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5" name="Picture 1" descr="C:\Users\александр\Desktop\родит собр 2\s1918_1216792389_1.jpg"/>
          <p:cNvPicPr/>
          <p:nvPr/>
        </p:nvPicPr>
        <p:blipFill>
          <a:blip r:embed="rId1"/>
          <a:stretch/>
        </p:blipFill>
        <p:spPr>
          <a:xfrm>
            <a:off x="5580000" y="191628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36007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Причины  застенчивости</a:t>
            </a:r>
            <a:br>
              <a:rPr sz="2400"/>
            </a:br>
            <a:r>
              <a:rPr b="1" lang="ru-RU" sz="2400" spc="-1" strike="noStrike">
                <a:solidFill>
                  <a:srgbClr val="8e0000"/>
                </a:solidFill>
                <a:latin typeface="Calibri"/>
              </a:rPr>
              <a:t> 1</a:t>
            </a: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. Теория врожденной застенчивости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2. Теория бихевиоризма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3. Психоаналитическая теория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4. Концепция А. Адлера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5. Причинные факторы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- Природный фактор</a:t>
            </a:r>
            <a:br>
              <a:rPr sz="2400"/>
            </a:br>
            <a:r>
              <a:rPr b="0" lang="ru-RU" sz="2400" spc="-1" strike="noStrike">
                <a:solidFill>
                  <a:srgbClr val="8e0000"/>
                </a:solidFill>
                <a:latin typeface="Calibri"/>
              </a:rPr>
              <a:t>        - Социальный фактор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74F9-9691-4D7F-962F-987669031EE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0E6E-0291-4087-AF1E-37F16B5A3B7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9" name="Picture 1" descr="C:\Users\александр\Desktop\родит собр 2\800x1518660.jpg"/>
          <p:cNvPicPr/>
          <p:nvPr/>
        </p:nvPicPr>
        <p:blipFill>
          <a:blip r:embed="rId1"/>
          <a:stretch/>
        </p:blipFill>
        <p:spPr>
          <a:xfrm>
            <a:off x="4643280" y="2205000"/>
            <a:ext cx="3816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03:30Z</dcterms:created>
  <dc:creator>UZVER</dc:creator>
  <dc:description>http://aida.ucoz.ru</dc:description>
  <dc:language>en-US</dc:language>
  <cp:lastModifiedBy>александр</cp:lastModifiedBy>
  <dcterms:modified xsi:type="dcterms:W3CDTF">2010-12-09T17:59:03Z</dcterms:modified>
  <cp:revision>50</cp:revision>
  <dc:subject/>
  <dc:title>Проектирование модели внеурочной деятельности младших школьников </dc:title>
</cp:coreProperties>
</file>