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625-3C10-4BC9-9910-CF1E3B54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68A-A2C5-4D88-AD1E-C06444F4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65E-31F0-4EBE-8EB7-CC3C41FC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2F2-5DED-4139-8613-08F84F3C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7C46-4F3A-4D85-9718-619B2E0A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A7A4-CDA6-47EB-B073-DB0498B9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BE9B-3D1F-48AE-811D-4D95F602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6FD3-DD37-4279-BCBC-8AF4D4F3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F140-2651-4B1C-913F-917E7839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D804-5CBB-40AA-87A8-05C92B4E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CD89-6CBB-468D-9392-77D46317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1D5-B795-457C-9989-739C0DA2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9ED9-0FFA-44FB-BAF6-70807F5D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6ECC-9F6C-4E15-9AB1-63919D6F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B921-7950-4051-B45D-EAC85106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421C-B688-440E-BD72-7DD9EB8A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B1B7-C4FF-4351-8A42-FBBAAFB5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FF58-EA61-4ABC-A4EB-AF3B935F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F4CB-B3F3-4B46-881B-D59058B7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92CF-F880-4F6F-9ADA-31B58432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3FFD-BD55-44CB-89B4-B1409937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A79EF-33DA-41C6-A3B0-1281DFE3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375-DDD5-43A9-8048-BF7B4C26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D53E8-4E94-4147-B894-83E86B58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2A56-7390-46FB-AF40-5BFB0260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6084-8AAB-4907-B6FA-E43F3447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533E6-DF59-4FD1-B6E6-AAACC788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4B6E-5F20-4538-B539-E7250A9E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8227-5338-49DA-B922-A63347AF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1A42-3855-449F-9FC5-00E3A01D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E9A7-7D47-4146-BF8A-0D35E959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9066-996F-474C-821C-41A366AB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6D2AE-ED6E-4817-833E-F16CBF4C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E6D-B58F-49CB-B1EB-E41293B0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4594-BC39-419D-8427-6D823209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0CD5-DB07-4580-8477-35C23A81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00A85-EE1E-4E22-BCA6-9D76A91F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AC92-D704-4DCA-9D50-C1366315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95EB-BF08-43E0-A400-59540240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609D-2C1F-44F9-93B0-7AEBF80F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2C347-2ECF-4CB1-8A30-714CAEC2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CF25A-C2EE-422E-B6C5-034E4C73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1AFE1-B3D4-4E02-8478-7077DB56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1039-B5F2-447A-BB29-5D7A1D99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114-E8C3-4DAA-A7CD-EC7978F4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0C281-8985-42A8-8BB0-99D05EF5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18E9-01BC-42A5-9FA0-E1EC466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02C47-B1A6-4379-AFD1-F6A4F552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7ACAF-9847-42E3-ACB8-92F5D3B4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2FBBA-A231-40A7-A7C7-AE1BD15E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72ADE-C3AA-4CC7-B852-904F13B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65DD-3ED8-414B-A152-077E3FE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E0DAE-C0E8-46B9-9D82-9E515A56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5E649-F053-4F18-9EA1-047F38FE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5C4B0-E4C1-4BB6-B2A9-595B1AFA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D6D-3A54-495D-ACA2-BDBC0A63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90667-2A7C-4000-ACFB-51308690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641-DC2E-4048-8D4C-FBDFD647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35A-2021-4488-9C2C-80D1DDC6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B1B-1AF5-43F0-BBE7-9E303AF7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C5A1-E502-40E1-8ECB-D9FF77ECC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20CE-845C-4431-85EB-D18A6B3679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7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D231-D0AB-44FC-9DFC-E4EA4D9853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A0AE-55A9-4D12-8EFC-63C7FD3CA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7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0A2D-3993-408F-B0E4-8F2FD9D784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А счастье было так возможно»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6" descr="Обложка"/>
          <p:cNvPicPr/>
          <p:nvPr/>
        </p:nvPicPr>
        <p:blipFill>
          <a:blip r:embed="rId1"/>
          <a:stretch/>
        </p:blipFill>
        <p:spPr>
          <a:xfrm>
            <a:off x="3341520" y="1773360"/>
            <a:ext cx="2314800" cy="33192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5229000"/>
            <a:ext cx="829152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роману А. С. Пушкина «Евгений Онегин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-преподаватель словесности ГБОУ СОШ № 353 им. А. С. Пушкина г. Москвы Андреева Алла Юр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Онегин как дитя влюблен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ак вы думаете, почему Онегин пренебрег любовью Татьяны тогда, в деревне, а влюбился сейчас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Кто изменился или что изменилос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Или все же вкусы Онегина остались прежними, и Татьяна сейчас соответствует его запроса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Picture 4" descr="Встреча с Татьяной"/>
          <p:cNvPicPr/>
          <p:nvPr/>
        </p:nvPicPr>
        <p:blipFill>
          <a:blip r:embed="rId1"/>
          <a:stretch/>
        </p:blipFill>
        <p:spPr>
          <a:xfrm>
            <a:off x="4648320" y="2284560"/>
            <a:ext cx="40384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любленный Онегин. Какие изменения в его характере наблюдаете в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410652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оходил он на поэта,                                                      Когда в углу сидел один,                                                          И перед ним пылал камин,                                                        И он мурлыкал: Веnеdеttа                                                      Иль Idol mio и ронял                                                                 В огонь то туфлю, то журна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Как походил он на поэта"/>
          <p:cNvPicPr/>
          <p:nvPr/>
        </p:nvPicPr>
        <p:blipFill>
          <a:blip r:embed="rId1"/>
          <a:stretch/>
        </p:blipFill>
        <p:spPr>
          <a:xfrm>
            <a:off x="2627280" y="1989000"/>
            <a:ext cx="3643200" cy="1987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н так привык теряться в этом, Что чуть с ума не свороти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колько писем написала Татьяна Евгению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Сколько писем написал Онегин Татьян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вета нет.                                             Он вновь посланье:                         Второму, третьему письму               Ответа н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Хорошо ли понимает он свою возлюбленную?  Перечитайте строки его письм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кому злобному веселью,          Быть может, повод подаю!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Это ли испытывала Татьяна, видя мучения Онегина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7" descr="Как походил он на поэта"/>
          <p:cNvPicPr/>
          <p:nvPr/>
        </p:nvPicPr>
        <p:blipFill>
          <a:blip r:embed="rId1"/>
          <a:stretch/>
        </p:blipFill>
        <p:spPr>
          <a:xfrm>
            <a:off x="4762440" y="2998800"/>
            <a:ext cx="38102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Я плачу... если вашей Тани Вы не забыли»…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537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мне, Онегин, пышность эта, Постылой жизни мишура,            Мои успехи в вихре света,      Мой модный дом и вечера,       Что в них? Сейчас отдать я рада                                       Всю эту ветошь маскарада,          Весь этот блеск, и шум, и чад    За полку книг, за дикий сад,       За наше бедное жилище,            За те места, где в первый раз, Онегин, видела я вас,                  Да за смиренное кладбище,           Где нынче крест и тень ветвей Над бедной нянею моей..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7" descr="Я всё отдать бы рада за полку книг"/>
          <p:cNvPicPr/>
          <p:nvPr/>
        </p:nvPicPr>
        <p:blipFill>
          <a:blip r:embed="rId1"/>
          <a:stretch/>
        </p:blipFill>
        <p:spPr>
          <a:xfrm>
            <a:off x="4913280" y="1981080"/>
            <a:ext cx="350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, кто б немых ее страданий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сей быстрый миг не прочитал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стая дева,                               С мечтами, сердцем прежних дней,                                                   Теперь опять воскресла в не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ак вы думаете: о чём теперь её страдань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Почему она не радуется, получив возможность отомстит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О чем она жалеет? Или кого она жалее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У Онегина"/>
          <p:cNvPicPr/>
          <p:nvPr/>
        </p:nvPicPr>
        <p:blipFill>
          <a:blip r:embed="rId1"/>
          <a:stretch/>
        </p:blipFill>
        <p:spPr>
          <a:xfrm>
            <a:off x="457200" y="2932200"/>
            <a:ext cx="40384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43588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Так смиренно урок ваш выслушала я. Сегодня очередь моя»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на его не подымает                             И, не сводя с него очей,                  От жадных уст не отымает Бесчувственной руки своей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Теперь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чередь молчать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егину, как когда-то молчала на их свидании в саду Татьяна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акой урок даст Татьяна Онегин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«Урок  смелости.  Урок  гордости.  Урок  верности.  Урок  судьбы.   Урок одиночества»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М. Цветаев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ельзя строить свое счастье на несчастье друг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icture 4" descr="Последнее свидание с Татьяной"/>
          <p:cNvPicPr/>
          <p:nvPr/>
        </p:nvPicPr>
        <p:blipFill>
          <a:blip r:embed="rId1"/>
          <a:stretch/>
        </p:blipFill>
        <p:spPr>
          <a:xfrm>
            <a:off x="4894200" y="1981080"/>
            <a:ext cx="3544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на ушла. Стоит Евгений,             Как будто громом поражен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3" descr="Как будто громом поражен"/>
          <p:cNvPicPr/>
          <p:nvPr/>
        </p:nvPicPr>
        <p:blipFill>
          <a:blip r:embed="rId1"/>
          <a:stretch/>
        </p:blipFill>
        <p:spPr>
          <a:xfrm>
            <a:off x="885960" y="2271600"/>
            <a:ext cx="3181320" cy="35323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40000" y="1844640"/>
            <a:ext cx="48243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За что так наказан Евгений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Я вас люблю (к чему лукавить?),                                Но я другому отдана;                                   Я буду век ему вер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Это решение Татьяны. Нравится Вам оно ?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А как вы думаете: нравится ли выбор Татьяны Пушкин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Вспомните продолжение строф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о шпор внезапный звон раздался,            И муж Татьянин показалс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Это появление помогает глубже прочувствовать ситуацию, потому что Онегин так и остался эгоистом и способен забывать о людях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здесь он не считается с …. (Договорите сам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4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4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4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«У кого из  народов  -  такая  любовная  героиня:  смелая  и  достойная, влюбленная - и непреклонная, ясновидящая - и любящая!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Ведь в отповеди Татьяны - ни тени мстительности.  Потому  и  получается полнота возмездия, поэтому-то Онегин и стоит "как громом пораженный".     Все козыри были у нее в руках, чтобы отомстить и свести его с  ума,  все козыри - чтобы унизить, втоптать в землю той скамьи, сравнять с паркетом той залы, она все это уничтожила одной только обмолвкой: «Я  вас  люблю  (к  чему лукавить?)»     К чему лукавить? Да к тому, чтобы торжествовать! А  торжествовать  -  к чему? А вот на это, действительно, нет ответа  для  Татьяны  -  внятного,  и опять она стоит, в зачарованном кругу залы, как тогда - в зачарованном кругу сада,  -  в  зачарованном  кругу  своего  любовного  одиночества,  тогда   - не понадобившаяся, сейчас - вожделенная, и тогда и ныне - любящая  и  любимой быть не могущая.                                                                                     Все козыри были у нее в руках, но она - не играла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.Цвет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А счастье было так возможно»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7" descr="Объяснение"/>
          <p:cNvPicPr/>
          <p:nvPr/>
        </p:nvPicPr>
        <p:blipFill>
          <a:blip r:embed="rId1"/>
          <a:stretch/>
        </p:blipFill>
        <p:spPr>
          <a:xfrm>
            <a:off x="2975040" y="1981080"/>
            <a:ext cx="319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Но был ли счастлив мой Евгений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6" descr="Евгений Онегин"/>
          <p:cNvPicPr/>
          <p:nvPr/>
        </p:nvPicPr>
        <p:blipFill>
          <a:blip r:embed="rId1"/>
          <a:stretch/>
        </p:blipFill>
        <p:spPr>
          <a:xfrm>
            <a:off x="2938320" y="1981080"/>
            <a:ext cx="3265560" cy="41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Онегин, я тогда моложе,           Я лучше, кажется, была,                 И я любила вас»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5" descr="А счастье было так возможно"/>
          <p:cNvPicPr/>
          <p:nvPr/>
        </p:nvPicPr>
        <p:blipFill>
          <a:blip r:embed="rId1"/>
          <a:stretch/>
        </p:blipFill>
        <p:spPr>
          <a:xfrm>
            <a:off x="2987640" y="2781360"/>
            <a:ext cx="3089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 Black"/>
              </a:rPr>
              <a:t>Авторский «приговор » герою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негин (вновь займуся им),                   Убив на поединке друга,                         Дожив без цели, без трудов                        До двадцати шести годов,                          Томясь в бездействии досуга                          Без службы, без жены, без дел,            Ничем заняться не умел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Ярмарка неве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3" descr="На ярмарке невест"/>
          <p:cNvPicPr/>
          <p:nvPr/>
        </p:nvPicPr>
        <p:blipFill>
          <a:blip r:embed="rId1"/>
          <a:stretch/>
        </p:blipFill>
        <p:spPr>
          <a:xfrm>
            <a:off x="1168560" y="1981080"/>
            <a:ext cx="2616120" cy="198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В Москве"/>
          <p:cNvPicPr/>
          <p:nvPr/>
        </p:nvPicPr>
        <p:blipFill>
          <a:blip r:embed="rId2"/>
          <a:stretch/>
        </p:blipFill>
        <p:spPr>
          <a:xfrm>
            <a:off x="1706400" y="4106880"/>
            <a:ext cx="1538280" cy="198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Примечай"/>
          <p:cNvPicPr/>
          <p:nvPr/>
        </p:nvPicPr>
        <p:blipFill>
          <a:blip r:embed="rId3"/>
          <a:stretch/>
        </p:blipFill>
        <p:spPr>
          <a:xfrm>
            <a:off x="4856040" y="1981080"/>
            <a:ext cx="362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 Black"/>
              </a:rPr>
              <a:t>Замужество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Почему Татьяна, однолюбка, все же выходит замуж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-Чем руководствовалась она, выбирая себе спутника жизни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-Что сумела она дать своему избраннику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-Счастлива ли она в браке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стреча в свет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1716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нягиня смотрит на него...             И что ей душу ни смутило,              Как сильно ни была она             Удивлена, поражена,                          Но ей ничто не изменило:                 В ней сохранился тот же тон,         Был так же тих ее поклон.           Ей-ей! не то, чтоб содрогнулась Иль стала вдруг бледна, красна...                          У ней и бровь не шевельнулась; Не сжала даже губ он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спомните свидание в саду и слова Онегина: «Учитесь властвовать собою!». Как вы считаете: урок Онегина пошел впрок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7" descr="У ней и бровь не шевельнулась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-«Как изменилася Татьяна»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чем изменилась Татья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читаем внимательн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к изменилася Татьяна!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ак твердо в роль свою вошла!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Как утеснительного сана       Приемы скоро приняла!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думайтесь в смысл выделенной стро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Светская Татьяна"/>
          <p:cNvPicPr/>
          <p:nvPr/>
        </p:nvPicPr>
        <p:blipFill>
          <a:blip r:embed="rId1"/>
          <a:stretch/>
        </p:blipFill>
        <p:spPr>
          <a:xfrm>
            <a:off x="457200" y="1623960"/>
            <a:ext cx="40384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А мне , Онегин, пышность эта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вет изменил Татьяну, по крайней мере – внешне. А как её присутствие влияет на атмосферу высшего свет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благоражива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ней дамы подвигались ближе; Старушки улыбались ей;            Мужчины кланялися ниже,           Ловили взор ее очей;             Девицы проходили тише             Пред ней по зале, и всех выше        И нос и плечи подымал                 Вошедший с нею генера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7" descr="Светская Татьяна"/>
          <p:cNvPicPr/>
          <p:nvPr/>
        </p:nvPicPr>
        <p:blipFill>
          <a:blip r:embed="rId1"/>
          <a:stretch/>
        </p:blipFill>
        <p:spPr>
          <a:xfrm>
            <a:off x="4648320" y="24606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руг новых знакомых Татья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7530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 ней как-то Вяземский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подсе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душу ей занять успе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Кто там в малиновом берете      С послом испанским говорит?"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делайте выв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4" descr="К ней как-то Вяземский подсел"/>
          <p:cNvPicPr/>
          <p:nvPr/>
        </p:nvPicPr>
        <p:blipFill>
          <a:blip r:embed="rId1"/>
          <a:stretch/>
        </p:blipFill>
        <p:spPr>
          <a:xfrm>
            <a:off x="5580000" y="1628640"/>
            <a:ext cx="3129120" cy="38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Ужель та самая Татьяна»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на сидела у стола                                                 С блестящей Ниной Воронскою,               Сей Клеопатрою Невы;                     И верно б согласились вы,                   Что Нина мраморной красою Затмить соседку не могла,                 Хоть ослепительна был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еречитайте, как описывает Пушкин светскую Татьяну. Почему её красота выделяется на фоне других светских да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на естественна, проста и не вульгар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4" descr="Татьяна в высшем свете"/>
          <p:cNvPicPr/>
          <p:nvPr/>
        </p:nvPicPr>
        <p:blipFill>
          <a:blip r:embed="rId1"/>
          <a:stretch/>
        </p:blipFill>
        <p:spPr>
          <a:xfrm>
            <a:off x="5332320" y="1773360"/>
            <a:ext cx="310824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7:58:28Z</dcterms:created>
  <dc:creator>HOME</dc:creator>
  <dc:description/>
  <dc:language>en-US</dc:language>
  <cp:lastModifiedBy>123</cp:lastModifiedBy>
  <dcterms:modified xsi:type="dcterms:W3CDTF">2013-02-11T17:10:23Z</dcterms:modified>
  <cp:revision>73</cp:revision>
  <dc:subject/>
  <dc:title>«А счастье было так возможно»…</dc:title>
</cp:coreProperties>
</file>