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B4F-1332-4DB9-A0DD-F610FB93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B9E-4A98-47D4-843B-1EFF19B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C26-9122-4117-BA9E-CE47AB5A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FD0-1916-495B-AA8C-3211E901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F22-F597-4622-8B02-63BA3DB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E6D-0F8A-4416-8FB3-AC23757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3EA-F063-4C17-B27E-0DB1E2B9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D6B-8AAB-4D13-982B-577DFEA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9EC-954E-4D4F-85BC-D442D1BC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4FA-B29D-44A6-A974-3EB2497E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BC0-095D-49BC-9225-E3F9B0B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25D-213C-4CB4-9F69-61EC2A6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0BEF-763E-4761-A7BE-1B1830D6A7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856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проекта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спользование современных средств программирования для исследования функц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337720" y="5075280"/>
            <a:ext cx="355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: ученик филиала МБ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Ш № 42  СОШ с. Гагари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ков Александ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724720" cy="476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943280" y="447840"/>
            <a:ext cx="5257800" cy="111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величен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афик функции возрастает медле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графики функции данного вида проходят через точку (1; 1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335240" y="1484280"/>
            <a:ext cx="6467400" cy="50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509840" y="404640"/>
            <a:ext cx="608652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ньше 1 график функции убыв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 больше 1 график функции возрас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графики функции данного вида проходят через точку (1; 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324400" cy="499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854360" y="404640"/>
            <a:ext cx="5000400" cy="100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 меньше 1 график функции убыв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 больше 1 график функции возрас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графики функции данного вида проходят через точку (0; 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ёхмерная графика в Mathc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35440" y="2781360"/>
            <a:ext cx="338112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481120" y="2205000"/>
            <a:ext cx="41817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481120" y="2205000"/>
            <a:ext cx="4181760" cy="402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26240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ный проект наглядно показывает возможность математического исследования при помощи программирования и компьютерного моделирования, надо заметить, что данная работа показывает только инструмент исследования на примере простейших математических функций, однако возможности данного метода гораздо шире и не могут быть в полную силу реализованы в данной рабо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исследовать различные функции, изучить зависимость формы графика функции от исходных да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писать программу для построения графиков фун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Изучить поведение графика функции при изменении входящих в функцию параметр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роведение математического исследования при помощи современных средств программирования и обработки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1440" y="600120"/>
            <a:ext cx="917568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Mathcad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— система компьютерной алгебры из класса систем автоматизированного проектирования, ориентированная на подготовку интерактивных документов с вычислениями и визуальным сопровождением, отличается легкостью использования и применения для коллективной работ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Mathcad имеет простой и интуитивный для использования интерфейс пользователя. Для ввода формул и данных можно использовать как клавиатуру, так и специальные панели инструм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смотря на то, что эта программа в основном ориентирована на пользователей-непрограммистов, Mathcad также используется в сложных проектах, чтобы визуализировать результаты математического моделирования, путем использования распределённых вычислений и традиционных языков программирования. Также Mathcad часто используется в крупных инженерных проект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4724280" cy="453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92040" y="620640"/>
            <a:ext cx="253368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03280" y="1922400"/>
            <a:ext cx="5857920" cy="453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47640" y="384120"/>
            <a:ext cx="62960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динаковом коэффициент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афики функции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коэффициен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висит место пересечения графика с ось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239160" cy="483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252440" y="692280"/>
            <a:ext cx="6829560" cy="92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е 0 график функции проходит в 1 и 3 четвер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ьше 0 график функции проходит в 2 и 4 четвер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вечает за угол наклона граф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6:37:22Z</dcterms:created>
  <dc:creator>ландау</dc:creator>
  <dc:description/>
  <dc:language>en-US</dc:language>
  <cp:lastModifiedBy>ландау</cp:lastModifiedBy>
  <cp:lastPrinted>2012-04-11T17:25:39Z</cp:lastPrinted>
  <dcterms:modified xsi:type="dcterms:W3CDTF">2012-04-11T17:40:05Z</dcterms:modified>
  <cp:revision>12</cp:revision>
  <dc:subject/>
  <dc:title>Презентация PowerPoint</dc:title>
</cp:coreProperties>
</file>