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F65D-C93D-4295-8F61-3BFCB871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BCB7-377E-462D-B776-CE3FB801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D250-D765-4310-8C69-D7A3C6D0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8C3-52D5-4D7A-A53C-39DA472C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8425-DF6D-4D01-87A7-408650E6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F429-A95A-402B-82CF-FCC84CB6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E7D3-4D41-4238-8AC1-A0D29226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7EC2-027B-4834-8110-2154EBBC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BED4-A4DC-4A62-B06D-8F73C9FC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99C8-3C36-4C5B-9EB3-9D927490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2EE3-6338-4C14-9DAF-66C3F847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25A-54B9-43BA-ABFB-4522A681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C217-D5D9-4C68-8B9D-C93A34BA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6FDD-EEEF-4199-9BD9-7B0285B8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1BD7-E3B2-428A-B74E-025994A0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BC09-8B8D-4E24-A3C6-A27AD70E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4677-1C11-4D04-9AE7-3211E998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4739-4A38-468F-BECE-A8B99EBF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5C0-3850-4512-A8DE-BA5ED8FE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418D-4E06-4FB2-AE3E-B25E0226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CEED-1F2C-4BEC-8451-927B1256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B1CF-36AF-4A61-9DE5-3E0C08D3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D0D5-8499-448A-806E-17F556AA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97D7-7A5E-4C19-9598-F71A5A53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A427-AADF-4D0C-AA90-DC55D9DCF46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9011-B75F-4F9A-A658-D8D84986D97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AutoShape 2" descr=""/>
          <p:cNvPicPr/>
          <p:nvPr/>
        </p:nvPicPr>
        <p:blipFill>
          <a:blip r:embed="rId1"/>
          <a:stretch/>
        </p:blipFill>
        <p:spPr>
          <a:xfrm>
            <a:off x="324000" y="401760"/>
            <a:ext cx="8594640" cy="3921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673520" y="5013000"/>
            <a:ext cx="401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К РУССКОГО ЯЗЫКА В 6 КЛАСС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AutoShape 2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8205840" cy="1506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838080" y="2636640"/>
            <a:ext cx="76932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нег падал на землю и покрывал её пушистым ковр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нарь мигал и тускло освещал улиц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AutoShap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68000" y="2362320"/>
            <a:ext cx="8675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 из города выступало неприятельское войско, гремя в литавры и трубы. Подбоченясь, выезжали паны, окруженные несметными слугами. И стали наступать они тесно на козацкие таборы, грозя, нацеливаясь пищалями, сверкая очами и блеща медными доспехами. Дымом затянуло все поле, а запорожцы все палили, не переводя ду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AutoShap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 Что обозначает деепричасти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Как образуетс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 Каковы морфологические призна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 Какова синтаксическая роль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utoShape 2" descr=""/>
          <p:cNvPicPr/>
          <p:nvPr/>
        </p:nvPicPr>
        <p:blipFill>
          <a:blip r:embed="rId1"/>
          <a:stretch/>
        </p:blipFill>
        <p:spPr>
          <a:xfrm>
            <a:off x="457200" y="23760"/>
            <a:ext cx="8229600" cy="1897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WRITEGRP"/>
          <p:cNvPicPr/>
          <p:nvPr/>
        </p:nvPicPr>
        <p:blipFill>
          <a:blip r:embed="rId2"/>
          <a:stretch/>
        </p:blipFill>
        <p:spPr>
          <a:xfrm>
            <a:off x="3846600" y="3327480"/>
            <a:ext cx="1450800" cy="1253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utoShape 2" descr=""/>
          <p:cNvPicPr/>
          <p:nvPr/>
        </p:nvPicPr>
        <p:blipFill>
          <a:blip r:embed="rId1"/>
          <a:stretch/>
        </p:blipFill>
        <p:spPr>
          <a:xfrm>
            <a:off x="530280" y="401760"/>
            <a:ext cx="8931240" cy="1231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755280" y="2565360"/>
            <a:ext cx="83883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, сколько нам открытий чудны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Готовит просвещения дух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 опыт – сын ошибок трудных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 гений – парадоксов друг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.С.Пушки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utoShape 2" descr=""/>
          <p:cNvPicPr/>
          <p:nvPr/>
        </p:nvPicPr>
        <p:blipFill>
          <a:blip r:embed="rId1"/>
          <a:stretch/>
        </p:blipFill>
        <p:spPr>
          <a:xfrm>
            <a:off x="676440" y="590400"/>
            <a:ext cx="8778600" cy="1317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10920" y="2361960"/>
            <a:ext cx="8713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говорящий попугай               не говорящий по-русс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хоженые тропы                     еще не хоженные троп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разговорчивый человек       не разделен на ча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объяснено правило              не заботившийся о дел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интересно                              не з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utoShape 2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84000" y="2362320"/>
            <a:ext cx="845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вочка выполняла домашнее упражнение и подчеркивала орфограмм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вочка выполняла домашнее упражнение, подчеркивая орфограм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Вывод: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слова, обозначающие действия, добавочные по отношению к основному – деепричаст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utoShape 2" descr=""/>
          <p:cNvPicPr/>
          <p:nvPr/>
        </p:nvPicPr>
        <p:blipFill>
          <a:blip r:embed="rId1"/>
          <a:stretch/>
        </p:blipFill>
        <p:spPr>
          <a:xfrm>
            <a:off x="324000" y="401760"/>
            <a:ext cx="8594640" cy="3921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73520" y="4835520"/>
            <a:ext cx="4013280" cy="7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AutoShape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62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838080" y="2361960"/>
            <a:ext cx="830592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 Что обозначает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. Как образуетс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. Каковы морфологические признак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. Какова синтаксическая рол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AutoShap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684000" y="2362320"/>
            <a:ext cx="845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то делая?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-а- (-я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к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то сделав?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в-, -вши-, -ши-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учи-(-ючи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к?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AutoShape 2" descr=""/>
          <p:cNvPicPr/>
          <p:nvPr/>
        </p:nvPicPr>
        <p:blipFill>
          <a:blip r:embed="rId1"/>
          <a:stretch/>
        </p:blipFill>
        <p:spPr>
          <a:xfrm>
            <a:off x="762120" y="835200"/>
            <a:ext cx="8381880" cy="1261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611280" y="2362320"/>
            <a:ext cx="85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еепричаст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Признаки                                 Призна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глагола                                     наречия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ид                                        не изменяет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звратность                 синтаксическая рол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обстоятельство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1547640" y="450864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5651640" y="2852640"/>
            <a:ext cx="86508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7093080" y="4437000"/>
            <a:ext cx="4316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H="1">
            <a:off x="2411280" y="2852640"/>
            <a:ext cx="9367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utoShap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838080" y="2565000"/>
            <a:ext cx="7693200" cy="35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 каким признакам опознали    деепричаст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05:01:12Z</dcterms:created>
  <dc:creator>USER</dc:creator>
  <dc:description/>
  <dc:language>en-US</dc:language>
  <cp:lastModifiedBy>Иннеска</cp:lastModifiedBy>
  <dcterms:modified xsi:type="dcterms:W3CDTF">2013-02-11T18:22:44Z</dcterms:modified>
  <cp:revision>8</cp:revision>
  <dc:subject/>
  <dc:title>ОБРАЗОВАНИЕ СЛОЖНО-СОКРАЩЕННЫХ СЛОВ</dc:title>
</cp:coreProperties>
</file>