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AAF-5926-44BF-A04F-84C052F4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A68-2442-46A7-A402-DA070786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ED5-829B-4718-9FFC-2E26D549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FF5-BDF6-4986-80D2-70717B8B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D93B-8DCF-4460-A9B9-E873DC03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C97F-727C-4819-B04F-0B9B1D81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BE70-652C-4F5C-AC0B-14657409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6A25-C853-4A42-BCD2-E608C740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E1A8-63B2-4236-BDF5-FFEEBD9E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C519-7399-42A3-88BA-A4B2F0DB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8F22-6D0E-4085-9105-8B471000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F36-7143-4A13-9A65-79E5FBE1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28D4-8542-4231-93CD-CB254830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B896-5503-4E5A-85DA-D89A13A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3029-ECC3-4F3B-A579-FB5936D3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58BA-AB49-4E35-9E46-76AAB714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698A-031B-4FCE-AD02-7C71B4B8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2679-2A8B-41BF-84D3-722AF2DA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1DA6C-FE42-4A62-81A8-38C80622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9954-4975-409C-A7E8-CC4C842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5A44A-4E26-4350-B550-F0570915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03F6B-DEBC-4B28-95D9-9195ADAA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F73-86B6-45EA-850B-0BC0D988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84C6-EF06-46E7-B2E9-F6ED3F7E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CF01-6C62-44D4-8423-0A80C09D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5639-1A31-4738-B65B-DBF6281F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F04D-F436-42A3-A708-4DDCF53D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9396F-FB02-4166-9C7E-DACCCFA1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4CE87-BE47-4B75-B43F-3C795394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472A-9F02-464C-8B5D-8D867C9C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4319-8B18-42F2-ADD3-AA3D0D24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D258B-043D-41BB-AB9D-73243060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D97C-76E8-4A27-8D99-BE234B75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5F1-0B3D-401D-8D43-FF9603C5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E5501-19B3-48A2-9029-3E1E3A04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39F9-5898-4994-994D-73F02C24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BC9C-D3E8-4E14-B4C3-988B4C97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47442-43D7-4077-BDC8-7B8463D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CFC9A-8260-4353-875A-2442AFF3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01B6F-F480-4B75-9D29-16FFCC9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FC36-95C4-4E01-A48A-C14529C5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9CFE6-31C0-4585-90E7-D6936FFA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A9E1F-BABC-492E-A329-7000AC5E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3FE1A-3E3D-4257-A332-12BD79CD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473-325B-4CD1-89BC-2031214B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A7C820-5ECA-4962-A1A7-B4DC8EF6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C488E-CF62-4637-81A0-EF3FAFC2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7F466-A09F-4630-A075-7389BA5F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B8E22-A312-48AA-9D4A-C4DC3556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43A7A-B811-49D4-AC54-B9384A5F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5B607-EEB3-4A45-9B6F-DAB76F63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21546-CAE8-4B96-A951-7524BD25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89C7E-479C-4378-AF4A-4F92B8B1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B7970-D2DD-4B78-A19A-480F1C99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B4060-031D-4EFF-94DB-5C02B80E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267-2646-46A3-B20A-7D781F1E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B0DB9-82D3-405C-81D5-ACB52BE5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E9801-D14C-4C74-9923-85DD6147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BF52D-7218-412F-9744-D62BA40C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7F09B-F12B-43D0-9F83-EF70AF98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40F0-F040-458D-A394-64BC623D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92290-7B4F-478E-B82A-87B627B4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07F23-D581-4686-84AE-B4CA7F74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FEAC3-9CC3-46B8-9815-F70275F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A9A9-DEEC-463D-BD83-88A2E05E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DD0E1-13BF-4644-94D0-BE277F17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BA1-ECB3-4525-B74D-1261D027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56069-A50D-4D3D-BBB2-F70B754F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246E1-ABD5-479E-B65C-F1A0DDBB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93DE4-B8C4-4FA7-AAD3-30B96E9C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309-E1F0-4E55-BCF5-DD129A8E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D55-BA38-4902-A63F-73E8E882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7B86-2DED-47ED-A456-F0CFA3E6233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2A9D-D642-45F6-8632-ABF07CB185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B30F-3F82-4838-A5BB-F1177AEEC9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B698-832B-4DEA-AE67-3EFEDD0821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4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2110-65E0-43B5-B21A-CF3CD05207B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D8A0-E0C3-412E-AF76-CA5A80684F6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амятники Старого Оскол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1403280" y="2492280"/>
            <a:ext cx="6624720" cy="1873440"/>
          </a:xfrm>
          <a:custGeom>
            <a:avLst/>
            <a:gdLst>
              <a:gd name="textAreaLeft" fmla="*/ 1656000 w 6624720"/>
              <a:gd name="textAreaRight" fmla="*/ 4968720 w 6624720"/>
              <a:gd name="textAreaTop" fmla="*/ 55440 h 1873440"/>
              <a:gd name="textAreaBottom" fmla="*/ 1405080 h 187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348000" y="27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ОНЕЦ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36162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амый ОСНОВАТЕ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изится к завершению строительство памятника основателям города Старый Оскол, коими считаются воевода Иван Солнцев-Засекин, городской глава Иван Мясной и подьячий Михайла Нечаев. Его торжественное открытие состоится в День города у кинотеатра «Октябрь». В этот же день рядом с монументом «отцам-основоположникам» будет запущен цветомузыкальный фонтан. Кстати, этому памятнику можно присвоить титул «исторического», ведь его просветительская роль именно в том, чтобы горожане знали истоки становления Старого Оско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066920" y="476280"/>
            <a:ext cx="36176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" descr="http://kavicom.ru/uploads/sub/5acc4966_osn.jpg"/>
          <p:cNvPicPr/>
          <p:nvPr/>
        </p:nvPicPr>
        <p:blipFill>
          <a:blip r:embed="rId4"/>
          <a:stretch/>
        </p:blipFill>
        <p:spPr>
          <a:xfrm>
            <a:off x="3851280" y="1628640"/>
            <a:ext cx="4321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63160" y="620280"/>
            <a:ext cx="3616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ый СТАРЫЙ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один из самых старых памятников современного Старого Оскола, он установлен рядом с братской могилой 1942 года на улице Ленина, близ гражданского кладбища – «Братская могила советских воинов №1». К сожалению, не все жители нашего города знают о ее существовании. Здесь похоронено 499 человек, среди них Герои Советского Союза В.Н. Калачев, М.С. Токарев, И.И. Руденко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066920" y="549000"/>
            <a:ext cx="36176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" descr="http://kavicom.ru/uploads/sub/b153b9ab_bm1.jpg"/>
          <p:cNvPicPr/>
          <p:nvPr/>
        </p:nvPicPr>
        <p:blipFill>
          <a:blip r:embed="rId3"/>
          <a:stretch/>
        </p:blipFill>
        <p:spPr>
          <a:xfrm>
            <a:off x="4067280" y="476280"/>
            <a:ext cx="331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250560" y="549000"/>
            <a:ext cx="36162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066920" y="549000"/>
            <a:ext cx="36176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ый ЗАВОДСКОЙ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 мая 1970 года, в честь 25-летия Победы, состоялось открытие памятника 72 работникам мехзавода, ушедшим на фронт в годы Великой Отечественной войны. Данные о погибших хранятся в музее завод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http://kavicom.ru/uploads/sub/efcc6933_mz.jpg"/>
          <p:cNvPicPr/>
          <p:nvPr/>
        </p:nvPicPr>
        <p:blipFill>
          <a:blip r:embed="rId3"/>
          <a:stretch/>
        </p:blipFill>
        <p:spPr>
          <a:xfrm>
            <a:off x="611280" y="765000"/>
            <a:ext cx="2952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250560" y="765000"/>
            <a:ext cx="36162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066920" y="765000"/>
            <a:ext cx="3617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амый ДРУЖЕЛЮБНЫ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должая нашу экскурсию, хотелось бы упомянуть о монументе советско-болгарской дружбе, установленном в 1979 году в честь десятилетия совместной работы советских и болгарских строителей на объектах КМА. К слову, отсюда и пошло название Бульвара Дружбы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" descr="http://kavicom.ru/uploads/sub/23254738_sbd.jpg"/>
          <p:cNvPicPr/>
          <p:nvPr/>
        </p:nvPicPr>
        <p:blipFill>
          <a:blip r:embed="rId3"/>
          <a:stretch/>
        </p:blipFill>
        <p:spPr>
          <a:xfrm>
            <a:off x="539640" y="836640"/>
            <a:ext cx="3024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36162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ый СКОРБНЫЙ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85 году установлен памятный знак жертвам фашизма с изображением скорбящей матери на месте расстрела мирных жителей фашистскими захватчиками. Здесь же покоятся останки 12 оскольчан, расстрелянных венграми в ночь с 4 на 5 февраля 1943 года. Их останки в 1989 г. члены городского клуба «Поиск» перенесли с Ямского гражданского кладбищ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066920" y="907560"/>
            <a:ext cx="36176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" descr="http://kavicom.ru/uploads/sub/3c4df324_sm.jpg"/>
          <p:cNvPicPr/>
          <p:nvPr/>
        </p:nvPicPr>
        <p:blipFill>
          <a:blip r:embed="rId3"/>
          <a:stretch/>
        </p:blipFill>
        <p:spPr>
          <a:xfrm>
            <a:off x="4500720" y="1341360"/>
            <a:ext cx="295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36162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ый ЖЕНСКИЙ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д назад состоялось открытие памятника строителям железной дороги Старый Оскол - Ржава. Эту ветку местные жители, в основном женщины, построили в 1942 году в рекордно короткий срок, за 32 дня, поистине героическими усилиями. Монумент установлен на перекрестке улиц Прядченко и 8 Марта. На установку памятного сооружения было выделено около семи миллионов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066920" y="620280"/>
            <a:ext cx="361764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" descr="http://kavicom.ru/uploads/sub/ad2c0171_zhd.jpg"/>
          <p:cNvPicPr/>
          <p:nvPr/>
        </p:nvPicPr>
        <p:blipFill>
          <a:blip r:embed="rId3"/>
          <a:stretch/>
        </p:blipFill>
        <p:spPr>
          <a:xfrm>
            <a:off x="3851280" y="1773360"/>
            <a:ext cx="39607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ый «ГОРЯЧИЙ»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погибшим воинам-интернационалистам и участникам локальных конфликтов установлен рядом с городским военкоматом. Министерство обороны списало для нашего города БМП-1 и 122мм-вую гаубицу образца 1938 г. Теперь они установлены рядом с монументом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http://kavicom.ru/uploads/sub/64bf06c7_vi.jpg"/>
          <p:cNvPicPr/>
          <p:nvPr/>
        </p:nvPicPr>
        <p:blipFill>
          <a:blip r:embed="rId3"/>
          <a:stretch/>
        </p:blipFill>
        <p:spPr>
          <a:xfrm>
            <a:off x="0" y="1989000"/>
            <a:ext cx="396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ый МНОГОСТРАДАЛЬНЫЙ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жно дать титул так и не установленному на развилке у Сада Пенсионеров самолету-истребителю «МиГ-23МЛД». Отлетавший свое воздушный корабль привезли в наш город два года назад, поставили на «запасной» аэродром – площадку УКСа, и вс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067280" y="907920"/>
            <a:ext cx="36176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http://kavicom.ru/uploads/sub/6f4aedad_sam.jpg"/>
          <p:cNvPicPr/>
          <p:nvPr/>
        </p:nvPicPr>
        <p:blipFill>
          <a:blip r:embed="rId2"/>
          <a:stretch/>
        </p:blipFill>
        <p:spPr>
          <a:xfrm>
            <a:off x="4140360" y="2421000"/>
            <a:ext cx="3528720" cy="280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6:28:43Z</dcterms:created>
  <dc:creator>Александр</dc:creator>
  <dc:description/>
  <dc:language>en-US</dc:language>
  <cp:lastModifiedBy>1</cp:lastModifiedBy>
  <dcterms:modified xsi:type="dcterms:W3CDTF">2013-01-25T19:48:00Z</dcterms:modified>
  <cp:revision>3</cp:revision>
  <dc:subject/>
  <dc:title>Памятники Старого Оскола</dc:title>
</cp:coreProperties>
</file>