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3C3-BF26-4428-AB3E-A4415A24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708-15DB-4EA8-B062-462BEEB4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D6E-0361-4413-8E0F-B1546944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A35-9A3B-4D35-A817-D0314C6D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FEE-2555-4844-B97A-8EF95229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D73-0B42-4075-B769-7FE12FE2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A9E-D931-4538-A2D1-4208F130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40F-0B22-4FCA-ADA9-00A0B679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04F-20FE-4718-95C4-3A8E6DAF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184-02D9-47F2-8077-4775FE77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B87-E6D6-419C-BCFC-A6A76D18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C94-90D7-4A16-8E6E-1E83D095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6AB3-9CF5-4482-9F5C-6A3EB844EC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www.tvoyrebenok.ru/images/presentation/school/b/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395280" y="4604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  <a:ea typeface="Times New Roman"/>
              </a:rPr>
              <a:t>Внеклассное мероприятие по русскому языку и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1258920" y="2060640"/>
            <a:ext cx="626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Monotype Corsiva"/>
              </a:rPr>
              <a:t>"Последний герой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для учащихся 7 клас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Далада Оксана Валерьевна, учитель русского языка и литературы  МБОУ «Школа № 6» г.о.Балаши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tvoyrebenok.ru/images/presentation/school/b/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900000" y="47628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опросы болельщикам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539640" y="148428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Подберите синонимы к словам: идти; трусливый</a:t>
            </a:r>
            <a:r>
              <a:rPr b="0" i="1" lang="ru-RU" sz="4400" spc="-1" strike="noStrike">
                <a:solidFill>
                  <a:srgbClr val="953735"/>
                </a:solidFill>
                <a:latin typeface="Calibri"/>
              </a:rPr>
              <a:t>; </a:t>
            </a: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говорить</a:t>
            </a:r>
            <a:r>
              <a:rPr b="0" i="1" lang="ru-RU" sz="4400" spc="-1" strike="noStrike">
                <a:solidFill>
                  <a:srgbClr val="953735"/>
                </a:solidFill>
                <a:latin typeface="Calibri"/>
              </a:rPr>
              <a:t>; </a:t>
            </a: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красивый;</a:t>
            </a:r>
            <a:r>
              <a:rPr b="0" i="1" lang="ru-RU" sz="4400" spc="-1" strike="noStrike">
                <a:solidFill>
                  <a:srgbClr val="953735"/>
                </a:solidFill>
                <a:latin typeface="Calibri"/>
              </a:rPr>
              <a:t> </a:t>
            </a: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жилище; </a:t>
            </a:r>
            <a:r>
              <a:rPr b="0" i="1" lang="ru-RU" sz="4400" spc="-1" strike="noStrike">
                <a:solidFill>
                  <a:srgbClr val="953735"/>
                </a:solidFill>
                <a:latin typeface="Calibri"/>
              </a:rPr>
              <a:t> </a:t>
            </a: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смеяться</a:t>
            </a:r>
            <a:r>
              <a:rPr b="0" i="1" lang="ru-RU" sz="44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26560" y="4163760"/>
            <a:ext cx="64818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антонимы к словам: друг, хорошо, счастье, небо, труд, мало, разговорчивый, книга, доброе утро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спокойной ночи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мышь, идти, свет, молодость, чумазый, шикарный, человек,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tvoyrebenok.ru/images/presentation/school/b/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468360" y="3736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900000" y="1052640"/>
            <a:ext cx="70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Calibri"/>
                <a:ea typeface="Times New Roman"/>
              </a:rPr>
              <a:t>Подберите антонимы к словам: друг, хорошо, счастье, небо, труд, мало, разговорчивый, книга, доброе утро </a:t>
            </a:r>
            <a:r>
              <a:rPr b="0" i="1" lang="ru-RU" sz="3600" spc="-1" strike="noStrike">
                <a:solidFill>
                  <a:srgbClr val="953735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953735"/>
                </a:solidFill>
                <a:latin typeface="Calibri"/>
                <a:ea typeface="Times New Roman"/>
              </a:rPr>
              <a:t>мышь, идти, свет, молодость, чумазый, шикарный, человек,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Monotype Corsiva"/>
              </a:rPr>
              <a:t>3 </a:t>
            </a:r>
            <a:r>
              <a:rPr b="1" i="1" lang="ru-RU" sz="2400" spc="-1" strike="noStrike">
                <a:solidFill>
                  <a:srgbClr val="953735"/>
                </a:solidFill>
                <a:latin typeface="Calibri"/>
              </a:rPr>
              <a:t>задание</a:t>
            </a:r>
            <a:br>
              <a:rPr sz="2400"/>
            </a:b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 Задача участников: "связать” слова и на листочках в столбик записать верные ответы.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П. Ершо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ям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«Кладовая солнца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Виктор Петрови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дочк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"Левша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Пепп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подземель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мороз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"Малыш и Карлсон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прин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Салтыков-Щедри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легенд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Илья Муроме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19700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Травк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Капитанска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Астафье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дет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Красный нос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нищий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А. Линдгре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"Конёк-горбунок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Длинный чулок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были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Н.Леско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«Повесть о том, как один мужик двух генералов прокормил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Размер стих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Данко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4 задание. </a:t>
            </a:r>
            <a:r>
              <a:rPr b="0" lang="ru-RU" sz="2900" spc="-1" strike="noStrike">
                <a:solidFill>
                  <a:srgbClr val="953735"/>
                </a:solidFill>
                <a:latin typeface="Calibri"/>
              </a:rPr>
              <a:t>"Два слова из одного”.</a:t>
            </a:r>
            <a:br>
              <a:rPr sz="2900"/>
            </a:br>
            <a:r>
              <a:rPr b="0" lang="ru-RU" sz="29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 словам, которые написаны на доске, нужно подставить одну букву или в начале, или в середине, или в конце слова так, чтобы получилось новое. Из каждого слова должно получиться ещё по 2, например: плот – </a:t>
            </a:r>
            <a:r>
              <a:rPr b="0" lang="ru-RU" sz="29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лот, п</a:t>
            </a:r>
            <a:r>
              <a:rPr b="0" lang="ru-RU" sz="2900" spc="-1" strike="noStrike">
                <a:solidFill>
                  <a:srgbClr val="953735"/>
                </a:solidFill>
                <a:latin typeface="Calibri"/>
              </a:rPr>
              <a:t>И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от; вол – вол</a:t>
            </a:r>
            <a:r>
              <a:rPr b="0" lang="ru-RU" sz="2900" spc="-1" strike="noStrike">
                <a:solidFill>
                  <a:srgbClr val="953735"/>
                </a:solidFill>
                <a:latin typeface="Calibri"/>
              </a:rPr>
              <a:t>К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вол</a:t>
            </a:r>
            <a:r>
              <a:rPr b="0" lang="ru-RU" sz="2900" spc="-1" strike="noStrike">
                <a:solidFill>
                  <a:srgbClr val="953735"/>
                </a:solidFill>
                <a:latin typeface="Calibri"/>
              </a:rPr>
              <a:t>Я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; лапа – ла</a:t>
            </a:r>
            <a:r>
              <a:rPr b="0" lang="ru-RU" sz="2900" spc="-1" strike="noStrike">
                <a:solidFill>
                  <a:srgbClr val="953735"/>
                </a:solidFill>
                <a:latin typeface="Calibri"/>
              </a:rPr>
              <a:t>М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, ла</a:t>
            </a:r>
            <a:r>
              <a:rPr b="0" lang="ru-RU" sz="2900" spc="-1" strike="noStrike">
                <a:solidFill>
                  <a:srgbClr val="953735"/>
                </a:solidFill>
                <a:latin typeface="Calibri"/>
              </a:rPr>
              <a:t>П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а.</a:t>
            </a:r>
            <a:br>
              <a:rPr sz="1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53735"/>
                </a:solidFill>
                <a:latin typeface="Calibri"/>
              </a:rPr>
              <a:t>Веер, сок, баня, рис, мак, арка, стол, тар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53735"/>
                </a:solidFill>
                <a:latin typeface="Monotype Corsiva"/>
              </a:rPr>
              <a:t>"Звёздный час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з слова </a:t>
            </a:r>
            <a:r>
              <a:rPr b="0" lang="ru-RU" sz="4800" spc="-1" strike="noStrike">
                <a:solidFill>
                  <a:srgbClr val="953735"/>
                </a:solidFill>
                <a:latin typeface="Calibri"/>
              </a:rPr>
              <a:t>ОТРОЧЕСТВО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, переставляя буквы, получить имена существительные, нарицательные, единственного чис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Monotype Corsiva"/>
              </a:rPr>
              <a:t>II тур</a:t>
            </a:r>
            <a:br>
              <a:rPr sz="4000"/>
            </a:br>
            <a:r>
              <a:rPr b="1" lang="ru-RU" sz="4000" spc="-1" strike="noStrike">
                <a:solidFill>
                  <a:srgbClr val="953735"/>
                </a:solidFill>
                <a:latin typeface="Monotype Corsiva"/>
              </a:rPr>
              <a:t>Игра в риф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Крышка, дедушка, знак, цветок, народ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Monotype Corsiva"/>
              </a:rPr>
              <a:t>Финал</a:t>
            </a:r>
            <a:br>
              <a:rPr sz="3600"/>
            </a:br>
            <a:r>
              <a:rPr b="1" lang="ru-RU" sz="3600" spc="-1" strike="noStrike">
                <a:solidFill>
                  <a:srgbClr val="953735"/>
                </a:solidFill>
                <a:latin typeface="Monotype Corsiva"/>
              </a:rPr>
              <a:t> "Пословицы и поговорки”. На заданную тему нужно вспомнить пословицы, поговорки. Кто больш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) вражда, ссора, драка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б) труд, орудия труда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) деньги, достаток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0:47:12Z</dcterms:created>
  <dc:creator>Админ</dc:creator>
  <dc:description/>
  <dc:language>en-US</dc:language>
  <cp:lastModifiedBy>Админ</cp:lastModifiedBy>
  <dcterms:modified xsi:type="dcterms:W3CDTF">2013-02-10T11:54:18Z</dcterms:modified>
  <cp:revision>8</cp:revision>
  <dc:subject/>
  <dc:title>Слайд 1</dc:title>
</cp:coreProperties>
</file>