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472-F820-4911-808F-7623ACB3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95A-86F6-4179-B5BD-5CAC23E7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3C7-7394-465C-8117-CA2710D2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4E7-FC90-438E-9F60-DAD02A66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95B3-200C-4032-A31D-4542580D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7ED6-86D9-4116-AF7D-2522772D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CCF0-CA9C-46B0-B7CE-6DEDA5CF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2518-3187-4AE7-B82E-294031FF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8834-381D-473C-B7BA-41DBFB49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50EE-B080-4C8D-B617-419DD325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58C8-0DEC-4665-B3D7-750ACA04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ADC-A661-4C26-B5AA-E4B5BC2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2B84-DFFC-4C5C-9463-27F2919B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9D91-275E-4599-B5E1-A3E62B99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F2AA-DDC2-4050-B580-BB6450EC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2046-AC45-41EB-A7EF-7D5865E7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51CB-FD3F-417D-8ECE-615D229A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A43-651C-4649-A5F4-DEB50AE2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830-B91F-4C57-96A3-C868110D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DC2-3FBF-4E44-BA11-CBD54EB5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630-8CF1-48F8-BA17-D462E83A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E28-FB45-4870-9EA7-52416461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019-0FAB-428C-B207-39556CDF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644-092B-4FE2-81A3-BE6FA97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6b5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a68a58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882-2DDB-4BD4-A78C-C8858CE19B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6b5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a68a58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82E3-309D-4311-9526-4801E800E7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 rot="10800000">
            <a:off x="2265480" y="3339360"/>
            <a:ext cx="21888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dad79c"/>
                </a:solidFill>
                <a:latin typeface="Arial"/>
              </a:rPr>
              <a:t>  </a:t>
            </a:r>
            <a:endParaRPr b="0" lang="en-US" sz="51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604360" y="652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5" descr="156_29_10_09_leonardo"/>
          <p:cNvPicPr/>
          <p:nvPr/>
        </p:nvPicPr>
        <p:blipFill>
          <a:blip r:embed="rId1"/>
          <a:stretch/>
        </p:blipFill>
        <p:spPr>
          <a:xfrm>
            <a:off x="3564000" y="189000"/>
            <a:ext cx="4608360" cy="64087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 rot="5400000">
            <a:off x="-1369440" y="2745360"/>
            <a:ext cx="640872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ЕЛОВЕК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40880" y="86760"/>
            <a:ext cx="123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08520" y="692280"/>
            <a:ext cx="7308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Picture 4" descr="происхождение-слова-человек1"/>
          <p:cNvPicPr/>
          <p:nvPr/>
        </p:nvPicPr>
        <p:blipFill>
          <a:blip r:embed="rId1"/>
          <a:stretch/>
        </p:blipFill>
        <p:spPr>
          <a:xfrm>
            <a:off x="2268360" y="2205000"/>
            <a:ext cx="5328000" cy="42577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8"/>
          <p:cNvSpPr txBox="1"/>
          <p:nvPr/>
        </p:nvSpPr>
        <p:spPr>
          <a:xfrm>
            <a:off x="2700360" y="260280"/>
            <a:ext cx="3600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ЧЕЛОВЕЧ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1258920" y="141300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ЧЕ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6300720" y="1484280"/>
            <a:ext cx="16574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ЕЧ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6156360" y="90792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700000" y="981000"/>
            <a:ext cx="576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526716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ad79c"/>
                </a:solidFill>
                <a:latin typeface="Arial"/>
              </a:rPr>
              <a:t>ЦЕЛОВЕЧЕ 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dad79c"/>
                </a:solidFill>
                <a:latin typeface="Arial"/>
              </a:rPr>
              <a:t>ЦЕЛО                     ВЕЧЕ</a:t>
            </a:r>
            <a:endParaRPr b="0" lang="en-US" sz="28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3860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MO SAPIENS 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ЛОВЕК РАЗУМНЫ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происхождение-слова-человек3"/>
          <p:cNvPicPr/>
          <p:nvPr/>
        </p:nvPicPr>
        <p:blipFill>
          <a:blip r:embed="rId1"/>
          <a:stretch/>
        </p:blipFill>
        <p:spPr>
          <a:xfrm>
            <a:off x="5867280" y="668160"/>
            <a:ext cx="2305080" cy="218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Evolution"/>
          <p:cNvPicPr/>
          <p:nvPr/>
        </p:nvPicPr>
        <p:blipFill>
          <a:blip r:embed="rId2"/>
          <a:stretch/>
        </p:blipFill>
        <p:spPr>
          <a:xfrm>
            <a:off x="1042920" y="4437000"/>
            <a:ext cx="6913800" cy="2036880"/>
          </a:xfrm>
          <a:prstGeom prst="rect">
            <a:avLst/>
          </a:prstGeom>
          <a:ln w="0">
            <a:noFill/>
          </a:ln>
        </p:spPr>
      </p:pic>
      <p:sp>
        <p:nvSpPr>
          <p:cNvPr id="130" name="Line 6"/>
          <p:cNvSpPr/>
          <p:nvPr/>
        </p:nvSpPr>
        <p:spPr>
          <a:xfrm flipH="1">
            <a:off x="1619280" y="692280"/>
            <a:ext cx="504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3780000" y="692280"/>
            <a:ext cx="50472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395280" y="1557360"/>
            <a:ext cx="5111640" cy="2016000"/>
          </a:xfrm>
          <a:prstGeom prst="ellipse">
            <a:avLst/>
          </a:prstGeom>
          <a:solidFill>
            <a:srgbClr val="816b3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WordArt 11"/>
          <p:cNvSpPr txBox="1"/>
          <p:nvPr/>
        </p:nvSpPr>
        <p:spPr>
          <a:xfrm>
            <a:off x="2268360" y="1916280"/>
            <a:ext cx="1333800" cy="15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Л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УШ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У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Е МЕСТО КРАСИ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ЕЛОВЕКА, А ЧЕЛОВЕК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СТ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ЕЛОВЕК, ЧТО ЗАМОК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 КАЖДОМУ НУЖН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ИК ПОДОБРА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ЕПУТЕВЫЙ ЧЕЛОВЕ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85d0f6078258"/>
          <p:cNvPicPr/>
          <p:nvPr/>
        </p:nvPicPr>
        <p:blipFill>
          <a:blip r:embed="rId1"/>
          <a:stretch/>
        </p:blipFill>
        <p:spPr>
          <a:xfrm>
            <a:off x="4356000" y="1628640"/>
            <a:ext cx="4035600" cy="4980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ad79c"/>
                </a:solidFill>
                <a:latin typeface="Arial"/>
              </a:rPr>
              <a:t>МАЛЫЕ ФОРМЫ НАРОДНОГО ТВОРЧЕСТВА</a:t>
            </a:r>
            <a:br>
              <a:rPr sz="2400"/>
            </a:br>
            <a:r>
              <a:rPr b="0" lang="ru-RU" sz="2400" spc="-1" strike="noStrike">
                <a:solidFill>
                  <a:srgbClr val="dad79c"/>
                </a:solidFill>
                <a:latin typeface="Arial"/>
              </a:rPr>
              <a:t> -ПОСЛОВИЦЫ</a:t>
            </a:r>
            <a:br>
              <a:rPr sz="2400"/>
            </a:br>
            <a:r>
              <a:rPr b="0" lang="ru-RU" sz="2400" spc="-1" strike="noStrike">
                <a:solidFill>
                  <a:srgbClr val="dad79c"/>
                </a:solidFill>
                <a:latin typeface="Arial"/>
              </a:rPr>
              <a:t> -ПОГОВОРКИ</a:t>
            </a:r>
            <a:br>
              <a:rPr sz="2400"/>
            </a:br>
            <a:r>
              <a:rPr b="0" lang="ru-RU" sz="2400" spc="-1" strike="noStrike">
                <a:solidFill>
                  <a:srgbClr val="dad79c"/>
                </a:solidFill>
                <a:latin typeface="Arial"/>
              </a:rPr>
              <a:t> -ФРАЗЕОЛОГИЗМЫ</a:t>
            </a:r>
            <a:endParaRPr b="0" lang="en-US" sz="2400" spc="-1" strike="noStrike">
              <a:solidFill>
                <a:srgbClr val="dad79c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1"/>
          <a:stretch/>
        </p:blipFill>
        <p:spPr>
          <a:xfrm>
            <a:off x="3132000" y="1628640"/>
            <a:ext cx="2808360" cy="1940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lico"/>
          <p:cNvPicPr/>
          <p:nvPr/>
        </p:nvPicPr>
        <p:blipFill>
          <a:blip r:embed="rId2"/>
          <a:stretch/>
        </p:blipFill>
        <p:spPr>
          <a:xfrm>
            <a:off x="250920" y="2349360"/>
            <a:ext cx="3276360" cy="428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hel"/>
          <p:cNvPicPr/>
          <p:nvPr/>
        </p:nvPicPr>
        <p:blipFill>
          <a:blip r:embed="rId3"/>
          <a:stretch/>
        </p:blipFill>
        <p:spPr>
          <a:xfrm>
            <a:off x="5651640" y="2421000"/>
            <a:ext cx="3238200" cy="428616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2195640" y="18900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ИСУН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4" descr="art_119_01_L"/>
          <p:cNvPicPr/>
          <p:nvPr/>
        </p:nvPicPr>
        <p:blipFill>
          <a:blip r:embed="rId1"/>
          <a:stretch/>
        </p:blipFill>
        <p:spPr>
          <a:xfrm>
            <a:off x="250920" y="476280"/>
            <a:ext cx="3251160" cy="5595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helovek"/>
          <p:cNvPicPr/>
          <p:nvPr/>
        </p:nvPicPr>
        <p:blipFill>
          <a:blip r:embed="rId2"/>
          <a:stretch/>
        </p:blipFill>
        <p:spPr>
          <a:xfrm>
            <a:off x="3564000" y="620640"/>
            <a:ext cx="537048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1:56:45Z</dcterms:created>
  <dc:creator>kb6isp</dc:creator>
  <dc:description/>
  <dc:language>en-US</dc:language>
  <cp:lastModifiedBy>наталья</cp:lastModifiedBy>
  <dcterms:modified xsi:type="dcterms:W3CDTF">2012-12-19T15:46:01Z</dcterms:modified>
  <cp:revision>8</cp:revision>
  <dc:subject/>
  <dc:title>Слайд 1</dc:title>
</cp:coreProperties>
</file>