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9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6B27-658E-47A9-8EA7-BBF1F50044BF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E91D-4DA3-4EA6-A1A0-B96024C47390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4801-7A7D-4A22-A100-7DC22D6F1476}" type="slidenum">
              <a:rPr b="0" i="1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EAF-3B9F-4CF6-87F8-614F19D8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C82-AEB9-4C6F-8C68-DB884D40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964-18CE-4408-BB35-A4D19486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99C-C499-4D01-B438-1FE2B6E0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87B-6E1B-4489-B133-C1DA213F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C78-19E2-4F07-B002-A9717AA0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FD5-EA29-4AC4-81C6-C6118FCB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222-91D5-4A61-884B-8C5EE4A7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180-988A-47F5-8C0A-2ED77880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F5D-3E95-4B19-B280-B3FBD332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8E4-4660-453B-A2EF-312480C0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9A2-64CE-464A-BD4F-7172C8A2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FB08-70DF-457A-A231-3D8302B58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Проект по физической культуре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4267080"/>
            <a:ext cx="7620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удейство соревнований по плаван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Должны неукоснительно соблюдаться расписание учебных занятий, определенные режимы выполнения упражнений и отдыха, установленные правила поведения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70811_SwimmingSafety_169_t_w600_h1200"/>
          <p:cNvPicPr/>
          <p:nvPr/>
        </p:nvPicPr>
        <p:blipFill>
          <a:blip r:embed="rId1"/>
          <a:stretch/>
        </p:blipFill>
        <p:spPr>
          <a:xfrm>
            <a:off x="914400" y="2503440"/>
            <a:ext cx="72388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7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Занятия проводятся только в присутствии преподавателя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2-bass-pl_mid"/>
          <p:cNvPicPr/>
          <p:nvPr/>
        </p:nvPicPr>
        <p:blipFill>
          <a:blip r:embed="rId1"/>
          <a:stretch/>
        </p:blipFill>
        <p:spPr>
          <a:xfrm>
            <a:off x="1143000" y="154296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оздавшие на занятия не допускаются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x_6ce935ba"/>
          <p:cNvPicPr/>
          <p:nvPr/>
        </p:nvPicPr>
        <p:blipFill>
          <a:blip r:embed="rId1"/>
          <a:stretch/>
        </p:blipFill>
        <p:spPr>
          <a:xfrm>
            <a:off x="990720" y="1308240"/>
            <a:ext cx="73911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В бассейне категорически запрещается шуметь, бегать, толкаться, подныривать, переходить на «чужую» дорожку, подавать ложные сигналы о помощи, висеть на дорожках, бросать плавательные доски с бортиков в воду или из воды на кафель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Lbjl6mzMEE"/>
          <p:cNvPicPr/>
          <p:nvPr/>
        </p:nvPicPr>
        <p:blipFill>
          <a:blip r:embed="rId1"/>
          <a:stretch/>
        </p:blipFill>
        <p:spPr>
          <a:xfrm>
            <a:off x="685800" y="3546360"/>
            <a:ext cx="5181480" cy="331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lori-0003847384-smallwww"/>
          <p:cNvPicPr/>
          <p:nvPr/>
        </p:nvPicPr>
        <p:blipFill>
          <a:blip r:embed="rId2"/>
          <a:stretch/>
        </p:blipFill>
        <p:spPr>
          <a:xfrm>
            <a:off x="5867280" y="3505320"/>
            <a:ext cx="2332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 Занятия по плаванию должны быть обеспечены средствами для спасения утопающих и медицинской аптечкой для оказания первой помощи пострадавшим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1211625"/>
          <p:cNvPicPr/>
          <p:nvPr/>
        </p:nvPicPr>
        <p:blipFill>
          <a:blip r:embed="rId1"/>
          <a:stretch/>
        </p:blipFill>
        <p:spPr>
          <a:xfrm>
            <a:off x="0" y="3436920"/>
            <a:ext cx="3733920" cy="342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3991405-girl-near-tropical-pool-with-life-saving-buoy"/>
          <p:cNvPicPr/>
          <p:nvPr/>
        </p:nvPicPr>
        <p:blipFill>
          <a:blip r:embed="rId2"/>
          <a:stretch/>
        </p:blipFill>
        <p:spPr>
          <a:xfrm>
            <a:off x="3733920" y="3449520"/>
            <a:ext cx="54100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   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. Почувствовав усталость, надо спокойно плыть к берегу. При судорогах не теряться, стараться держаться на воде и звать на помощь. При оказании помощи не хвататься за спасающего, а помогать ему буксировать вас к берег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817_big"/>
          <p:cNvPicPr/>
          <p:nvPr/>
        </p:nvPicPr>
        <p:blipFill>
          <a:blip r:embed="rId1"/>
          <a:stretch/>
        </p:blipFill>
        <p:spPr>
          <a:xfrm>
            <a:off x="1066680" y="3809880"/>
            <a:ext cx="2878200" cy="304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ool1"/>
          <p:cNvPicPr/>
          <p:nvPr/>
        </p:nvPicPr>
        <p:blipFill>
          <a:blip r:embed="rId2"/>
          <a:stretch/>
        </p:blipFill>
        <p:spPr>
          <a:xfrm>
            <a:off x="3962520" y="3828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чувствовав слабость или недомогание после плавания, следует обратиться к врач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kosh_0"/>
          <p:cNvPicPr/>
          <p:nvPr/>
        </p:nvPicPr>
        <p:blipFill>
          <a:blip r:embed="rId1"/>
          <a:stretch/>
        </p:blipFill>
        <p:spPr>
          <a:xfrm>
            <a:off x="914400" y="1862280"/>
            <a:ext cx="74674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. Если вы стали очевидцем несчастного случая, следует немедленно сообщить о нем учителю и при необходимости оказать посильную помощь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9f368b03415130d434af6863a0de3124"/>
          <p:cNvPicPr/>
          <p:nvPr/>
        </p:nvPicPr>
        <p:blipFill>
          <a:blip r:embed="rId1"/>
          <a:stretch/>
        </p:blipFill>
        <p:spPr>
          <a:xfrm>
            <a:off x="0" y="2209680"/>
            <a:ext cx="356868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9b9b4fd728e4f2607dc200638ff3c40d"/>
          <p:cNvPicPr/>
          <p:nvPr/>
        </p:nvPicPr>
        <p:blipFill>
          <a:blip r:embed="rId2"/>
          <a:stretch/>
        </p:blipFill>
        <p:spPr>
          <a:xfrm>
            <a:off x="2971800" y="441972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0a5c62734798754d9e056a4260bc43fa"/>
          <p:cNvPicPr/>
          <p:nvPr/>
        </p:nvPicPr>
        <p:blipFill>
          <a:blip r:embed="rId3"/>
          <a:stretch/>
        </p:blipFill>
        <p:spPr>
          <a:xfrm>
            <a:off x="5943600" y="2209680"/>
            <a:ext cx="3200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. Обучающиеся, допустившие нарушение общих требований по безопасности при проведении занятий по плаванию, привлекаются к ответственности, а со всей группой (классом) проводится внеплановый инструктаж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699"/>
          <p:cNvPicPr/>
          <p:nvPr/>
        </p:nvPicPr>
        <p:blipFill>
          <a:blip r:embed="rId1"/>
          <a:stretch/>
        </p:blipFill>
        <p:spPr>
          <a:xfrm>
            <a:off x="838080" y="3657600"/>
            <a:ext cx="2870280" cy="32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загруженное"/>
          <p:cNvPicPr/>
          <p:nvPr/>
        </p:nvPicPr>
        <p:blipFill>
          <a:blip r:embed="rId2"/>
          <a:stretch/>
        </p:blipFill>
        <p:spPr>
          <a:xfrm>
            <a:off x="3657600" y="3668760"/>
            <a:ext cx="48006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1. Учителя физической культуры, имеющие специальное профессиональное образ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2. Учителя, работающие без специ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тратег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Проведение обучающих семинаров-практикумов Систематизация знаний о новых правилах проведения соревнований по пла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Организация мастер-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Выходные диагностики посредством тестирования, открытого анкетирования. Анал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5331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гл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1. Обоснование необходимост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2. Цели и задач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3. Участник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4. Описание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5. Рабочий план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6. Прогнозируемые краткосрочные и долгосрочные результаты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7. Оценка эффективности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8. Оценка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9. Дальнейшее развитие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лан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одная диагностика, посредством тестирования, анкет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теоретических знаний организации и судейству соревнований по пла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семинаров- практикумов, мастер-классов, привлекая тренеров-преподавателей по плаванию ДЮС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одная диагно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и судейство соревнований по пла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Users\User\Desktop\yandsearch (2).jpg"/>
          <p:cNvPicPr/>
          <p:nvPr/>
        </p:nvPicPr>
        <p:blipFill>
          <a:blip r:embed="rId1"/>
          <a:stretch/>
        </p:blipFill>
        <p:spPr>
          <a:xfrm>
            <a:off x="2590920" y="4343400"/>
            <a:ext cx="35812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фик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5459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лагаемая дата проведения</a:t>
                      </a:r>
                      <a:endParaRPr b="0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проведен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мероприят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ый за выполнен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Ш № 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ная диагностик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ь проект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группам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теоретического занятия по судейству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юторы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К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семинара-практику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ер-преподаватель по плаванию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Ш № 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ная диагностик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юторы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К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оревнований по плаванию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 физической культуры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Прогнозируемые краткосрочные результаты реализации проек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вести качество теоретической и практической подготовки учителей физической культуры в оргагизации и судейства соревнований по плаванию до уроня 80%-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гнозируемые долгосрочные результаты проекта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стематически и самостоятельно проводить соревнования по плаванию не только на школьном уровне, но и на  муниципальном, не привлекая тренеров преподавател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User\Desktop\image003.jpg"/>
          <p:cNvPicPr/>
          <p:nvPr/>
        </p:nvPicPr>
        <p:blipFill>
          <a:blip r:embed="rId1"/>
          <a:stretch/>
        </p:blipFill>
        <p:spPr>
          <a:xfrm>
            <a:off x="1295280" y="3962520"/>
            <a:ext cx="6248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Мероприятия проводимые учителями-тьюторам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ведение теоретических занятий по организации и судейству соревнований по плавани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рганизация семинаров-практикумов по судейству и проведению соревнований по плавани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ведение мастер-классов с привлечением тренеров-преподавателей по плаванию ДЮС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ходная диагност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ка эффективности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.Повысить низкий и средний уровни качества теоретической подготовки до 80-9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. Повысить уровень практических умений и навыков учителей физической культур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полненные мероприят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едение анкетирования(выявлено у 5% учителей отсутствия специального образова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естирование теоретических знаний по организации и судейству соревнований по пла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0% учителей не знают теории организации и судейства соревнований по пла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Users\User\Desktop\yandsearch.jpg"/>
          <p:cNvPicPr/>
          <p:nvPr/>
        </p:nvPicPr>
        <p:blipFill>
          <a:blip r:embed="rId1"/>
          <a:stretch/>
        </p:blipFill>
        <p:spPr>
          <a:xfrm>
            <a:off x="1905120" y="3733920"/>
            <a:ext cx="5105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аличие у учителей физической культуры специального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Результаты входной диагностик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2108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его учителей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учителей, имеющих высокий урове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учителей, имеющих средний урове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учителей, имеющих низкий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рове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 теоретической подготовки учителей физиче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Дальнейшее развитие проект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Arial"/>
              </a:rPr>
              <a:t>Систематически организовывать и судить соревнования по плаванию не только в школе, но и на муниципальном уров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24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Arial"/>
              </a:rPr>
              <a:t>Совершенствоваться в организации и проведении соревнований по плавани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24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Arial"/>
              </a:rPr>
              <a:t>Обобщить и распространить опыт работы в этом направлен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Users\User\Desktop\yandsearch.jpg"/>
          <p:cNvPicPr/>
          <p:nvPr/>
        </p:nvPicPr>
        <p:blipFill>
          <a:blip r:embed="rId1"/>
          <a:stretch/>
        </p:blipFill>
        <p:spPr>
          <a:xfrm>
            <a:off x="5638680" y="4114800"/>
            <a:ext cx="3048120" cy="25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User\Desktop\yandsearch.jpg"/>
          <p:cNvPicPr/>
          <p:nvPr/>
        </p:nvPicPr>
        <p:blipFill>
          <a:blip r:embed="rId2"/>
          <a:stretch/>
        </p:blipFill>
        <p:spPr>
          <a:xfrm>
            <a:off x="2971800" y="4114800"/>
            <a:ext cx="2590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ли и 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6705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i="1" lang="ru-RU" sz="3700" spc="-1" strike="noStrike">
                <a:solidFill>
                  <a:srgbClr val="ff0000"/>
                </a:solidFill>
                <a:latin typeface="Arial"/>
              </a:rPr>
              <a:t>повышение уровня профессиональной компетентности учителей физической культуры в вопросах судейства, организации и проведения соревнований по плаванию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4200"/>
            </a:b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1.Выявить  уровень теоретической подготовки на текущий момент посредством тестирования.</a:t>
            </a:r>
            <a:br>
              <a:rPr sz="2000"/>
            </a:b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2. Обеспечить теоретическими сведениями применение практических навыков.</a:t>
            </a:r>
            <a:br>
              <a:rPr sz="2000"/>
            </a:b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3. Определить факторы, влияющие на качество профессиональной деятельности учителей физической культуры как судей по плаванию.</a:t>
            </a:r>
            <a:br>
              <a:rPr sz="2000"/>
            </a:b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5. Повысить уровень знаний в организации и проведении соревнований по плаванию. Определить типичные ошиб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Users\User\Desktop\yandsearch.jpg"/>
          <p:cNvPicPr/>
          <p:nvPr/>
        </p:nvPicPr>
        <p:blipFill>
          <a:blip r:embed="rId1"/>
          <a:stretch/>
        </p:blipFill>
        <p:spPr>
          <a:xfrm>
            <a:off x="4800600" y="30492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User\Desktop\yandsearch (2).jpg"/>
          <p:cNvPicPr/>
          <p:nvPr/>
        </p:nvPicPr>
        <p:blipFill>
          <a:blip r:embed="rId2"/>
          <a:stretch/>
        </p:blipFill>
        <p:spPr>
          <a:xfrm>
            <a:off x="990720" y="457200"/>
            <a:ext cx="3352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ник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6791400" cy="306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Николаева  С.А- автор проекта , учитель физической культуры высшей категории МБОУ «СОШ №1 р.п. Базарный Карабулак Саратовской области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Соавторы проект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езанова Е.Н. – учитель физической культуры первой категории МБОУ «СОШ №1 с. Ивановка Базарно-Карабулакского района Саратовской област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арыгин С.Н. – учитель физической культуры первой категории МБОУ «СОШ  с. Тепляковка, Базарно-Карабулакского района Саратовской област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арченко А.А. - учитель физической культуры первой категории МБОУ «СОШ  с.Липовка, Базарно-Карабулакского района Саратовской област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иколаев Н.В. - учитель физической культуры первой категории МБОУ «СОШ №1 р.п. Базарный Карабулак Саратовской области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имохин В.В. - учитель физической культуры первой категории МБОУ «СОШ №1 р.п. Базарный Карабулак Саратовской области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ульков А.В. –тренер-преподаватель по плаванию МОУ «ДОД   ДЮСШ  Базарный Карабулак Саратовской област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исание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жде чем перейти к основным задачам пректа, мы убеждены, что без правил поведения по технике безопасности в бассейне никак не обойтись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User\Desktop\yandsearch.jpg"/>
          <p:cNvPicPr/>
          <p:nvPr/>
        </p:nvPicPr>
        <p:blipFill>
          <a:blip r:embed="rId1"/>
          <a:stretch/>
        </p:blipFill>
        <p:spPr>
          <a:xfrm>
            <a:off x="4495680" y="4114800"/>
            <a:ext cx="3781440" cy="240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User\Desktop\yandsearch.jpg"/>
          <p:cNvPicPr/>
          <p:nvPr/>
        </p:nvPicPr>
        <p:blipFill>
          <a:blip r:embed="rId2"/>
          <a:stretch/>
        </p:blipFill>
        <p:spPr>
          <a:xfrm>
            <a:off x="762120" y="4267080"/>
            <a:ext cx="3581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равила по технике безопасности при проведении занятий по плав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1316749113_9879_10_17122008(1)"/>
          <p:cNvPicPr/>
          <p:nvPr/>
        </p:nvPicPr>
        <p:blipFill>
          <a:blip r:embed="rId1"/>
          <a:stretch/>
        </p:blipFill>
        <p:spPr>
          <a:xfrm>
            <a:off x="609480" y="2347920"/>
            <a:ext cx="8077320" cy="4510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6019920" y="566568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80000"/>
                </a:solidFill>
                <a:latin typeface="Arial"/>
              </a:rPr>
              <a:t>Подготовила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8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180000"/>
                </a:solidFill>
                <a:latin typeface="Arial"/>
              </a:rPr>
              <a:t>ученица 10 «А» класса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80000"/>
                </a:solidFill>
                <a:latin typeface="Arial"/>
              </a:rPr>
              <a:t>Зайцева Дарь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228960" y="2286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нимаясь плаванием, человек в определенной степени рискует получить простудное заболевание. Кроме того, постоянное попадание холодной воды в уши может вызвать раздражение наружного слухового прохода, что в последующем нередко приводит к отиту вестибулярного аппарата. Возможны и различные механические травмы: потертости, ссадины, ушибы, растяжения, надрывы и разрывы мышц и связок, разрывы барабанных перепонок, шок. Общие требования по безопасности на занятиях по плаванию заключаются в выполнении следующих правил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_42aea_6ca5ea1c_L"/>
          <p:cNvPicPr/>
          <p:nvPr/>
        </p:nvPicPr>
        <p:blipFill>
          <a:blip r:embed="rId1"/>
          <a:stretch/>
        </p:blipFill>
        <p:spPr>
          <a:xfrm>
            <a:off x="6934320" y="5032440"/>
            <a:ext cx="22096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К занятиям по плаванию допускаются учащиеся, прошедшие инструктаж, медицинский осмотр и не имеющие противопоказаний по состоянию здоровья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23_0"/>
          <p:cNvPicPr/>
          <p:nvPr/>
        </p:nvPicPr>
        <p:blipFill>
          <a:blip r:embed="rId1"/>
          <a:stretch/>
        </p:blipFill>
        <p:spPr>
          <a:xfrm>
            <a:off x="0" y="2590920"/>
            <a:ext cx="4800600" cy="426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bigimage5_0"/>
          <p:cNvPicPr/>
          <p:nvPr/>
        </p:nvPicPr>
        <p:blipFill>
          <a:blip r:embed="rId2"/>
          <a:stretch/>
        </p:blipFill>
        <p:spPr>
          <a:xfrm>
            <a:off x="4476600" y="2590920"/>
            <a:ext cx="4667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зырева О.П.</cp:lastModifiedBy>
  <dcterms:modified xsi:type="dcterms:W3CDTF">2013-01-14T06:52:58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