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1F3-497B-4B07-82BA-DC203941012D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6E0A-28E8-40FE-A19B-8167E4E2DD3F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1AC-82FA-442B-A036-C89D73AA69AC}" type="slidenum">
              <a:rPr b="0" i="1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D3E-6277-47CB-BB48-0687AB4D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D4A-6B79-4B45-B83B-97A23001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E5D-5768-4D33-93D7-D2E636DD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ACF-3D57-44C1-A0AB-4B0F27C5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DD3-7AC8-4BDA-BB92-33F97FC9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AE6-1312-4FCA-AEAC-D6830440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BE0-7B1A-4151-8A71-020CA719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CB7-E6FA-4F95-AE7E-550D360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8E9-CF50-406D-AABF-A8561E8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C54-DBA4-4418-AE7A-85ADA7F9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71F-1CFF-4135-9A13-4F9C99C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724-3B46-4EEA-970C-72724AD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BFA2-B62C-4D6A-A93B-075E58A51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Проект по физической культур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42670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удейство соревнований по пла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Должны неукоснительно соблюдаться расписание учебных занятий, определенные режимы выполнения упражнений и отдыха, установленные правила поведени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70811_SwimmingSafety_169_t_w600_h1200"/>
          <p:cNvPicPr/>
          <p:nvPr/>
        </p:nvPicPr>
        <p:blipFill>
          <a:blip r:embed="rId1"/>
          <a:stretch/>
        </p:blipFill>
        <p:spPr>
          <a:xfrm>
            <a:off x="914400" y="2503440"/>
            <a:ext cx="72388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Занятия проводятся только в присутствии преподавател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2-bass-pl_mid"/>
          <p:cNvPicPr/>
          <p:nvPr/>
        </p:nvPicPr>
        <p:blipFill>
          <a:blip r:embed="rId1"/>
          <a:stretch/>
        </p:blipFill>
        <p:spPr>
          <a:xfrm>
            <a:off x="1143000" y="154296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оздавшие на занятия не допускаютс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x_6ce935ba"/>
          <p:cNvPicPr/>
          <p:nvPr/>
        </p:nvPicPr>
        <p:blipFill>
          <a:blip r:embed="rId1"/>
          <a:stretch/>
        </p:blipFill>
        <p:spPr>
          <a:xfrm>
            <a:off x="990720" y="1308240"/>
            <a:ext cx="73911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В бассейне категорически запрещается шуметь, бегать, толкаться, подныривать, переходить на «чужую» дорожку, подавать ложные сигналы о помощи, висеть на дорожках, бросать плавательные доски с бортиков в воду или из воды на кафель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Lbjl6mzMEE"/>
          <p:cNvPicPr/>
          <p:nvPr/>
        </p:nvPicPr>
        <p:blipFill>
          <a:blip r:embed="rId1"/>
          <a:stretch/>
        </p:blipFill>
        <p:spPr>
          <a:xfrm>
            <a:off x="685800" y="3546360"/>
            <a:ext cx="5181480" cy="33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lori-0003847384-smallwww"/>
          <p:cNvPicPr/>
          <p:nvPr/>
        </p:nvPicPr>
        <p:blipFill>
          <a:blip r:embed="rId2"/>
          <a:stretch/>
        </p:blipFill>
        <p:spPr>
          <a:xfrm>
            <a:off x="5867280" y="3505320"/>
            <a:ext cx="233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Занятия по плаванию должны быть обеспечены средствами для спасения утопающих и медицинской аптечкой для оказания первой помощи пострадавшим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1211625"/>
          <p:cNvPicPr/>
          <p:nvPr/>
        </p:nvPicPr>
        <p:blipFill>
          <a:blip r:embed="rId1"/>
          <a:stretch/>
        </p:blipFill>
        <p:spPr>
          <a:xfrm>
            <a:off x="0" y="3436920"/>
            <a:ext cx="3733920" cy="342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3991405-girl-near-tropical-pool-with-life-saving-buoy"/>
          <p:cNvPicPr/>
          <p:nvPr/>
        </p:nvPicPr>
        <p:blipFill>
          <a:blip r:embed="rId2"/>
          <a:stretch/>
        </p:blipFill>
        <p:spPr>
          <a:xfrm>
            <a:off x="3733920" y="3449520"/>
            <a:ext cx="54100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. Почувствовав усталость, надо спокойно плыть к берегу. При судорогах не теряться, стараться держаться на воде и звать на помощь. При оказании помощи не хвататься за спасающего, а помогать ему буксировать вас к берег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817_big"/>
          <p:cNvPicPr/>
          <p:nvPr/>
        </p:nvPicPr>
        <p:blipFill>
          <a:blip r:embed="rId1"/>
          <a:stretch/>
        </p:blipFill>
        <p:spPr>
          <a:xfrm>
            <a:off x="1066680" y="3809880"/>
            <a:ext cx="287820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ool1"/>
          <p:cNvPicPr/>
          <p:nvPr/>
        </p:nvPicPr>
        <p:blipFill>
          <a:blip r:embed="rId2"/>
          <a:stretch/>
        </p:blipFill>
        <p:spPr>
          <a:xfrm>
            <a:off x="396252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чувствовав слабость или недомогание после плавания, следует обратиться к врач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kosh_0"/>
          <p:cNvPicPr/>
          <p:nvPr/>
        </p:nvPicPr>
        <p:blipFill>
          <a:blip r:embed="rId1"/>
          <a:stretch/>
        </p:blipFill>
        <p:spPr>
          <a:xfrm>
            <a:off x="914400" y="1862280"/>
            <a:ext cx="74674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. Если вы стали очевидцем несчастного случая, следует немедленно сообщить о нем учителю и при необходимости оказать посильную помощь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9f368b03415130d434af6863a0de3124"/>
          <p:cNvPicPr/>
          <p:nvPr/>
        </p:nvPicPr>
        <p:blipFill>
          <a:blip r:embed="rId1"/>
          <a:stretch/>
        </p:blipFill>
        <p:spPr>
          <a:xfrm>
            <a:off x="0" y="2209680"/>
            <a:ext cx="356868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9b9b4fd728e4f2607dc200638ff3c40d"/>
          <p:cNvPicPr/>
          <p:nvPr/>
        </p:nvPicPr>
        <p:blipFill>
          <a:blip r:embed="rId2"/>
          <a:stretch/>
        </p:blipFill>
        <p:spPr>
          <a:xfrm>
            <a:off x="2971800" y="44197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a5c62734798754d9e056a4260bc43fa"/>
          <p:cNvPicPr/>
          <p:nvPr/>
        </p:nvPicPr>
        <p:blipFill>
          <a:blip r:embed="rId3"/>
          <a:stretch/>
        </p:blipFill>
        <p:spPr>
          <a:xfrm>
            <a:off x="5943600" y="2209680"/>
            <a:ext cx="3200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. Обучающиеся, допустившие нарушение общих требований по безопасности при проведении занятий по плаванию, привлекаются к ответственности, а со всей группой (классом) проводится внеплановый инструктаж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699"/>
          <p:cNvPicPr/>
          <p:nvPr/>
        </p:nvPicPr>
        <p:blipFill>
          <a:blip r:embed="rId1"/>
          <a:stretch/>
        </p:blipFill>
        <p:spPr>
          <a:xfrm>
            <a:off x="838080" y="3657600"/>
            <a:ext cx="287028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загруженное"/>
          <p:cNvPicPr/>
          <p:nvPr/>
        </p:nvPicPr>
        <p:blipFill>
          <a:blip r:embed="rId2"/>
          <a:stretch/>
        </p:blipFill>
        <p:spPr>
          <a:xfrm>
            <a:off x="3657600" y="3668760"/>
            <a:ext cx="48006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1. Учителя физической культуры, имеющие специальное профессиональное 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2. Учителя, работающие без специ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тратег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роведение обучающих семинаров-практикумов Систематизация знаний о новых правилах проведения соревнований по пла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Организация мастер-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Выходные диагностики посредством тестирования, открытого анкетирования.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5331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гл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1. Обоснование необходимост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2. Цели и 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3. Участник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4. Описа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5. Рабочий план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6. Прогнозируемые краткосрочные и долгосрочные результаты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7. Оценка эффективности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8. Оценка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9. Дальнейшее развит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лан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ная диагностика, посредством тестирования, анке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теоретических знаний организации и судейству соревнований по пла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семинаров- практикумов, мастер-классов, привлекая тренеров-преподавателей по плаванию ДЮС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ная 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и судейство соревнований по пла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User\Desktop\yandsearch (2).jpg"/>
          <p:cNvPicPr/>
          <p:nvPr/>
        </p:nvPicPr>
        <p:blipFill>
          <a:blip r:embed="rId1"/>
          <a:stretch/>
        </p:blipFill>
        <p:spPr>
          <a:xfrm>
            <a:off x="2590920" y="4343400"/>
            <a:ext cx="35812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к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5459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агаемая дата проведения</a:t>
                      </a:r>
                      <a:endParaRPr b="0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проведе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мероприят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й за выполнен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Ш № 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ная диагностик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проект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руппам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теоретического занятия по судейству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ы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К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семинара-практику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ер-преподаватель по плаванию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Ш № 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ная диагностик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ы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К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оревнований по плаванию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 физической культуры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гнозируемые краткосрочные результаты реализации проек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ести качество теоретической и практической подготовки учителей физической культуры в оргагизации и судейства соревнований по плаванию до уроня 80%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гнозируемые долгосрочные результаты проекта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стематически и самостоятельно проводить соревнования по плаванию не только на школьном уровне, но и на  муниципальном, не привлекая тренеров преподава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ser\Desktop\image003.jpg"/>
          <p:cNvPicPr/>
          <p:nvPr/>
        </p:nvPicPr>
        <p:blipFill>
          <a:blip r:embed="rId1"/>
          <a:stretch/>
        </p:blipFill>
        <p:spPr>
          <a:xfrm>
            <a:off x="1295280" y="3962520"/>
            <a:ext cx="624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Мероприятия проводимые учителями-тьютора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едение теоретических занятий по организации и судейству соревнований по плавани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рганизация семинаров-практикумов по судейству и проведению соревнований по плавани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едение мастер-классов с привлечением тренеров-преподавателей по плаванию ДЮС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ходная диагност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ка эффективности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Повысить низкий и средний уровни качества теоретической подготовки до 80-9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 Повысить уровень практических умений и навыков учителей физической куль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полненные мероприят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едение анкетирования(выявлено у 5% учителей отсутствия специального образова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естирование теоретических знаний по организации и судейству соревнований по пла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0% учителей не знают теории организации и судейства соревнований по пла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Users\User\Desktop\yandsearch.jpg"/>
          <p:cNvPicPr/>
          <p:nvPr/>
        </p:nvPicPr>
        <p:blipFill>
          <a:blip r:embed="rId1"/>
          <a:stretch/>
        </p:blipFill>
        <p:spPr>
          <a:xfrm>
            <a:off x="1905120" y="3733920"/>
            <a:ext cx="5105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личие у учителей физической культуры специаль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езультаты входной диагностик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108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его учителей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учителей, имеющих высокий уров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учителей, имеющих средний уров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учителей, имеющих низкий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ров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теоретической подготовки учителей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Дальнейшее развитие проект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Систематически организовывать и судить соревнования по плаванию не только в школе, но и на муниципальном уров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Совершенствоваться в организации и проведении соревнований по плавани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Обобщить и распространить опыт работы в этом направлен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Users\User\Desktop\yandsearch.jpg"/>
          <p:cNvPicPr/>
          <p:nvPr/>
        </p:nvPicPr>
        <p:blipFill>
          <a:blip r:embed="rId1"/>
          <a:stretch/>
        </p:blipFill>
        <p:spPr>
          <a:xfrm>
            <a:off x="5638680" y="4114800"/>
            <a:ext cx="3048120" cy="25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User\Desktop\yandsearch.jpg"/>
          <p:cNvPicPr/>
          <p:nvPr/>
        </p:nvPicPr>
        <p:blipFill>
          <a:blip r:embed="rId2"/>
          <a:stretch/>
        </p:blipFill>
        <p:spPr>
          <a:xfrm>
            <a:off x="2971800" y="411480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6705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ru-RU" sz="3700" spc="-1" strike="noStrike">
                <a:solidFill>
                  <a:srgbClr val="ff0000"/>
                </a:solidFill>
                <a:latin typeface="Arial"/>
              </a:rPr>
              <a:t>повышение уровня профессиональной компетентности учителей физической культуры в вопросах судейства, организации и проведения соревнований по плаванию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42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1.Выявить  уровень теоретической подготовки на текущий момент посредством тестирования.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2. Обеспечить теоретическими сведениями применение практических навыков.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3. Определить факторы, влияющие на качество профессиональной деятельности учителей физической культуры как судей по плаванию.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5. Повысить уровень знаний в организации и проведении соревнований по плаванию. Определить типичные ошиб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User\Desktop\yandsearch.jpg"/>
          <p:cNvPicPr/>
          <p:nvPr/>
        </p:nvPicPr>
        <p:blipFill>
          <a:blip r:embed="rId1"/>
          <a:stretch/>
        </p:blipFill>
        <p:spPr>
          <a:xfrm>
            <a:off x="4800600" y="30492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User\Desktop\yandsearch (2).jpg"/>
          <p:cNvPicPr/>
          <p:nvPr/>
        </p:nvPicPr>
        <p:blipFill>
          <a:blip r:embed="rId2"/>
          <a:stretch/>
        </p:blipFill>
        <p:spPr>
          <a:xfrm>
            <a:off x="990720" y="45720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6791400" cy="306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Николаева  С.А- автор проекта , учитель физической культуры высшей категории МБОУ «СОШ №1 р.п. Базарный Карабулак Саратовской област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оавторы проект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анова Е.Н. – учитель физической культуры первой категории МБОУ «СОШ №1 с. Ивановка Базарно-Карабулакского района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арыгин С.Н. – учитель физической культуры первой категории МБОУ «СОШ  с. Тепляковка, Базарно-Карабулакского района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арченко А.А. - учитель физической культуры первой категории МБОУ «СОШ  с.Липовка, Базарно-Карабулакского района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иколаев Н.В. - учитель физической культуры первой категории МБОУ «СОШ №1 р.п. Базарный Карабулак Саратовской област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имохин В.В. - учитель физической культуры первой категории МБОУ «СОШ №1 р.п. Базарный Карабулак Саратовской област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ульков А.В. –тренер-преподаватель по плаванию МОУ «ДОД   ДЮСШ  Базарный Карабулак Саратовской област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исание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чем перейти к основным задачам пректа, мы убеждены, что без правил поведения по технике безопасности в бассейне никак не обойтись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User\Desktop\yandsearch.jpg"/>
          <p:cNvPicPr/>
          <p:nvPr/>
        </p:nvPicPr>
        <p:blipFill>
          <a:blip r:embed="rId1"/>
          <a:stretch/>
        </p:blipFill>
        <p:spPr>
          <a:xfrm>
            <a:off x="4495680" y="4114800"/>
            <a:ext cx="3781440" cy="240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User\Desktop\yandsearch.jpg"/>
          <p:cNvPicPr/>
          <p:nvPr/>
        </p:nvPicPr>
        <p:blipFill>
          <a:blip r:embed="rId2"/>
          <a:stretch/>
        </p:blipFill>
        <p:spPr>
          <a:xfrm>
            <a:off x="762120" y="426708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авила по технике безопасности при проведении занятий по пла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1316749113_9879_10_17122008(1)"/>
          <p:cNvPicPr/>
          <p:nvPr/>
        </p:nvPicPr>
        <p:blipFill>
          <a:blip r:embed="rId1"/>
          <a:stretch/>
        </p:blipFill>
        <p:spPr>
          <a:xfrm>
            <a:off x="609480" y="2347920"/>
            <a:ext cx="8077320" cy="45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6019920" y="566568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Подготовила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ученица 10 «А» класс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0000"/>
                </a:solidFill>
                <a:latin typeface="Arial"/>
              </a:rPr>
              <a:t>Зайцева Дарь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228960" y="2286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нимаясь плаванием, человек в определенной степени рискует получить простудное заболевание. Кроме того, постоянное попадание холодной воды в уши может вызвать раздражение наружного слухового прохода, что в последующем нередко приводит к отиту вестибулярного аппарата. Возможны и различные механические травмы: потертости, ссадины, ушибы, растяжения, надрывы и разрывы мышц и связок, разрывы барабанных перепонок, шок. Общие требования по безопасности на занятиях по плаванию заключаются в выполнении следующих правил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_42aea_6ca5ea1c_L"/>
          <p:cNvPicPr/>
          <p:nvPr/>
        </p:nvPicPr>
        <p:blipFill>
          <a:blip r:embed="rId1"/>
          <a:stretch/>
        </p:blipFill>
        <p:spPr>
          <a:xfrm>
            <a:off x="6934320" y="5032440"/>
            <a:ext cx="22096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К занятиям по плаванию допускаются учащиеся, прошедшие инструктаж, медицинский осмотр и не имеющие противопоказаний по состоянию здоровья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23_0"/>
          <p:cNvPicPr/>
          <p:nvPr/>
        </p:nvPicPr>
        <p:blipFill>
          <a:blip r:embed="rId1"/>
          <a:stretch/>
        </p:blipFill>
        <p:spPr>
          <a:xfrm>
            <a:off x="0" y="259092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bigimage5_0"/>
          <p:cNvPicPr/>
          <p:nvPr/>
        </p:nvPicPr>
        <p:blipFill>
          <a:blip r:embed="rId2"/>
          <a:stretch/>
        </p:blipFill>
        <p:spPr>
          <a:xfrm>
            <a:off x="4476600" y="2590920"/>
            <a:ext cx="4667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зырева О.П.</cp:lastModifiedBy>
  <dcterms:modified xsi:type="dcterms:W3CDTF">2013-01-14T06:52:58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