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19.jpeg" ContentType="image/jpeg"/>
  <Override PartName="/ppt/media/image4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A980-260A-4440-8BC0-F575CF71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117-48FD-4568-9FA5-FD4B43C2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D37-08A6-4F9D-8FAF-29A84282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C5B-E34D-47CA-85A1-684B49B4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86C-1F98-4388-A656-5046FC22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605-7451-4EBE-840B-176978CD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F6D-573D-45A7-B531-33EC6E9D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477-B94D-4AAB-8D5A-BDF4551C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F3C-6495-4135-B484-1E968A41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BAE-8F3D-42E3-B62C-20858B97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842-2355-4FAD-929A-8F43A627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690-49EC-4DAD-A4B6-C47D7687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CF56-D905-42FE-8A28-1B35B339C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Государственное бюджетное образовательное учреждение</a:t>
            </a:r>
            <a:br>
              <a:rPr sz="1600"/>
            </a:b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общеразвивающего вида детский сад №2493</a:t>
            </a:r>
            <a:br>
              <a:rPr sz="1600"/>
            </a:br>
            <a:br>
              <a:rPr sz="16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Волшебный мир в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3284280"/>
            <a:ext cx="87138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Эксперементально-исследовательская деятельность в старшей группе №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ru-RU" sz="2000" spc="-1" strike="noStrike">
                <a:solidFill>
                  <a:srgbClr val="990099"/>
                </a:solidFill>
                <a:latin typeface="Arial"/>
              </a:rPr>
              <a:t>Воспитатели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Балаева Н.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Демьянова И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В воде одни вещества растворяются- другие не растворяютс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« Вода бывает теплой, холодной и горяче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3097440" cy="2303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219640" y="4076640"/>
            <a:ext cx="3240000" cy="2376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042920" y="4076640"/>
            <a:ext cx="3097440" cy="2376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5219640" y="1628640"/>
            <a:ext cx="3168720" cy="23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« Вода не имеет форм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3130560" cy="2186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43280" y="2205000"/>
            <a:ext cx="3888000" cy="3168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26920" y="3933720"/>
            <a:ext cx="3168720" cy="23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« Тонет- не тоне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511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Фокусы с давлением</a:t>
            </a:r>
            <a:br>
              <a:rPr sz="3600"/>
            </a:b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«Перевернутый стакан и лист бумаг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2914560" cy="2233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42920" y="4221000"/>
            <a:ext cx="2916360" cy="2303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219640" y="1916280"/>
            <a:ext cx="2914560" cy="2233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219640" y="4221000"/>
            <a:ext cx="2916360" cy="23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Обобщ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4537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Вы слыхали о воде?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Говорят она везде!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В луже, в море, в океане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    И в водопроводном кране.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 Как сосулька замерзает,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    В лес туманом заползает.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     Ледником в горах зовется.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          Лентой серебристой вьется.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Мы привыкли, что вода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Наша спутница всегда. 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 Без нее нам не умыться, 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    Не наесться, не напиться!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Смею вам я доложить 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Без нее нам не прожить.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                                 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Н.Рыж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610080" cy="333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Для жизни человека, вода имеет очень важное знач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Человек, запомни навсег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имвол жизни на Земле- вод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Экономь ее и берег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Мы ведь на планете не од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16360" y="3933720"/>
            <a:ext cx="3671640" cy="244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Эксперементирование с вод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познакомить со свойствами воды;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вызвать интерес к получению новых зн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развивать речь, активизировать словарь за счет новых слов, используемых в ходе опытов(различные свойства воды, состояние, обитател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воспитывать бережное отношение к природе, желание заботиться о сохранности всего живог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развивать умение ставить цель, находить пути решения задач, доводить дело до кон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закреплять умение работать в коллективе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218592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2808360" cy="244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«Вода прозрачна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Вода прозрач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52560" y="27194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« У воды нет вкус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« У воды нет запах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3168720" cy="2330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42920" y="3933720"/>
            <a:ext cx="31687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148360" y="1484280"/>
            <a:ext cx="2985840" cy="233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148360" y="3933720"/>
            <a:ext cx="2987640" cy="25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«Пар-это тоже вод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40872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14:13:53Z</dcterms:created>
  <dc:creator>Р</dc:creator>
  <dc:description/>
  <dc:language>en-US</dc:language>
  <cp:lastModifiedBy>Mishukov</cp:lastModifiedBy>
  <dcterms:modified xsi:type="dcterms:W3CDTF">2012-12-11T14:13:17Z</dcterms:modified>
  <cp:revision>22</cp:revision>
  <dc:subject/>
  <dc:title>Слайд 1</dc:title>
</cp:coreProperties>
</file>