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19.jpeg" ContentType="image/jpeg"/>
  <Override PartName="/ppt/media/image4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059-D122-41F8-ACEB-0BEA7AB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D27-365B-4EEC-9168-41DDB6F3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8C6-E16F-441D-816F-834FC8F2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09E-3B4A-4F1B-9384-EBE0DE0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811-6510-4A4A-BBAE-DD98596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0B1-ACE9-437C-8221-C10AE782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6AA-F0EF-4959-B504-7995F0C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DB2-CB72-4F8A-8C20-1F07F65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77B-57C4-4320-9A0D-93F22EBC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95C-DACB-4868-B95C-E4E994F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685-7000-4B78-B7D7-0E8DBDE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F1A-D7CF-42FC-B7BE-C926F9A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B33-A9D5-4A3F-93F9-0E73A24E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Государственное бюджет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общеразвивающего вида детский сад №2493</a:t>
            </a:r>
            <a:br>
              <a:rPr sz="1600"/>
            </a:b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Волшебный мир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3284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Эксперементально-исследовательская деятельность в старшей группе №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000" spc="-1" strike="noStrike">
                <a:solidFill>
                  <a:srgbClr val="990099"/>
                </a:solidFill>
                <a:latin typeface="Arial"/>
              </a:rPr>
              <a:t>Воспитател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лаева Н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емьянова И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 воде одни вещества растворяются- другие не растворяют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« Вода бывает теплой, холодной и горяч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097440" cy="230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3097440" cy="237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316872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 Вода не имеет форм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130560" cy="218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3280" y="2205000"/>
            <a:ext cx="3888000" cy="3168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316872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 Тонет- не тоне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51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Фокусы с давлением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«Перевернутый стакан и лист бума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914560" cy="223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29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19640" y="1916280"/>
            <a:ext cx="291456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1636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Обобщ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45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Вы слыхали о воде?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Говорят она везде!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В луже, в море, в океане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И в водопроводном кране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Как сосулька замерзает,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В лес туманом заползает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Ледником в горах зовется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     Лентой серебристой вьется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Мы привыкли, что вода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Наша спутница всегда.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Без нее нам не умыться,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Не наесться, не напиться!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Смею вам я доложить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Без нее нам не прожить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Н.Рыж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610080" cy="33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ля жизни человека, вода имеет очень важное знач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Человек, запомни навсег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имвол жизни на Земле- во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Экономь ее и берег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ы ведь на планете не од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6360" y="3933720"/>
            <a:ext cx="367164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Эксперементирование с вод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знакомить со свойствами воды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вызвать интерес к получению новых зн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развивать речь, активизировать словарь за счет новых слов, используемых в ходе опытов(различные свойства воды, состояние, обитател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воспитывать бережное отношение к природе, желание заботиться о сохранности всего жив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развивать умение ставить цель, находить пути решения задач, доводить дело до кон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закреплять умение работать в коллективе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18592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Вода прозрачн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Вода прозра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 У воды нет вкус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 У воды нет запах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168720" cy="233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1484280"/>
            <a:ext cx="2985840" cy="233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148360" y="3933720"/>
            <a:ext cx="298764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Пар-это тоже 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40872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4:13:53Z</dcterms:created>
  <dc:creator>Р</dc:creator>
  <dc:description/>
  <dc:language>en-US</dc:language>
  <cp:lastModifiedBy>Mishukov</cp:lastModifiedBy>
  <dcterms:modified xsi:type="dcterms:W3CDTF">2012-12-11T14:13:17Z</dcterms:modified>
  <cp:revision>22</cp:revision>
  <dc:subject/>
  <dc:title>Слайд 1</dc:title>
</cp:coreProperties>
</file>