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5.wmf" ContentType="image/x-wmf"/>
  <Override PartName="/ppt/media/image46.jpeg" ContentType="image/jpeg"/>
  <Override PartName="/ppt/media/image3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47.jpeg" ContentType="image/jpeg"/>
  <Override PartName="/ppt/media/image90.wmf" ContentType="image/x-wmf"/>
  <Override PartName="/ppt/media/image36.wmf" ContentType="image/x-wmf"/>
  <Override PartName="/ppt/media/image6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20.jpeg" ContentType="image/jpeg"/>
  <Override PartName="/ppt/media/image2.wmf" ContentType="image/x-wmf"/>
  <Override PartName="/ppt/media/image24.jpeg" ContentType="image/jpeg"/>
  <Override PartName="/ppt/media/image83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82.jpeg" ContentType="image/jpeg"/>
  <Override PartName="/ppt/media/image23.jpeg" ContentType="image/jpeg"/>
  <Override PartName="/ppt/media/image15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A57-326A-4A74-8DF7-03075BC1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C45-0232-443F-8A94-A47E1FF6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953-4854-467B-B564-4A887F2E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DA8-B43C-4738-B054-2FEDFEBA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8F3-F12C-4DD2-98F0-D86E7F43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B57D-A174-4726-8153-5DC45A3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6A9-72AC-407F-9178-C3FE8E29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D990-3EBA-49C9-8E53-63B7EE85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49D-9E50-4293-A144-B6099B9C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DAD-C9CC-457E-A32E-47DF085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2922-F0DA-41EF-9D37-EB87BFA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95E-9554-46E5-9AB0-81721FB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68E0-BE6D-40EE-989B-EA9E5E5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84F5-BA66-432C-8550-9F39296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AA6-4285-43AE-BAEE-C3DE08EE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44EE-1287-4B2D-AA63-28B2D7A6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D457-9B30-44DB-9E0E-8DBEEEAA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210-C054-4AE0-AD7E-66D0B5C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A7D-FD67-4F1C-86D8-25494976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DD1-156F-4F66-9A12-487AB30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D49-C5CE-4209-9107-BE50A546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09B-11C9-42DE-B849-3DE79A3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A9B-760C-47F8-8C1C-8E30D89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3DE-C76D-4049-A43D-2148299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F6E-2EE6-4203-9602-4E1865828D1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5B9A-A25E-49BE-AF4F-83CF795ACEE0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Государственное бюджетное образовательное учреждение детский сад общеразвивающего вида №2493</a:t>
            </a: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5400" spc="-1" strike="noStrike">
                <a:solidFill>
                  <a:srgbClr val="cc00ff"/>
                </a:solidFill>
                <a:latin typeface="Verdana"/>
              </a:rPr>
              <a:t>Сказка в нашей жизни</a:t>
            </a:r>
            <a:br>
              <a:rPr sz="4800"/>
            </a:br>
            <a:br>
              <a:rPr sz="4800"/>
            </a:br>
            <a:r>
              <a:rPr b="0" i="1" lang="ru-RU" sz="4000" spc="-1" strike="noStrike">
                <a:solidFill>
                  <a:srgbClr val="0000ff"/>
                </a:solidFill>
                <a:latin typeface="Verdana"/>
              </a:rPr>
              <a:t>Проектная деятельность в средней группе №12</a:t>
            </a:r>
            <a:br>
              <a:rPr sz="4000"/>
            </a:br>
            <a:br>
              <a:rPr sz="3600"/>
            </a:br>
            <a:br>
              <a:rPr sz="4000"/>
            </a:br>
            <a:r>
              <a:rPr b="0" lang="ru-RU" sz="2000" spc="-1" strike="noStrike">
                <a:solidFill>
                  <a:srgbClr val="cc00ff"/>
                </a:solidFill>
                <a:latin typeface="Verdana"/>
              </a:rPr>
              <a:t>Балаева Н. А.</a:t>
            </a:r>
            <a:br>
              <a:rPr sz="2000"/>
            </a:br>
            <a:r>
              <a:rPr b="0" lang="ru-RU" sz="2000" spc="-1" strike="noStrike">
                <a:solidFill>
                  <a:srgbClr val="cc00ff"/>
                </a:solidFill>
                <a:latin typeface="Verdana"/>
              </a:rPr>
              <a:t>                        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02960"/>
            <a:ext cx="864216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Verdana"/>
              </a:rPr>
              <a:t>Информация для родителей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Проект реализуется в несколько этапов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1 Этап. Подготовительны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Verdana"/>
              </a:rPr>
              <a:t>Диагностика и определение уровня развития детей (характеристика речевых способностей, наблюдение за детьми в процессе выполнения задания; оценка эмоциональной сферы каждого ребенка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Verdana"/>
              </a:rPr>
              <a:t>Чтение сказок, прослушивание аудиозаписей сказок, изучение иллюстраци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Беседа, чтение сказок, загадок, поговорок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868480" cy="2151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2870280" cy="2152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4392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2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Рассматривание книг, иллюстраций по сказкам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26920" y="4005360"/>
            <a:ext cx="3240360" cy="2519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3156120" cy="244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240360" cy="240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232240" y="1484280"/>
            <a:ext cx="3084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122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Рисование, раскрашивание раскрасок по сказкам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240000" cy="251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457380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2 Этап. Основной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981000"/>
          <a:ext cx="8713800" cy="58989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Разделы проект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иды деятельности воспитателя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иды деятельности детей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Художественно-речевая деятель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Занятия по РЭМП, по развитию речи, худ. литературе и окружающему миру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Рассказ сказок, придумывание сказок по картинкам; выводы: чему учит сказка- развивает воображение, формирует знания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Настольный кукольный театр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Показ сказок «Колобок», «Курочка ряба», «Три медведя», «Маша и медведь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Обыгрывание ролей, распределение ролей; вывод: какой урок извлекли, какими моральными качествами наделены герои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еатр «Бибабо»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Показ сказки «Репка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Озвучивание действий геро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Инсценировка сказок «Пых», «Волк и семеро козлят», «Муха-Цокотуха»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Помогает детям в распределении ролей, нацеливает на выводы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Превращение в изображаемых персонажей; формируют свое отношение к героям, делают выводы: чему учит сказка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Игровая деятельность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Дидактические игры: «Узнай сказку», Расскажи сказку», «Кто лишний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ff"/>
                          </a:solidFill>
                          <a:latin typeface="Verdana"/>
                        </a:rPr>
                        <a:t>Размышляют, думают над вопросами, развивают память, мелкую моторику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29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ущность и значение сказки в жизни ребенк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220500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Verdana"/>
              </a:rPr>
              <a:t>Богатейшим источником развития фантазии ребенка является сказка. Сказка учит ребенка думать, оценивать поступки героев, тренирует память и внимание, развивает речь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Художественно-речевая деятельность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4753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Занятие по развитию     речи «Путешествие в сказку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32240" y="1600200"/>
            <a:ext cx="2868840" cy="215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2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Verdana"/>
              </a:rPr>
              <a:t>Дети превращают круги в персонажей сказки «Теремок»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241800" cy="2293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30956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Дети рассказывают по своим рисункам о сказочных персонажах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013200" cy="2295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3024360" cy="2297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96720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266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Сказка учит добро понимать,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    О поступках людей рассуждать,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 Коль плохой, то его осудить,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Ну а слабый- его защитить.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    Дети учатся думать, мечтать.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На вопросы ответ получать.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             Каждый раз что-нибудь узнают</a:t>
            </a:r>
            <a:br>
              <a:rPr sz="2400"/>
            </a:br>
            <a:r>
              <a:rPr b="0" i="1" lang="en-US" sz="2400" spc="-1" strike="noStrike">
                <a:solidFill>
                  <a:srgbClr val="cc00ff"/>
                </a:solidFill>
                <a:latin typeface="Verdana"/>
              </a:rPr>
              <a:t>                 Родину свою познают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61080" cy="360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Занятие по РЭМП  по сказке «Колобок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Методы и приемы работы со сказкой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Моделирование сказ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Verdana"/>
              </a:rPr>
              <a:t>Использование в качестве заместителей разнообразные геометрические фигуры. Замена осуществляется на основе цвета и соотношения величин герое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Verdana"/>
              </a:rPr>
              <a:t>Например в сказке «Три медведя»-три коричневых прямоугольника разной высоты и длины, соответствуют размеру и цвету персонаже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12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Моделирование сказки «Теремок» детьм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384720" cy="2367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384720" cy="2519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457800" cy="2449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352728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22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Творческие задания по сказкам: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а про самого себ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а о любимых игрушка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а от смешного стишк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а от дразнил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и о бытовых предметах- началом сказки является рассказ о бытовом предмет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Узнай сказку по песенке героев- «Не садись на пенек, не ешь пирожок», «Козлятушки-ребятушки! Отворитесь отопритесь.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Сказка наоборот- « Три медведя заблудились и попали к девочке домой. Дома никого не было. Как повели себя медведи»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Инсценировка сказ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05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казка от считалк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ижик в клетке сидел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ижик громко песню пел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Гу-гу-гу, чу-чу-чу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Я на волю полечу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Verdana"/>
              </a:rPr>
              <a:t>По считалке выявляют оставшегос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Начало сказки: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cc00ff"/>
                </a:solidFill>
                <a:latin typeface="Verdana"/>
              </a:rPr>
              <a:t>Один раз бабушка, покормив чижика, забыла закрыть клетку…-дети продолжают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7200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казка от загадк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cc00ff"/>
                </a:solidFill>
                <a:latin typeface="Verdana"/>
              </a:rPr>
              <a:t>Предлагается так называемый мостик от загадки к началу сказк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«Чем вата ниже, тем дождик ближе»(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учи или облака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Начало:</a:t>
            </a:r>
            <a:r>
              <a:rPr b="0" lang="ru-RU" sz="2400" spc="-1" strike="noStrike">
                <a:solidFill>
                  <a:srgbClr val="cc00ff"/>
                </a:solidFill>
                <a:latin typeface="Verdana"/>
              </a:rPr>
              <a:t>Вата спускалась все ниже и ниже, а дождя все не было. И вот…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2950920" cy="237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721480" y="1557360"/>
            <a:ext cx="23065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Сказка с помощью картинок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- Ребенок по серии картинок не только рассказывает о героях, которые изображены на рисунках, но и размышляет, что происходит вокруг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097440" cy="2305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0844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казка по рисунку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2868480" cy="2151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04148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казка по кругу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-  Дети по очереди продолжают сказку, начатую воспитателем.</a:t>
            </a: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«Проснулся однажды ночью мальчик Ваня и видит в стене дверь, которой раньше не было…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Verdana"/>
              </a:rPr>
              <a:t>Выполнение творческих заданий по сказке «Репка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ссказать сказку по кругу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зыграть сказку. Дети распределяют рол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ссказать о пользе репы и о том, какие блюда из нее можно приготовить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ридумывание своей сказки «Морковка»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16872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Verdana"/>
              </a:rPr>
              <a:t>Для повышения интереса к книге, любви к чтению нами был разработан</a:t>
            </a:r>
            <a:br>
              <a:rPr sz="3200"/>
            </a:br>
            <a:r>
              <a:rPr b="1" i="1" lang="en-US" sz="3200" spc="-1" strike="noStrike">
                <a:solidFill>
                  <a:srgbClr val="0066ff"/>
                </a:solidFill>
                <a:latin typeface="Verdana"/>
              </a:rPr>
              <a:t>проект«Сказка в нашей жизни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038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Цели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Развитие устойчивого интереса к сказке как к произведению искусств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Раскрытие ценности совместного творчества детей и родителе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0" y="184428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Задачи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Образовательные: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учить развивать сюжет, использовать «сказочные» языковые средства, формировать творческое рассказывание, умение раскрывать тем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Развивающие: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развивать традиции семейного чтени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Воспитательные: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создавать атмосферу эмоционального комфорта, взаимопонимания и поддержки, прививать умение прийти на помощь в трудную минут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773360"/>
          <a:ext cx="8713800" cy="4681440"/>
        </p:xfrm>
        <a:graphic>
          <a:graphicData uri="http://schemas.openxmlformats.org/drawingml/2006/table">
            <a:tbl>
              <a:tblPr/>
              <a:tblGrid>
                <a:gridCol w="4321080"/>
                <a:gridCol w="439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1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2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Показ сказки «Репка»детьми: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167280" cy="2521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097440" cy="2521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72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Показ настольного театра по сказкам «Три медведя», «Маша и медведь», «Колобок» детьм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167280" cy="2232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3240360" cy="2376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00000" y="4338720"/>
            <a:ext cx="3167280" cy="2330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По сказке «Курочка ряба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55920" cy="3529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2447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Verdana"/>
              </a:rPr>
              <a:t>Инсценировка сказки «Волк и семеро козлят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3168720" cy="2663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529080" cy="236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60072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755640" y="1484280"/>
            <a:ext cx="315612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Verdana"/>
              </a:rPr>
              <a:t>Инсценировка сказки «Пых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84480" cy="2448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095640" cy="2440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52720" cy="236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02436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А вот и пых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71680" cy="3208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4182840" cy="3244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Инсценировка сказки К.Чуковского «Муха-Цокотуха»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Показ сказки детям 3 и 11 групп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898800" cy="3028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94156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Все блошки пришли поздравить Муху-Цокотуху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40360" cy="2376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292720" y="4221000"/>
            <a:ext cx="30956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лава-слава комару победителю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240360" cy="2376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036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431928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Игровая деятельность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232240" y="1600200"/>
            <a:ext cx="2868840" cy="2151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61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Дидактические игры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«Расскажи сказку», «Узнай сказку», «Кто лишний»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24000" y="549360"/>
          <a:ext cx="8589960" cy="5869080"/>
        </p:xfrm>
        <a:graphic>
          <a:graphicData uri="http://schemas.openxmlformats.org/drawingml/2006/table">
            <a:tbl>
              <a:tblPr/>
              <a:tblGrid>
                <a:gridCol w="4295520"/>
                <a:gridCol w="4294440"/>
              </a:tblGrid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99"/>
                          </a:solidFill>
                          <a:latin typeface="Verdana"/>
                        </a:rPr>
                        <a:t>Участники проекта: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оспитатели, дети средней группы, родители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99"/>
                          </a:solidFill>
                          <a:latin typeface="Verdana"/>
                        </a:rPr>
                        <a:t>Направленность развития деятельности: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комплексная (познавательно-речевая, изобразительная, театрализованная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99"/>
                          </a:solidFill>
                          <a:latin typeface="Verdana"/>
                        </a:rPr>
                        <a:t>Тип проекта: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информационно-творческий, групповой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99"/>
                          </a:solidFill>
                          <a:latin typeface="Verdana"/>
                        </a:rPr>
                        <a:t>Продолжительность: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среднесрочный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99"/>
                          </a:solidFill>
                          <a:latin typeface="Verdana"/>
                        </a:rPr>
                        <a:t>Результат: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Научились понимать смысл сказок, отличать добро от зла, хорошо или плохо, можно- нельзя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6560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3 этап. Рефлексивно-оценочный</a:t>
            </a: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Verdana"/>
              </a:rPr>
              <a:t>В конце проекта организовали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ff"/>
                </a:solidFill>
                <a:latin typeface="Verdana"/>
              </a:rPr>
              <a:t>Совместный досуг «Путешествие по сказкам». Дети демонстрировали, что сделали своими руками -рисунки к сказкам, книжки, поделк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ff"/>
                </a:solidFill>
                <a:latin typeface="Verdana"/>
              </a:rPr>
              <a:t>Отвечали на вопросы викторины»Закончи сказку», высказывали свое мнение, что нового узнали, чему научились</a:t>
            </a:r>
            <a:r>
              <a:rPr b="0" lang="en-US" sz="3200" spc="-1" strike="noStrike">
                <a:solidFill>
                  <a:srgbClr val="9900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овместное творчество родителей с детьм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32240" y="1600200"/>
            <a:ext cx="2868840" cy="215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041480" y="1600200"/>
            <a:ext cx="2868480" cy="2151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04148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Verdana"/>
              </a:rPr>
              <a:t>Демонстрация детьми своих рабо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232240" y="1600200"/>
            <a:ext cx="2868840" cy="215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04148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1041480" y="1600200"/>
            <a:ext cx="2868480" cy="215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Дети рассказывают о своих работах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Verdana"/>
              </a:rPr>
              <a:t>Результативность проекта: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Дети научились понимать смысл сказ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Отличать добро от зла, хорошо или плохо, можно или нельз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Дети стали менее застенчивы, благодаря совместной работе детей и родителе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Наметилась динамика во взаимоотношениях с родителями, они начали принимать участие в подготовке выстав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40720" cy="136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568800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Verdana"/>
              </a:rPr>
              <a:t>Сказка-ложь, да в ней намек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Verdana"/>
              </a:rPr>
              <a:t>Добрым молодцам урок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10544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Этапы работы: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Определение темы(проблемы проекта). Вызвать интерес детей и родителей к теме проект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Составление плана-схемы проект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Обсуждение проекта с родителя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бота по плану с детьми, родителя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оказ сказок. Подведение итогов, анализ ожидаемого результат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резентация проект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448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2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Пути реализации проекта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ополнение содержания книжного уголка сказками разных жанров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Организация выставки поделок, рисунков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Изготовление декораций к сказкам, костюмов сказочных героев, атрибутов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84720" y="371628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Verdana"/>
              </a:rPr>
              <a:t>Содержание работы с детьми: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Беседа «…да в ней намек»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Чтение разных сказок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Словесное рисование детьми по прочтении текста характеров героев, обстановки, «интерьера» сказ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зучивание поговорок, пословиц о сказках, сказочных героя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ересказ прочитанных сказок, их инсценировка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Самостоятельное составление сказ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Рассказывание сказок собственного сочине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Загадки о сказках, героях сказо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Выполнение самостоятельных и совместно с родителями творческих работ (рисунки, книга, поделки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Содержание  работы с родителями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Беседа с родителями «Знакомство с проектом»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Домашние задания для родителей и детей (изготовление поделок, книжек со сказками, рисование иллюстраций к сказкам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Чтение сказок с деть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ридумывание сказок с деть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Verdana"/>
              </a:rPr>
              <a:t>Помощь в пополнении книжного уголка сказкам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Оснащение книжного уголка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по сказкам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168720" cy="236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368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36400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6:30:04Z</dcterms:created>
  <dc:creator>Р</dc:creator>
  <dc:description/>
  <dc:language>en-US</dc:language>
  <cp:lastModifiedBy>Mishukov</cp:lastModifiedBy>
  <dcterms:modified xsi:type="dcterms:W3CDTF">2012-12-11T14:16:38Z</dcterms:modified>
  <cp:revision>39</cp:revision>
  <dc:subject/>
  <dc:title>                                                                                                                                                             Государственное образовательное учреждение детский сад общеразвивающего вида №2493</dc:title>
</cp:coreProperties>
</file>