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914-3B41-4B9D-8526-D4BC4059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5BB-8BBE-47C7-9645-71847ED6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432-6C38-4547-BC81-7CC49DF8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3F7-B47B-42C1-AE22-ECAA5275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0A23-4426-40CD-B585-754C0B89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3719-1876-4B8C-A55B-E0FFAC8B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DE18-ACA4-49E5-B6CB-BA95EFC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EE2A-30D3-45C9-9745-3A23B6F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E157-0E14-4004-BFD6-1B8FFE24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3EF2-E6E7-4A1A-A135-94AC9D21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0427-1F60-4F71-AA00-DD00CDFF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576-B471-44AC-889D-EB371E6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3E53-1350-4DBF-9889-CE821DA9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2F2E-0FE8-434A-B9F4-5C47F26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7ED1-D9D0-4D87-AD76-344C5B4A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8E60-C81C-4590-9CA3-448ADFE0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2DD1-83B3-4E7B-81C6-92EE8BA8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C98-F140-48A4-A549-9433A771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C93-E5B2-4E33-A64B-B92DDA1B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842-78CA-42DC-8459-B1F616F6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C23-156C-4F86-8613-37A1E91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42E-1026-4E1E-9D15-04C9DB1C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F4C-0FA3-4607-8256-C1E5258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A8F-04BC-40F3-9023-129563A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0C5-3D80-47C9-97A7-D4643894E26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887-C0FE-4195-977B-8892C97DFDF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47260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1b2c9"/>
                </a:solidFill>
                <a:latin typeface="Calibri"/>
              </a:rPr>
              <a:t>Презентация: «Опера-былина «Садко», Римского-Корсакова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314316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полнила: учитель музыки МБОУ СОШ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3 г.Петровска, Саратовской обл.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кушина Надежда Викторов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9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4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5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7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9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6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9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7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8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0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1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8455320" cy="2011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0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user</cp:lastModifiedBy>
  <dcterms:modified xsi:type="dcterms:W3CDTF">2013-02-11T19:15:05Z</dcterms:modified>
  <cp:revision>43</cp:revision>
  <dc:subject/>
  <dc:title>Опера «Садко» Римского- Корсакова</dc:title>
</cp:coreProperties>
</file>