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1F21-6CEF-4FC1-B6C0-FDDE0E2D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9041-D832-42AD-BADA-A5AE8013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FA92-5FA5-4740-B92E-17A58AD5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0EB5-C270-4FCA-8D23-3E20352C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4AFA-4FAE-4A6C-A2E7-D1BFF9F3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4661-0EE8-4166-BA49-0D737D5F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5D8F-7999-4263-AE38-7967A47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29E4-DA78-4544-9CD4-B9492538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BBEC-17E4-42D3-A1C7-2DF9F7BD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2DA7-2436-414B-8F10-983C6520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8506-DC19-454F-97FB-AE4D2175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0069-9FF2-49F0-BF42-87295B00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8493-1890-40A2-902A-9D2EC98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A448-2C32-4FC2-B82C-1208FD1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C1CD-DAE3-4D0B-AD2A-3BA34747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9D46-E803-4A4F-B5A3-B4AF26C7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784F-1DAC-4D45-AFCC-FD2530C7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6156-0880-4CA1-BD1F-A6EB27A6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3D95-DDD9-4A4E-98DE-95ABA285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03E3-0B32-4ED8-972B-53EF9C0C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72DE-A180-4951-977A-5EB325F5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0F21-45E0-40C4-981A-370651D2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B5E9-1401-4CDE-BBED-A6252E7B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B5AA-9440-40F7-B663-1E2E08D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668F-F314-450B-8F95-033CF5162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1E7A-96D6-4A9D-9579-E02BC2141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«Система работы социального педагога с родителями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У Второвская ООШ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огилина И.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дительский всеобу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197000"/>
          <a:ext cx="8229600" cy="5076720"/>
        </p:xfrm>
        <a:graphic>
          <a:graphicData uri="http://schemas.openxmlformats.org/drawingml/2006/table">
            <a:tbl>
              <a:tblPr/>
              <a:tblGrid>
                <a:gridCol w="1496880"/>
                <a:gridCol w="747720"/>
                <a:gridCol w="4808520"/>
                <a:gridCol w="11764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, 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о выполн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вая культура ро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декабрь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Правовая азбука родителе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с приглашением соц. пе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 2 от 2.12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кусс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 Воспитание ненасилие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с приглашением соц. пе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2 от 2.12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 шк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февраль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й сто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Утомляемость ребенка. Как с ней бороться» (с приглашением психолог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ем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, 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лные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сентябрь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ая лекц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« Гендерные особенности детей или как сохранить психику девочек и мальчик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1 от 23.09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и с детьми ГСР( ноябр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 с инспектором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2 от 10.11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детные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январь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-тренинг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 Что такое активное слушание» и когда надо слушать ребенка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 № 2 от 15.01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и с повторными бра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март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ая лекц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 Культурно-исторический аспект отношений родителей к ребенку. Современные традиции семь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оги операции «Подросток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ериод проведения оп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ами школы не было совершено ни одного преступления, либо нарушения общественного порядка, в т.ч. и подростками, стоящими на уч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и, страдающие алкогольной зависимостью,  все трудоустроены запойных периодов не наблюдалось. Дети находились под присмотром, конфликтных ситуаций не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уски школы, стоящие на профилактическом учете успешно сдали экзамены и продолжат дальнейшее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аточно большой был охват учащихся мероприятиями, проводимыми совместно с работниками ДК и библиоте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стоит отметить, что слабая развитость инфраструктуры дополнительного образования и отсутствие кадров не дает возможности в полной мере осуществить летнюю занятость подростков и проведение хорошо разработанных мероприятий с  привлечением молодежи и подрост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ема формирования партнерских отношений с родительской обществ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773360"/>
            <a:ext cx="3025440" cy="1201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-псих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жба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73360"/>
            <a:ext cx="1943280" cy="1295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т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илак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4941720"/>
            <a:ext cx="244944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ведом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3789360"/>
            <a:ext cx="251928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об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23640" y="292428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2997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299736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68360" y="1036800"/>
            <a:ext cx="46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Нет ничего труднее, как перевоспитать человека, плохо воспитанного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. Ком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3280" y="1846800"/>
            <a:ext cx="66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роли школы в организации процесса семейного воспитания детей писал А.С.Макаренк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"Семьи бывают хорошие, и семьи бывают плохие. Поручиться за то, ч то семья воспитывает как следует, нельзя. Говорить, что семья может воспитывать, как хочет, мы не можем. Мы должны организовать семейное воспитание, и организующим началом должна быть школа, как представительница государственного воспитани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657000"/>
            <a:ext cx="63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этих позиций и определяются основ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ы социального педагогов с родител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Систематическое разностороннее педагогическое просвещение родителей, т.е. ознакомление их как с основами теоретических знаний, так и с практикой работы с учащими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2. Привлечение родителей к активному участию в учебно-воспитатель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3.        Формирование у родителей потребности в самообраз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4. Социально педагогическое исследование семей, дифференциация их на определенные ти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5. Работа с детьми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6. обеспечение правовой защиты ребенка в семье и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153540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сущствления данных задач ежегодно проводить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инг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ов учеб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1.  Социальный паспорт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2. «Удовлетворенность» родителей условиями и взаимоотношениями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3.  Анкетирование родителей при поступлении ребенка в ш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анным соц паспорта выделяем проблемные группы родител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ногодетные, малообеспеч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епол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емьи с повторными бра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емьи ГСР (алкоголизация, пренебрежение санитарными нормами, безрабо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едагогически несостоятельные сем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хема взаимодействия с родител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ОВЫЕ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ьский всеоб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фференцирован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т по профилактике правонаруш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т шко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хема взаимодействия с родител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Е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ультации, 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ро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ние персональных дел род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чественная оценка ситуации 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и запущенные дети -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 дезадаптивные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с дилинквентным поведением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из многодетных семей –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и ГСР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лные семьи –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и с повторными браками – 13 в т.ч. сожители 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тика заседаний Совета по профилактике правонару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Сентябр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итоги операции «Подрос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Ноябр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пециальное собрание учащихся состоящих на всех видах у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Январ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тчеты классных руководителей по работе с семьями Г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Мар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роведение месячника по профилактике П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Ма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вопросы летней занятости детей Г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6:09:04Z</dcterms:created>
  <dc:creator>ХОЗЯИН</dc:creator>
  <dc:description/>
  <dc:language>en-US</dc:language>
  <cp:lastModifiedBy>ХОЗЯИН</cp:lastModifiedBy>
  <dcterms:modified xsi:type="dcterms:W3CDTF">2012-02-16T16:17:22Z</dcterms:modified>
  <cp:revision>3</cp:revision>
  <dc:subject/>
  <dc:title>«Система работы социального педагога с родителями» МОУ Второвская ООШ Замогилина И.Н.</dc:title>
</cp:coreProperties>
</file>