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41C98F-8A5A-44FC-B9D6-887F4C5F1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D86CC4-091F-45DD-ABF3-E8E7736F5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A4AA7D-5921-4384-A87F-7D03EDBAC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2816B0-1437-4FAC-BA67-246038314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B351B-46E3-4F69-BBDE-4EFCF3CA5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3F3AE-661E-4E66-9A2A-B10A35B5B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11FC6-0129-4181-BC34-274BB218D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C15AC-C003-47FC-B4A4-F68A74E7C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B9136-8E15-40A3-8C6E-9D4C27B4E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B31AC-DF9D-4E30-AD55-E7A9EE12A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C3354-4BE3-438A-83A7-AD884541E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A31B59-12EB-4C0A-9247-A385BD067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2D17C-1DCE-4F35-B03A-64A5B6304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7D939-D34E-4608-B503-235630486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A6A8B-D011-4BE4-9D01-CBDAD60F8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BED1A-FC43-4D7F-BBEA-B317096CC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3F674-613F-4DBC-AC4B-C37547514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8E0F62-0094-4690-9386-E0D75F49C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8877E6-6571-44B3-8889-38E97036E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E37E0A-7448-4E77-AABC-D077FC522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13B794-43DC-43F8-986F-FC95BA350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BF921F-1137-4177-BF9D-29F7BD9A3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950972-8472-4614-85EC-87F3D3780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FAFFD0-EFA1-4C9F-8818-972FE33DD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C3E29-796A-4E49-84EC-BAD3DCA0B48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B24FC-F3E9-4657-B384-23F04FDF918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50560" y="274680"/>
            <a:ext cx="8435880" cy="45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3333ff"/>
                </a:solidFill>
                <a:latin typeface="Arial"/>
              </a:rPr>
              <a:t>«Система работы социального педагога с родителями»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ОУ Второвская ООШ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могилина И.Н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6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Родительский всеобу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468360" y="1197000"/>
          <a:ext cx="8229600" cy="5076720"/>
        </p:xfrm>
        <a:graphic>
          <a:graphicData uri="http://schemas.openxmlformats.org/drawingml/2006/table">
            <a:tbl>
              <a:tblPr/>
              <a:tblGrid>
                <a:gridCol w="1496880"/>
                <a:gridCol w="747720"/>
                <a:gridCol w="4808520"/>
                <a:gridCol w="1176480"/>
              </a:tblGrid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правление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сяц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ас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а, тем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метка о выполнен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авовая культура родител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декабрь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-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екция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«Правовая азбука родителей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 с приглашением соц. пед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 № 2 от 2.12.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скуссия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« Воспитание ненасилием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 с приглашением соц. пед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 №2 от 2.12.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доровье школьник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февраль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-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углый стол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«Утомляемость ребенка. Как с ней бороться» (с приглашением психолога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уппа сем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а, тем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полные семь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сентябрь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блемная лекция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« Гендерные особенности детей или как сохранить психику девочек и мальчиков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 №1 от 23.09.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мьи с детьми ГСР( ноябрь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треча с инспектором ПД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 №2 от 10.11.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ногодетные семь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январь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ни-тренинг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« Что такое активное слушание» и когда надо слушать ребенка?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 № 2 от 15.01.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мьи с повторными брак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март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терактивная лекция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« Культурно-исторический аспект отношений родителей к ребенку. Современные традиции семьи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Итоги операции «Подросток»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 период проведения операц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чениками школы не было совершено ни одного преступления, либо нарушения общественного порядка, в т.ч. и подростками, стоящими на учет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одители, страдающие алкогольной зависимостью,  все трудоустроены запойных периодов не наблюдалось. Дети находились под присмотром, конфликтных ситуаций не был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ыпуски школы, стоящие на профилактическом учете успешно сдали экзамены и продолжат дальнейшее обуч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остаточно большой был охват учащихся мероприятиями, проводимыми совместно с работниками ДК и библиотек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днако стоит отметить, что слабая развитость инфраструктуры дополнительного образования и отсутствие кадров не дает возможности в полной мере осуществить летнюю занятость подростков и проведение хорошо разработанных мероприятий с  привлечением молодежи и подростк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хема формирования партнерских отношений с родительской общественность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059280" y="1773360"/>
            <a:ext cx="3025440" cy="12016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оциально-психологическа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лужба школ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39640" y="3573360"/>
            <a:ext cx="1943280" cy="129564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овет п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офилактик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203640" y="4941720"/>
            <a:ext cx="2449440" cy="11527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ежведомственны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заимодейств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300720" y="3789360"/>
            <a:ext cx="2519280" cy="115236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одитель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сеобу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2123640" y="2924280"/>
            <a:ext cx="187164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219640" y="2997360"/>
            <a:ext cx="136836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427640" y="2997360"/>
            <a:ext cx="0" cy="19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2268360" y="1036800"/>
            <a:ext cx="460872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3333ff"/>
                </a:solidFill>
                <a:latin typeface="Arial"/>
              </a:rPr>
              <a:t>Нет ничего труднее, как перевоспитать человека, плохо воспитанного.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Я. Коменск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403280" y="1846800"/>
            <a:ext cx="6697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 роли школы в организации процесса семейного воспитания детей писал А.С.Макаренко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i="1" lang="en-US" sz="1800" spc="-1" strike="noStrike">
                <a:solidFill>
                  <a:srgbClr val="3333ff"/>
                </a:solidFill>
                <a:latin typeface="Arial"/>
              </a:rPr>
              <a:t>"Семьи бывают хорошие, и семьи бывают плохие. Поручиться за то, ч то семья воспитывает как следует, нельзя. Говорить, что семья может воспитывать, как хочет, мы не можем. Мы должны организовать семейное воспитание, и организующим началом должна быть школа, как представительница государственного воспитания"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403280" y="657000"/>
            <a:ext cx="633744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этих позиций и определяются основные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дачи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боты социального педагогов с родителям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i="1" lang="ru-RU" sz="1800" spc="-1" strike="noStrike">
                <a:solidFill>
                  <a:srgbClr val="3333ff"/>
                </a:solidFill>
                <a:latin typeface="Arial"/>
              </a:rPr>
              <a:t>Систематическое разностороннее педагогическое просвещение родителей, т.е. ознакомление их как с основами теоретических знаний, так и с практикой работы с учащими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3333ff"/>
                </a:solidFill>
                <a:latin typeface="Arial"/>
              </a:rPr>
              <a:t>2. Привлечение родителей к активному участию в учебно-воспитательном процесс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3333ff"/>
                </a:solidFill>
                <a:latin typeface="Arial"/>
              </a:rPr>
              <a:t>3.        Формирование у родителей потребности в самообразован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3333ff"/>
                </a:solidFill>
                <a:latin typeface="Arial"/>
              </a:rPr>
              <a:t>4. Социально педагогическое исследование семей, дифференциация их на определенные тип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3333ff"/>
                </a:solidFill>
                <a:latin typeface="Arial"/>
              </a:rPr>
              <a:t>5. Работа с детьми девиантного повед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3333ff"/>
                </a:solidFill>
                <a:latin typeface="Arial"/>
              </a:rPr>
              <a:t>6. обеспечение правовой защиты ребенка в семье и школ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971640" y="1535400"/>
            <a:ext cx="7200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осущствления данных задач ежегодно проводиться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ониторинг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астников учебного процес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3333ff"/>
                </a:solidFill>
                <a:latin typeface="Arial"/>
              </a:rPr>
              <a:t>1.  Социальный паспорт школ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3333ff"/>
                </a:solidFill>
                <a:latin typeface="Arial"/>
              </a:rPr>
              <a:t>2. «Удовлетворенность» родителей условиями и взаимоотношениями в школ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3333ff"/>
                </a:solidFill>
                <a:latin typeface="Arial"/>
              </a:rPr>
              <a:t>3.  Анкетирование родителей при поступлении ребенка в школ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 данным соц паспорта выделяем проблемные группы родителей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многодетные, малообеспечен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непол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семьи с повторными брак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семьи ГСР (алкоголизация, пренебрежение санитарными нормами, безработные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педагогически несостоятельные семь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Схема взаимодействия с родителям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РУППОВЫЕ ФОР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одительский всеобу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ифференцированные родительские собр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овет по профилактике правонарушени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овет школ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Схема взаимодействия с родителям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НДИВИДУАЛЬНЫЕ ФОР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нсультации, бесе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атрониров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ссмотрение персональных дел родителе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Качественная оценка ситуации  2011-2012 учебный го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дагогически запущенные дети - 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циально дезадаптивные –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ети с дилинквентным поведением –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ети из многодетных семей – 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емьи ГСР – 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полные семьи – 2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емьи с повторными браками – 13 в т.ч. сожители - 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Тематика заседаний Совета по профилактике правонарушен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Arial"/>
              </a:rPr>
              <a:t>Сентябр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итоги операции «Подросток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Arial"/>
              </a:rPr>
              <a:t>Ноябр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специальное собрание учащихся состоящих на всех видах уче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Arial"/>
              </a:rPr>
              <a:t>Январ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отчеты классных руководителей по работе с семьями ГС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Arial"/>
              </a:rPr>
              <a:t>Мар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проведение месячника по профилактике ПА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Arial"/>
              </a:rPr>
              <a:t>Май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вопросы летней занятости детей ГС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5T16:09:04Z</dcterms:created>
  <dc:creator>ХОЗЯИН</dc:creator>
  <dc:description/>
  <dc:language>en-US</dc:language>
  <cp:lastModifiedBy>ХОЗЯИН</cp:lastModifiedBy>
  <dcterms:modified xsi:type="dcterms:W3CDTF">2012-02-16T16:17:22Z</dcterms:modified>
  <cp:revision>3</cp:revision>
  <dc:subject/>
  <dc:title>«Система работы социального педагога с родителями» МОУ Второвская ООШ Замогилина И.Н.</dc:title>
</cp:coreProperties>
</file>