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AC52-066F-4DB6-A9CB-7693643454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259E-A086-45E9-A9A5-97DC2D7474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67F3-360B-4EF7-B5DE-445B28B9A0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6FF-B061-4B67-A275-64A310B7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3BF-11E6-47F6-A51B-EFF08586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D30F-1D42-4247-ABE2-58984A02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CD9-D18E-4739-A71E-8D9A57A2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1948-D1BF-41B9-B97C-32B2714E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960D-9FBE-4F18-ADB0-2419042E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9E72-8930-49DB-98EC-C522D240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6F25-E70E-4609-9ABF-E2D7EB63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6499-F27A-4B5B-8BC2-34523AF5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0A92-CE75-4771-9771-D4FB08EA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7D94-8C62-481E-92F0-24022D27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F472-2CB0-4887-AC30-8B1DE1B1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B9C9-6280-4141-94F8-6F466A23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36C8-FC6F-4FA1-A065-21855691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78DA-9482-42C5-AD13-D501DB64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94F1-EEEB-4DB8-A072-C157023B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AA81-4507-44ED-901B-94F23EAD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104FA-1A33-469D-910D-EE1CD494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11D6B-8670-417B-9450-FBA0DFC0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BEDC7-C73D-450F-9261-39784C22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4C4F6-6580-48C2-8DA1-90C50C27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42885-B5E2-4B3A-97A1-F86A32AC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D20-C8EC-4345-9533-51BF9B6D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4B9C0-7B3B-4335-AF62-7C9E4A72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1A66A-9364-45C6-9A59-83B8B9C6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3ACEC-0F71-4781-9F39-06EE5FDB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0D18F-7B5F-4D8C-AA13-E2316BA7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306FC-7122-4EC2-960F-8261E49E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D164D-5440-4DD1-9AA5-595FF6E6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62F0B-09B1-47D3-9BCC-864B88D0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11AB2-E60C-4BC4-9F5A-6D514B3D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280EB-7F55-49DC-AF3E-42898209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82177-32A0-4F45-BDF1-6B940457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CC3-C50C-4281-A267-47B08381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AE79C-5357-4E27-82A5-FB0160F4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013A5-78BB-49FE-942C-26CE9D4A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8305B-DB47-4855-A294-921568F9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9F7EF-9401-4DED-ADDA-908C3D60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B84D7-1A2A-4326-88BD-95A3BEC7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1F499-B092-4F1B-A808-07D3EDC6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E8E58-9BCE-4C99-AE3C-2C60C310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4EEDC-5244-47CA-9BE9-2837CACD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88190-002E-4161-9129-E6E50737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CB565-1B99-4EB4-AC08-BF043B9E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F7FF-960F-4D27-887C-1EDD4035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809B9-955D-4B6C-9165-4C1CA335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2296A-4CAE-48E7-B64D-E269A195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2A5E1-B528-4DA9-8A55-DA1781B1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3F7A5-9FDF-4C86-825D-8A6E899D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9A0AC-92F2-4315-9859-C2694FCC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90E04-7AE8-4524-9FDE-129A3622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35D9C-A858-4E01-B1E8-7E83E0D3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4D70F-56D6-4919-9CD9-90B08281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24B90-4438-4F1A-B1BF-A1F94493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77F6B-64B8-4FBF-AA4F-9395B6E1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1A2-1575-4653-9074-7F7CC57D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40A64-CFAC-46B0-8F84-96F0F85D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80E62-3360-49C2-8DCF-66E47ABE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853A1-1312-4DD5-94C3-7B9F7DD0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EFA3E-0E58-47E9-90C9-38418651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1F5F9-420C-496C-83CB-3CA8E662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94BE8-EFC6-482F-96EF-ACB41ACD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57E9A-C354-453C-A228-F9D9E7C0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3A154-3EBC-4434-BC0A-B0F55593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49BCC-CC0F-4901-9020-CA7CDBDA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BB1C2-0122-434C-AA5E-B6073370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1FA-C229-4122-85FE-A2940EDA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CDF03-3242-485C-A0A9-5BE7DF44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F7F2A-60AF-4C32-AD26-6BE92D87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1CEAC-D8D1-4608-B600-67016537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D1E6C-128C-47FE-B9E3-760FCAFA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5B69E-E634-4C5B-B668-F15A11BF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D6622-1ED7-4407-9D99-F1F4B4E9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60EEE-28EC-4A7F-A359-DCAFE739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B334D-4267-486F-B275-654B4D43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47F00-7184-4EF6-AF5A-AA690CD3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20473-820B-462A-9A76-C46A434E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507-8654-40ED-BD4C-79875CEF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83630-2981-4FA6-A3C4-8E951E79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A10E0-CE4E-474D-879B-C0940D6B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70BCE-289C-448C-84C1-B70DEA23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0AE4F-A4AF-473F-8C53-12A51957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35131-5FE8-4D96-A23E-42ADB782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2FE0-9277-4179-A803-845FCEFD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3D08-7001-45E0-BD4B-9907C0DC626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D956-E4D6-479D-B314-B92C1982357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CE8E-5408-487F-BAC9-33913652CD4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EB83-36AD-481B-A859-CD71401D816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4FAF-1E64-4FC2-82A2-6C49B577C90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49B3-2280-4BDC-B71A-2ADEEA67518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7A2C-D1ED-4796-9635-8F7A8DD3CAE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2"/>
          <a:stretch/>
        </p:blipFill>
        <p:spPr>
          <a:xfrm>
            <a:off x="695160" y="895320"/>
            <a:ext cx="8052120" cy="25178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571760" y="2143080"/>
            <a:ext cx="7232400" cy="26640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f75"/>
                </a:solidFill>
                <a:latin typeface="Corbel"/>
              </a:rPr>
              <a:t>Выполнил: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f75"/>
                </a:solidFill>
                <a:latin typeface="Corbel"/>
              </a:rPr>
              <a:t>ученик 4 класс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f75"/>
                </a:solidFill>
                <a:latin typeface="Corbel"/>
              </a:rPr>
              <a:t>Жерновник Николай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5-конечная звезда 3"/>
          <p:cNvSpPr/>
          <p:nvPr/>
        </p:nvSpPr>
        <p:spPr>
          <a:xfrm>
            <a:off x="428760" y="2857680"/>
            <a:ext cx="2143080" cy="1857240"/>
          </a:xfrm>
          <a:custGeom>
            <a:avLst/>
            <a:gdLst>
              <a:gd name="textAreaLeft" fmla="*/ 662040 w 2143080"/>
              <a:gd name="textAreaRight" fmla="*/ 1481040 w 2143080"/>
              <a:gd name="textAreaTop" fmla="*/ 709200 h 1857240"/>
              <a:gd name="textAreaBottom" fmla="*/ 1418760 h 1857240"/>
            </a:gdLst>
            <a:ahLst/>
            <a:rect l="textAreaLeft" t="textAreaTop" r="textAreaRight" b="textAreaBottom"/>
            <a:pathLst>
              <a:path w="2143125" h="1857375">
                <a:moveTo>
                  <a:pt x="2" y="709452"/>
                </a:moveTo>
                <a:lnTo>
                  <a:pt x="818606" y="709457"/>
                </a:lnTo>
                <a:lnTo>
                  <a:pt x="1071563" y="0"/>
                </a:lnTo>
                <a:lnTo>
                  <a:pt x="1324519" y="709457"/>
                </a:lnTo>
                <a:lnTo>
                  <a:pt x="2143123" y="709452"/>
                </a:lnTo>
                <a:lnTo>
                  <a:pt x="1480856" y="1147915"/>
                </a:lnTo>
                <a:lnTo>
                  <a:pt x="1733825" y="1857369"/>
                </a:lnTo>
                <a:lnTo>
                  <a:pt x="1071563" y="1418898"/>
                </a:lnTo>
                <a:lnTo>
                  <a:pt x="409300" y="1857369"/>
                </a:lnTo>
                <a:lnTo>
                  <a:pt x="662269" y="1147915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5-конечная звезда 4"/>
          <p:cNvSpPr/>
          <p:nvPr/>
        </p:nvSpPr>
        <p:spPr>
          <a:xfrm>
            <a:off x="1643040" y="4714920"/>
            <a:ext cx="3857760" cy="2000160"/>
          </a:xfrm>
          <a:custGeom>
            <a:avLst/>
            <a:gdLst>
              <a:gd name="textAreaLeft" fmla="*/ 1191960 w 3857760"/>
              <a:gd name="textAreaRight" fmla="*/ 2665800 w 3857760"/>
              <a:gd name="textAreaTop" fmla="*/ 763920 h 2000160"/>
              <a:gd name="textAreaBottom" fmla="*/ 1528200 h 2000160"/>
            </a:gdLst>
            <a:ahLst/>
            <a:rect l="textAreaLeft" t="textAreaTop" r="textAreaRight" b="textAreaBottom"/>
            <a:pathLst>
              <a:path w="3857625" h="2000250">
                <a:moveTo>
                  <a:pt x="4" y="764025"/>
                </a:moveTo>
                <a:lnTo>
                  <a:pt x="1473490" y="764031"/>
                </a:lnTo>
                <a:lnTo>
                  <a:pt x="1928813" y="0"/>
                </a:lnTo>
                <a:lnTo>
                  <a:pt x="2384135" y="764031"/>
                </a:lnTo>
                <a:lnTo>
                  <a:pt x="3857621" y="764025"/>
                </a:lnTo>
                <a:lnTo>
                  <a:pt x="2665541" y="1236216"/>
                </a:lnTo>
                <a:lnTo>
                  <a:pt x="3120885" y="2000243"/>
                </a:lnTo>
                <a:lnTo>
                  <a:pt x="1928813" y="1528044"/>
                </a:lnTo>
                <a:lnTo>
                  <a:pt x="736740" y="2000243"/>
                </a:lnTo>
                <a:lnTo>
                  <a:pt x="1192084" y="123621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5-конечная звезда 5"/>
          <p:cNvSpPr/>
          <p:nvPr/>
        </p:nvSpPr>
        <p:spPr>
          <a:xfrm>
            <a:off x="7572240" y="500040"/>
            <a:ext cx="1071720" cy="642960"/>
          </a:xfrm>
          <a:custGeom>
            <a:avLst/>
            <a:gdLst>
              <a:gd name="textAreaLeft" fmla="*/ 331200 w 1071720"/>
              <a:gd name="textAreaRight" fmla="*/ 740520 w 1071720"/>
              <a:gd name="textAreaTop" fmla="*/ 245520 h 642960"/>
              <a:gd name="textAreaBottom" fmla="*/ 491400 h 642960"/>
            </a:gdLst>
            <a:ahLst/>
            <a:rect l="textAreaLeft" t="textAreaTop" r="textAreaRight" b="textAreaBottom"/>
            <a:pathLst>
              <a:path w="1071563" h="642937">
                <a:moveTo>
                  <a:pt x="1" y="245579"/>
                </a:moveTo>
                <a:lnTo>
                  <a:pt x="409303" y="245581"/>
                </a:lnTo>
                <a:lnTo>
                  <a:pt x="535782" y="0"/>
                </a:lnTo>
                <a:lnTo>
                  <a:pt x="662260" y="245581"/>
                </a:lnTo>
                <a:lnTo>
                  <a:pt x="1071562" y="245579"/>
                </a:lnTo>
                <a:lnTo>
                  <a:pt x="740428" y="397355"/>
                </a:lnTo>
                <a:lnTo>
                  <a:pt x="866913" y="642935"/>
                </a:lnTo>
                <a:lnTo>
                  <a:pt x="535782" y="491157"/>
                </a:lnTo>
                <a:lnTo>
                  <a:pt x="204650" y="642935"/>
                </a:lnTo>
                <a:lnTo>
                  <a:pt x="331135" y="397355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5-конечная звезда 6"/>
          <p:cNvSpPr/>
          <p:nvPr/>
        </p:nvSpPr>
        <p:spPr>
          <a:xfrm>
            <a:off x="285840" y="285840"/>
            <a:ext cx="1285920" cy="642960"/>
          </a:xfrm>
          <a:custGeom>
            <a:avLst/>
            <a:gdLst>
              <a:gd name="textAreaLeft" fmla="*/ 397440 w 1285920"/>
              <a:gd name="textAreaRight" fmla="*/ 888480 w 1285920"/>
              <a:gd name="textAreaTop" fmla="*/ 245520 h 642960"/>
              <a:gd name="textAreaBottom" fmla="*/ 491400 h 642960"/>
            </a:gdLst>
            <a:ahLst/>
            <a:rect l="textAreaLeft" t="textAreaTop" r="textAreaRight" b="textAreaBottom"/>
            <a:pathLst>
              <a:path w="1285875" h="642938">
                <a:moveTo>
                  <a:pt x="1" y="245580"/>
                </a:moveTo>
                <a:lnTo>
                  <a:pt x="491163" y="245582"/>
                </a:lnTo>
                <a:lnTo>
                  <a:pt x="642938" y="0"/>
                </a:lnTo>
                <a:lnTo>
                  <a:pt x="794712" y="245582"/>
                </a:lnTo>
                <a:lnTo>
                  <a:pt x="1285874" y="245580"/>
                </a:lnTo>
                <a:lnTo>
                  <a:pt x="888514" y="397356"/>
                </a:lnTo>
                <a:lnTo>
                  <a:pt x="1040295" y="642936"/>
                </a:lnTo>
                <a:lnTo>
                  <a:pt x="642938" y="491158"/>
                </a:lnTo>
                <a:lnTo>
                  <a:pt x="245580" y="642936"/>
                </a:lnTo>
                <a:lnTo>
                  <a:pt x="397361" y="39735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5-конечная звезда 7"/>
          <p:cNvSpPr/>
          <p:nvPr/>
        </p:nvSpPr>
        <p:spPr>
          <a:xfrm>
            <a:off x="4786200" y="214200"/>
            <a:ext cx="1143000" cy="357480"/>
          </a:xfrm>
          <a:custGeom>
            <a:avLst/>
            <a:gdLst>
              <a:gd name="textAreaLeft" fmla="*/ 353160 w 1143000"/>
              <a:gd name="textAreaRight" fmla="*/ 789840 w 1143000"/>
              <a:gd name="textAreaTop" fmla="*/ 136440 h 357480"/>
              <a:gd name="textAreaBottom" fmla="*/ 273240 h 357480"/>
            </a:gdLst>
            <a:ahLst/>
            <a:rect l="textAreaLeft" t="textAreaTop" r="textAreaRight" b="textAreaBottom"/>
            <a:pathLst>
              <a:path w="1143000" h="357187">
                <a:moveTo>
                  <a:pt x="1" y="136433"/>
                </a:moveTo>
                <a:lnTo>
                  <a:pt x="436590" y="136434"/>
                </a:lnTo>
                <a:lnTo>
                  <a:pt x="571500" y="0"/>
                </a:lnTo>
                <a:lnTo>
                  <a:pt x="706410" y="136434"/>
                </a:lnTo>
                <a:lnTo>
                  <a:pt x="1142999" y="136433"/>
                </a:lnTo>
                <a:lnTo>
                  <a:pt x="789790" y="220753"/>
                </a:lnTo>
                <a:lnTo>
                  <a:pt x="924707" y="357186"/>
                </a:lnTo>
                <a:lnTo>
                  <a:pt x="571500" y="272865"/>
                </a:lnTo>
                <a:lnTo>
                  <a:pt x="218293" y="357186"/>
                </a:lnTo>
                <a:lnTo>
                  <a:pt x="353210" y="220753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Рисунок 9" descr="http://t3.gstatic.com/images?q=tbn:ANd9GcSAGLpuw9Pqs_muMkL32CvBP8DwQ29N2L2ibW8B_wJ4Q9A7x8OiNg"/>
          <p:cNvPicPr/>
          <p:nvPr/>
        </p:nvPicPr>
        <p:blipFill>
          <a:blip r:embed="rId3"/>
          <a:stretch/>
        </p:blipFill>
        <p:spPr>
          <a:xfrm>
            <a:off x="6357960" y="5118120"/>
            <a:ext cx="26287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ятиугольник 24"/>
          <p:cNvSpPr/>
          <p:nvPr/>
        </p:nvSpPr>
        <p:spPr>
          <a:xfrm>
            <a:off x="6000840" y="5000760"/>
            <a:ext cx="2714400" cy="1428480"/>
          </a:xfrm>
          <a:custGeom>
            <a:avLst/>
            <a:gdLst>
              <a:gd name="textAreaLeft" fmla="*/ 0 w 2714400"/>
              <a:gd name="textAreaRight" fmla="*/ 2714760 w 2714400"/>
              <a:gd name="textAreaTop" fmla="*/ 0 h 1428480"/>
              <a:gd name="textAreaBottom" fmla="*/ 142884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916" y="0"/>
                </a:lnTo>
                <a:lnTo>
                  <a:pt x="21600" y="10800"/>
                </a:lnTo>
                <a:lnTo>
                  <a:pt x="159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ятиугольник 14"/>
          <p:cNvSpPr/>
          <p:nvPr/>
        </p:nvSpPr>
        <p:spPr>
          <a:xfrm>
            <a:off x="785880" y="4929120"/>
            <a:ext cx="2643120" cy="1500120"/>
          </a:xfrm>
          <a:custGeom>
            <a:avLst/>
            <a:gdLst>
              <a:gd name="textAreaLeft" fmla="*/ 0 w 2643120"/>
              <a:gd name="textAreaRight" fmla="*/ 2643480 w 26431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70" y="0"/>
                </a:lnTo>
                <a:lnTo>
                  <a:pt x="21600" y="10800"/>
                </a:lnTo>
                <a:lnTo>
                  <a:pt x="1547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2286000" y="171468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яснить влияние занятий  вольной борьбой на здоровье и образ жизни спортсм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Прямая со стрелкой 10" descr=""/>
          <p:cNvPicPr/>
          <p:nvPr/>
        </p:nvPicPr>
        <p:blipFill>
          <a:blip r:embed="rId1"/>
          <a:stretch/>
        </p:blipFill>
        <p:spPr>
          <a:xfrm>
            <a:off x="2249640" y="3548160"/>
            <a:ext cx="1407960" cy="98748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ая со стрелкой 11" descr=""/>
          <p:cNvPicPr/>
          <p:nvPr/>
        </p:nvPicPr>
        <p:blipFill>
          <a:blip r:embed="rId2"/>
          <a:stretch/>
        </p:blipFill>
        <p:spPr>
          <a:xfrm>
            <a:off x="2401920" y="3700440"/>
            <a:ext cx="1407960" cy="98748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ая со стрелкой 12" descr=""/>
          <p:cNvPicPr/>
          <p:nvPr/>
        </p:nvPicPr>
        <p:blipFill>
          <a:blip r:embed="rId3"/>
          <a:stretch/>
        </p:blipFill>
        <p:spPr>
          <a:xfrm>
            <a:off x="2554200" y="3852720"/>
            <a:ext cx="1408320" cy="9874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13"/>
          <p:cNvSpPr/>
          <p:nvPr/>
        </p:nvSpPr>
        <p:spPr>
          <a:xfrm>
            <a:off x="857160" y="500076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ь причины для занятия этим видом спор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Прямая со стрелкой 19" descr=""/>
          <p:cNvPicPr/>
          <p:nvPr/>
        </p:nvPicPr>
        <p:blipFill>
          <a:blip r:embed="rId4"/>
          <a:stretch/>
        </p:blipFill>
        <p:spPr>
          <a:xfrm>
            <a:off x="6192720" y="3687840"/>
            <a:ext cx="1268640" cy="105552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ая со стрелкой 21" descr=""/>
          <p:cNvPicPr/>
          <p:nvPr/>
        </p:nvPicPr>
        <p:blipFill>
          <a:blip r:embed="rId5"/>
          <a:stretch/>
        </p:blipFill>
        <p:spPr>
          <a:xfrm>
            <a:off x="5907240" y="3975120"/>
            <a:ext cx="1268280" cy="105408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ая со стрелкой 22" descr=""/>
          <p:cNvPicPr/>
          <p:nvPr/>
        </p:nvPicPr>
        <p:blipFill>
          <a:blip r:embed="rId6"/>
          <a:stretch/>
        </p:blipFill>
        <p:spPr>
          <a:xfrm>
            <a:off x="6053040" y="3833640"/>
            <a:ext cx="1268640" cy="1055880"/>
          </a:xfrm>
          <a:prstGeom prst="rect">
            <a:avLst/>
          </a:prstGeom>
          <a:ln w="0">
            <a:noFill/>
          </a:ln>
        </p:spPr>
      </p:pic>
      <p:sp>
        <p:nvSpPr>
          <p:cNvPr id="393" name="TextBox 23"/>
          <p:cNvSpPr/>
          <p:nvPr/>
        </p:nvSpPr>
        <p:spPr>
          <a:xfrm>
            <a:off x="6000840" y="514368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ь какое влияние спорт оказал на здоров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Рисунок 15" descr="http://t2.gstatic.com/images?q=tbn:ANd9GcS_zGs9ST23nraPItr_Gtf3-7tH_te28_PaJPdGO4MUK_Dagl0x"/>
          <p:cNvPicPr/>
          <p:nvPr/>
        </p:nvPicPr>
        <p:blipFill>
          <a:blip r:embed="rId7"/>
          <a:stretch/>
        </p:blipFill>
        <p:spPr>
          <a:xfrm>
            <a:off x="0" y="928800"/>
            <a:ext cx="2355840" cy="1942920"/>
          </a:xfrm>
          <a:prstGeom prst="rect">
            <a:avLst/>
          </a:prstGeom>
          <a:ln w="0">
            <a:noFill/>
          </a:ln>
        </p:spPr>
      </p:pic>
      <p:sp>
        <p:nvSpPr>
          <p:cNvPr id="395" name="Овал 7"/>
          <p:cNvSpPr/>
          <p:nvPr/>
        </p:nvSpPr>
        <p:spPr>
          <a:xfrm>
            <a:off x="2000160" y="714240"/>
            <a:ext cx="5715000" cy="914400"/>
          </a:xfrm>
          <a:prstGeom prst="ellipse">
            <a:avLst/>
          </a:prstGeom>
          <a:solidFill>
            <a:srgbClr val="f273af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Овал 8"/>
          <p:cNvSpPr/>
          <p:nvPr/>
        </p:nvSpPr>
        <p:spPr>
          <a:xfrm>
            <a:off x="2000160" y="2571840"/>
            <a:ext cx="5715000" cy="914400"/>
          </a:xfrm>
          <a:prstGeom prst="ellipse">
            <a:avLst/>
          </a:prstGeom>
          <a:solidFill>
            <a:srgbClr val="f273af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Овал 6"/>
          <p:cNvSpPr/>
          <p:nvPr/>
        </p:nvSpPr>
        <p:spPr>
          <a:xfrm>
            <a:off x="1714680" y="2143080"/>
            <a:ext cx="5715000" cy="914400"/>
          </a:xfrm>
          <a:prstGeom prst="ellipse">
            <a:avLst/>
          </a:prstGeom>
          <a:solidFill>
            <a:srgbClr val="f273af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МЕТ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Штриховая стрелка вправо 7"/>
          <p:cNvSpPr/>
          <p:nvPr/>
        </p:nvSpPr>
        <p:spPr>
          <a:xfrm rot="7477800">
            <a:off x="916200" y="3297600"/>
            <a:ext cx="978120" cy="484200"/>
          </a:xfrm>
          <a:custGeom>
            <a:avLst/>
            <a:gdLst>
              <a:gd name="textAreaLeft" fmla="*/ 75600 w 978120"/>
              <a:gd name="textAreaRight" fmla="*/ 857160 w 9781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977900" h="484187">
                <a:moveTo>
                  <a:pt x="0" y="121047"/>
                </a:moveTo>
                <a:lnTo>
                  <a:pt x="15131" y="121047"/>
                </a:lnTo>
                <a:lnTo>
                  <a:pt x="15131" y="363140"/>
                </a:lnTo>
                <a:lnTo>
                  <a:pt x="0" y="363140"/>
                </a:lnTo>
                <a:close/>
                <a:moveTo>
                  <a:pt x="30262" y="121047"/>
                </a:moveTo>
                <a:lnTo>
                  <a:pt x="60523" y="121047"/>
                </a:lnTo>
                <a:lnTo>
                  <a:pt x="60523" y="363140"/>
                </a:lnTo>
                <a:lnTo>
                  <a:pt x="30262" y="363140"/>
                </a:lnTo>
                <a:close/>
                <a:moveTo>
                  <a:pt x="75654" y="121047"/>
                </a:moveTo>
                <a:lnTo>
                  <a:pt x="735807" y="121047"/>
                </a:lnTo>
                <a:lnTo>
                  <a:pt x="735807" y="0"/>
                </a:lnTo>
                <a:lnTo>
                  <a:pt x="977900" y="242094"/>
                </a:lnTo>
                <a:lnTo>
                  <a:pt x="735807" y="484187"/>
                </a:lnTo>
                <a:lnTo>
                  <a:pt x="735807" y="363140"/>
                </a:lnTo>
                <a:lnTo>
                  <a:pt x="75654" y="36314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8"/>
          <p:cNvSpPr/>
          <p:nvPr/>
        </p:nvSpPr>
        <p:spPr>
          <a:xfrm>
            <a:off x="571680" y="4500720"/>
            <a:ext cx="178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рать информацию об этом виде спор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Штриховая стрелка вправо 9"/>
          <p:cNvSpPr/>
          <p:nvPr/>
        </p:nvSpPr>
        <p:spPr>
          <a:xfrm rot="5400000">
            <a:off x="4110480" y="4175640"/>
            <a:ext cx="977760" cy="484200"/>
          </a:xfrm>
          <a:custGeom>
            <a:avLst/>
            <a:gdLst>
              <a:gd name="textAreaLeft" fmla="*/ 75600 w 977760"/>
              <a:gd name="textAreaRight" fmla="*/ 856800 w 977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977900" h="484187">
                <a:moveTo>
                  <a:pt x="0" y="121047"/>
                </a:moveTo>
                <a:lnTo>
                  <a:pt x="15131" y="121047"/>
                </a:lnTo>
                <a:lnTo>
                  <a:pt x="15131" y="363140"/>
                </a:lnTo>
                <a:lnTo>
                  <a:pt x="0" y="363140"/>
                </a:lnTo>
                <a:close/>
                <a:moveTo>
                  <a:pt x="30262" y="121047"/>
                </a:moveTo>
                <a:lnTo>
                  <a:pt x="60523" y="121047"/>
                </a:lnTo>
                <a:lnTo>
                  <a:pt x="60523" y="363140"/>
                </a:lnTo>
                <a:lnTo>
                  <a:pt x="30262" y="363140"/>
                </a:lnTo>
                <a:close/>
                <a:moveTo>
                  <a:pt x="75654" y="121047"/>
                </a:moveTo>
                <a:lnTo>
                  <a:pt x="735807" y="121047"/>
                </a:lnTo>
                <a:lnTo>
                  <a:pt x="735807" y="0"/>
                </a:lnTo>
                <a:lnTo>
                  <a:pt x="977900" y="242094"/>
                </a:lnTo>
                <a:lnTo>
                  <a:pt x="735807" y="484187"/>
                </a:lnTo>
                <a:lnTo>
                  <a:pt x="735807" y="363140"/>
                </a:lnTo>
                <a:lnTo>
                  <a:pt x="75654" y="36314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10"/>
          <p:cNvSpPr/>
          <p:nvPr/>
        </p:nvSpPr>
        <p:spPr>
          <a:xfrm>
            <a:off x="3643200" y="5286240"/>
            <a:ext cx="20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людать за изменениями в состоянии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Штриховая стрелка вправо 11"/>
          <p:cNvSpPr/>
          <p:nvPr/>
        </p:nvSpPr>
        <p:spPr>
          <a:xfrm rot="3303000">
            <a:off x="7133040" y="3369240"/>
            <a:ext cx="977760" cy="484200"/>
          </a:xfrm>
          <a:custGeom>
            <a:avLst/>
            <a:gdLst>
              <a:gd name="textAreaLeft" fmla="*/ 75600 w 977760"/>
              <a:gd name="textAreaRight" fmla="*/ 856800 w 977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977900" h="484187">
                <a:moveTo>
                  <a:pt x="0" y="121047"/>
                </a:moveTo>
                <a:lnTo>
                  <a:pt x="15131" y="121047"/>
                </a:lnTo>
                <a:lnTo>
                  <a:pt x="15131" y="363140"/>
                </a:lnTo>
                <a:lnTo>
                  <a:pt x="0" y="363140"/>
                </a:lnTo>
                <a:close/>
                <a:moveTo>
                  <a:pt x="30262" y="121047"/>
                </a:moveTo>
                <a:lnTo>
                  <a:pt x="60523" y="121047"/>
                </a:lnTo>
                <a:lnTo>
                  <a:pt x="60523" y="363140"/>
                </a:lnTo>
                <a:lnTo>
                  <a:pt x="30262" y="363140"/>
                </a:lnTo>
                <a:close/>
                <a:moveTo>
                  <a:pt x="75654" y="121047"/>
                </a:moveTo>
                <a:lnTo>
                  <a:pt x="735807" y="121047"/>
                </a:lnTo>
                <a:lnTo>
                  <a:pt x="735807" y="0"/>
                </a:lnTo>
                <a:lnTo>
                  <a:pt x="977900" y="242094"/>
                </a:lnTo>
                <a:lnTo>
                  <a:pt x="735807" y="484187"/>
                </a:lnTo>
                <a:lnTo>
                  <a:pt x="735807" y="363140"/>
                </a:lnTo>
                <a:lnTo>
                  <a:pt x="75654" y="36314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12"/>
          <p:cNvSpPr/>
          <p:nvPr/>
        </p:nvSpPr>
        <p:spPr>
          <a:xfrm>
            <a:off x="6715080" y="4429080"/>
            <a:ext cx="200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осить детей занимающихся борьбой о причинах, по которым они занимаются ею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Рисунок 13" descr="http://t3.gstatic.com/images?q=tbn:ANd9GcQcdP6JdiNs3s3NR5LIRo_87BsTV7kr61Mhe8nKRWKcmgxjHYG0"/>
          <p:cNvPicPr/>
          <p:nvPr/>
        </p:nvPicPr>
        <p:blipFill>
          <a:blip r:embed="rId1"/>
          <a:stretch/>
        </p:blipFill>
        <p:spPr>
          <a:xfrm>
            <a:off x="500040" y="0"/>
            <a:ext cx="2228760" cy="205740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14" descr="http://t3.gstatic.com/images?q=tbn:ANd9GcQI46-Mg4QOVse1X_wnxkidjQFjX16LTb53x495hqBU5BMcXmPfsQ"/>
          <p:cNvPicPr/>
          <p:nvPr/>
        </p:nvPicPr>
        <p:blipFill>
          <a:blip r:embed="rId2"/>
          <a:stretch/>
        </p:blipFill>
        <p:spPr>
          <a:xfrm>
            <a:off x="6072120" y="357120"/>
            <a:ext cx="2762280" cy="1657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5857920" y="928800"/>
            <a:ext cx="2833560" cy="17431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Кратко о вольной борьбе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4286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Родиной вольной борьбы считается Ланкашир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1" marL="278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Вольная борьба — единоборство двух спортсменов, в котором каждый из соперников стремится положить другого на лопатки или добиться победы с помощью различных технических приемов 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1" marL="278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Место борьбы - специальный ковер диаметром 9 м. Костюм борца состоит из специального облегающего трико красного или синего цвета и борцовок. Победа присуждается за туше и за проведение приемов (по баллам)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1" marL="278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Схватка проходит в 2 периода по 2 мин, если победитель не определен назначается дополнительный период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В борьбе не бывает ничьей, всегда должен определяться победитель. 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2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9" name="Picture 2" descr="http://upload.wikimedia.org/wikipedia/commons/thumb/3/3b/FreestyleWrestling2.jpg/282px-FreestyleWrestling2.jpg"/>
          <p:cNvPicPr/>
          <p:nvPr/>
        </p:nvPicPr>
        <p:blipFill>
          <a:blip r:embed="rId2"/>
          <a:stretch/>
        </p:blipFill>
        <p:spPr>
          <a:xfrm>
            <a:off x="5357880" y="2857680"/>
            <a:ext cx="2857320" cy="185724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3"/>
          <a:stretch/>
        </p:blipFill>
        <p:spPr>
          <a:xfrm>
            <a:off x="4857840" y="5072040"/>
            <a:ext cx="2857320" cy="1557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0" y="213840"/>
            <a:ext cx="81439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 здоровь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ольной борьбой я занимаюсь с 7 лет. Просмотрев мою медицинскую карточку я составил следующую диаграмму, показывающую  количество дней, пропущенных во время занятий по болезни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4" name="Диаграмма 5" descr=""/>
          <p:cNvPicPr/>
          <p:nvPr/>
        </p:nvPicPr>
        <p:blipFill>
          <a:blip r:embed="rId1"/>
          <a:stretch/>
        </p:blipFill>
        <p:spPr>
          <a:xfrm>
            <a:off x="1389240" y="1960560"/>
            <a:ext cx="6603840" cy="4794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785520"/>
            <a:ext cx="825804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6" name="Прямоугольник 2"/>
          <p:cNvSpPr/>
          <p:nvPr/>
        </p:nvSpPr>
        <p:spPr>
          <a:xfrm>
            <a:off x="1143000" y="500040"/>
            <a:ext cx="757224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тех пор, как я стал заниматься вольной борьбой у меня появилось много друз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ое лето мы с тренером ходим в походы и ездим отдыхать на Черное море. Там очень весело проводим время: купаемся, ходим в горы и конечно тренируем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 одна большая дружная семь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3" descr="C:\Documents and Settings\User\Рабочий стол\ФОТО\море борьба\Изображение 005.jpg"/>
          <p:cNvPicPr/>
          <p:nvPr/>
        </p:nvPicPr>
        <p:blipFill>
          <a:blip r:embed="rId1"/>
          <a:stretch/>
        </p:blipFill>
        <p:spPr>
          <a:xfrm>
            <a:off x="3851280" y="2357280"/>
            <a:ext cx="5006880" cy="34480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Заголовок 1"/>
          <p:cNvGrpSpPr/>
          <p:nvPr/>
        </p:nvGrpSpPr>
        <p:grpSpPr>
          <a:xfrm>
            <a:off x="774720" y="341280"/>
            <a:ext cx="7588080" cy="1311480"/>
            <a:chOff x="774720" y="341280"/>
            <a:chExt cx="7588080" cy="1311480"/>
          </a:xfrm>
        </p:grpSpPr>
        <p:pic>
          <p:nvPicPr>
            <p:cNvPr id="41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774720" y="341280"/>
              <a:ext cx="758808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857160" y="428760"/>
              <a:ext cx="74152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2060"/>
                  </a:solidFill>
                  <a:latin typeface="Corbel"/>
                </a:rPr>
                <a:t>Мой старший брат тоже занимается вольной борьбой. У него 1 взрослый разряд. Я думаю, что когда мне будет 15 лет я тоже получу 1 разряд, а может быть и звание КМС.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txBody>
          <a:bodyPr anchor="ctr">
            <a:normAutofit/>
          </a:bodyPr>
          <a:p>
            <a:pPr marL="7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157a"/>
                </a:solidFill>
                <a:latin typeface="Corbel"/>
              </a:rPr>
              <a:t>Мои награды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44720" y="1809360"/>
            <a:ext cx="404172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txBody>
          <a:bodyPr anchor="ctr">
            <a:normAutofit fontScale="80000"/>
          </a:bodyPr>
          <a:p>
            <a:pPr marL="58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157a"/>
                </a:solidFill>
                <a:latin typeface="Corbel"/>
              </a:rPr>
              <a:t>Награды моего брат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3" name="Содержимое 6" descr="J:\DCIM\101PHOTO\SAM_1985.JPG"/>
          <p:cNvPicPr/>
          <p:nvPr/>
        </p:nvPicPr>
        <p:blipFill>
          <a:blip r:embed="rId2"/>
          <a:stretch/>
        </p:blipFill>
        <p:spPr>
          <a:xfrm>
            <a:off x="4816440" y="2687760"/>
            <a:ext cx="3803760" cy="3944880"/>
          </a:xfrm>
          <a:prstGeom prst="rect">
            <a:avLst/>
          </a:prstGeom>
          <a:ln w="0">
            <a:noFill/>
          </a:ln>
        </p:spPr>
      </p:pic>
      <p:pic>
        <p:nvPicPr>
          <p:cNvPr id="424" name="Содержимое 7" descr="C:\Documents and Settings\User\Local Settings\Temporary Internet Files\Content.Word\SAM_1986.jpg"/>
          <p:cNvPicPr/>
          <p:nvPr/>
        </p:nvPicPr>
        <p:blipFill>
          <a:blip r:embed="rId3"/>
          <a:stretch/>
        </p:blipFill>
        <p:spPr>
          <a:xfrm>
            <a:off x="596880" y="2687760"/>
            <a:ext cx="3664080" cy="4017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66"/>
                </a:solidFill>
                <a:latin typeface="Consolas"/>
              </a:rPr>
              <a:t>Вывод:</a:t>
            </a:r>
            <a:endParaRPr b="0" lang="en-US" sz="7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ea157a"/>
                </a:solidFill>
                <a:latin typeface="Corbel"/>
              </a:rPr>
              <a:t>С тех пор, как я стал заниматься вольной борьбой, мое самочувствие улучшилось.  Я реже болею гриппом и ОРЗ. Мой организм окреп и я стал более сильным и выносливым. У меня появилось много друзей. Надеюсь я ещё долго буду заниматься этим видом спорта и достигну высоких результатов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9:44:24Z</dcterms:created>
  <dc:creator>Your User Name</dc:creator>
  <dc:description/>
  <dc:language>en-US</dc:language>
  <cp:lastModifiedBy>User</cp:lastModifiedBy>
  <dcterms:modified xsi:type="dcterms:W3CDTF">2013-02-12T14:27:53Z</dcterms:modified>
  <cp:revision>83</cp:revision>
  <dc:subject/>
  <dc:title>Проект на тему  «Полезен ли отдых всей семьёй»</dc:title>
</cp:coreProperties>
</file>