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038A-1469-4CA5-BE4E-08749651C8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62D2-459B-46AB-9264-81227FEE10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0525-A0B5-4E32-B4BE-22A0FCB15F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C570-5886-4D16-8AC2-054CCABE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EE0F-3809-4063-A90B-4594A34D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E1F5-CEEF-4994-AD2F-4BB9B865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085D-2ED9-4530-B3AB-C653FE45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9E19-5CCE-4BA1-A7EF-9FDEC4FA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8A61-16BB-40CD-ADE9-045D6EC0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433C-E911-4CAB-84A9-C56138AE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84E1-57EA-4A69-81EA-1294C741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C502-026A-4A0B-8834-120221CB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F377-9249-4DE9-AB1A-4309B496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D338-1B87-4EDB-BC7E-87642CCE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5F01-CD60-47B4-8FB0-4A445DE1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7A78-030B-4218-973A-5112ACFB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678A-4DB6-442C-90E5-1BFAB2A7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C6B1-1D73-43D9-A5FA-3575FF29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3C9B-A8DF-4E27-ADDB-2635B2FF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FEF2-AF5D-4358-AE00-52685D63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2D6D5-E313-409A-AD75-1286479F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7EE99-D467-42A5-BCFF-8A5956CB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BFE37-9E08-4755-A3D4-2584BE91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89032-F835-4034-9527-89F21C5D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718F0-6EE7-4409-BEF3-B92E2DF1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7F42-8CAE-407B-9F9E-F112E14B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C8EA1-FF0C-4D29-A1FF-F2902E91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E92AA-388D-4DB7-9777-365083E8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78748-7FD6-4410-9BC8-30E511D1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5FCD2-5E2D-4B24-8CB7-1F0E9EA5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013D6-3AC2-4A81-A0DA-7ACCB446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676B7-58C2-4485-829C-61B9CBC4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55B59-C202-40FF-B3E0-D6F19446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F28D7-8105-490E-AAF9-8C5D5F46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8BD1E-3492-488D-8BD8-E4D7B8F8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9BB35-465B-4010-BE9C-6C1ABD69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3DAC-6997-40F6-8BAE-8526FE11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2BCC5-8967-484D-8163-9A7C88FE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845BC-70ED-4348-B380-DBA6EDD4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310D3-1B0A-4389-8FA1-3655D041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6D4E1-D6E4-4AD9-A12A-93579758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5E2D8-A723-4ECE-B1BF-572FD4CA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CAE79-B9A0-4A83-8884-3E8F0BE1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C8626-80E6-4498-B502-98D2E0B1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D3C0F-B569-49D3-B57E-2BAA0F45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91483-BBE3-4D1F-BEFF-6E19D308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A8312-A9E2-483C-B669-9FC2018E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BF36-30BA-48BB-BE0C-35E10AB9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87C2A-70F1-4315-88B1-A91B9D0F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BD66E-DCB1-43B0-BA48-C8D3E8E1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D768E-7794-4F97-9112-18EB8271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F1975-7C5A-46C3-91AF-35D1B5EC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EDB80-A278-4F7C-8265-BD3F0643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BEF09-ED18-4FA6-B731-910E7E25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74EF3-0BE0-4B63-B349-2714B36F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D3E49-4DBD-4DB1-970F-557F9AC4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BC936-E64C-4A7E-9544-E7DE319F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64D7F-88FB-4BB6-9760-435B983A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7FFC-BC3C-4339-9290-67CB384A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2C555-2151-4FCD-9FFF-E80D2992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759C2-08C2-488C-955F-21402358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385D9-2D28-4053-A301-C429CF98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93CB1-484A-4FC3-9A38-90D7B15E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D0054-3DD7-4D48-8632-55A1DBF4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F0DCC-D102-40F5-9F41-4943A342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DCC5F-1895-4250-8B54-4D0F0DC1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E31EC-D09D-4AC2-B74E-776F018B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EF754-F3CF-4D37-A62A-2472DE40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C3EC4-8876-438C-9E80-881D77E0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36B2-E7AF-4B64-AD27-A3CAA333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F5DA4-B6DF-4EC3-A462-46146401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94AA1-78C9-47C8-A1BC-FF9EFAAE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4572D-8E4B-4EE3-B5D5-8BC7744C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6F2ED-AB06-487D-9515-B6D4E697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B8AC8-1BCB-4523-98D2-3CBC2322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30E98-2F42-4891-86EB-4AFD95B5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05534-5F87-45AA-9985-FF4DF900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63D43-9CC8-4C39-B419-641B7AA3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F498B-F7C6-45FB-BE87-38C51D6B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8EACD-4D9D-4AD5-8CD6-864E54B2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AEC1-13A2-4A56-B531-392FA331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116B1-BDE3-4D9F-909F-428EC601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A7DED-86C5-498B-802C-E7320243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95280-CACC-46F8-B318-21868BEF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73BBE-75E1-466C-97F2-B3C43BC9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917F5-3234-437D-8F10-7C61F6ED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520-9615-4FFA-A278-7C2ECD95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5333-C926-4C97-8F14-93AE1D238C9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FA1C-284B-41C2-9D48-1B7C27C1391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C8E5-D8A2-4A92-894D-112957DABA9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E3F2-4294-4B9A-88CE-7BC2BF0E2A0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9F8A-75B9-46F6-9E63-682A97A1D56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CE7D-4F91-4207-814C-0E41E6C88A6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F49C-6E27-4000-9521-8B33D8D1BB9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2"/>
          <a:stretch/>
        </p:blipFill>
        <p:spPr>
          <a:xfrm>
            <a:off x="695160" y="895320"/>
            <a:ext cx="8052120" cy="25178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571760" y="2143080"/>
            <a:ext cx="7232400" cy="26640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f75"/>
                </a:solidFill>
                <a:latin typeface="Corbel"/>
              </a:rPr>
              <a:t>Выполнил: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f75"/>
                </a:solidFill>
                <a:latin typeface="Corbel"/>
              </a:rPr>
              <a:t>ученик 4 класс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f75"/>
                </a:solidFill>
                <a:latin typeface="Corbel"/>
              </a:rPr>
              <a:t>Жерновник Николай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5-конечная звезда 3"/>
          <p:cNvSpPr/>
          <p:nvPr/>
        </p:nvSpPr>
        <p:spPr>
          <a:xfrm>
            <a:off x="428760" y="2857680"/>
            <a:ext cx="2143080" cy="1857240"/>
          </a:xfrm>
          <a:custGeom>
            <a:avLst/>
            <a:gdLst>
              <a:gd name="textAreaLeft" fmla="*/ 662040 w 2143080"/>
              <a:gd name="textAreaRight" fmla="*/ 1481040 w 2143080"/>
              <a:gd name="textAreaTop" fmla="*/ 709200 h 1857240"/>
              <a:gd name="textAreaBottom" fmla="*/ 1418760 h 1857240"/>
            </a:gdLst>
            <a:ahLst/>
            <a:rect l="textAreaLeft" t="textAreaTop" r="textAreaRight" b="textAreaBottom"/>
            <a:pathLst>
              <a:path w="2143125" h="1857375">
                <a:moveTo>
                  <a:pt x="2" y="709452"/>
                </a:moveTo>
                <a:lnTo>
                  <a:pt x="818606" y="709457"/>
                </a:lnTo>
                <a:lnTo>
                  <a:pt x="1071563" y="0"/>
                </a:lnTo>
                <a:lnTo>
                  <a:pt x="1324519" y="709457"/>
                </a:lnTo>
                <a:lnTo>
                  <a:pt x="2143123" y="709452"/>
                </a:lnTo>
                <a:lnTo>
                  <a:pt x="1480856" y="1147915"/>
                </a:lnTo>
                <a:lnTo>
                  <a:pt x="1733825" y="1857369"/>
                </a:lnTo>
                <a:lnTo>
                  <a:pt x="1071563" y="1418898"/>
                </a:lnTo>
                <a:lnTo>
                  <a:pt x="409300" y="1857369"/>
                </a:lnTo>
                <a:lnTo>
                  <a:pt x="662269" y="1147915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5-конечная звезда 4"/>
          <p:cNvSpPr/>
          <p:nvPr/>
        </p:nvSpPr>
        <p:spPr>
          <a:xfrm>
            <a:off x="1643040" y="4714920"/>
            <a:ext cx="3857760" cy="2000160"/>
          </a:xfrm>
          <a:custGeom>
            <a:avLst/>
            <a:gdLst>
              <a:gd name="textAreaLeft" fmla="*/ 1191960 w 3857760"/>
              <a:gd name="textAreaRight" fmla="*/ 2665800 w 3857760"/>
              <a:gd name="textAreaTop" fmla="*/ 763920 h 2000160"/>
              <a:gd name="textAreaBottom" fmla="*/ 1528200 h 2000160"/>
            </a:gdLst>
            <a:ahLst/>
            <a:rect l="textAreaLeft" t="textAreaTop" r="textAreaRight" b="textAreaBottom"/>
            <a:pathLst>
              <a:path w="3857625" h="2000250">
                <a:moveTo>
                  <a:pt x="4" y="764025"/>
                </a:moveTo>
                <a:lnTo>
                  <a:pt x="1473490" y="764031"/>
                </a:lnTo>
                <a:lnTo>
                  <a:pt x="1928813" y="0"/>
                </a:lnTo>
                <a:lnTo>
                  <a:pt x="2384135" y="764031"/>
                </a:lnTo>
                <a:lnTo>
                  <a:pt x="3857621" y="764025"/>
                </a:lnTo>
                <a:lnTo>
                  <a:pt x="2665541" y="1236216"/>
                </a:lnTo>
                <a:lnTo>
                  <a:pt x="3120885" y="2000243"/>
                </a:lnTo>
                <a:lnTo>
                  <a:pt x="1928813" y="1528044"/>
                </a:lnTo>
                <a:lnTo>
                  <a:pt x="736740" y="2000243"/>
                </a:lnTo>
                <a:lnTo>
                  <a:pt x="1192084" y="123621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5-конечная звезда 5"/>
          <p:cNvSpPr/>
          <p:nvPr/>
        </p:nvSpPr>
        <p:spPr>
          <a:xfrm>
            <a:off x="7572240" y="500040"/>
            <a:ext cx="1071720" cy="642960"/>
          </a:xfrm>
          <a:custGeom>
            <a:avLst/>
            <a:gdLst>
              <a:gd name="textAreaLeft" fmla="*/ 331200 w 1071720"/>
              <a:gd name="textAreaRight" fmla="*/ 740520 w 1071720"/>
              <a:gd name="textAreaTop" fmla="*/ 245520 h 642960"/>
              <a:gd name="textAreaBottom" fmla="*/ 491400 h 642960"/>
            </a:gdLst>
            <a:ahLst/>
            <a:rect l="textAreaLeft" t="textAreaTop" r="textAreaRight" b="textAreaBottom"/>
            <a:pathLst>
              <a:path w="1071563" h="642937">
                <a:moveTo>
                  <a:pt x="1" y="245579"/>
                </a:moveTo>
                <a:lnTo>
                  <a:pt x="409303" y="245581"/>
                </a:lnTo>
                <a:lnTo>
                  <a:pt x="535782" y="0"/>
                </a:lnTo>
                <a:lnTo>
                  <a:pt x="662260" y="245581"/>
                </a:lnTo>
                <a:lnTo>
                  <a:pt x="1071562" y="245579"/>
                </a:lnTo>
                <a:lnTo>
                  <a:pt x="740428" y="397355"/>
                </a:lnTo>
                <a:lnTo>
                  <a:pt x="866913" y="642935"/>
                </a:lnTo>
                <a:lnTo>
                  <a:pt x="535782" y="491157"/>
                </a:lnTo>
                <a:lnTo>
                  <a:pt x="204650" y="642935"/>
                </a:lnTo>
                <a:lnTo>
                  <a:pt x="331135" y="397355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5-конечная звезда 6"/>
          <p:cNvSpPr/>
          <p:nvPr/>
        </p:nvSpPr>
        <p:spPr>
          <a:xfrm>
            <a:off x="285840" y="285840"/>
            <a:ext cx="1285920" cy="642960"/>
          </a:xfrm>
          <a:custGeom>
            <a:avLst/>
            <a:gdLst>
              <a:gd name="textAreaLeft" fmla="*/ 397440 w 1285920"/>
              <a:gd name="textAreaRight" fmla="*/ 888480 w 1285920"/>
              <a:gd name="textAreaTop" fmla="*/ 245520 h 642960"/>
              <a:gd name="textAreaBottom" fmla="*/ 491400 h 642960"/>
            </a:gdLst>
            <a:ahLst/>
            <a:rect l="textAreaLeft" t="textAreaTop" r="textAreaRight" b="textAreaBottom"/>
            <a:pathLst>
              <a:path w="1285875" h="642938">
                <a:moveTo>
                  <a:pt x="1" y="245580"/>
                </a:moveTo>
                <a:lnTo>
                  <a:pt x="491163" y="245582"/>
                </a:lnTo>
                <a:lnTo>
                  <a:pt x="642938" y="0"/>
                </a:lnTo>
                <a:lnTo>
                  <a:pt x="794712" y="245582"/>
                </a:lnTo>
                <a:lnTo>
                  <a:pt x="1285874" y="245580"/>
                </a:lnTo>
                <a:lnTo>
                  <a:pt x="888514" y="397356"/>
                </a:lnTo>
                <a:lnTo>
                  <a:pt x="1040295" y="642936"/>
                </a:lnTo>
                <a:lnTo>
                  <a:pt x="642938" y="491158"/>
                </a:lnTo>
                <a:lnTo>
                  <a:pt x="245580" y="642936"/>
                </a:lnTo>
                <a:lnTo>
                  <a:pt x="397361" y="39735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5-конечная звезда 7"/>
          <p:cNvSpPr/>
          <p:nvPr/>
        </p:nvSpPr>
        <p:spPr>
          <a:xfrm>
            <a:off x="4786200" y="214200"/>
            <a:ext cx="1143000" cy="357480"/>
          </a:xfrm>
          <a:custGeom>
            <a:avLst/>
            <a:gdLst>
              <a:gd name="textAreaLeft" fmla="*/ 353160 w 1143000"/>
              <a:gd name="textAreaRight" fmla="*/ 789840 w 1143000"/>
              <a:gd name="textAreaTop" fmla="*/ 136440 h 357480"/>
              <a:gd name="textAreaBottom" fmla="*/ 273240 h 357480"/>
            </a:gdLst>
            <a:ahLst/>
            <a:rect l="textAreaLeft" t="textAreaTop" r="textAreaRight" b="textAreaBottom"/>
            <a:pathLst>
              <a:path w="1143000" h="357187">
                <a:moveTo>
                  <a:pt x="1" y="136433"/>
                </a:moveTo>
                <a:lnTo>
                  <a:pt x="436590" y="136434"/>
                </a:lnTo>
                <a:lnTo>
                  <a:pt x="571500" y="0"/>
                </a:lnTo>
                <a:lnTo>
                  <a:pt x="706410" y="136434"/>
                </a:lnTo>
                <a:lnTo>
                  <a:pt x="1142999" y="136433"/>
                </a:lnTo>
                <a:lnTo>
                  <a:pt x="789790" y="220753"/>
                </a:lnTo>
                <a:lnTo>
                  <a:pt x="924707" y="357186"/>
                </a:lnTo>
                <a:lnTo>
                  <a:pt x="571500" y="272865"/>
                </a:lnTo>
                <a:lnTo>
                  <a:pt x="218293" y="357186"/>
                </a:lnTo>
                <a:lnTo>
                  <a:pt x="353210" y="220753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Рисунок 9" descr="http://t3.gstatic.com/images?q=tbn:ANd9GcSAGLpuw9Pqs_muMkL32CvBP8DwQ29N2L2ibW8B_wJ4Q9A7x8OiNg"/>
          <p:cNvPicPr/>
          <p:nvPr/>
        </p:nvPicPr>
        <p:blipFill>
          <a:blip r:embed="rId3"/>
          <a:stretch/>
        </p:blipFill>
        <p:spPr>
          <a:xfrm>
            <a:off x="6357960" y="5118120"/>
            <a:ext cx="26287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ятиугольник 24"/>
          <p:cNvSpPr/>
          <p:nvPr/>
        </p:nvSpPr>
        <p:spPr>
          <a:xfrm>
            <a:off x="6000840" y="5000760"/>
            <a:ext cx="2714400" cy="1428480"/>
          </a:xfrm>
          <a:custGeom>
            <a:avLst/>
            <a:gdLst>
              <a:gd name="textAreaLeft" fmla="*/ 0 w 2714400"/>
              <a:gd name="textAreaRight" fmla="*/ 2714760 w 2714400"/>
              <a:gd name="textAreaTop" fmla="*/ 0 h 1428480"/>
              <a:gd name="textAreaBottom" fmla="*/ 142884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916" y="0"/>
                </a:lnTo>
                <a:lnTo>
                  <a:pt x="21600" y="10800"/>
                </a:lnTo>
                <a:lnTo>
                  <a:pt x="159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Пятиугольник 14"/>
          <p:cNvSpPr/>
          <p:nvPr/>
        </p:nvSpPr>
        <p:spPr>
          <a:xfrm>
            <a:off x="785880" y="4929120"/>
            <a:ext cx="2643120" cy="1500120"/>
          </a:xfrm>
          <a:custGeom>
            <a:avLst/>
            <a:gdLst>
              <a:gd name="textAreaLeft" fmla="*/ 0 w 2643120"/>
              <a:gd name="textAreaRight" fmla="*/ 2643480 w 26431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70" y="0"/>
                </a:lnTo>
                <a:lnTo>
                  <a:pt x="21600" y="10800"/>
                </a:lnTo>
                <a:lnTo>
                  <a:pt x="1547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2286000" y="171468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яснить влияние занятий  вольной борьбой на здоровье и образ жизни спортсм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Прямая со стрелкой 10" descr=""/>
          <p:cNvPicPr/>
          <p:nvPr/>
        </p:nvPicPr>
        <p:blipFill>
          <a:blip r:embed="rId1"/>
          <a:stretch/>
        </p:blipFill>
        <p:spPr>
          <a:xfrm>
            <a:off x="2249640" y="3548160"/>
            <a:ext cx="1407960" cy="98748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ая со стрелкой 11" descr=""/>
          <p:cNvPicPr/>
          <p:nvPr/>
        </p:nvPicPr>
        <p:blipFill>
          <a:blip r:embed="rId2"/>
          <a:stretch/>
        </p:blipFill>
        <p:spPr>
          <a:xfrm>
            <a:off x="2401920" y="3700440"/>
            <a:ext cx="1407960" cy="98748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ая со стрелкой 12" descr=""/>
          <p:cNvPicPr/>
          <p:nvPr/>
        </p:nvPicPr>
        <p:blipFill>
          <a:blip r:embed="rId3"/>
          <a:stretch/>
        </p:blipFill>
        <p:spPr>
          <a:xfrm>
            <a:off x="2554200" y="3852720"/>
            <a:ext cx="1408320" cy="987480"/>
          </a:xfrm>
          <a:prstGeom prst="rect">
            <a:avLst/>
          </a:prstGeom>
          <a:ln w="0">
            <a:noFill/>
          </a:ln>
        </p:spPr>
      </p:pic>
      <p:sp>
        <p:nvSpPr>
          <p:cNvPr id="389" name="TextBox 13"/>
          <p:cNvSpPr/>
          <p:nvPr/>
        </p:nvSpPr>
        <p:spPr>
          <a:xfrm>
            <a:off x="857160" y="500076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ь причины для занятия этим видом спор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Прямая со стрелкой 19" descr=""/>
          <p:cNvPicPr/>
          <p:nvPr/>
        </p:nvPicPr>
        <p:blipFill>
          <a:blip r:embed="rId4"/>
          <a:stretch/>
        </p:blipFill>
        <p:spPr>
          <a:xfrm>
            <a:off x="6192720" y="3687840"/>
            <a:ext cx="1268640" cy="105552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ая со стрелкой 21" descr=""/>
          <p:cNvPicPr/>
          <p:nvPr/>
        </p:nvPicPr>
        <p:blipFill>
          <a:blip r:embed="rId5"/>
          <a:stretch/>
        </p:blipFill>
        <p:spPr>
          <a:xfrm>
            <a:off x="5907240" y="3975120"/>
            <a:ext cx="1268280" cy="1054080"/>
          </a:xfrm>
          <a:prstGeom prst="rect">
            <a:avLst/>
          </a:prstGeom>
          <a:ln w="0">
            <a:noFill/>
          </a:ln>
        </p:spPr>
      </p:pic>
      <p:pic>
        <p:nvPicPr>
          <p:cNvPr id="392" name="Прямая со стрелкой 22" descr=""/>
          <p:cNvPicPr/>
          <p:nvPr/>
        </p:nvPicPr>
        <p:blipFill>
          <a:blip r:embed="rId6"/>
          <a:stretch/>
        </p:blipFill>
        <p:spPr>
          <a:xfrm>
            <a:off x="6053040" y="3833640"/>
            <a:ext cx="1268640" cy="1055880"/>
          </a:xfrm>
          <a:prstGeom prst="rect">
            <a:avLst/>
          </a:prstGeom>
          <a:ln w="0">
            <a:noFill/>
          </a:ln>
        </p:spPr>
      </p:pic>
      <p:sp>
        <p:nvSpPr>
          <p:cNvPr id="393" name="TextBox 23"/>
          <p:cNvSpPr/>
          <p:nvPr/>
        </p:nvSpPr>
        <p:spPr>
          <a:xfrm>
            <a:off x="6000840" y="514368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ь какое влияние спорт оказал на здоров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Рисунок 15" descr="http://t2.gstatic.com/images?q=tbn:ANd9GcS_zGs9ST23nraPItr_Gtf3-7tH_te28_PaJPdGO4MUK_Dagl0x"/>
          <p:cNvPicPr/>
          <p:nvPr/>
        </p:nvPicPr>
        <p:blipFill>
          <a:blip r:embed="rId7"/>
          <a:stretch/>
        </p:blipFill>
        <p:spPr>
          <a:xfrm>
            <a:off x="0" y="928800"/>
            <a:ext cx="2355840" cy="1942920"/>
          </a:xfrm>
          <a:prstGeom prst="rect">
            <a:avLst/>
          </a:prstGeom>
          <a:ln w="0">
            <a:noFill/>
          </a:ln>
        </p:spPr>
      </p:pic>
      <p:sp>
        <p:nvSpPr>
          <p:cNvPr id="395" name="Овал 7"/>
          <p:cNvSpPr/>
          <p:nvPr/>
        </p:nvSpPr>
        <p:spPr>
          <a:xfrm>
            <a:off x="2000160" y="714240"/>
            <a:ext cx="5715000" cy="914400"/>
          </a:xfrm>
          <a:prstGeom prst="ellipse">
            <a:avLst/>
          </a:prstGeom>
          <a:solidFill>
            <a:srgbClr val="f273af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ЦЕЛ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Овал 8"/>
          <p:cNvSpPr/>
          <p:nvPr/>
        </p:nvSpPr>
        <p:spPr>
          <a:xfrm>
            <a:off x="2000160" y="2571840"/>
            <a:ext cx="5715000" cy="914400"/>
          </a:xfrm>
          <a:prstGeom prst="ellipse">
            <a:avLst/>
          </a:prstGeom>
          <a:solidFill>
            <a:srgbClr val="f273af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Овал 6"/>
          <p:cNvSpPr/>
          <p:nvPr/>
        </p:nvSpPr>
        <p:spPr>
          <a:xfrm>
            <a:off x="1714680" y="2143080"/>
            <a:ext cx="5715000" cy="914400"/>
          </a:xfrm>
          <a:prstGeom prst="ellipse">
            <a:avLst/>
          </a:prstGeom>
          <a:solidFill>
            <a:srgbClr val="f273af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МЕТ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Штриховая стрелка вправо 7"/>
          <p:cNvSpPr/>
          <p:nvPr/>
        </p:nvSpPr>
        <p:spPr>
          <a:xfrm rot="7477800">
            <a:off x="916200" y="3297600"/>
            <a:ext cx="978120" cy="484200"/>
          </a:xfrm>
          <a:custGeom>
            <a:avLst/>
            <a:gdLst>
              <a:gd name="textAreaLeft" fmla="*/ 75600 w 978120"/>
              <a:gd name="textAreaRight" fmla="*/ 857160 w 9781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977900" h="484187">
                <a:moveTo>
                  <a:pt x="0" y="121047"/>
                </a:moveTo>
                <a:lnTo>
                  <a:pt x="15131" y="121047"/>
                </a:lnTo>
                <a:lnTo>
                  <a:pt x="15131" y="363140"/>
                </a:lnTo>
                <a:lnTo>
                  <a:pt x="0" y="363140"/>
                </a:lnTo>
                <a:close/>
                <a:moveTo>
                  <a:pt x="30262" y="121047"/>
                </a:moveTo>
                <a:lnTo>
                  <a:pt x="60523" y="121047"/>
                </a:lnTo>
                <a:lnTo>
                  <a:pt x="60523" y="363140"/>
                </a:lnTo>
                <a:lnTo>
                  <a:pt x="30262" y="363140"/>
                </a:lnTo>
                <a:close/>
                <a:moveTo>
                  <a:pt x="75654" y="121047"/>
                </a:moveTo>
                <a:lnTo>
                  <a:pt x="735807" y="121047"/>
                </a:lnTo>
                <a:lnTo>
                  <a:pt x="735807" y="0"/>
                </a:lnTo>
                <a:lnTo>
                  <a:pt x="977900" y="242094"/>
                </a:lnTo>
                <a:lnTo>
                  <a:pt x="735807" y="484187"/>
                </a:lnTo>
                <a:lnTo>
                  <a:pt x="735807" y="363140"/>
                </a:lnTo>
                <a:lnTo>
                  <a:pt x="75654" y="36314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8"/>
          <p:cNvSpPr/>
          <p:nvPr/>
        </p:nvSpPr>
        <p:spPr>
          <a:xfrm>
            <a:off x="571680" y="4500720"/>
            <a:ext cx="178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рать информацию об этом виде спор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Штриховая стрелка вправо 9"/>
          <p:cNvSpPr/>
          <p:nvPr/>
        </p:nvSpPr>
        <p:spPr>
          <a:xfrm rot="5400000">
            <a:off x="4110480" y="4175640"/>
            <a:ext cx="977760" cy="484200"/>
          </a:xfrm>
          <a:custGeom>
            <a:avLst/>
            <a:gdLst>
              <a:gd name="textAreaLeft" fmla="*/ 75600 w 977760"/>
              <a:gd name="textAreaRight" fmla="*/ 856800 w 9777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977900" h="484187">
                <a:moveTo>
                  <a:pt x="0" y="121047"/>
                </a:moveTo>
                <a:lnTo>
                  <a:pt x="15131" y="121047"/>
                </a:lnTo>
                <a:lnTo>
                  <a:pt x="15131" y="363140"/>
                </a:lnTo>
                <a:lnTo>
                  <a:pt x="0" y="363140"/>
                </a:lnTo>
                <a:close/>
                <a:moveTo>
                  <a:pt x="30262" y="121047"/>
                </a:moveTo>
                <a:lnTo>
                  <a:pt x="60523" y="121047"/>
                </a:lnTo>
                <a:lnTo>
                  <a:pt x="60523" y="363140"/>
                </a:lnTo>
                <a:lnTo>
                  <a:pt x="30262" y="363140"/>
                </a:lnTo>
                <a:close/>
                <a:moveTo>
                  <a:pt x="75654" y="121047"/>
                </a:moveTo>
                <a:lnTo>
                  <a:pt x="735807" y="121047"/>
                </a:lnTo>
                <a:lnTo>
                  <a:pt x="735807" y="0"/>
                </a:lnTo>
                <a:lnTo>
                  <a:pt x="977900" y="242094"/>
                </a:lnTo>
                <a:lnTo>
                  <a:pt x="735807" y="484187"/>
                </a:lnTo>
                <a:lnTo>
                  <a:pt x="735807" y="363140"/>
                </a:lnTo>
                <a:lnTo>
                  <a:pt x="75654" y="36314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10"/>
          <p:cNvSpPr/>
          <p:nvPr/>
        </p:nvSpPr>
        <p:spPr>
          <a:xfrm>
            <a:off x="3643200" y="5286240"/>
            <a:ext cx="200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блюдать за изменениями в состоянии 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Штриховая стрелка вправо 11"/>
          <p:cNvSpPr/>
          <p:nvPr/>
        </p:nvSpPr>
        <p:spPr>
          <a:xfrm rot="3303000">
            <a:off x="7133040" y="3369240"/>
            <a:ext cx="977760" cy="484200"/>
          </a:xfrm>
          <a:custGeom>
            <a:avLst/>
            <a:gdLst>
              <a:gd name="textAreaLeft" fmla="*/ 75600 w 977760"/>
              <a:gd name="textAreaRight" fmla="*/ 856800 w 9777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977900" h="484187">
                <a:moveTo>
                  <a:pt x="0" y="121047"/>
                </a:moveTo>
                <a:lnTo>
                  <a:pt x="15131" y="121047"/>
                </a:lnTo>
                <a:lnTo>
                  <a:pt x="15131" y="363140"/>
                </a:lnTo>
                <a:lnTo>
                  <a:pt x="0" y="363140"/>
                </a:lnTo>
                <a:close/>
                <a:moveTo>
                  <a:pt x="30262" y="121047"/>
                </a:moveTo>
                <a:lnTo>
                  <a:pt x="60523" y="121047"/>
                </a:lnTo>
                <a:lnTo>
                  <a:pt x="60523" y="363140"/>
                </a:lnTo>
                <a:lnTo>
                  <a:pt x="30262" y="363140"/>
                </a:lnTo>
                <a:close/>
                <a:moveTo>
                  <a:pt x="75654" y="121047"/>
                </a:moveTo>
                <a:lnTo>
                  <a:pt x="735807" y="121047"/>
                </a:lnTo>
                <a:lnTo>
                  <a:pt x="735807" y="0"/>
                </a:lnTo>
                <a:lnTo>
                  <a:pt x="977900" y="242094"/>
                </a:lnTo>
                <a:lnTo>
                  <a:pt x="735807" y="484187"/>
                </a:lnTo>
                <a:lnTo>
                  <a:pt x="735807" y="363140"/>
                </a:lnTo>
                <a:lnTo>
                  <a:pt x="75654" y="36314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12"/>
          <p:cNvSpPr/>
          <p:nvPr/>
        </p:nvSpPr>
        <p:spPr>
          <a:xfrm>
            <a:off x="6715080" y="4429080"/>
            <a:ext cx="200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осить детей занимающихся борьбой о причинах, по которым они занимаются ею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Рисунок 13" descr="http://t3.gstatic.com/images?q=tbn:ANd9GcQcdP6JdiNs3s3NR5LIRo_87BsTV7kr61Mhe8nKRWKcmgxjHYG0"/>
          <p:cNvPicPr/>
          <p:nvPr/>
        </p:nvPicPr>
        <p:blipFill>
          <a:blip r:embed="rId1"/>
          <a:stretch/>
        </p:blipFill>
        <p:spPr>
          <a:xfrm>
            <a:off x="500040" y="0"/>
            <a:ext cx="2228760" cy="205740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14" descr="http://t3.gstatic.com/images?q=tbn:ANd9GcQI46-Mg4QOVse1X_wnxkidjQFjX16LTb53x495hqBU5BMcXmPfsQ"/>
          <p:cNvPicPr/>
          <p:nvPr/>
        </p:nvPicPr>
        <p:blipFill>
          <a:blip r:embed="rId2"/>
          <a:stretch/>
        </p:blipFill>
        <p:spPr>
          <a:xfrm>
            <a:off x="6072120" y="357120"/>
            <a:ext cx="2762280" cy="1657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5857920" y="928800"/>
            <a:ext cx="2833560" cy="17431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Кратко о вольной борьбе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4286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Родиной вольной борьбы считается Ланкашир.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1" marL="278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Вольная борьба — единоборство двух спортсменов, в котором каждый из соперников стремится положить другого на лопатки или добиться победы с помощью различных технических приемов 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1" marL="278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Место борьбы - специальный ковер диаметром 9 м. Костюм борца состоит из специального облегающего трико красного или синего цвета и борцовок. Победа присуждается за туше и за проведение приемов (по баллам).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1" marL="278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Схватка проходит в 2 периода по 2 мин, если победитель не определен назначается дополнительный период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В борьбе не бывает ничьей, всегда должен определяться победитель. 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2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9" name="Picture 2" descr="http://upload.wikimedia.org/wikipedia/commons/thumb/3/3b/FreestyleWrestling2.jpg/282px-FreestyleWrestling2.jpg"/>
          <p:cNvPicPr/>
          <p:nvPr/>
        </p:nvPicPr>
        <p:blipFill>
          <a:blip r:embed="rId2"/>
          <a:stretch/>
        </p:blipFill>
        <p:spPr>
          <a:xfrm>
            <a:off x="5357880" y="2857680"/>
            <a:ext cx="2857320" cy="185724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3"/>
          <a:stretch/>
        </p:blipFill>
        <p:spPr>
          <a:xfrm>
            <a:off x="4857840" y="5072040"/>
            <a:ext cx="2857320" cy="1557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0" y="213840"/>
            <a:ext cx="81439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 здоровь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ольной борьбой я занимаюсь с 7 лет. Просмотрев мою медицинскую карточку я составил следующую диаграмму, показывающую  количество дней, пропущенных во время занятий по болезни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4" name="Диаграмма 5" descr=""/>
          <p:cNvPicPr/>
          <p:nvPr/>
        </p:nvPicPr>
        <p:blipFill>
          <a:blip r:embed="rId1"/>
          <a:stretch/>
        </p:blipFill>
        <p:spPr>
          <a:xfrm>
            <a:off x="1389240" y="1960560"/>
            <a:ext cx="6603840" cy="4794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785520"/>
            <a:ext cx="825804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6" name="Прямоугольник 2"/>
          <p:cNvSpPr/>
          <p:nvPr/>
        </p:nvSpPr>
        <p:spPr>
          <a:xfrm>
            <a:off x="1143000" y="500040"/>
            <a:ext cx="757224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тех пор, как я стал заниматься вольной борьбой у меня появилось много друз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ое лето мы с тренером ходим в походы и ездим отдыхать на Черное море. Там очень весело проводим время: купаемся, ходим в горы и конечно тренируем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 одна большая дружная семь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3" descr="C:\Documents and Settings\User\Рабочий стол\ФОТО\море борьба\Изображение 005.jpg"/>
          <p:cNvPicPr/>
          <p:nvPr/>
        </p:nvPicPr>
        <p:blipFill>
          <a:blip r:embed="rId1"/>
          <a:stretch/>
        </p:blipFill>
        <p:spPr>
          <a:xfrm>
            <a:off x="3851280" y="2357280"/>
            <a:ext cx="5006880" cy="34480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Заголовок 1"/>
          <p:cNvGrpSpPr/>
          <p:nvPr/>
        </p:nvGrpSpPr>
        <p:grpSpPr>
          <a:xfrm>
            <a:off x="774720" y="341280"/>
            <a:ext cx="7588080" cy="1311480"/>
            <a:chOff x="774720" y="341280"/>
            <a:chExt cx="7588080" cy="1311480"/>
          </a:xfrm>
        </p:grpSpPr>
        <p:pic>
          <p:nvPicPr>
            <p:cNvPr id="41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774720" y="341280"/>
              <a:ext cx="758808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857160" y="428760"/>
              <a:ext cx="74152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2060"/>
                  </a:solidFill>
                  <a:latin typeface="Corbel"/>
                </a:rPr>
                <a:t>Мой старший брат тоже занимается вольной борьбой. У него 1 взрослый разряд. Я думаю, что когда мне будет 15 лет я тоже получу 1 разряд, а может быть и звание КМС.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56840" y="1809360"/>
            <a:ext cx="404028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txBody>
          <a:bodyPr anchor="ctr">
            <a:normAutofit/>
          </a:bodyPr>
          <a:p>
            <a:pPr marL="7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157a"/>
                </a:solidFill>
                <a:latin typeface="Corbel"/>
              </a:rPr>
              <a:t>Мои награды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44720" y="1809360"/>
            <a:ext cx="404172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txBody>
          <a:bodyPr anchor="ctr">
            <a:normAutofit fontScale="80000"/>
          </a:bodyPr>
          <a:p>
            <a:pPr marL="58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157a"/>
                </a:solidFill>
                <a:latin typeface="Corbel"/>
              </a:rPr>
              <a:t>Награды моего брат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3" name="Содержимое 6" descr="J:\DCIM\101PHOTO\SAM_1985.JPG"/>
          <p:cNvPicPr/>
          <p:nvPr/>
        </p:nvPicPr>
        <p:blipFill>
          <a:blip r:embed="rId2"/>
          <a:stretch/>
        </p:blipFill>
        <p:spPr>
          <a:xfrm>
            <a:off x="4816440" y="2687760"/>
            <a:ext cx="3803760" cy="3944880"/>
          </a:xfrm>
          <a:prstGeom prst="rect">
            <a:avLst/>
          </a:prstGeom>
          <a:ln w="0">
            <a:noFill/>
          </a:ln>
        </p:spPr>
      </p:pic>
      <p:pic>
        <p:nvPicPr>
          <p:cNvPr id="424" name="Содержимое 7" descr="C:\Documents and Settings\User\Local Settings\Temporary Internet Files\Content.Word\SAM_1986.jpg"/>
          <p:cNvPicPr/>
          <p:nvPr/>
        </p:nvPicPr>
        <p:blipFill>
          <a:blip r:embed="rId3"/>
          <a:stretch/>
        </p:blipFill>
        <p:spPr>
          <a:xfrm>
            <a:off x="596880" y="2687760"/>
            <a:ext cx="3664080" cy="4017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66"/>
                </a:solidFill>
                <a:latin typeface="Consolas"/>
              </a:rPr>
              <a:t>Вывод:</a:t>
            </a:r>
            <a:endParaRPr b="0" lang="en-US" sz="7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3000" spc="-1" strike="noStrike">
                <a:solidFill>
                  <a:srgbClr val="ea157a"/>
                </a:solidFill>
                <a:latin typeface="Corbel"/>
              </a:rPr>
              <a:t>С тех пор, как я стал заниматься вольной борьбой, мое самочувствие улучшилось.  Я реже болею гриппом и ОРЗ. Мой организм окреп и я стал более сильным и выносливым. У меня появилось много друзей. Надеюсь я ещё долго буду заниматься этим видом спорта и достигну высоких результатов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edg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9:44:24Z</dcterms:created>
  <dc:creator>Your User Name</dc:creator>
  <dc:description/>
  <dc:language>en-US</dc:language>
  <cp:lastModifiedBy>User</cp:lastModifiedBy>
  <dcterms:modified xsi:type="dcterms:W3CDTF">2013-02-12T14:27:53Z</dcterms:modified>
  <cp:revision>83</cp:revision>
  <dc:subject/>
  <dc:title>Проект на тему  «Полезен ли отдых всей семьёй»</dc:title>
</cp:coreProperties>
</file>