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D96-357E-4DA1-B6F6-FFCD0C64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0B5-7F5E-422C-86E5-FEE7894E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356-CE07-47D9-86F8-D0E5D0BF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F3F-234F-41BD-BAAC-1A647CC6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AFD-276B-49E9-AF90-ED6FCA0F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018-E288-4C8B-A8CD-30719A73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4FB-408E-40FE-97B6-C4EE1A52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7BF-AA31-43CC-A091-4FA7E9BC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C87-8040-447D-83B5-CB3887E9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4DE6-CAF5-4B17-8D19-E6615837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FEF-4885-496B-B02F-AF4756A5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227-251A-442E-B1DA-43FA4E2B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AF0D-DEF5-4A76-9067-871B69786E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РУЖНАЯ НАУЧНАЯ КОНФЕРЕНЦИЯ УЧАЩИХС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КЦИЯ “Экология”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секция - Общие вопросы экологи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рмикультивирова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ШИВАНИЕ ПОЧВЫ КРАСНЫМ  КАЛИФОРНИЙСКИМ ЧЕРВЕ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1484280"/>
          <a:ext cx="8424720" cy="4929120"/>
        </p:xfrm>
        <a:graphic>
          <a:graphicData uri="http://schemas.openxmlformats.org/drawingml/2006/table">
            <a:tbl>
              <a:tblPr/>
              <a:tblGrid>
                <a:gridCol w="3538440"/>
                <a:gridCol w="488628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ИМЫЕ ПРИЗНАКИ ДЕЯТЕЛЬНОСТИ ЧЕРВЕ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0.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ЛЕНИЕ ПЕРВ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ОЧКОВ ЗЕМЛИ НА ПОВЕРХНОСТИ ПЕ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10.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ИСЧЕЗНОВЕНИЯ ГРАНИЦЫ "ПЕСОК-ЗЕМЛЯ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0.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ЧЕЗНОВЕНИЕ ГРАНИЦЫ "ПЕСОК-ЗЕМЛЯ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первому опы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калифорнийский червь очень интенсивно перемешивает почву и перерабатывает органические остат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проведения второго опыта «Сравнение активности красного калифорнийского червя и малого дождевого червя в перемешивании почвы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В три литровых банки насыпать на 2\3 зем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Сверху насыпать песок слоем 2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Все увлажн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В одну банку поместить 10 взрослых калифорнийских червей, во вторую банку опустим 10  дождевых червей, а третья банка останется контрольн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Червей периодически подкармливать кухонными отходами (раз 5-7 дн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Наблюдать за исчезновением границы «песок-земля», за использованием червями пищ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калифорнийский чер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евой чер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Черви дождевые"/>
          <p:cNvPicPr/>
          <p:nvPr/>
        </p:nvPicPr>
        <p:blipFill>
          <a:blip r:embed="rId1"/>
          <a:stretch/>
        </p:blipFill>
        <p:spPr>
          <a:xfrm>
            <a:off x="4849920" y="1844640"/>
            <a:ext cx="3989160" cy="427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фотография красного калифорнийского червя"/>
          <p:cNvPicPr/>
          <p:nvPr/>
        </p:nvPicPr>
        <p:blipFill>
          <a:blip r:embed="rId2"/>
          <a:stretch/>
        </p:blipFill>
        <p:spPr>
          <a:xfrm>
            <a:off x="900000" y="1844640"/>
            <a:ext cx="32353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адывания опыта 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P1020497"/>
          <p:cNvPicPr/>
          <p:nvPr/>
        </p:nvPicPr>
        <p:blipFill>
          <a:blip r:embed="rId1"/>
          <a:stretch/>
        </p:blipFill>
        <p:spPr>
          <a:xfrm>
            <a:off x="1258920" y="1501920"/>
            <a:ext cx="65530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50920" y="260280"/>
          <a:ext cx="8713800" cy="6091200"/>
        </p:xfrm>
        <a:graphic>
          <a:graphicData uri="http://schemas.openxmlformats.org/drawingml/2006/table">
            <a:tbl>
              <a:tblPr/>
              <a:tblGrid>
                <a:gridCol w="1800000"/>
                <a:gridCol w="3673440"/>
                <a:gridCol w="3240360"/>
              </a:tblGrid>
              <a:tr h="9381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имые признаки деятельности черв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форнийского черв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ждевого черв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1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ление первых капроли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оверхности пе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ление первых капролитов на поверхности песка (меньш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01.11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границы "песок-земля". Частицы песка находятся глубже в зем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5084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границы"песок - земля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1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03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чезновение границы   «песок-земл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о сохранилась граница "песок-земля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3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0.2011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03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тков отходов в банке с калифорнийскими червями на поверхности почвы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3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тков отходов в банке с  дождевыми червями остатки пищи покрылись плесен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результатам второго опы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калифорнийский червь перемешивает почву и перерабатывает органические остатки активнее дождевого черв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ермикультив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341360"/>
            <a:ext cx="8507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микультура (от лат. vermin -  червь) - использование дождевых червей для переработки органических отходов и повышения плодородия почв - является одним из перспективных направлений биотехнолог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тельность метода вермикультуры  заключена именно в его биологической основе,  не включающей опасность загрязнения среды вредными веществ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1197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нашей работы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ходе лабораторных исследований  познакомиться с ролью красного калифорнийского червя в процессе утилизации органических отходов,  и сравнить активности красного калифорнийского червя и малого дождевого червя в перемешивании почвы и переработки органических остат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052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ровести анализ имеющейся литературы по вопросам   вермикультивир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овести собственный эксперимент по изучению роли красного калифорнийского червя в процессе утилизации органических отходов,  и сравнить активности красного калифорнийского червя и  дождевого червя в перемешивании поч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делать самостоятельные выводы по проведённым эксперимент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проведения первого опыта по изучению роли красного калифорнийского червя  в перемешивании поч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В две литровые банки насыпаем на 2\3 перегнойную землю, а затем слой песка 2-3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Землю и песок увлажним (влажность песка и земли поддерживаем в течение всего опыт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у банку поместим 10  взрослых червей, а вторая банка —контроль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у поместим в теплое, темное мес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Червей будем периодически подкармливать вареными овощами, пищевыми отходами с кухни (один раз в 5-7 дн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онаблюдать за исчезновением границы "песок-земля"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калифорнийский чер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фотография красного калифорнийского червя"/>
          <p:cNvPicPr/>
          <p:nvPr/>
        </p:nvPicPr>
        <p:blipFill>
          <a:blip r:embed="rId1"/>
          <a:stretch/>
        </p:blipFill>
        <p:spPr>
          <a:xfrm>
            <a:off x="2411280" y="1612800"/>
            <a:ext cx="3673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3600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закладывания опы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87640" y="475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неделя опы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68" descr="C:\Documents and Settings\Администратор\Local Settings\Temporary Internet Files\Content.Word\PA220885.jpg"/>
          <p:cNvPicPr/>
          <p:nvPr/>
        </p:nvPicPr>
        <p:blipFill>
          <a:blip r:embed="rId1"/>
          <a:stretch/>
        </p:blipFill>
        <p:spPr>
          <a:xfrm>
            <a:off x="755640" y="1557360"/>
            <a:ext cx="3559320" cy="50022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4" descr="C:\Documents and Settings\Администратор\Local Settings\Temporary Internet Files\Content.Word\PA220887.jpg"/>
          <p:cNvPicPr/>
          <p:nvPr/>
        </p:nvPicPr>
        <p:blipFill>
          <a:blip r:embed="rId2"/>
          <a:stretch/>
        </p:blipFill>
        <p:spPr>
          <a:xfrm>
            <a:off x="5103720" y="1557360"/>
            <a:ext cx="350064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мление черв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71" descr="C:\Documents and Settings\Администратор\Local Settings\Temporary Internet Files\Content.Word\PA220886.jpg"/>
          <p:cNvPicPr/>
          <p:nvPr/>
        </p:nvPicPr>
        <p:blipFill>
          <a:blip r:embed="rId1"/>
          <a:stretch/>
        </p:blipFill>
        <p:spPr>
          <a:xfrm>
            <a:off x="2873520" y="1224000"/>
            <a:ext cx="38592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ение опыта (исчезновение границы земля - песо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77" descr="C:\Documents and Settings\Администратор\Local Settings\Temporary Internet Files\Content.Word\PA220895.jpg"/>
          <p:cNvPicPr/>
          <p:nvPr/>
        </p:nvPicPr>
        <p:blipFill>
          <a:blip r:embed="rId1"/>
          <a:stretch/>
        </p:blipFill>
        <p:spPr>
          <a:xfrm>
            <a:off x="3132000" y="1522440"/>
            <a:ext cx="331164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5:38:27Z</dcterms:created>
  <dc:creator>женя</dc:creator>
  <dc:description/>
  <dc:language>en-US</dc:language>
  <cp:lastModifiedBy>школа</cp:lastModifiedBy>
  <dcterms:modified xsi:type="dcterms:W3CDTF">2012-03-13T07:42:42Z</dcterms:modified>
  <cp:revision>13</cp:revision>
  <dc:subject/>
  <dc:title>ОКРУЖНАЯ НАУЧНАЯ КОНФЕРЕНЦИЯ УЧАЩИХСЯ     СЕКЦИЯ “Экология” Подсекция - Общие вопросы экологии     ТЕМА:  Биоконверсия.  Вермикультивирование </dc:title>
</cp:coreProperties>
</file>