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11E9-3C41-4587-AB1B-D1A819BE6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8324-EFDE-49D3-AF0C-FED52E6AE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65F8-E0D6-432E-9EB9-B5C9BF5E5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D5E2-DF42-4DB5-BB68-BF7CDEEEF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37ECF-165A-4E21-998F-81FC53F50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4FA27-01CA-4B5E-AC03-18F388C26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1624D-7039-4C04-966E-5359CD8F4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8FA8E-1E11-44AC-8FE9-7250476D6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D15BB-7D84-4BA1-A840-A76938433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3A008-4BB8-47AD-BD1D-8FAF2D8D1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6FF89-7077-43D1-8CC7-797C79CC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34EE-2968-49D1-9320-04AAD3B6A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44181-1E7F-410A-8630-E539F284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BD7E7-28F1-4360-9661-22849BA7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D130C-0924-4A1D-B160-7A9BE3136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DB1C2-7523-449E-B0CF-807DD238B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960DB-8908-4E0F-BF5E-BC2AC4247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93EE-4E64-4AC8-AB75-EFF8AAA56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EEB8-A35B-4482-AC3A-9E8B7EE21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E621-7B7B-40D5-B5A2-D754CF058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B42D-2DC0-4B37-B547-F76A0A63A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0D04-B2AC-4E84-BE5B-21616F9C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38C7-3A83-41B0-A499-0EFA93AD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E6CA-DED8-4271-8841-29A91760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858F6-715E-444A-8747-F4F5FB376F23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6607E-60AD-4D7F-AA88-6F96AE074ED2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195120" y="384120"/>
            <a:ext cx="8882280" cy="26211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000680" y="3331800"/>
            <a:ext cx="492912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одготовила: учитель начальных классов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Антонова Алевтина Владимировн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МБОУ «Средняя общеобразовательная школа №14»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г.Новомосковск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142920" y="3214800"/>
            <a:ext cx="389088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Заголовок 4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1. Авгусманова Т.В. Программа курса "Методика исследовательской деятельности учащихся"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2. «Исследовательская работа школьников». Научно-методический и информационно-публицистический журнал. Редакция «Народное образование». Изд. 4 раза в год. Подписной индекс – 81415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3. Концепция развития исследовательской деятельности учащихся/Авт.: Алексеев Н.Г. и др. – В ж. «Исследовательская работа школьников», 2002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4. Леонтович А.В. Исследовательская деятельность как способ формирования мировоззрения. // Народное образование, № 10, 1999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5. Развитие исследовательской деятельности учащихся. Методический сборник. — М.: Народное образование, 2001. — 272 с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6. Савенков А.И. Детские исследования в домашнем обучении // Исследовательская работа школьников. 2002. №1. С. 34-45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7. Савенков А.И. Маленький исследователь. Как научить младшего школьника приобретать знания. Ярославль: Академия развития, 2002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8. Савенков А.И. Психология исследовательского поведения и исследовательские способности // Исследовательская работа школьников. 2003. №2. С. 38-49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9. Савенков А.И. Учебное исследование в начальной школе//Начальная школа, №12, 2000. 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10. Чернышевой Светланы Николаевны. Статья в научно-методический журнал «Развитие исследовательских умений учителей и учащихся сельской школы»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574800" y="713880"/>
            <a:ext cx="511164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Исследуй все, пусть для тебя на первом месте будет разум; предоставь ему руководить собой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ифаго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500040" y="785880"/>
            <a:ext cx="3181320" cy="5143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500040" y="785880"/>
            <a:ext cx="318132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450720" y="208080"/>
            <a:ext cx="8358480" cy="12189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Выбор темы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Постановка цели и задач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Гипотеза исследования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Организация исследования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Подготовка к защите и защита работы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Рефлексия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Picture 3" descr="C:\Documents and Settings\Аля\Рабочий стол\Фото для печати\PA230177.JPG"/>
          <p:cNvPicPr/>
          <p:nvPr/>
        </p:nvPicPr>
        <p:blipFill>
          <a:blip r:embed="rId2"/>
          <a:stretch/>
        </p:blipFill>
        <p:spPr>
          <a:xfrm>
            <a:off x="357120" y="1643040"/>
            <a:ext cx="3075120" cy="2305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Documents and Settings\Аля\Рабочий стол\Фото для печати\PA230178.JPG"/>
          <p:cNvPicPr/>
          <p:nvPr/>
        </p:nvPicPr>
        <p:blipFill>
          <a:blip r:embed="rId3"/>
          <a:stretch/>
        </p:blipFill>
        <p:spPr>
          <a:xfrm>
            <a:off x="1500120" y="3643200"/>
            <a:ext cx="300060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2494080" y="96840"/>
            <a:ext cx="6308640" cy="14461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авило 1. Тема должна быть интересн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авило 2. Тема должна быть выполнима, решение ее должно быть полезно участникам исследова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авило 3. Учитывая интересы детей, старайтесь держаться ближе к той сфере, в которой сами лучше всего разбираетесь, в которой чувствуете себя сильным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авило 4. Тема должна быть оригинальной, с элементами неожиданности, необычност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Picture 2" descr="C:\Documents and Settings\Аля\Мои документы\сова рис..jpg"/>
          <p:cNvPicPr/>
          <p:nvPr/>
        </p:nvPicPr>
        <p:blipFill>
          <a:blip r:embed="rId2"/>
          <a:stretch/>
        </p:blipFill>
        <p:spPr>
          <a:xfrm>
            <a:off x="285840" y="142920"/>
            <a:ext cx="185724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6840" y="1534680"/>
            <a:ext cx="4040280" cy="18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ЗАЧЕМ ТЫ ПРОВОДИШЬ ИССЛЕДОВАНИЕ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57520" y="1534680"/>
            <a:ext cx="3328920" cy="18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ЗНАТЬ………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ЯСНИТЬ……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ССЛЕДОВАТЬ……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5143680" y="3571920"/>
            <a:ext cx="3303360" cy="2643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"/>
          <p:cNvPicPr/>
          <p:nvPr/>
        </p:nvPicPr>
        <p:blipFill>
          <a:blip r:embed="rId3"/>
          <a:stretch/>
        </p:blipFill>
        <p:spPr>
          <a:xfrm>
            <a:off x="1214280" y="3322800"/>
            <a:ext cx="245592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57200" y="1600200"/>
            <a:ext cx="403848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ГИПОТЕЗА – это предположение, догадка, рассуждение, еще не доказанное опытом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600" spc="-1" strike="noStrike" u="sng">
                <a:solidFill>
                  <a:srgbClr val="ffffff"/>
                </a:solidFill>
                <a:uFillTx/>
                <a:latin typeface="Times New Roman"/>
              </a:rPr>
              <a:t>Обычно гипотезы начинаются словами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редположим…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допустим….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возможно….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что, если….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2"/>
          <a:stretch/>
        </p:blipFill>
        <p:spPr>
          <a:xfrm>
            <a:off x="1357200" y="4286160"/>
            <a:ext cx="21877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8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142920" y="5786280"/>
            <a:ext cx="1428840" cy="943200"/>
          </a:xfrm>
          <a:prstGeom prst="rect">
            <a:avLst/>
          </a:prstGeom>
          <a:ln w="0">
            <a:noFill/>
          </a:ln>
        </p:spPr>
      </p:pic>
      <p:pic>
        <p:nvPicPr>
          <p:cNvPr id="106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одумать самостоятельно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осмотреть книги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спросить у других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ознакомиться с кино и телефильмами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обратиться к сети Интернет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онаблюдать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ровести эксперимент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3"/>
          <a:stretch/>
        </p:blipFill>
        <p:spPr>
          <a:xfrm>
            <a:off x="3000240" y="3571920"/>
            <a:ext cx="1428840" cy="1171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4"/>
          <a:stretch/>
        </p:blipFill>
        <p:spPr>
          <a:xfrm>
            <a:off x="2500200" y="4500720"/>
            <a:ext cx="1428840" cy="1295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"/>
          <p:cNvPicPr/>
          <p:nvPr/>
        </p:nvPicPr>
        <p:blipFill>
          <a:blip r:embed="rId5"/>
          <a:stretch/>
        </p:blipFill>
        <p:spPr>
          <a:xfrm>
            <a:off x="357120" y="1214280"/>
            <a:ext cx="1047960" cy="1428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"/>
          <p:cNvPicPr/>
          <p:nvPr/>
        </p:nvPicPr>
        <p:blipFill>
          <a:blip r:embed="rId6"/>
          <a:stretch/>
        </p:blipFill>
        <p:spPr>
          <a:xfrm>
            <a:off x="1285920" y="1857240"/>
            <a:ext cx="1163520" cy="1123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7"/>
          <a:stretch/>
        </p:blipFill>
        <p:spPr>
          <a:xfrm>
            <a:off x="2357280" y="2571840"/>
            <a:ext cx="1428840" cy="10951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"/>
          <p:cNvPicPr/>
          <p:nvPr/>
        </p:nvPicPr>
        <p:blipFill>
          <a:blip r:embed="rId8"/>
          <a:stretch/>
        </p:blipFill>
        <p:spPr>
          <a:xfrm>
            <a:off x="1357200" y="5214960"/>
            <a:ext cx="142884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Заголовок 4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50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делить из текста основные понятия и дать им определе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лассифицировать основные предметы, процессы, явле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строить по порядку основные иде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дложить примеры, сравне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делать выводы и умозаключе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казать пути дальнейшего исследова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дготовить текст сообщения, презентацию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готовиться к ответам на вопрос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Заголовок 3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Не ограничивай собственных исследований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Не бойся совершить ошибку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Сосредоточься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Внимательно анализируй факты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</a:rPr>
              <a:t>Верь в себя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Picture 4" descr="C:\Documents and Settings\Аля\Рабочий стол\Мои документы\ФОТО Научная конференция\P2030071.JPG"/>
          <p:cNvPicPr/>
          <p:nvPr/>
        </p:nvPicPr>
        <p:blipFill>
          <a:blip r:embed="rId2"/>
          <a:stretch/>
        </p:blipFill>
        <p:spPr>
          <a:xfrm>
            <a:off x="857160" y="1214280"/>
            <a:ext cx="36435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2T13:27:24Z</dcterms:created>
  <dc:creator>Аля</dc:creator>
  <dc:description/>
  <dc:language>en-US</dc:language>
  <cp:lastModifiedBy>Аля</cp:lastModifiedBy>
  <dcterms:modified xsi:type="dcterms:W3CDTF">2013-02-12T18:42:40Z</dcterms:modified>
  <cp:revision>14</cp:revision>
  <dc:subject/>
  <dc:title>ИССЛЕДОВАТЕЛЬСКАЯ ДЕЯТЕЛЬНОСТЬ МЛАДШИХ ШКОЛЬНИКОВ</dc:title>
</cp:coreProperties>
</file>