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76F0-9072-476A-9997-BC16B16C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8AA8-24DE-4316-80AB-26309DBC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A89A-2FCB-4551-839D-17806DC6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8036-196F-4450-82BD-0E682E58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0B64-0A22-4F55-8F34-F7E323FA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12DC-A355-4F5C-8359-243B2A90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4F9D-D536-47D0-8E54-0F535B23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7661-6B43-4B45-8989-D641FEF1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148C-73C0-4D5A-8304-ABD39097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7E57-21C9-4614-B87B-8FBCDCEB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D39B-6E54-461A-8D97-6489DDD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C0AA-EF77-4192-9390-24C11195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3EA0-7B50-4366-96F1-522108C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6B78-A5B8-45A0-977B-32978E52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7A7D-8721-4A1E-B711-6CBBC463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8FFB-10AA-4ECF-9A5C-F3CC6965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6986-53E8-426F-9407-CB4625D2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D55B-7EE1-4DAD-A1ED-DCABC70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320D-FCA9-4C2D-BDCA-B96F5291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0F8F-FB1C-477A-BB92-297A7AC4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0D1B-441D-42B0-8EBD-257763B0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D7A6-256C-4C01-B8CC-D7DD71D2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4B76-C537-4FFB-A521-5E520CB0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3F74-BE79-484A-846E-6E2C035B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0E93-758D-41BD-AA99-F34F1870BC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3EA-0346-49EA-9CFC-FEFAF74146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олнце останавливали сло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ловом разрушали гор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. Гумелё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уту у человекам исчезает чувство голода если он съест кусочек хле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длинные сны мы просматриваем з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 может петь непрерывно овсянка , за это время она споё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32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есе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1 год Африка и Южная Америка удаляются друга от друга н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ти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200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у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из нас сделае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7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ллионов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а «3». Найди е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ен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вязанности: моя сестрица Катрин, триллеры и кот Тришка. Он доставляет много хлопот: то подотри за ним, то смени трикотажную подстилку. Кот любит залезть на антресоли и смотреть оттуда, как с трибуны, сидеть около аквариума, где живёт тритон, или наблюдать за пролетающими стрижами. Я читал трилогию о триумфе актрисы и о её любви к попу-расстриге. Было скучно. Зашёл одноклассник Дмитрий, коротко стриженный. Мы обсуждали, как патриоты, школьные дела: алгебру с матрицами, химию с натрием, геометрию и тригонометрию с симметр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ен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язанности: моя се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 К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,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леры и ко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. Он доставляет много хлопот: то под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 ним, то смен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ажную подстилку. Кот любит залезть на антресоли и смотреть оттуда, как с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ы, сидеть около аквариума, где живё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н, или наблюдать за пролетающими 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ми. Я читал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ю 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фе актрисы и о её любви к попу-рас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. Было скучно. Зашёл одноклассник Дми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, коротко 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ный. Мы обсуждали, как п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ы, школьные дела: алгебру с м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ми, химию с н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м, геоме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 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ометрию с симме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ычислите: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 +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это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ёхзначное число, в ко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сотен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каза… ый шал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десятков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екля…ая буты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единиц 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разруше…ый за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ёхзначное число, в ко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сотен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облачё…ый шп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десятков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ъярё…ый 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единиц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не…ый з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ёхзначное число, в ко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сотен =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каз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л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десятков =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екл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уты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единиц 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руш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ёхзначное число, в ко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сотен =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облачё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п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десятков =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ъярё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единиц =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н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9640" y="515772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=222;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=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22 + 223 = 4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ж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любовь на скрип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ж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вь на литавры ложит груб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В Маяков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1476360" y="3673440"/>
            <a:ext cx="5867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вай глядеть: кого одеть и что надет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197000"/>
            <a:ext cx="540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одеть оде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надеть Наде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еть Надежду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деть одежду 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540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ба, обоих, обоим, обоим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б обо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потребляется только с мужским  и средним 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бе , обе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т.д согласуется только с женским 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еи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руках, н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ои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онтинентах, из обоих озёр, к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еи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станям, н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еих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енах, между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еи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транами,  у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ои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государст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еи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руками, у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ои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реб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рисовки из речи педаг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сегодня дв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н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ожд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у не хватил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ят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уб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р сколько стоит ки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рат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сть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успели всё сделать воврем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пер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ы хотели извиниться, да передум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яй, шевел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оз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х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ниги мне не пригоди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Благ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правильно сказ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0" y="1052640"/>
            <a:ext cx="457200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Днём 8 М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Восьмым мар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Восьмым м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Днём Восьмое м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Днём 8-е м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8 М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ьные вари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Восьмым м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8 Марта (если цифрой-то с прописной буквы пишет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2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ьте ударение в выделенных сло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ая мам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ал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чку. Она завязывает ей огромны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анты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девает (одевает) платье из кружев. С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антами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 кос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лышка так нарядна. Даж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д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 Вот идё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з яс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алышей можно немног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бало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мех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ржавел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дукты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лесневел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н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индевел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оговор наруш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окумент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.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одатайство отосла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итуаци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зя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контроль. Меры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иня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м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учших сотрудников.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сведомит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нововведениях. Выделены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риобретение. Проследит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 обеспе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м необходимым. Н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валитьс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ими успех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о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валится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ключим догов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екламным агент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дая мама ба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т дочку. Она завязывает ей огромные б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ты, надевает  платье из кружев. С б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т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 малышка так нарядна. Даже за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о! Вот идё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й. Малышей можно немного побало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 зарж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. Продукты зап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вели. Окна з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девели. Дого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н. Докум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т составлен. Ход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йство от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но. Ситуация взят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 контроль. Меры п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я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ния преми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т лучших сотрудников. Ос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ите о нововведениях. Выделен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ства на приобретение. Проследит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обеспечен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м необходимым. Не хва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ься своими успех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он х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ся. Заключ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догов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с рекламным агент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ой вариант прав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здоровлю-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здоров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збаливать-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езболив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сил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ессил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шил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иш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вет)бессмыслен-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ссмыслен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к как правиль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 рыбей нет зубей, у рыбов 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убов или у рыб нет з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ли дождёмся канику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рыба"/>
          <p:cNvPicPr/>
          <p:nvPr/>
        </p:nvPicPr>
        <p:blipFill>
          <a:blip r:embed="rId1"/>
          <a:stretch/>
        </p:blipFill>
        <p:spPr>
          <a:xfrm>
            <a:off x="6227640" y="2637000"/>
            <a:ext cx="22971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ъявл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ое грузинов продадут несколько килограмм апельсин, мандарин, яблоков, помидор,  а также партию сапогов, чулков, носков и макарон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они по телефо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2-50-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ое грузин продадут несколько килограммов апельсинов, мандаринов, яблок, помидоров,  а также партию сапог, чулок, носков и макаро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они по телефон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52-50-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был пра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е студентки филологического факультета Сургутского  педагогического университета пришли в магазин. Одна спросила у продав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Скажите, а торта у вас свеж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руга её по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Да не торта, а тор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продавец покачала головой и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Не торта и не торты, а тор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Зонт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ан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орты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шпр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верный, благовест, благовещение, благовидный, благоволение, благовоние, благовоспитанный, благ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ение, благодарение, благодарность, благодатный, благодать, благоденствие, благодетель, благодеяние, благодушный, благожелатель, благозвучный, благолепие, благомыслящий, благонадёжный, благонамеренный, благонравный, благообразный, благополучие, благоприобретение, благопристойный, благоприятный, благоразумие, благорасположение, благородие, благородство, благосклонный, благословлять, благосостояние, благостный, благотворитель, благотворный, благоустройство,  благоухать, благочестивый, благочиние.(42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ошибки в образовании множественного числа приведён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фесс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рема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кре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рисовки из речи педаг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гласно  плана воспитательной работы в сентябре в классе прошли три классных часа, посвящённые здоровому образу жи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арактеристи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ого? чёго? (Иванова, методов  подачи нового материал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отребление предлог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нарушение литературной нор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зы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 ком? о чём ?- (о друге, о книг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гласно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ему? (графику, приказу, программе, план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уст румяных без улыб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грамматической ошиб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русской речи не люб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С.Пушк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580000" y="3573360"/>
            <a:ext cx="30956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ить-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аг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а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хушки-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рх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но-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р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авчер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по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ч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чел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ла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вон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говерный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, благовещение, благовидный, благоволение, благовоние, благовоспитанный, благ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ение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ение, благодарность, благодатный, благодать, благоденствие, благодетель, благодеяние, благодушный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латель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учный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ие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слящий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ёжный, благонамеренный, благонравный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ный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учие, благоприобретение, благопристойный, благоприятный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умие, благорасположение, благородие, благородство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онный, благословлять, благосостояние, благостный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итель, благотворный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йство,  благоухать, благ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ивый, благочиние.(42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нина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бушка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чером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овила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ликатес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а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кое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пенилось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очки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а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дленно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чал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дать,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хлая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яная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рушка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щательно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жила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аньи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лёные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ки,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ть-чуть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ельнув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щ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пцами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спортированный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славский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ы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53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оч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бархатная, беззвёздная, безлунная, беспросветная, вьюжная, вязкая, густая, дегтярно-чёрная, кристально-ясная, кромешная, ледяная, лунная, матово-белая, молочная, мутная, непроглядная, пепельно-белая, прозрачно-синяя, седая, серебристая, синяя, слепая, тихая, холодная, ясная, алмазная, хрупкая, морозная, душная, жаркая, страстная, соловьиная (32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хотим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 У вас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ел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ет,сэр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ельдю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ельдю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Тоже рыба, сэ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Ладно, нес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э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рыба"/>
          <p:cNvPicPr/>
          <p:nvPr/>
        </p:nvPicPr>
        <p:blipFill>
          <a:blip r:embed="rId1"/>
          <a:stretch/>
        </p:blipFill>
        <p:spPr>
          <a:xfrm>
            <a:off x="5508720" y="4221000"/>
            <a:ext cx="229716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матика в рус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т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потенуз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изведени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об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ощад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9:01:46Z</dcterms:created>
  <dc:creator>pupil</dc:creator>
  <dc:description/>
  <dc:language>en-US</dc:language>
  <cp:lastModifiedBy>User</cp:lastModifiedBy>
  <dcterms:modified xsi:type="dcterms:W3CDTF">2013-02-12T08:36:35Z</dcterms:modified>
  <cp:revision>33</cp:revision>
  <dc:subject/>
  <dc:title>Слайд 1</dc:title>
</cp:coreProperties>
</file>