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946-DA89-4391-AA1C-7FA12F76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609-F7D7-40AE-A013-2CC53496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C12-B191-446F-8853-A52D4E82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28A-B0C3-41B1-8F99-B5238603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E831-6CDC-4780-9C61-AF84D307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A3B1-F837-4065-A270-70349D29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03C8-501E-4DAE-B02F-2D4EC57D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73F0-7041-4A1D-9B85-F780E800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62AE-3EF3-45C2-BE4C-DA9B1AE3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0F87-D14E-4011-8C2C-1F1509E2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E810-CEF9-4D67-95B0-9C278E1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466-8218-4E66-95F4-861AF65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A7D8-5AFB-4A6A-82B3-3468DA7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5FC5-8AE7-40D2-8892-8020CCDA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E04F-E65D-48BD-8E8E-D084B0D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C3A-95DD-467C-BB72-34DF4D77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E6FF-BD13-408C-BD67-F474BB66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DAC-31B2-4ADC-A319-695A9CB7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72D-A24B-4E7F-8BEF-B8F943E8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88F-56D6-46FA-875E-1BE393FD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27E-ECBE-4C83-8DD3-F8469E4E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3A9-29F6-4493-8A9F-CF717AB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4BE-2B61-441A-89DD-25AFC03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AA6-1AF0-4CBB-AB96-13A0858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22D3-C183-4449-9912-402638653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9EC-F150-4425-A144-2030315C8C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124800" y="83808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хайло Вол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81096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зб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2209680" y="3905280"/>
            <a:ext cx="441972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5943600" y="609480"/>
            <a:ext cx="191448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2518560" y="-10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а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узея «Красная Горк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4496040" cy="3003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766080" y="151560"/>
            <a:ext cx="72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вятая великомученица Варвара – покровительница шахтеров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4610160" cy="39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3432240" y="227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елая г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1</cp:lastModifiedBy>
  <dcterms:modified xsi:type="dcterms:W3CDTF">2013-02-12T16:47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