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C0E9-582D-4667-9364-52B3175B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976-6D8A-400D-B7A0-A64597DB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9EF-9222-4D9C-9030-30B8FB59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4B6-0103-4776-92DD-E632B535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8FD5-8BE1-4EB9-B1FA-3FC4C517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E67F-51C7-4760-9CC3-536AB466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22F8-F57F-48D4-B55F-E024EE69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3B40-4B03-4E6D-8E9A-83F9E996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E96C-9D95-48E4-9DB8-9A31F4FB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DA9F-A156-423B-87B2-4756A1E5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35B0-05DE-408C-A1B5-A3441F2D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572-EE80-4EF7-B178-B13B3522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94D8-AF0D-40C8-98D7-8372140A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C3FE-B1B8-40F9-9DEB-9D15ED41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9416-11E3-4A04-AF50-D781DA81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2C96-943C-4526-971C-FE7FCC27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E4B3-1B4B-4619-9B04-A925B760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EA5-A923-445D-B770-CB7D6081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987-BAF5-4297-9424-731C5110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EF3-D177-4B3A-ACEA-559D90CE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5B8-B2A2-4A25-8C93-A4F2C2AF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C92-7505-4A67-A37E-DA7C495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000-EC17-4724-B742-D818C607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446-28F7-4C54-8C4D-8CBB8BEE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EB44-59C6-4964-BAB3-D0F9F6076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0F18-5FC4-4FE1-AB4D-104F71F35F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3124800" y="83808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хайло Вол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81096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зб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2209680" y="3905280"/>
            <a:ext cx="441972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5943600" y="609480"/>
            <a:ext cx="191448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2518560" y="-108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а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узея «Красная Горк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581280" y="1447920"/>
            <a:ext cx="4496040" cy="3003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766080" y="151560"/>
            <a:ext cx="72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вятая великомученица Варвара – покровительница шахтеров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4610160" cy="393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3432240" y="2275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елая г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1</cp:lastModifiedBy>
  <dcterms:modified xsi:type="dcterms:W3CDTF">2013-02-12T16:47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