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53FF-C0D7-4773-8090-3C8F64660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BD30-85FB-41F4-81E5-EB3B5D0CA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124D-213E-42A7-B536-832265783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6238-8AEC-4F6C-804D-F0E745C85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0204E6-2067-4344-81E4-5B671E80D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Trebuchet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D88E15-597C-4ABF-8DCF-C2FF294B8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65E01E-BBDC-4255-A261-26EEA3294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2725FB-BE84-4DAD-BFEB-C42112593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2C278C-3F39-4AD9-8006-7F7BEA57D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D66F0F-A912-4B61-A9E9-53B1E7CC1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4FEA10-DAEA-44E1-9C4A-64238E32C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E685-C66C-4EB1-AF58-06AF0AF71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C743CA-4C60-4659-9FC8-3A0BB2F4D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F41D15-0E7A-4877-8553-9AF228E70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F5914E-9CC3-4F82-8AEA-D219C415C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ABAF71-C39E-4C35-BDEE-FA9523DAE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A989E0-BB9F-4C90-BADF-33D1D5470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3175F5-E33E-4D4C-86F6-702646CD3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EEEE7C-2833-4CCE-8E7A-AE0197A5F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C179BD-619B-4F9C-97A7-B4903174B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02EB85-1B2C-4D2D-A42C-B687D669C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44DBA6-53E5-4CEF-9DDE-425B173B9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E34C-B870-422D-85C4-0B8D6D7D7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DEDBA6-F467-4B93-A64C-F2DC37649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873617-A426-4775-A3E0-DA9347AB4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AA0ECC-FF5E-4DB0-ADA2-D25620D94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Trebuchet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55D0D9-60D2-4E30-9C31-7F28C126F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9914AB-A4D6-4608-B466-1C7E65DAC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05B70F-4BD0-4212-9481-84C14594B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Trebuchet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D4EA7E-946A-4628-BF21-F2C15768D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50A62A8-1E71-4421-BFF9-D2F288D63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D31D210-1A98-43FC-8469-59C07CC5F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72BEE94-90FA-4D8F-8BCF-6438F86E9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7802-DD3E-4F33-A8B9-3111914E6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166481D-2322-445B-AA76-56F07ACC6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BE22F47-1926-4461-8F3F-3EF2DD543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E7BC947-4E12-419E-A082-B5BBCDEFA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B2F612D-6F01-41E1-9AC2-B73E87A42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603F5E7-0CFB-4B3D-88C9-BF7D274AE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6F3B18B-0276-4280-AC50-83A8B29EF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74C7C30-B763-4B9B-A63D-3D083958A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AF441FD-3345-4688-8D5B-D8CD7C5A2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D30FA3D-5143-495B-B539-FAB9661ED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519059-86E7-46F2-B379-D759312B6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FC8A-2328-40CA-A85B-D721067A8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Trebuchet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18344C-EBCB-4912-95A0-F2357DB4A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Trebuchet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331751-7F0D-4310-859F-93BDAD69C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DC30E6-4D36-41B6-B795-A3CF523E4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04BDE5-6EF4-463F-A840-E284EB254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60EA3E-25BF-4881-BCFD-51B5FCD6B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18271A-9AFC-488A-82C8-672F86965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0858D5-F5FD-4774-84FF-15358F169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Trebuchet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D06679-227C-46F7-A0ED-E36DE1218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Trebuchet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E505CD-C14B-4C8D-AD8B-2D637AA1B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8ABE3A-B941-4227-ACD8-90BCC6E52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1DD3-779E-423E-B49B-98171E286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Trebuchet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B8FCC1-11F4-4929-8A92-25AA0C804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365695F-EE49-440B-9704-71FD9596C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Trebuchet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99E4E4-8485-4958-A149-D8A4763C5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Trebuchet M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C42CA98-82EF-440A-9DDE-522A9AD8F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Trebuchet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BCE3D97-46D6-4354-842A-4E53EAAA2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89D222-874C-4D94-80BC-FEB11670B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729ABD-201B-4B91-B36E-C9CD01A09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CC3DD16-D1D9-455E-96C4-123EFE0EA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Trebuchet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359D695-8132-4278-AE9C-2DF886270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Trebuchet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8CE7B3B-6DBA-4D6A-B88B-7055A94B7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2CC8-B473-4D23-9479-27E4D7B24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17A3BC4-A997-469A-A2BC-E7364EB43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Trebuchet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B35E430-F7D5-4F71-B5CE-FD98DEF7D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FFD0393-275B-419A-B5EC-FB27130B9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573F-EB98-425C-8205-B1E2A037D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C9AC-E350-4A84-9CB4-A49CD30F4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639720" indent="-272880">
              <a:spcBef>
                <a:spcPts val="601"/>
              </a:spcBef>
              <a:buClr>
                <a:srgbClr val="9759a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1004760" indent="-228600">
              <a:spcBef>
                <a:spcPts val="601"/>
              </a:spcBef>
              <a:buClr>
                <a:srgbClr val="7d498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279440" indent="-228600">
              <a:spcBef>
                <a:spcPts val="601"/>
              </a:spcBef>
              <a:buClr>
                <a:srgbClr val="9759a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554120" indent="-228600">
              <a:spcBef>
                <a:spcPts val="601"/>
              </a:spcBef>
              <a:buClr>
                <a:srgbClr val="9759a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34AE2-A95E-46EF-8E4C-C9CA23D9F88C}" type="slidenum">
              <a:rPr b="0" lang="ru-RU" sz="16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Trebuchet MS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f2e8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f2e8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" name="Овал 10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ac66bb"/>
          </a:solidFill>
          <a:ln w="39960">
            <a:solidFill>
              <a:srgbClr val="ac66bb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639720" indent="-272880">
              <a:spcBef>
                <a:spcPts val="601"/>
              </a:spcBef>
              <a:buClr>
                <a:srgbClr val="9759a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1004760" indent="-228600">
              <a:spcBef>
                <a:spcPts val="601"/>
              </a:spcBef>
              <a:buClr>
                <a:srgbClr val="7d498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279440" indent="-228600">
              <a:spcBef>
                <a:spcPts val="601"/>
              </a:spcBef>
              <a:buClr>
                <a:srgbClr val="9759a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554120" indent="-228600">
              <a:spcBef>
                <a:spcPts val="601"/>
              </a:spcBef>
              <a:buClr>
                <a:srgbClr val="9759a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Trebuchet MS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620E8-0B52-432B-9261-2A7349E37091}" type="slidenum">
              <a:rPr b="0" lang="ru-RU" sz="16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639720" indent="-272880">
              <a:spcBef>
                <a:spcPts val="601"/>
              </a:spcBef>
              <a:buClr>
                <a:srgbClr val="9759a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1004760" indent="-228600">
              <a:spcBef>
                <a:spcPts val="601"/>
              </a:spcBef>
              <a:buClr>
                <a:srgbClr val="7d498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279440" indent="-228600">
              <a:spcBef>
                <a:spcPts val="601"/>
              </a:spcBef>
              <a:buClr>
                <a:srgbClr val="9759a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554120" indent="-228600">
              <a:spcBef>
                <a:spcPts val="601"/>
              </a:spcBef>
              <a:buClr>
                <a:srgbClr val="9759a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Trebuchet MS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Trebuchet M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4ECFF-9FF2-4447-A837-51A638C9271B}" type="slidenum">
              <a:rPr b="0" lang="ru-RU" sz="16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f2e8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f2e8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639720" indent="-272880">
              <a:spcBef>
                <a:spcPts val="601"/>
              </a:spcBef>
              <a:buClr>
                <a:srgbClr val="9759a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1004760" indent="-228600">
              <a:spcBef>
                <a:spcPts val="601"/>
              </a:spcBef>
              <a:buClr>
                <a:srgbClr val="7d498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279440" indent="-228600">
              <a:spcBef>
                <a:spcPts val="601"/>
              </a:spcBef>
              <a:buClr>
                <a:srgbClr val="9759a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554120" indent="-228600">
              <a:spcBef>
                <a:spcPts val="601"/>
              </a:spcBef>
              <a:buClr>
                <a:srgbClr val="9759a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Trebuchet MS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Trebuchet M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E81B1-E9CD-4C34-A032-FF9F883B7565}" type="slidenum">
              <a:rPr b="0" lang="ru-RU" sz="16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639720" indent="-272880">
              <a:spcBef>
                <a:spcPts val="601"/>
              </a:spcBef>
              <a:buClr>
                <a:srgbClr val="9759a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1004760" indent="-228600">
              <a:spcBef>
                <a:spcPts val="601"/>
              </a:spcBef>
              <a:buClr>
                <a:srgbClr val="7d498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279440" indent="-228600">
              <a:spcBef>
                <a:spcPts val="601"/>
              </a:spcBef>
              <a:buClr>
                <a:srgbClr val="9759a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554120" indent="-228600">
              <a:spcBef>
                <a:spcPts val="601"/>
              </a:spcBef>
              <a:buClr>
                <a:srgbClr val="9759a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Trebuchet MS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Trebuchet MS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4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C84A7-BDF1-4535-B94C-992B6DA1C54B}" type="slidenum">
              <a:rPr b="0" lang="ru-RU" sz="16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15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639720" indent="-272880">
              <a:spcBef>
                <a:spcPts val="601"/>
              </a:spcBef>
              <a:buClr>
                <a:srgbClr val="9759a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1004760" indent="-228600">
              <a:spcBef>
                <a:spcPts val="601"/>
              </a:spcBef>
              <a:buClr>
                <a:srgbClr val="7d498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279440" indent="-228600">
              <a:spcBef>
                <a:spcPts val="601"/>
              </a:spcBef>
              <a:buClr>
                <a:srgbClr val="9759a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554120" indent="-228600">
              <a:spcBef>
                <a:spcPts val="601"/>
              </a:spcBef>
              <a:buClr>
                <a:srgbClr val="9759a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Trebuchet MS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Trebuchet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7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B4B83-7B5B-42BD-96FE-D5D9C1D9868E}" type="slidenum">
              <a:rPr b="0" lang="ru-RU" sz="16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3700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4e7ed"/>
                </a:solidFill>
                <a:latin typeface="Trebuchet MS"/>
              </a:rPr>
              <a:t>Познавательная игра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53" name="Заголовок 1" descr=""/>
          <p:cNvPicPr/>
          <p:nvPr/>
        </p:nvPicPr>
        <p:blipFill>
          <a:blip r:embed="rId1"/>
          <a:stretch/>
        </p:blipFill>
        <p:spPr>
          <a:xfrm>
            <a:off x="450720" y="1427040"/>
            <a:ext cx="8321760" cy="199260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601"/>
              </a:spcBef>
              <a:buClr>
                <a:srgbClr val="ac66bb"/>
              </a:buClr>
              <a:buSzPct val="85000"/>
              <a:buFont typeface="Trebuchet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rebuchet MS"/>
              </a:rPr>
              <a:t>Мы – для пильщиков подставка,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rebuchet MS"/>
              </a:rPr>
              <a:t>      </a:t>
            </a:r>
            <a:r>
              <a:rPr b="0" lang="ru-RU" sz="2600" spc="-1" strike="noStrike">
                <a:solidFill>
                  <a:srgbClr val="ffffff"/>
                </a:solidFill>
                <a:latin typeface="Trebuchet MS"/>
              </a:rPr>
              <a:t>Мы – для кучера сиденье.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rebuchet MS"/>
              </a:rPr>
              <a:t>      </a:t>
            </a:r>
            <a:r>
              <a:rPr b="0" lang="ru-RU" sz="2600" spc="-1" strike="noStrike">
                <a:solidFill>
                  <a:srgbClr val="ffffff"/>
                </a:solidFill>
                <a:latin typeface="Trebuchet MS"/>
              </a:rPr>
              <a:t>Но попробуй-ка поставь-ка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rebuchet MS"/>
              </a:rPr>
              <a:t>      </a:t>
            </a:r>
            <a:r>
              <a:rPr b="0" lang="ru-RU" sz="2600" spc="-1" strike="noStrike">
                <a:solidFill>
                  <a:srgbClr val="ffffff"/>
                </a:solidFill>
                <a:latin typeface="Trebuchet MS"/>
              </a:rPr>
              <a:t>Нам другое ударенье.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rebuchet MS"/>
              </a:rPr>
              <a:t>      </a:t>
            </a:r>
            <a:r>
              <a:rPr b="0" lang="ru-RU" sz="2600" spc="-1" strike="noStrike">
                <a:solidFill>
                  <a:srgbClr val="ffffff"/>
                </a:solidFill>
                <a:latin typeface="Trebuchet MS"/>
              </a:rPr>
              <a:t>Осторожней будешь с нами: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rebuchet MS"/>
              </a:rPr>
              <a:t>      </a:t>
            </a:r>
            <a:r>
              <a:rPr b="0" lang="ru-RU" sz="2600" spc="-1" strike="noStrike">
                <a:solidFill>
                  <a:srgbClr val="ffffff"/>
                </a:solidFill>
                <a:latin typeface="Trebuchet MS"/>
              </a:rPr>
              <a:t>Забодаем мы рогами!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71" name="Заголовок 1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rebuchet MS"/>
              </a:rPr>
              <a:t>3. Я – сборник карт: от ударения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rebuchet MS"/>
              </a:rPr>
              <a:t>    </a:t>
            </a:r>
            <a:r>
              <a:rPr b="0" lang="ru-RU" sz="2600" spc="-1" strike="noStrike">
                <a:solidFill>
                  <a:srgbClr val="ffffff"/>
                </a:solidFill>
                <a:latin typeface="Trebuchet MS"/>
              </a:rPr>
              <a:t>Зависят два моих значения.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rebuchet MS"/>
              </a:rPr>
              <a:t>    </a:t>
            </a:r>
            <a:r>
              <a:rPr b="0" lang="ru-RU" sz="2600" spc="-1" strike="noStrike">
                <a:solidFill>
                  <a:srgbClr val="ffffff"/>
                </a:solidFill>
                <a:latin typeface="Trebuchet MS"/>
              </a:rPr>
              <a:t>Хочу – преображусь в название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rebuchet MS"/>
              </a:rPr>
              <a:t>    </a:t>
            </a:r>
            <a:r>
              <a:rPr b="0" lang="ru-RU" sz="2600" spc="-1" strike="noStrike">
                <a:solidFill>
                  <a:srgbClr val="ffffff"/>
                </a:solidFill>
                <a:latin typeface="Trebuchet MS"/>
              </a:rPr>
              <a:t>Блестящей, шелковистой ткани.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73" name="Заголовок 1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457200" y="3700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4e7ed"/>
                </a:solidFill>
                <a:latin typeface="Trebuchet MS"/>
              </a:rPr>
              <a:t>5-й конкурс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75" name="Заголовок 3" descr=""/>
          <p:cNvPicPr/>
          <p:nvPr/>
        </p:nvPicPr>
        <p:blipFill>
          <a:blip r:embed="rId1"/>
          <a:stretch/>
        </p:blipFill>
        <p:spPr>
          <a:xfrm>
            <a:off x="450720" y="1427040"/>
            <a:ext cx="8321760" cy="199260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66bb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Trebuchet MS"/>
              </a:rPr>
              <a:t>Образец: горсть – гость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ac66bb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rebuchet MS"/>
              </a:rPr>
              <a:t>Всласть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ac66bb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rebuchet MS"/>
              </a:rPr>
              <a:t>Краска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ac66bb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rebuchet MS"/>
              </a:rPr>
              <a:t>Склон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ac66bb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rebuchet MS"/>
              </a:rPr>
              <a:t>Полк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ac66bb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rebuchet MS"/>
              </a:rPr>
              <a:t>Тепло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ac66bb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rebuchet MS"/>
              </a:rPr>
              <a:t>Беда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ac66bb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rebuchet MS"/>
              </a:rPr>
              <a:t>Экран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ac66bb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ac66bb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77" name="Заголовок 1" descr=""/>
          <p:cNvPicPr/>
          <p:nvPr/>
        </p:nvPicPr>
        <p:blipFill>
          <a:blip r:embed="rId1"/>
          <a:stretch/>
        </p:blipFill>
        <p:spPr>
          <a:xfrm>
            <a:off x="255600" y="-549360"/>
            <a:ext cx="8712360" cy="192744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66bb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rebuchet MS"/>
              </a:rPr>
              <a:t>Образец: роза- гроза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ac66bb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rebuchet MS"/>
              </a:rPr>
              <a:t>Стол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ac66bb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rebuchet MS"/>
              </a:rPr>
              <a:t>Лапа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ac66bb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rebuchet MS"/>
              </a:rPr>
              <a:t>Шар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ac66bb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rebuchet MS"/>
              </a:rPr>
              <a:t>Клад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ac66bb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rebuchet MS"/>
              </a:rPr>
              <a:t>Укус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ac66bb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rebuchet MS"/>
              </a:rPr>
              <a:t>Усы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ac66bb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rebuchet MS"/>
              </a:rPr>
              <a:t>Дар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ac66bb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79" name="Заголовок 1" descr=""/>
          <p:cNvPicPr/>
          <p:nvPr/>
        </p:nvPicPr>
        <p:blipFill>
          <a:blip r:embed="rId1"/>
          <a:stretch/>
        </p:blipFill>
        <p:spPr>
          <a:xfrm>
            <a:off x="255600" y="30240"/>
            <a:ext cx="8437680" cy="134784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66bb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rebuchet MS"/>
              </a:rPr>
              <a:t>Образец: корж – морж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ac66bb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rebuchet MS"/>
              </a:rPr>
              <a:t>Ногти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ac66bb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rebuchet MS"/>
              </a:rPr>
              <a:t>Булка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ac66bb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rebuchet MS"/>
              </a:rPr>
              <a:t>Лапка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ac66bb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rebuchet MS"/>
              </a:rPr>
              <a:t>Зубы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ac66bb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rebuchet MS"/>
              </a:rPr>
              <a:t>Киска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ac66bb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rebuchet MS"/>
              </a:rPr>
              <a:t>Галка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ac66bb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rebuchet MS"/>
              </a:rPr>
              <a:t>Полено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ac66bb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81" name="Заголовок 1" descr=""/>
          <p:cNvPicPr/>
          <p:nvPr/>
        </p:nvPicPr>
        <p:blipFill>
          <a:blip r:embed="rId1"/>
          <a:stretch/>
        </p:blipFill>
        <p:spPr>
          <a:xfrm>
            <a:off x="255600" y="30240"/>
            <a:ext cx="8437680" cy="134784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457200" y="3700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4e7ed"/>
                </a:solidFill>
                <a:latin typeface="Trebuchet MS"/>
              </a:rPr>
              <a:t>6-й конкурс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83" name="Заголовок 3" descr=""/>
          <p:cNvPicPr/>
          <p:nvPr/>
        </p:nvPicPr>
        <p:blipFill>
          <a:blip r:embed="rId1"/>
          <a:stretch/>
        </p:blipFill>
        <p:spPr>
          <a:xfrm>
            <a:off x="450720" y="1427040"/>
            <a:ext cx="8321760" cy="199260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66bb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rebuchet MS"/>
              </a:rPr>
              <a:t>Тридцать три корабля ...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ac66bb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rebuchet MS"/>
              </a:rPr>
              <a:t>Карл у Клары …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ac66bb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rebuchet MS"/>
              </a:rPr>
              <a:t>Ехал Грека …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85" name="Заголовок 1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457200" y="3700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4e7ed"/>
                </a:solidFill>
                <a:latin typeface="Trebuchet MS"/>
              </a:rPr>
              <a:t>7-й конкурс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87" name="Заголовок 3" descr=""/>
          <p:cNvPicPr/>
          <p:nvPr/>
        </p:nvPicPr>
        <p:blipFill>
          <a:blip r:embed="rId1"/>
          <a:stretch/>
        </p:blipFill>
        <p:spPr>
          <a:xfrm>
            <a:off x="450720" y="1427040"/>
            <a:ext cx="8321760" cy="199260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8" name=""/>
          <p:cNvGraphicFramePr/>
          <p:nvPr/>
        </p:nvGraphicFramePr>
        <p:xfrm>
          <a:off x="571680" y="1600200"/>
          <a:ext cx="8115120" cy="5172120"/>
        </p:xfrm>
        <a:graphic>
          <a:graphicData uri="http://schemas.openxmlformats.org/drawingml/2006/table">
            <a:tbl>
              <a:tblPr/>
              <a:tblGrid>
                <a:gridCol w="3429000"/>
                <a:gridCol w="4686120"/>
              </a:tblGrid>
              <a:tr h="143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Гусь свинье…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друг, товарищ и брат.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</a:tr>
              <a:tr h="115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не спонсор.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115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не товарищ.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143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крыльев не привяжет.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</a:tbl>
          </a:graphicData>
        </a:graphic>
      </p:graphicFrame>
      <p:pic>
        <p:nvPicPr>
          <p:cNvPr id="289" name="Заголовок 1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3700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4e7ed"/>
                </a:solidFill>
                <a:latin typeface="Trebuchet MS"/>
              </a:rPr>
              <a:t>1-й конкурс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55" name="Заголовок 3" descr=""/>
          <p:cNvPicPr/>
          <p:nvPr/>
        </p:nvPicPr>
        <p:blipFill>
          <a:blip r:embed="rId1"/>
          <a:stretch/>
        </p:blipFill>
        <p:spPr>
          <a:xfrm>
            <a:off x="450720" y="1427040"/>
            <a:ext cx="8321760" cy="199260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0" name=""/>
          <p:cNvGraphicFramePr/>
          <p:nvPr/>
        </p:nvGraphicFramePr>
        <p:xfrm>
          <a:off x="571680" y="1600200"/>
          <a:ext cx="8115120" cy="5843520"/>
        </p:xfrm>
        <a:graphic>
          <a:graphicData uri="http://schemas.openxmlformats.org/drawingml/2006/table">
            <a:tbl>
              <a:tblPr/>
              <a:tblGrid>
                <a:gridCol w="3429000"/>
                <a:gridCol w="4686120"/>
              </a:tblGrid>
              <a:tr h="21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Не буди лихо, пока …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оно тихо.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</a:tr>
              <a:tr h="115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сторож спит.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143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рак на горе не свистнет.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115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овцы целы.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</a:tbl>
          </a:graphicData>
        </a:graphic>
      </p:graphicFrame>
      <p:pic>
        <p:nvPicPr>
          <p:cNvPr id="291" name="Заголовок 1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2" name=""/>
          <p:cNvGraphicFramePr/>
          <p:nvPr/>
        </p:nvGraphicFramePr>
        <p:xfrm>
          <a:off x="571680" y="1600200"/>
          <a:ext cx="8115120" cy="5451480"/>
        </p:xfrm>
        <a:graphic>
          <a:graphicData uri="http://schemas.openxmlformats.org/drawingml/2006/table">
            <a:tbl>
              <a:tblPr/>
              <a:tblGrid>
                <a:gridCol w="3429000"/>
                <a:gridCol w="4686120"/>
              </a:tblGrid>
              <a:tr h="143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Дареному коню…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сытый – не товарищ.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</a:tr>
              <a:tr h="143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хвост не отрывают.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114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зубы не чистят.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143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в зубы не смотрят.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</a:tbl>
          </a:graphicData>
        </a:graphic>
      </p:graphicFrame>
      <p:pic>
        <p:nvPicPr>
          <p:cNvPr id="293" name="Заголовок 1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457200" y="3700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4e7ed"/>
                </a:solidFill>
                <a:latin typeface="Trebuchet MS"/>
              </a:rPr>
              <a:t>8-й конкурс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95" name="Заголовок 3" descr=""/>
          <p:cNvPicPr/>
          <p:nvPr/>
        </p:nvPicPr>
        <p:blipFill>
          <a:blip r:embed="rId1"/>
          <a:stretch/>
        </p:blipFill>
        <p:spPr>
          <a:xfrm>
            <a:off x="450720" y="1427040"/>
            <a:ext cx="8321760" cy="199260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601"/>
              </a:spcBef>
              <a:buClr>
                <a:srgbClr val="ac66bb"/>
              </a:buClr>
              <a:buSzPct val="85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rebuchet MS"/>
              </a:rPr>
              <a:t>Как  из столба при помощи досок сделать стол?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514440" indent="-514440">
              <a:spcBef>
                <a:spcPts val="601"/>
              </a:spcBef>
              <a:buClr>
                <a:srgbClr val="ac66bb"/>
              </a:buClr>
              <a:buSzPct val="85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rebuchet MS"/>
              </a:rPr>
              <a:t>Какое слово состоит из семи одинаковых букв?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514440" indent="-514440">
              <a:spcBef>
                <a:spcPts val="601"/>
              </a:spcBef>
              <a:buClr>
                <a:srgbClr val="ac66bb"/>
              </a:buClr>
              <a:buSzPct val="85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rebuchet MS"/>
              </a:rPr>
              <a:t>Какие сто букв могут остановить движение  транспорта?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514440" indent="-514440">
              <a:spcBef>
                <a:spcPts val="601"/>
              </a:spcBef>
              <a:buClr>
                <a:srgbClr val="ac66bb"/>
              </a:buClr>
              <a:buSzPct val="85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rebuchet MS"/>
              </a:rPr>
              <a:t>В каком магазине ничего не купишь?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514440" indent="-514440">
              <a:spcBef>
                <a:spcPts val="601"/>
              </a:spcBef>
              <a:buClr>
                <a:srgbClr val="ac66bb"/>
              </a:buClr>
              <a:buSzPct val="85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rebuchet MS"/>
              </a:rPr>
              <a:t>Можно ли превратить страницу в населенный пункт?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97" name="Заголовок 1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457200" y="3700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4e7ed"/>
                </a:solidFill>
                <a:latin typeface="Trebuchet MS"/>
              </a:rPr>
              <a:t>9-й конкурс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99" name="Заголовок 3" descr=""/>
          <p:cNvPicPr/>
          <p:nvPr/>
        </p:nvPicPr>
        <p:blipFill>
          <a:blip r:embed="rId1"/>
          <a:stretch/>
        </p:blipFill>
        <p:spPr>
          <a:xfrm>
            <a:off x="450720" y="1427040"/>
            <a:ext cx="8321760" cy="199260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rebuchet MS"/>
              </a:rPr>
              <a:t>А) 9, 1, 4, 1, 5,12, 1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rebuchet MS"/>
              </a:rPr>
              <a:t>Б) 9, 3, 21, 12, 10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rebuchet MS"/>
              </a:rPr>
              <a:t>В) 2, 21, 12, 3, 29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rebuchet MS"/>
              </a:rPr>
              <a:t>Г) 22, 16, 15, 6, 20,10, 12, 1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301" name="Заголовок 1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3700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4e7ed"/>
                </a:solidFill>
                <a:latin typeface="Trebuchet MS"/>
              </a:rPr>
              <a:t>10-й конкурс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303" name="Заголовок 3" descr=""/>
          <p:cNvPicPr/>
          <p:nvPr/>
        </p:nvPicPr>
        <p:blipFill>
          <a:blip r:embed="rId1"/>
          <a:stretch/>
        </p:blipFill>
        <p:spPr>
          <a:xfrm>
            <a:off x="450720" y="1427040"/>
            <a:ext cx="8321760" cy="199260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rebuchet MS"/>
              </a:rPr>
              <a:t>ОТЕЛ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rebuchet MS"/>
              </a:rPr>
              <a:t>   </a:t>
            </a:r>
            <a:r>
              <a:rPr b="0" lang="ru-RU" sz="2600" spc="-1" strike="noStrike">
                <a:solidFill>
                  <a:srgbClr val="ffffff"/>
                </a:solidFill>
                <a:latin typeface="Trebuchet MS"/>
              </a:rPr>
              <a:t>Нстуола отел. В лсеу хоит. Мдвдееи лятсяко лойнима. Блкеи рютбаоси рхоеи. Зйкаи в хырес бушхак рязвеятс ан лопяне. Влкои хотосяся ан хин.  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305" name="Заголовок 1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632800" cy="123192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rebuchet MS"/>
              </a:rPr>
              <a:t>«Пятерка» лучших приглашается на заседание клуба знатоков 28 декабря в 13.30 в кабинет № 39.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307" name="Заголовок 1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rebuchet MS"/>
              </a:rPr>
              <a:t>Т.А.курушина и др. «Внеклассная работа. Русский язык. 5-9 классы. Интеллектуальный марафон», Волгоград, 2009.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rebuchet MS"/>
              </a:rPr>
              <a:t>А.Т.Арсирий. «Занимательные материалы по русскому языку», Москва, 1995. 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309" name="Заголовок 1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rebuchet MS"/>
              </a:rPr>
              <a:t>Я проснулся рано  утром и стал собираться в школу. Сначала стал рубашку ….. Потом стал куртку ……. А потом стал младшего брата …..</a:t>
            </a:r>
            <a:endParaRPr b="0" lang="en-US" sz="48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57" name="Заголовок 1" descr=""/>
          <p:cNvPicPr/>
          <p:nvPr/>
        </p:nvPicPr>
        <p:blipFill>
          <a:blip r:embed="rId1"/>
          <a:stretch/>
        </p:blipFill>
        <p:spPr>
          <a:xfrm>
            <a:off x="255600" y="30240"/>
            <a:ext cx="8437680" cy="134784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3700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4e7ed"/>
                </a:solidFill>
                <a:latin typeface="Trebuchet MS"/>
              </a:rPr>
              <a:t>2-й конкурс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59" name="Заголовок 3" descr=""/>
          <p:cNvPicPr/>
          <p:nvPr/>
        </p:nvPicPr>
        <p:blipFill>
          <a:blip r:embed="rId1"/>
          <a:stretch/>
        </p:blipFill>
        <p:spPr>
          <a:xfrm>
            <a:off x="450720" y="1427040"/>
            <a:ext cx="8321760" cy="199260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0" name=""/>
          <p:cNvGraphicFramePr/>
          <p:nvPr/>
        </p:nvGraphicFramePr>
        <p:xfrm>
          <a:off x="457200" y="1523880"/>
          <a:ext cx="8229600" cy="44722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49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Д..журный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К..р..ндаш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В..р..бей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</a:tr>
              <a:tr h="149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Р..бята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Т..традь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В..рона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149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Уч..ник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М..дведь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П..тух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</a:tbl>
          </a:graphicData>
        </a:graphic>
      </p:graphicFrame>
      <p:pic>
        <p:nvPicPr>
          <p:cNvPr id="261" name="Заголовок 1" descr=""/>
          <p:cNvPicPr/>
          <p:nvPr/>
        </p:nvPicPr>
        <p:blipFill>
          <a:blip r:embed="rId1"/>
          <a:stretch/>
        </p:blipFill>
        <p:spPr>
          <a:xfrm>
            <a:off x="255600" y="30240"/>
            <a:ext cx="8437680" cy="134784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457200" y="3700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4e7ed"/>
                </a:solidFill>
                <a:latin typeface="Trebuchet MS"/>
              </a:rPr>
              <a:t>3-й конкурс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63" name="Заголовок 3" descr=""/>
          <p:cNvPicPr/>
          <p:nvPr/>
        </p:nvPicPr>
        <p:blipFill>
          <a:blip r:embed="rId1"/>
          <a:stretch/>
        </p:blipFill>
        <p:spPr>
          <a:xfrm>
            <a:off x="450720" y="1427040"/>
            <a:ext cx="8321760" cy="199260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4" name=""/>
          <p:cNvGraphicFramePr/>
          <p:nvPr/>
        </p:nvGraphicFramePr>
        <p:xfrm>
          <a:off x="457200" y="1523880"/>
          <a:ext cx="8229600" cy="50324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Испокон века…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c66b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потом чтение.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c66bb"/>
                    </a:solidFill>
                  </a:tcPr>
                </a:tc>
              </a:tr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Сначала учение…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d3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а речь короткая.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d3e7"/>
                    </a:solidFill>
                  </a:tcPr>
                </a:tc>
              </a:tr>
              <a:tr h="192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Веревка хороша длинная…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a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не учатся и математики.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af3"/>
                    </a:solidFill>
                  </a:tcPr>
                </a:tc>
              </a:tr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Без букв и грамматики…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d3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книга растит человека.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d3e7"/>
                    </a:solidFill>
                  </a:tcPr>
                </a:tc>
              </a:tr>
            </a:tbl>
          </a:graphicData>
        </a:graphic>
      </p:graphicFrame>
      <p:pic>
        <p:nvPicPr>
          <p:cNvPr id="265" name="Заголовок 1" descr=""/>
          <p:cNvPicPr/>
          <p:nvPr/>
        </p:nvPicPr>
        <p:blipFill>
          <a:blip r:embed="rId1"/>
          <a:stretch/>
        </p:blipFill>
        <p:spPr>
          <a:xfrm>
            <a:off x="255600" y="146160"/>
            <a:ext cx="8437680" cy="123192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3700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4e7ed"/>
                </a:solidFill>
                <a:latin typeface="Trebuchet MS"/>
              </a:rPr>
              <a:t>4-й конкурс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67" name="Заголовок 3" descr=""/>
          <p:cNvPicPr/>
          <p:nvPr/>
        </p:nvPicPr>
        <p:blipFill>
          <a:blip r:embed="rId1"/>
          <a:stretch/>
        </p:blipFill>
        <p:spPr>
          <a:xfrm>
            <a:off x="450720" y="1427040"/>
            <a:ext cx="8321760" cy="199260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601"/>
              </a:spcBef>
              <a:buClr>
                <a:srgbClr val="ac66bb"/>
              </a:buClr>
              <a:buSzPct val="85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rebuchet MS"/>
              </a:rPr>
              <a:t>Я – травянистое растение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rebuchet MS"/>
              </a:rPr>
              <a:t>      </a:t>
            </a:r>
            <a:r>
              <a:rPr b="0" lang="ru-RU" sz="2600" spc="-1" strike="noStrike">
                <a:solidFill>
                  <a:srgbClr val="ffffff"/>
                </a:solidFill>
                <a:latin typeface="Trebuchet MS"/>
              </a:rPr>
              <a:t>С цветком сиреневого цвета,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rebuchet MS"/>
              </a:rPr>
              <a:t>      </a:t>
            </a:r>
            <a:r>
              <a:rPr b="0" lang="ru-RU" sz="2600" spc="-1" strike="noStrike">
                <a:solidFill>
                  <a:srgbClr val="ffffff"/>
                </a:solidFill>
                <a:latin typeface="Trebuchet MS"/>
              </a:rPr>
              <a:t>Но переставьте ударение –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rebuchet MS"/>
              </a:rPr>
              <a:t>      </a:t>
            </a:r>
            <a:r>
              <a:rPr b="0" lang="ru-RU" sz="2600" spc="-1" strike="noStrike">
                <a:solidFill>
                  <a:srgbClr val="ffffff"/>
                </a:solidFill>
                <a:latin typeface="Trebuchet MS"/>
              </a:rPr>
              <a:t>И превращаюсь я в конфету.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69" name="Заголовок 1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9T16:50:28Z</dcterms:created>
  <dc:creator>Екатерина Михайловна</dc:creator>
  <dc:description/>
  <dc:language>en-US</dc:language>
  <cp:lastModifiedBy>Екатерина Михайловна</cp:lastModifiedBy>
  <dcterms:modified xsi:type="dcterms:W3CDTF">2011-12-09T18:06:02Z</dcterms:modified>
  <cp:revision>9</cp:revision>
  <dc:subject/>
  <dc:title>Лингвистический поединок</dc:title>
</cp:coreProperties>
</file>