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F728-4114-477F-B61E-D69D672E9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3BB9-B816-4758-B0C3-8FC41583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C8A5-2006-4639-B476-43F41A67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4756-CC23-4E30-85C6-3398A9AC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EFF7-6393-47B4-98B2-66BB48B07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9B10-5E7A-405F-9E94-46FCCC2F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72C6-B813-40A3-9E21-EB40D775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484B-AF75-4663-B79B-49CB57CB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B6B0-7E38-4D5A-A6FE-11A895F3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5BD3-590C-477D-899B-E5F2188A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C35F-CC8F-40E9-B838-1C2C24B6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AD7A-99D6-4EBD-89BB-E4A022DF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6EB2-3548-4F49-B324-773236AB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AFC8-D4D0-41C1-869D-1803DC28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3B0D-D0A4-46A7-9D85-6FDA5D03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E79F-E6A3-4B9D-A3AD-E2F3D72D6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F919-1519-4ED6-816B-E5421244F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8C01-A87B-46CA-9755-C0C18606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92B8-C3DD-44B5-9634-E476A5B2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02DA-35F0-496C-9024-EBFEBAC7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AB71-819B-4003-830E-A73F9D22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7B5D-FF1E-48A0-94D4-C976658B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F4C0-1789-4B98-A5C8-999D8CAE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3D87-FCCD-4B8C-A1E1-A7F54982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FF9E-9F58-41C3-B867-A002B33CCF4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5F13-4F5B-4BED-AD57-FA40402AA2B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1915920"/>
            <a:ext cx="7772400" cy="108108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8100000" blurRad="0" rotWithShape="0">
              <a:srgbClr val="003b76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МАСЛЕНИЦ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3b76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Verdana"/>
              </a:rPr>
              <a:t>Классный час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3927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ра бы гнев на милость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еременить. Уйми метель! Народом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езут ее, толпами провожают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Широкую Масленицу!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" descr="Рисунок Тихоновой Наташи, 3 класс, школа 125"/>
          <p:cNvPicPr/>
          <p:nvPr/>
        </p:nvPicPr>
        <p:blipFill>
          <a:blip r:embed="rId1"/>
          <a:stretch/>
        </p:blipFill>
        <p:spPr>
          <a:xfrm>
            <a:off x="4572000" y="333360"/>
            <a:ext cx="4248000" cy="6264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ОНЕДЕЛЬНИК – ВСТРЕЧ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392724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ришла - не минуешь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Уйду - не увидишь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стречай бодрей, провожай веселей!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День веселье, три дни похмелье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 голове шумит, а гляди козырем!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оги не ходят, а плясать надобно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Рад не рад, а с ума сходить приходится!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49760" y="2262240"/>
            <a:ext cx="4037040" cy="3206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ТОРНИК – ЗАИГРЫШ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1904760"/>
            <a:ext cx="4464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 мы Масленицу дожидаем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жидаем душе, дожидаем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ыр и масло в глаза увидаем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видаем душе, увидаем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49760" y="1768320"/>
            <a:ext cx="4037040" cy="4048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РЕДА – ЛАКОМ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Я блинчик хорошенький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оверь мне, я вкусненький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Отведай меня, мой хороший дружок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Я блинчик румяненький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ак славное солнышко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Лежу на тарелочке желтый кружок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234040" y="1600200"/>
            <a:ext cx="2868480" cy="4530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ЧЕТВЕРГ – ШИРОКИЙ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403236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Честная Масленица!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еселехонько тебя встречать, привечать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Трудно - нудно со двора провожать!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асленица - мокрохвостка!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оезжай долой со двора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Отошла твоя пора!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917960" y="2205000"/>
            <a:ext cx="3975120" cy="3745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ЯТНИЦА – ТЕЩИНЫ    ВЕЧЕРК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щай, честная Маслена!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ль быть живым, увидимся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оть год прождать, да ведать - знать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Маслена придет опять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49760" y="1847880"/>
            <a:ext cx="4037040" cy="3813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УББОТА – ЗОЛОВКИНЫ ПОСИДЕЛК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3927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инует лето красное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горят огни купальные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ройдет и осень желтая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 снопом, с скирдом и с братчиной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отемки, ночи темные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арачуна проводите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Тогда зима изломится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едведь переворотится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ридет пора морозная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ридет пора морозная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649760" y="1690560"/>
            <a:ext cx="4037040" cy="4203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ОСКРЕСЕНЬЕ _ ПРОЩЕННЫЙ ДЕНЬ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орозная - колядная: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всень - коляду кликати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ороз пройдет, метель нашлет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о вьюгах с перевеями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ибудет день, убудет ночь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д крышами застрехами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оробки зашевелятся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з лужицы, из наледи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пьется кочет с курам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Рисунок Тихоновой Наташи, 3 класс, школа 125"/>
          <p:cNvPicPr/>
          <p:nvPr/>
        </p:nvPicPr>
        <p:blipFill>
          <a:blip r:embed="rId1"/>
          <a:stretch/>
        </p:blipFill>
        <p:spPr>
          <a:xfrm>
            <a:off x="5148360" y="1905120"/>
            <a:ext cx="3384360" cy="4476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3851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ИСУНКИ ДЕТЕЙ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0" name="" descr="Рисунок Нифановой Саши, 3 класс, школа 125"/>
          <p:cNvPicPr/>
          <p:nvPr/>
        </p:nvPicPr>
        <p:blipFill>
          <a:blip r:embed="rId1"/>
          <a:stretch/>
        </p:blipFill>
        <p:spPr>
          <a:xfrm>
            <a:off x="6156360" y="3645000"/>
            <a:ext cx="2519280" cy="2879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Рисунок Балуевой Маши, 3 класс, школа 125"/>
          <p:cNvPicPr/>
          <p:nvPr/>
        </p:nvPicPr>
        <p:blipFill>
          <a:blip r:embed="rId2"/>
          <a:stretch/>
        </p:blipFill>
        <p:spPr>
          <a:xfrm>
            <a:off x="4643280" y="1052640"/>
            <a:ext cx="3600720" cy="2447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Рисунок Фоменко Алеши, 3 класс, школа 125"/>
          <p:cNvPicPr/>
          <p:nvPr/>
        </p:nvPicPr>
        <p:blipFill>
          <a:blip r:embed="rId3"/>
          <a:stretch/>
        </p:blipFill>
        <p:spPr>
          <a:xfrm>
            <a:off x="250920" y="981000"/>
            <a:ext cx="3097080" cy="2519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Рисунок Тихоновой Наташи, 3 класс, школа 125"/>
          <p:cNvPicPr/>
          <p:nvPr/>
        </p:nvPicPr>
        <p:blipFill>
          <a:blip r:embed="rId4"/>
          <a:stretch/>
        </p:blipFill>
        <p:spPr>
          <a:xfrm>
            <a:off x="1116000" y="3789360"/>
            <a:ext cx="3817800" cy="2664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7:31:54Z</dcterms:created>
  <dc:creator>I am</dc:creator>
  <dc:description/>
  <dc:language>en-US</dc:language>
  <cp:lastModifiedBy>дом</cp:lastModifiedBy>
  <dcterms:modified xsi:type="dcterms:W3CDTF">2013-02-12T17:51:52Z</dcterms:modified>
  <cp:revision>4</cp:revision>
  <dc:subject/>
  <dc:title>МАСЛЕНИЦА</dc:title>
</cp:coreProperties>
</file>