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E05-F512-478F-9536-AD5D4577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860-B081-404A-9A09-C457B058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6DA-8F89-4BB5-80C5-5635060F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15A-07D5-41CD-A68F-BE6540A7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601-0EF4-4FC2-A6BB-FD89A5B3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E9C-B538-473F-820E-0EB5F8F9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D0D-29B3-473B-9F89-0B51189E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4B4-B644-4BFF-A1E6-148C074C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FFF-B53E-48C7-BA1B-7B91591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B99-55AA-49E8-8047-3B383FCF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60A-DE94-45EC-BF73-1FA5832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BF2-3159-489B-9012-F183329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C9BC-53FC-413B-A84E-D542D4C44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Международное географическое разделение труда (МГРТ) и мировое хозяйств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раслью специализации является такая отрасль хозяйства, которая ориентирована на экспорт про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Лицо Япо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Лицо Фран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dok3.jpg"/>
          <p:cNvPicPr/>
          <p:nvPr/>
        </p:nvPicPr>
        <p:blipFill>
          <a:blip r:embed="rId1"/>
          <a:stretch/>
        </p:blipFill>
        <p:spPr>
          <a:xfrm>
            <a:off x="611280" y="2997360"/>
            <a:ext cx="3529080" cy="2663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boc1.jpg"/>
          <p:cNvPicPr/>
          <p:nvPr/>
        </p:nvPicPr>
        <p:blipFill>
          <a:blip r:embed="rId2"/>
          <a:stretch/>
        </p:blipFill>
        <p:spPr>
          <a:xfrm>
            <a:off x="5003640" y="299736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глубление международной специализации привело к «сращиванию» национальных хозяйст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ысшая ступень МГРТ - международная экономическая интеграц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3645000"/>
          <a:ext cx="7777080" cy="1116000"/>
        </p:xfrm>
        <a:graphic>
          <a:graphicData uri="http://schemas.openxmlformats.org/drawingml/2006/table">
            <a:tbl>
              <a:tblPr/>
              <a:tblGrid>
                <a:gridCol w="3887640"/>
                <a:gridCol w="388944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анснациональные корпорации (ТН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грационные объеди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лобализ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ТН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«Самсунг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«Мицубис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«Нестле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«Форд  моторс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«Шел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Интеграционные объед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СЕА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Ф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РКОСУ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П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ТЭ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Закрепим, что узна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Главным условием формирования мирового хозяйства явля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овой рын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овой транспор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шинная индустр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Н.Н.Баранский ввел термин …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3. «Лицо» страны определяют 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4. Исторически сложившаяся совокупность национальных хозяйств мира, связанных между собой всемирными экономическими отношениями называется 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5. Высшая ступень МГРТ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Объектом изучения экономической и социальной географии мира является мировое хозяйст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23920"/>
            <a:ext cx="6400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Это исторически сложившаяся совокупность национальных хозяйств всех стран мира, связанных между собой всемирными экономическими отноше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овы условия формирования мирового хозяй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вное условие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– появление машинной индустр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торое условие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– образование мирового ры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тье условие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– наличие транспор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ой транспорт играет важную роль в мировой торговл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poi6.jpg"/>
          <p:cNvPicPr/>
          <p:nvPr/>
        </p:nvPicPr>
        <p:blipFill>
          <a:blip r:embed="rId1"/>
          <a:stretch/>
        </p:blipFill>
        <p:spPr>
          <a:xfrm>
            <a:off x="1187280" y="1957320"/>
            <a:ext cx="64090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усский ученый Н.Н.Баранский основным понятием экономической географии назвал географическое разделение тр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Баранский.jpg"/>
          <p:cNvPicPr/>
          <p:nvPr/>
        </p:nvPicPr>
        <p:blipFill>
          <a:blip r:embed="rId1"/>
          <a:stretch/>
        </p:blipFill>
        <p:spPr>
          <a:xfrm>
            <a:off x="3132000" y="2924280"/>
            <a:ext cx="2952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нятие знакомое нам из курса географии 9 класс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Между регионами России существует географическое разделение труда, которое выражается в специализации экономических районов, субъектов РФ на производстве отдельных видов продукции  и  дальнейшем обмене продукци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ример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падная Сибир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6" descr="nef1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верный Кавк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8" descr="slh2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еографическое разделение труда существует и между странами, его называют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еждународным географическим разделением труда (МГР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Прочитайте определение в §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чему страны имеют различную специализац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траны имеют различное ГП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азличие в природных условиях (климат, рельеф, почвы, природные зоны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азный уровень социально-экономического развит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6:18:52Z</dcterms:created>
  <dc:creator>User</dc:creator>
  <dc:description/>
  <dc:language>en-US</dc:language>
  <cp:lastModifiedBy>User</cp:lastModifiedBy>
  <dcterms:modified xsi:type="dcterms:W3CDTF">2013-02-07T17:09:44Z</dcterms:modified>
  <cp:revision>15</cp:revision>
  <dc:subject/>
  <dc:title>Международное географическое разделение труда (МГРТ) и мировое хозяйство</dc:title>
</cp:coreProperties>
</file>