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6E4-86A9-4A18-8E26-D8B6A3FC4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ABB-81A1-478F-8682-A6B7D806BA1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 развития образования характеризуется повышенным вниманием использования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2C54-2990-4B25-8D63-A1234C855D5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ализации проекта не потребуется значительного вложения дополнительных ресурсов, так как предполагается использовать имеющие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ресурсное пространство составляют  следующие компоненты: организационно-функциональное, нормативно-правовое, финансово-экономическое,  кадрово-образовательное, материально-техн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3AD9-5E89-40BE-BE97-507E0772947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ализации проекта не потребуется значительного вложения дополнительных ресурсов, так как предполагается использовать имеющие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ресурсное пространство составляют  следующие компоненты: организационно-функциональное, нормативно-правовое, финансово-экономическое,  кадрово-образовательное, материально-техн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F5AF-B672-4B92-94B1-73FEC77607F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15 проекта Федерального Закона «Об образовании в Российской Федерации» обращает внимание на применение технологий дистанционного обучения в реализации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DD8-37E5-4676-AEB9-7D790532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A34-82B9-4DDA-BC39-492D257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D0E-C4D9-4D55-A7C3-C764B051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DF2-8FC3-4E42-BB4F-19F31AAC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2C5-8663-4BDE-A49B-C7864C2B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3BE8-D971-4ED3-9E43-8B1B2A68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BF88-B475-49F1-BAEB-1196EA6C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8E18-82CB-4FDC-9F72-DEA95FBE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56F7-F28E-40F6-AFF9-502E4E4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AA9D-77DD-4889-8503-C34F54AA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C8BF-7BCA-4A9D-A04C-485C67B0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504-E42E-4FC5-88F5-158EF8A2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676F-01CA-4135-BA44-80E25CD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086-8B7E-4C46-BF1D-A0052B3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6327-7BDB-49A8-804C-E7768FA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1442-E531-4808-8229-E4F063BE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E7B5-6502-485E-B99C-91A720A6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084-1F22-486D-854E-9EF1FE0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1EB-1AC4-450C-9567-19E8B133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9A5-97C0-411B-A903-AE9C1282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58F-219F-46FD-AF9E-3DB5053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70E-4B50-4085-A6B0-A3C8E80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1D9-05EF-418A-902F-28EE87B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A4E-4B29-497D-86CF-6169084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7011-7DB4-4CAD-944F-93710B5EA6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23D-FECB-4D4C-9124-712C4DC3E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51280" y="2205000"/>
            <a:ext cx="417672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дель сетевого взаимодействия МОУ в образовательном  округ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708360" y="609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страхань, 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195640" y="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оссийская академия народного хозяйства и государственной службы при  Президенте Российской Федер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пускной квалификационный про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2952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лем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шаемые при помощи мод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229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достаточный набор образовательных услуг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ефицит кадровых и материальных ресурсов, предопределяющих успешность самореализации участников образовательного процесса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сутствие систематизации работы с компьютерными ресурсами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достаточное использование компьютерных средств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сурсное обеспечение МО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ормативно-правов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ционно-коммуникацион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атериально-техн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кадрово-образователь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финансово-эконом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кон РФ «Об образовании»;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кон РФ от 24.07.1998г. №124-ФЗ «Об основных гарантиях прав ребенка в РФ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становление Правительства РФ от 7 февраля 2011 г. N 61 «О Федеральной целевой программе развития образования на 2011-2015 годы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Национальная образовательная стратегия-инициатива «Наша новая школа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риказ Минобрнауки от 06 мая 2005 г. № 137 «Об использовании дистанционных образовательных технологий»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ложение об образовательном округе в Астраханской области, утверждённое Распоряжением Губернатора Астраханской области № 315-р от 01.10.2008 г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тивно-правовые ресурс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бесплатное программное обеспечение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выход в Интернет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ботают сайты школ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функционирует Дневник.ру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коммуникацион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риально – технически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орудование кабинетов начальных классов, узкопрофильных кабинетов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ерепрофилирование школьных библиотек в информационно-библиотечные центры с соответствующим оборудованием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дрово-образовательны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ействует гибкая  управленческая  структура,   сопряженная  с  уже действующими муниципальными органами, осуществляющими управление в сфере образования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высшей категории – 30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с высшим образованием – 90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с высшим педагогическим образованием – 85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ителя с 25 летним стажем работы – 60%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461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нансово-экономически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бюджетные средства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ФОТ по системе ученико-часов; оплата труда учителей; приобретение программных средств, оплату услуг связи (Интернет), учебные расходы, текущие расходы на содержание имущественного комплекса, капитальные вложения на развитие учебно-материальной базы на основе подушевого норматива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небюджетные средства: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добровольные пожертвования, доходы от платных образовательных услуг и иных, предусмотренных законодательством РФ, источников (участие в Федеральных, региональных целевых программах,  грантовой поддержки), доходы на основе государственно-частного партнерства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разовательный окру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бразовательные округа формируются как сеть образовательных учреждений, взаимодействующих по достижению общей цели, обладающих общими ресурсами для их достижения, имеющих единый центр управления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бразовательный округ (ОО) - как сеть образовательных учреждений, объединенных договорными обязательствами в целях обеспечения максимально возможной доступности качества образования для каждого обучающегося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Из «Положения об ОО в Астраханской области»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ля управления округом избирается совет образовательного округа (далее - совет), в который входят руководители образовательных учреждений округа, представители соответствующих органов местного самоуправления, министерства образования и науки Астраханской области, представители юридических лиц и физические лица, заинтересованные в развитии системы образования на территории округа (далее - участники округа), который осуществляет свою деятельность на основании положения, утверждаемого советом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овет в своей деятельности руководствуется Конституцией Российской Федерации, федеральными законами, указами и распоряжениями Президента Российской Федерации, постановлениями и распоряжениями Правительства Российской Федерации, нормативными правовыми актами федеральных органов государственной власти и органов государственной власти Астраханской области, положением о совете округа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овет принимает решения, имеющие рекомендательный характер, по вопросам организационного, информационного и методического обеспечения, связанные с осуществлением действий, направленных на совершенствование системы образования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Из «Положения об ОО в Астраханской области»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опросы, касающиеся организации работы, обсуждаются участниками округа на совместных педагогических советах образовательных учреждений; согласуется и уточняется тематическое планирование; рассматриваются методические вопросы, формы и методы работы с обучающимися в условиях обучения по индивидуальным учебным планам. Между участниками округа организуется обмен ресурсами, в том числе информацией. Осуществляется взаимообмен библиотечным фондом, лабораторным и учебным оборудованием, педагогическим опытом учителей и другой информацией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Координация и кооперация деятельности образовательных учреждений, входящих в состав округа, происходит на основе межмуниципального сотрудничества, предусмотренного законодательством Российской Федерации (статья 8 Федерального закона N 131-ФЗ от 06.10.2003 "Об общих принципах организации местного самоуправления в Российской Федерации")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5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дель сетевого взаимодействия МОУ в образовательном  окру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Разработчики: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Абдуллаева Розалия Ралифовна, директор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Барышева Людмила Владимировна, заместитель директора по учебно-воспитательной работе МБОУ «СОШ № 3 г. Харабали»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Ибрагимова Римма Сабитовна, директор МБОУ «Семибугровская ООШ»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Камызяк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Кобзева Марина Александровна, директор МБОУ «Ниновская ООШ» Икрянинского район Астраханской области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Травкина Ольга Николаевна, заместитель директора по учебно-воспитательной работе МБОУ «Раздорская СОШ им. А. П. Гужвина» Камызяк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Трущенко Марина Александровна, директор МБОУ «Новогеоргиевская СОШ» Лиман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Шальнова Зоя Сергеевна, директор МКОУ «Михайловская ООШ» Лиманского района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Велебекова Валентина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Модератор: Пэк Татьяна Николаевна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Научный руководитель: Поперняк Яков Николаевич, заместитель министра образования и науки Астраханской области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сурсы окру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Базовыми ресурсами округа становятся кадровые, образовательные, информационно-технические, обеспечивающие образовательный процесс. Каждое учреждение, включенное в округ, получает доступ ко всем объединенным ресурсам и тем самым усиливает свои собственные возможности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Ключевым ресурсом является кадровый. Каждый образовательный округ определяет сетевые требования к уровню подготовки педагогических кадров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Создание коммуникативной образовательной среды по обмену кадровыми ресурсами учреждений способствует повышению качества образования и надежности функционирования каждого учреждения как в отдельности, так и всей системы в целом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елет моде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1258920" y="1268280"/>
            <a:ext cx="5482440" cy="5039280"/>
            <a:chOff x="1258920" y="1268280"/>
            <a:chExt cx="5482440" cy="5039280"/>
          </a:xfrm>
        </p:grpSpPr>
        <p:sp>
          <p:nvSpPr>
            <p:cNvPr id="196" name="Oval 4"/>
            <p:cNvSpPr/>
            <p:nvPr/>
          </p:nvSpPr>
          <p:spPr>
            <a:xfrm>
              <a:off x="1565280" y="1726200"/>
              <a:ext cx="4842000" cy="448992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7" name="Group 5"/>
            <p:cNvGrpSpPr/>
            <p:nvPr/>
          </p:nvGrpSpPr>
          <p:grpSpPr>
            <a:xfrm>
              <a:off x="2716200" y="2859120"/>
              <a:ext cx="2468520" cy="2418120"/>
              <a:chOff x="2716200" y="2859120"/>
              <a:chExt cx="2468520" cy="2418120"/>
            </a:xfrm>
          </p:grpSpPr>
          <p:sp>
            <p:nvSpPr>
              <p:cNvPr id="198" name="Oval 6"/>
              <p:cNvSpPr/>
              <p:nvPr/>
            </p:nvSpPr>
            <p:spPr>
              <a:xfrm>
                <a:off x="2716200" y="2859120"/>
                <a:ext cx="2468520" cy="24181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2998440" y="2899080"/>
                <a:ext cx="1904040" cy="91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0" name="Text Box 8"/>
            <p:cNvSpPr/>
            <p:nvPr/>
          </p:nvSpPr>
          <p:spPr>
            <a:xfrm>
              <a:off x="3098160" y="2859120"/>
              <a:ext cx="17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Совет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об. округ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Group 9"/>
            <p:cNvGrpSpPr/>
            <p:nvPr/>
          </p:nvGrpSpPr>
          <p:grpSpPr>
            <a:xfrm>
              <a:off x="3452400" y="1268280"/>
              <a:ext cx="822240" cy="745920"/>
              <a:chOff x="3452400" y="1268280"/>
              <a:chExt cx="822240" cy="745920"/>
            </a:xfrm>
          </p:grpSpPr>
          <p:grpSp>
            <p:nvGrpSpPr>
              <p:cNvPr id="202" name="Group 10"/>
              <p:cNvGrpSpPr/>
              <p:nvPr/>
            </p:nvGrpSpPr>
            <p:grpSpPr>
              <a:xfrm>
                <a:off x="3452400" y="1268280"/>
                <a:ext cx="822240" cy="745920"/>
                <a:chOff x="3452400" y="1268280"/>
                <a:chExt cx="822240" cy="745920"/>
              </a:xfrm>
            </p:grpSpPr>
            <p:sp>
              <p:nvSpPr>
                <p:cNvPr id="203" name="Oval 11"/>
                <p:cNvSpPr/>
                <p:nvPr/>
              </p:nvSpPr>
              <p:spPr>
                <a:xfrm>
                  <a:off x="3452400" y="1268280"/>
                  <a:ext cx="822240" cy="74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546360" y="1280520"/>
                  <a:ext cx="634680" cy="281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Text Box 13"/>
              <p:cNvSpPr/>
              <p:nvPr/>
            </p:nvSpPr>
            <p:spPr>
              <a:xfrm>
                <a:off x="3687840" y="13831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4"/>
            <p:cNvGrpSpPr/>
            <p:nvPr/>
          </p:nvGrpSpPr>
          <p:grpSpPr>
            <a:xfrm>
              <a:off x="2655360" y="4989960"/>
              <a:ext cx="436320" cy="384120"/>
              <a:chOff x="2655360" y="4989960"/>
              <a:chExt cx="436320" cy="384120"/>
            </a:xfrm>
          </p:grpSpPr>
          <p:sp>
            <p:nvSpPr>
              <p:cNvPr id="207" name="Oval 15"/>
              <p:cNvSpPr/>
              <p:nvPr/>
            </p:nvSpPr>
            <p:spPr>
              <a:xfrm rot="18226800">
                <a:off x="2691000" y="5183640"/>
                <a:ext cx="147960" cy="16560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Oval 16"/>
              <p:cNvSpPr/>
              <p:nvPr/>
            </p:nvSpPr>
            <p:spPr>
              <a:xfrm rot="18226800">
                <a:off x="2908080" y="5014440"/>
                <a:ext cx="147600" cy="16524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7"/>
            <p:cNvGrpSpPr/>
            <p:nvPr/>
          </p:nvGrpSpPr>
          <p:grpSpPr>
            <a:xfrm>
              <a:off x="1897560" y="5321520"/>
              <a:ext cx="822240" cy="778680"/>
              <a:chOff x="1897560" y="5321520"/>
              <a:chExt cx="822240" cy="778680"/>
            </a:xfrm>
          </p:grpSpPr>
          <p:grpSp>
            <p:nvGrpSpPr>
              <p:cNvPr id="210" name="Group 18"/>
              <p:cNvGrpSpPr/>
              <p:nvPr/>
            </p:nvGrpSpPr>
            <p:grpSpPr>
              <a:xfrm>
                <a:off x="1897560" y="5321520"/>
                <a:ext cx="822240" cy="778680"/>
                <a:chOff x="1897560" y="5321520"/>
                <a:chExt cx="822240" cy="778680"/>
              </a:xfrm>
            </p:grpSpPr>
            <p:sp>
              <p:nvSpPr>
                <p:cNvPr id="211" name="Oval 19"/>
                <p:cNvSpPr/>
                <p:nvPr/>
              </p:nvSpPr>
              <p:spPr>
                <a:xfrm>
                  <a:off x="1897560" y="5321520"/>
                  <a:ext cx="822240" cy="77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1991880" y="5336640"/>
                  <a:ext cx="633600" cy="293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 Box 21"/>
              <p:cNvSpPr/>
              <p:nvPr/>
            </p:nvSpPr>
            <p:spPr>
              <a:xfrm>
                <a:off x="2121840" y="54676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2"/>
            <p:cNvGrpSpPr/>
            <p:nvPr/>
          </p:nvGrpSpPr>
          <p:grpSpPr>
            <a:xfrm>
              <a:off x="5923080" y="2822400"/>
              <a:ext cx="818280" cy="786600"/>
              <a:chOff x="5923080" y="2822400"/>
              <a:chExt cx="818280" cy="786600"/>
            </a:xfrm>
          </p:grpSpPr>
          <p:grpSp>
            <p:nvGrpSpPr>
              <p:cNvPr id="215" name="Group 23"/>
              <p:cNvGrpSpPr/>
              <p:nvPr/>
            </p:nvGrpSpPr>
            <p:grpSpPr>
              <a:xfrm>
                <a:off x="5923080" y="2822400"/>
                <a:ext cx="818280" cy="786600"/>
                <a:chOff x="5923080" y="2822400"/>
                <a:chExt cx="818280" cy="786600"/>
              </a:xfrm>
            </p:grpSpPr>
            <p:sp>
              <p:nvSpPr>
                <p:cNvPr id="216" name="Oval 24"/>
                <p:cNvSpPr/>
                <p:nvPr/>
              </p:nvSpPr>
              <p:spPr>
                <a:xfrm>
                  <a:off x="5923080" y="2822400"/>
                  <a:ext cx="818280" cy="78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6017040" y="2835720"/>
                  <a:ext cx="631080" cy="296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Text Box 26"/>
              <p:cNvSpPr/>
              <p:nvPr/>
            </p:nvSpPr>
            <p:spPr>
              <a:xfrm>
                <a:off x="6134400" y="29304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7"/>
            <p:cNvGrpSpPr/>
            <p:nvPr/>
          </p:nvGrpSpPr>
          <p:grpSpPr>
            <a:xfrm>
              <a:off x="5189040" y="5327640"/>
              <a:ext cx="782280" cy="705240"/>
              <a:chOff x="5189040" y="5327640"/>
              <a:chExt cx="782280" cy="705240"/>
            </a:xfrm>
          </p:grpSpPr>
          <p:grpSp>
            <p:nvGrpSpPr>
              <p:cNvPr id="220" name="Group 28"/>
              <p:cNvGrpSpPr/>
              <p:nvPr/>
            </p:nvGrpSpPr>
            <p:grpSpPr>
              <a:xfrm>
                <a:off x="5189040" y="5327640"/>
                <a:ext cx="782280" cy="705240"/>
                <a:chOff x="5189040" y="5327640"/>
                <a:chExt cx="782280" cy="705240"/>
              </a:xfrm>
            </p:grpSpPr>
            <p:sp>
              <p:nvSpPr>
                <p:cNvPr id="221" name="Oval 29"/>
                <p:cNvSpPr/>
                <p:nvPr/>
              </p:nvSpPr>
              <p:spPr>
                <a:xfrm>
                  <a:off x="5189040" y="5327640"/>
                  <a:ext cx="782280" cy="70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5278320" y="5339160"/>
                  <a:ext cx="603360" cy="26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31"/>
              <p:cNvSpPr/>
              <p:nvPr/>
            </p:nvSpPr>
            <p:spPr>
              <a:xfrm>
                <a:off x="5415120" y="5365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32"/>
            <p:cNvGrpSpPr/>
            <p:nvPr/>
          </p:nvGrpSpPr>
          <p:grpSpPr>
            <a:xfrm>
              <a:off x="1258920" y="2822400"/>
              <a:ext cx="822240" cy="776880"/>
              <a:chOff x="1258920" y="2822400"/>
              <a:chExt cx="822240" cy="776880"/>
            </a:xfrm>
          </p:grpSpPr>
          <p:grpSp>
            <p:nvGrpSpPr>
              <p:cNvPr id="225" name="Group 33"/>
              <p:cNvGrpSpPr/>
              <p:nvPr/>
            </p:nvGrpSpPr>
            <p:grpSpPr>
              <a:xfrm>
                <a:off x="1258920" y="2822400"/>
                <a:ext cx="822240" cy="776880"/>
                <a:chOff x="1258920" y="2822400"/>
                <a:chExt cx="822240" cy="776880"/>
              </a:xfrm>
            </p:grpSpPr>
            <p:sp>
              <p:nvSpPr>
                <p:cNvPr id="226" name="Oval 34"/>
                <p:cNvSpPr/>
                <p:nvPr/>
              </p:nvSpPr>
              <p:spPr>
                <a:xfrm>
                  <a:off x="1258920" y="2822400"/>
                  <a:ext cx="822240" cy="7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1352880" y="2835720"/>
                  <a:ext cx="634680" cy="293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Text Box 36"/>
              <p:cNvSpPr/>
              <p:nvPr/>
            </p:nvSpPr>
            <p:spPr>
              <a:xfrm>
                <a:off x="1490400" y="2907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9" name="Oval 37"/>
            <p:cNvSpPr/>
            <p:nvPr/>
          </p:nvSpPr>
          <p:spPr>
            <a:xfrm rot="18226800">
              <a:off x="5110200" y="5141880"/>
              <a:ext cx="148320" cy="1692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Oval 38"/>
            <p:cNvSpPr/>
            <p:nvPr/>
          </p:nvSpPr>
          <p:spPr>
            <a:xfrm rot="18226800">
              <a:off x="4923360" y="4973040"/>
              <a:ext cx="145800" cy="164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WordArt 39"/>
            <p:cNvSpPr txBox="1"/>
            <p:nvPr/>
          </p:nvSpPr>
          <p:spPr>
            <a:xfrm rot="19416000">
              <a:off x="2202480" y="2383560"/>
              <a:ext cx="3606120" cy="3162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Образовательный  округ 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232" name="Group 40"/>
            <p:cNvGrpSpPr/>
            <p:nvPr/>
          </p:nvGrpSpPr>
          <p:grpSpPr>
            <a:xfrm>
              <a:off x="2145600" y="3309120"/>
              <a:ext cx="493200" cy="298080"/>
              <a:chOff x="2145600" y="3309120"/>
              <a:chExt cx="493200" cy="298080"/>
            </a:xfrm>
          </p:grpSpPr>
          <p:sp>
            <p:nvSpPr>
              <p:cNvPr id="233" name="Oval 41"/>
              <p:cNvSpPr/>
              <p:nvPr/>
            </p:nvSpPr>
            <p:spPr>
              <a:xfrm rot="18226800">
                <a:off x="2180880" y="3333960"/>
                <a:ext cx="147600" cy="164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Oval 42"/>
              <p:cNvSpPr/>
              <p:nvPr/>
            </p:nvSpPr>
            <p:spPr>
              <a:xfrm rot="18226800">
                <a:off x="2455560" y="3417480"/>
                <a:ext cx="147240" cy="1648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43"/>
            <p:cNvGrpSpPr/>
            <p:nvPr/>
          </p:nvGrpSpPr>
          <p:grpSpPr>
            <a:xfrm>
              <a:off x="3790800" y="2148480"/>
              <a:ext cx="219600" cy="533160"/>
              <a:chOff x="3790800" y="2148480"/>
              <a:chExt cx="219600" cy="533160"/>
            </a:xfrm>
          </p:grpSpPr>
          <p:sp>
            <p:nvSpPr>
              <p:cNvPr id="236" name="Oval 44"/>
              <p:cNvSpPr/>
              <p:nvPr/>
            </p:nvSpPr>
            <p:spPr>
              <a:xfrm rot="18226800">
                <a:off x="3826440" y="2173320"/>
                <a:ext cx="148680" cy="16452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Oval 45"/>
              <p:cNvSpPr/>
              <p:nvPr/>
            </p:nvSpPr>
            <p:spPr>
              <a:xfrm rot="18226800">
                <a:off x="3826080" y="2491560"/>
                <a:ext cx="149040" cy="16452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8" name="Oval 46"/>
            <p:cNvSpPr/>
            <p:nvPr/>
          </p:nvSpPr>
          <p:spPr>
            <a:xfrm rot="18226800">
              <a:off x="5584680" y="3363120"/>
              <a:ext cx="148320" cy="1666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Oval 47"/>
            <p:cNvSpPr/>
            <p:nvPr/>
          </p:nvSpPr>
          <p:spPr>
            <a:xfrm rot="18226800">
              <a:off x="5287320" y="3505680"/>
              <a:ext cx="149760" cy="1648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0" name="Group 48"/>
            <p:cNvGrpSpPr/>
            <p:nvPr/>
          </p:nvGrpSpPr>
          <p:grpSpPr>
            <a:xfrm>
              <a:off x="3291840" y="3994200"/>
              <a:ext cx="1245240" cy="1132560"/>
              <a:chOff x="3291840" y="3994200"/>
              <a:chExt cx="1245240" cy="1132560"/>
            </a:xfrm>
          </p:grpSpPr>
          <p:sp>
            <p:nvSpPr>
              <p:cNvPr id="241" name="Oval 49"/>
              <p:cNvSpPr/>
              <p:nvPr/>
            </p:nvSpPr>
            <p:spPr>
              <a:xfrm>
                <a:off x="3291840" y="3994200"/>
                <a:ext cx="1245240" cy="113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Text Box 50"/>
              <p:cNvSpPr/>
              <p:nvPr/>
            </p:nvSpPr>
            <p:spPr>
              <a:xfrm>
                <a:off x="3399120" y="4168800"/>
                <a:ext cx="110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Verdana"/>
                  </a:rPr>
                  <a:t>Центр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AutoShape 51"/>
          <p:cNvSpPr/>
          <p:nvPr/>
        </p:nvSpPr>
        <p:spPr>
          <a:xfrm>
            <a:off x="3851280" y="3716280"/>
            <a:ext cx="216000" cy="360360"/>
          </a:xfrm>
          <a:prstGeom prst="upDownArrow">
            <a:avLst>
              <a:gd name="adj1" fmla="val 50000"/>
              <a:gd name="adj2" fmla="val 33212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248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0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252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253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5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6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257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9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260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261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63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4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265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266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68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9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270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271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3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4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275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276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8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82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283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5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286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8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5" name="Group 52"/>
          <p:cNvGrpSpPr/>
          <p:nvPr/>
        </p:nvGrpSpPr>
        <p:grpSpPr>
          <a:xfrm>
            <a:off x="3669120" y="4005360"/>
            <a:ext cx="1213920" cy="969840"/>
            <a:chOff x="3669120" y="4005360"/>
            <a:chExt cx="1213920" cy="969840"/>
          </a:xfrm>
        </p:grpSpPr>
        <p:sp>
          <p:nvSpPr>
            <p:cNvPr id="296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Text Box 54"/>
            <p:cNvSpPr/>
            <p:nvPr/>
          </p:nvSpPr>
          <p:spPr>
            <a:xfrm>
              <a:off x="3669120" y="4149720"/>
              <a:ext cx="121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Метод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уч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AutoShape 55"/>
          <p:cNvSpPr/>
          <p:nvPr/>
        </p:nvSpPr>
        <p:spPr>
          <a:xfrm rot="5400000">
            <a:off x="4104360" y="584640"/>
            <a:ext cx="215640" cy="1871640"/>
          </a:xfrm>
          <a:prstGeom prst="downArrow">
            <a:avLst>
              <a:gd name="adj1" fmla="val 50000"/>
              <a:gd name="adj2" fmla="val 216987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 rot="19553400">
            <a:off x="3131640" y="1988640"/>
            <a:ext cx="216000" cy="2592360"/>
          </a:xfrm>
          <a:prstGeom prst="downArrow">
            <a:avLst>
              <a:gd name="adj1" fmla="val 50000"/>
              <a:gd name="adj2" fmla="val 300042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Rectangle 57"/>
          <p:cNvSpPr/>
          <p:nvPr/>
        </p:nvSpPr>
        <p:spPr>
          <a:xfrm>
            <a:off x="179280" y="134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,  распоряжения, пись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тановления, распоряжения, приказы, рекомендации, пись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AutoShape 5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307" name="Group 5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308" name="Oval 6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0" name="Text Box 8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1" name="Text Box 9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2268360" y="1413000"/>
            <a:ext cx="5266080" cy="4275000"/>
            <a:chOff x="2268360" y="1413000"/>
            <a:chExt cx="5266080" cy="4275000"/>
          </a:xfrm>
        </p:grpSpPr>
        <p:sp>
          <p:nvSpPr>
            <p:cNvPr id="315" name="Oval 13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6" name="Group 14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grpSp>
            <p:nvGrpSpPr>
              <p:cNvPr id="317" name="Group 15"/>
              <p:cNvGrpSpPr/>
              <p:nvPr/>
            </p:nvGrpSpPr>
            <p:grpSpPr>
              <a:xfrm>
                <a:off x="3900600" y="1755720"/>
                <a:ext cx="617400" cy="615960"/>
                <a:chOff x="3900600" y="1755720"/>
                <a:chExt cx="617400" cy="615960"/>
              </a:xfrm>
            </p:grpSpPr>
            <p:sp>
              <p:nvSpPr>
                <p:cNvPr id="318" name="Oval 16"/>
                <p:cNvSpPr/>
                <p:nvPr/>
              </p:nvSpPr>
              <p:spPr>
                <a:xfrm>
                  <a:off x="3900600" y="175572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"/>
                <p:cNvSpPr/>
                <p:nvPr/>
              </p:nvSpPr>
              <p:spPr>
                <a:xfrm>
                  <a:off x="3971160" y="176580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Text Box 18"/>
              <p:cNvSpPr/>
              <p:nvPr/>
            </p:nvSpPr>
            <p:spPr>
              <a:xfrm>
                <a:off x="4029840" y="18504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9"/>
            <p:cNvGrpSpPr/>
            <p:nvPr/>
          </p:nvGrpSpPr>
          <p:grpSpPr>
            <a:xfrm>
              <a:off x="3299400" y="4830840"/>
              <a:ext cx="333720" cy="309960"/>
              <a:chOff x="3299400" y="4830840"/>
              <a:chExt cx="333720" cy="309960"/>
            </a:xfrm>
          </p:grpSpPr>
          <p:sp>
            <p:nvSpPr>
              <p:cNvPr id="322" name="Oval 20"/>
              <p:cNvSpPr/>
              <p:nvPr/>
            </p:nvSpPr>
            <p:spPr>
              <a:xfrm rot="18226800">
                <a:off x="3323520" y="4993200"/>
                <a:ext cx="122400" cy="12420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3" name="Oval 21"/>
              <p:cNvSpPr/>
              <p:nvPr/>
            </p:nvSpPr>
            <p:spPr>
              <a:xfrm rot="18226800">
                <a:off x="3486960" y="4854240"/>
                <a:ext cx="122400" cy="1227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grpSp>
            <p:nvGrpSpPr>
              <p:cNvPr id="325" name="Group 23"/>
              <p:cNvGrpSpPr/>
              <p:nvPr/>
            </p:nvGrpSpPr>
            <p:grpSpPr>
              <a:xfrm>
                <a:off x="5754600" y="3038400"/>
                <a:ext cx="614520" cy="649440"/>
                <a:chOff x="5754600" y="3038400"/>
                <a:chExt cx="614520" cy="649440"/>
              </a:xfrm>
            </p:grpSpPr>
            <p:sp>
              <p:nvSpPr>
                <p:cNvPr id="326" name="Oval 24"/>
                <p:cNvSpPr/>
                <p:nvPr/>
              </p:nvSpPr>
              <p:spPr>
                <a:xfrm>
                  <a:off x="5754600" y="3038400"/>
                  <a:ext cx="61452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5"/>
                <p:cNvSpPr/>
                <p:nvPr/>
              </p:nvSpPr>
              <p:spPr>
                <a:xfrm>
                  <a:off x="5824800" y="3048840"/>
                  <a:ext cx="4741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Text Box 26"/>
              <p:cNvSpPr/>
              <p:nvPr/>
            </p:nvSpPr>
            <p:spPr>
              <a:xfrm>
                <a:off x="5866200" y="3127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grpSp>
            <p:nvGrpSpPr>
              <p:cNvPr id="330" name="Group 28"/>
              <p:cNvGrpSpPr/>
              <p:nvPr/>
            </p:nvGrpSpPr>
            <p:grpSpPr>
              <a:xfrm>
                <a:off x="5203800" y="5105520"/>
                <a:ext cx="587520" cy="582480"/>
                <a:chOff x="5203800" y="5105520"/>
                <a:chExt cx="587520" cy="582480"/>
              </a:xfrm>
            </p:grpSpPr>
            <p:sp>
              <p:nvSpPr>
                <p:cNvPr id="331" name="Oval 29"/>
                <p:cNvSpPr/>
                <p:nvPr/>
              </p:nvSpPr>
              <p:spPr>
                <a:xfrm>
                  <a:off x="5203800" y="510552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0"/>
                <p:cNvSpPr/>
                <p:nvPr/>
              </p:nvSpPr>
              <p:spPr>
                <a:xfrm>
                  <a:off x="5270760" y="511488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31"/>
              <p:cNvSpPr/>
              <p:nvPr/>
            </p:nvSpPr>
            <p:spPr>
              <a:xfrm>
                <a:off x="5321160" y="5136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2"/>
            <p:cNvGrpSpPr/>
            <p:nvPr/>
          </p:nvGrpSpPr>
          <p:grpSpPr>
            <a:xfrm>
              <a:off x="2268360" y="3068640"/>
              <a:ext cx="617760" cy="641520"/>
              <a:chOff x="2268360" y="3068640"/>
              <a:chExt cx="617760" cy="641520"/>
            </a:xfrm>
          </p:grpSpPr>
          <p:grpSp>
            <p:nvGrpSpPr>
              <p:cNvPr id="335" name="Group 33"/>
              <p:cNvGrpSpPr/>
              <p:nvPr/>
            </p:nvGrpSpPr>
            <p:grpSpPr>
              <a:xfrm>
                <a:off x="2268360" y="3068640"/>
                <a:ext cx="617760" cy="641520"/>
                <a:chOff x="2268360" y="3068640"/>
                <a:chExt cx="617760" cy="641520"/>
              </a:xfrm>
            </p:grpSpPr>
            <p:sp>
              <p:nvSpPr>
                <p:cNvPr id="336" name="Oval 34"/>
                <p:cNvSpPr/>
                <p:nvPr/>
              </p:nvSpPr>
              <p:spPr>
                <a:xfrm>
                  <a:off x="2268360" y="306864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5"/>
                <p:cNvSpPr/>
                <p:nvPr/>
              </p:nvSpPr>
              <p:spPr>
                <a:xfrm>
                  <a:off x="2338920" y="307908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36"/>
              <p:cNvSpPr/>
              <p:nvPr/>
            </p:nvSpPr>
            <p:spPr>
              <a:xfrm>
                <a:off x="2394000" y="3139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9" name="Oval 37"/>
            <p:cNvSpPr/>
            <p:nvPr/>
          </p:nvSpPr>
          <p:spPr>
            <a:xfrm rot="18226800">
              <a:off x="5135400" y="4960440"/>
              <a:ext cx="122040" cy="125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Oval 38"/>
            <p:cNvSpPr/>
            <p:nvPr/>
          </p:nvSpPr>
          <p:spPr>
            <a:xfrm rot="18226800">
              <a:off x="4998960" y="48189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41" name="Group 39"/>
            <p:cNvGrpSpPr/>
            <p:nvPr/>
          </p:nvGrpSpPr>
          <p:grpSpPr>
            <a:xfrm>
              <a:off x="2917440" y="3442320"/>
              <a:ext cx="375480" cy="240120"/>
              <a:chOff x="2917440" y="3442320"/>
              <a:chExt cx="375480" cy="240120"/>
            </a:xfrm>
          </p:grpSpPr>
          <p:sp>
            <p:nvSpPr>
              <p:cNvPr id="342" name="Oval 40"/>
              <p:cNvSpPr/>
              <p:nvPr/>
            </p:nvSpPr>
            <p:spPr>
              <a:xfrm rot="18226800">
                <a:off x="2942280" y="3464280"/>
                <a:ext cx="119880" cy="12456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 rot="18226800">
                <a:off x="3148560" y="3536640"/>
                <a:ext cx="119880" cy="1231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2"/>
            <p:cNvGrpSpPr/>
            <p:nvPr/>
          </p:nvGrpSpPr>
          <p:grpSpPr>
            <a:xfrm>
              <a:off x="4151520" y="2485800"/>
              <a:ext cx="171720" cy="433080"/>
              <a:chOff x="4151520" y="2485800"/>
              <a:chExt cx="171720" cy="433080"/>
            </a:xfrm>
          </p:grpSpPr>
          <p:sp>
            <p:nvSpPr>
              <p:cNvPr id="345" name="Oval 43"/>
              <p:cNvSpPr/>
              <p:nvPr/>
            </p:nvSpPr>
            <p:spPr>
              <a:xfrm rot="18226800">
                <a:off x="4176000" y="2508840"/>
                <a:ext cx="12276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6" name="Oval 44"/>
              <p:cNvSpPr/>
              <p:nvPr/>
            </p:nvSpPr>
            <p:spPr>
              <a:xfrm rot="18226800">
                <a:off x="4175640" y="2771280"/>
                <a:ext cx="12312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7" name="Oval 45"/>
            <p:cNvSpPr/>
            <p:nvPr/>
          </p:nvSpPr>
          <p:spPr>
            <a:xfrm rot="18226800">
              <a:off x="5495760" y="3490920"/>
              <a:ext cx="122400" cy="1252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46"/>
            <p:cNvSpPr/>
            <p:nvPr/>
          </p:nvSpPr>
          <p:spPr>
            <a:xfrm rot="18226800">
              <a:off x="5277600" y="3602880"/>
              <a:ext cx="12240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Text Box 47"/>
            <p:cNvSpPr/>
            <p:nvPr/>
          </p:nvSpPr>
          <p:spPr>
            <a:xfrm>
              <a:off x="3351240" y="1413000"/>
              <a:ext cx="171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Text Box 48"/>
            <p:cNvSpPr/>
            <p:nvPr/>
          </p:nvSpPr>
          <p:spPr>
            <a:xfrm>
              <a:off x="5819760" y="5319720"/>
              <a:ext cx="17146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1" name="Group 49"/>
            <p:cNvGrpSpPr/>
            <p:nvPr/>
          </p:nvGrpSpPr>
          <p:grpSpPr>
            <a:xfrm>
              <a:off x="3669120" y="4005360"/>
              <a:ext cx="1213920" cy="969840"/>
              <a:chOff x="3669120" y="4005360"/>
              <a:chExt cx="1213920" cy="969840"/>
            </a:xfrm>
          </p:grpSpPr>
          <p:sp>
            <p:nvSpPr>
              <p:cNvPr id="352" name="Oval 50"/>
              <p:cNvSpPr/>
              <p:nvPr/>
            </p:nvSpPr>
            <p:spPr>
              <a:xfrm>
                <a:off x="3780000" y="4005360"/>
                <a:ext cx="934920" cy="934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3" name="Text Box 51"/>
              <p:cNvSpPr/>
              <p:nvPr/>
            </p:nvSpPr>
            <p:spPr>
              <a:xfrm>
                <a:off x="3669120" y="4149720"/>
                <a:ext cx="121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Verdana"/>
                  </a:rPr>
                  <a:t>Метод 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Verdana"/>
                  </a:rPr>
                  <a:t>учр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4" name="AutoShape 52"/>
            <p:cNvSpPr/>
            <p:nvPr/>
          </p:nvSpPr>
          <p:spPr>
            <a:xfrm rot="5400000">
              <a:off x="4104360" y="584640"/>
              <a:ext cx="215640" cy="1871640"/>
            </a:xfrm>
            <a:prstGeom prst="downArrow">
              <a:avLst>
                <a:gd name="adj1" fmla="val 50000"/>
                <a:gd name="adj2" fmla="val 216987"/>
              </a:avLst>
            </a:prstGeom>
            <a:solidFill>
              <a:srgbClr val="de884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rot="19553400">
              <a:off x="3131640" y="1988640"/>
              <a:ext cx="216000" cy="2592360"/>
            </a:xfrm>
            <a:prstGeom prst="downArrow">
              <a:avLst>
                <a:gd name="adj1" fmla="val 50000"/>
                <a:gd name="adj2" fmla="val 300042"/>
              </a:avLst>
            </a:prstGeom>
            <a:solidFill>
              <a:srgbClr val="de884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Rectangle 54"/>
          <p:cNvSpPr/>
          <p:nvPr/>
        </p:nvSpPr>
        <p:spPr>
          <a:xfrm>
            <a:off x="179280" y="134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, 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362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5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366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367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9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371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3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374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375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7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8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379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380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1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2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384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385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7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8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389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390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1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2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3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96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397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9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400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2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9" name="Group 52"/>
          <p:cNvGrpSpPr/>
          <p:nvPr/>
        </p:nvGrpSpPr>
        <p:grpSpPr>
          <a:xfrm>
            <a:off x="3669120" y="4005360"/>
            <a:ext cx="1213920" cy="969840"/>
            <a:chOff x="3669120" y="4005360"/>
            <a:chExt cx="1213920" cy="969840"/>
          </a:xfrm>
        </p:grpSpPr>
        <p:sp>
          <p:nvSpPr>
            <p:cNvPr id="410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Text Box 54"/>
            <p:cNvSpPr/>
            <p:nvPr/>
          </p:nvSpPr>
          <p:spPr>
            <a:xfrm>
              <a:off x="3669120" y="4149720"/>
              <a:ext cx="121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Метод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уч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2" name="AutoShape 55"/>
          <p:cNvSpPr/>
          <p:nvPr/>
        </p:nvSpPr>
        <p:spPr>
          <a:xfrm rot="5400000">
            <a:off x="4104360" y="584640"/>
            <a:ext cx="215640" cy="1871640"/>
          </a:xfrm>
          <a:prstGeom prst="downArrow">
            <a:avLst>
              <a:gd name="adj1" fmla="val 50000"/>
              <a:gd name="adj2" fmla="val 216987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AutoShape 56"/>
          <p:cNvSpPr/>
          <p:nvPr/>
        </p:nvSpPr>
        <p:spPr>
          <a:xfrm rot="19553400">
            <a:off x="3049560" y="1723680"/>
            <a:ext cx="216000" cy="2881440"/>
          </a:xfrm>
          <a:prstGeom prst="downArrow">
            <a:avLst>
              <a:gd name="adj1" fmla="val 50000"/>
              <a:gd name="adj2" fmla="val 333500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Rectangle 57"/>
          <p:cNvSpPr/>
          <p:nvPr/>
        </p:nvSpPr>
        <p:spPr>
          <a:xfrm>
            <a:off x="179280" y="134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казы,  распоряжения, пись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тановления, распоряжения, приказы, рекомендации, пись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AutoShape 5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Rectangle 60"/>
          <p:cNvSpPr/>
          <p:nvPr/>
        </p:nvSpPr>
        <p:spPr>
          <a:xfrm>
            <a:off x="0" y="472428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казы,  распоряжения, пись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AutoShape 61"/>
          <p:cNvSpPr/>
          <p:nvPr/>
        </p:nvSpPr>
        <p:spPr>
          <a:xfrm rot="14923800">
            <a:off x="3053160" y="401508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424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6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428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429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1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2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433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5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436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437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8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9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0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441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442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44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5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446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447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8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49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0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451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452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4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5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58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459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462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4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1" name="Group 52"/>
          <p:cNvGrpSpPr/>
          <p:nvPr/>
        </p:nvGrpSpPr>
        <p:grpSpPr>
          <a:xfrm>
            <a:off x="3722040" y="4005360"/>
            <a:ext cx="1104120" cy="969840"/>
            <a:chOff x="3722040" y="4005360"/>
            <a:chExt cx="1104120" cy="969840"/>
          </a:xfrm>
        </p:grpSpPr>
        <p:sp>
          <p:nvSpPr>
            <p:cNvPr id="472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Text Box 54"/>
            <p:cNvSpPr/>
            <p:nvPr/>
          </p:nvSpPr>
          <p:spPr>
            <a:xfrm>
              <a:off x="3722040" y="4149720"/>
              <a:ext cx="110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ент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Text Box 55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AutoShape 56"/>
          <p:cNvSpPr/>
          <p:nvPr/>
        </p:nvSpPr>
        <p:spPr>
          <a:xfrm rot="1316400">
            <a:off x="4716360" y="1412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Rectangle 57"/>
          <p:cNvSpPr/>
          <p:nvPr/>
        </p:nvSpPr>
        <p:spPr>
          <a:xfrm>
            <a:off x="17928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AutoShape 58"/>
          <p:cNvSpPr/>
          <p:nvPr/>
        </p:nvSpPr>
        <p:spPr>
          <a:xfrm rot="19266000">
            <a:off x="3131640" y="1628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59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Text Box 60"/>
          <p:cNvSpPr/>
          <p:nvPr/>
        </p:nvSpPr>
        <p:spPr>
          <a:xfrm>
            <a:off x="6372360" y="386064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ществен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лож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AutoShape 61"/>
          <p:cNvSpPr/>
          <p:nvPr/>
        </p:nvSpPr>
        <p:spPr>
          <a:xfrm rot="6561000">
            <a:off x="5572440" y="3104280"/>
            <a:ext cx="216000" cy="1655640"/>
          </a:xfrm>
          <a:prstGeom prst="downArrow">
            <a:avLst>
              <a:gd name="adj1" fmla="val 50000"/>
              <a:gd name="adj2" fmla="val 191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нтр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пределяется на конкурсной осно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Центр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F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является своеобразным организационно-методическим центром, в котором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ложены основы нормативно-правового обеспечения деятельности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лная укомплектованность кадрами высокой квалификации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имеется современное техническое оснащение;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на должном уровне развито информационно-методическое и организационно-методическое обеспечение учебного процесса: поурочные мультимедийные разработки, медиатека, Интернет-ресурсы, рабочие программы по всем учебным дисциплинам учебного плана; КИМы и т.д.;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489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1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2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493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494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96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7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498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0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501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502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3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4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5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506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507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9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0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511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512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3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4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5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516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517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9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0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523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524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6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527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9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49"/>
          <p:cNvSpPr/>
          <p:nvPr/>
        </p:nvSpPr>
        <p:spPr>
          <a:xfrm>
            <a:off x="6372360" y="3213000"/>
            <a:ext cx="171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Text Box 50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51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6" name="Group 52"/>
          <p:cNvGrpSpPr/>
          <p:nvPr/>
        </p:nvGrpSpPr>
        <p:grpSpPr>
          <a:xfrm>
            <a:off x="3722040" y="4005360"/>
            <a:ext cx="1104120" cy="969840"/>
            <a:chOff x="3722040" y="4005360"/>
            <a:chExt cx="1104120" cy="969840"/>
          </a:xfrm>
        </p:grpSpPr>
        <p:sp>
          <p:nvSpPr>
            <p:cNvPr id="537" name="Oval 53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Text Box 54"/>
            <p:cNvSpPr/>
            <p:nvPr/>
          </p:nvSpPr>
          <p:spPr>
            <a:xfrm>
              <a:off x="3722040" y="4149720"/>
              <a:ext cx="110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ент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9" name="Text Box 55"/>
          <p:cNvSpPr/>
          <p:nvPr/>
        </p:nvSpPr>
        <p:spPr>
          <a:xfrm>
            <a:off x="5219640" y="9810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AutoShape 56"/>
          <p:cNvSpPr/>
          <p:nvPr/>
        </p:nvSpPr>
        <p:spPr>
          <a:xfrm rot="1316400">
            <a:off x="4716360" y="1412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Rectangle 57"/>
          <p:cNvSpPr/>
          <p:nvPr/>
        </p:nvSpPr>
        <p:spPr>
          <a:xfrm>
            <a:off x="17928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AutoShape 58"/>
          <p:cNvSpPr/>
          <p:nvPr/>
        </p:nvSpPr>
        <p:spPr>
          <a:xfrm rot="19266000">
            <a:off x="3131640" y="1628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Rectangle 59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Text Box 60"/>
          <p:cNvSpPr/>
          <p:nvPr/>
        </p:nvSpPr>
        <p:spPr>
          <a:xfrm>
            <a:off x="6372360" y="386064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ществен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лож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AutoShape 61"/>
          <p:cNvSpPr/>
          <p:nvPr/>
        </p:nvSpPr>
        <p:spPr>
          <a:xfrm rot="6561000">
            <a:off x="5572440" y="3104280"/>
            <a:ext cx="216000" cy="1655640"/>
          </a:xfrm>
          <a:prstGeom prst="downArrow">
            <a:avLst>
              <a:gd name="adj1" fmla="val 50000"/>
              <a:gd name="adj2" fmla="val 191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551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3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4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555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556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8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9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560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2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563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564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6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7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568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569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0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1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2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573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574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6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7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578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579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2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585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586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8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589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1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50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51"/>
          <p:cNvGrpSpPr/>
          <p:nvPr/>
        </p:nvGrpSpPr>
        <p:grpSpPr>
          <a:xfrm>
            <a:off x="3780000" y="4005360"/>
            <a:ext cx="934920" cy="969840"/>
            <a:chOff x="3780000" y="4005360"/>
            <a:chExt cx="934920" cy="969840"/>
          </a:xfrm>
        </p:grpSpPr>
        <p:sp>
          <p:nvSpPr>
            <p:cNvPr id="598" name="Oval 52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53"/>
            <p:cNvSpPr/>
            <p:nvPr/>
          </p:nvSpPr>
          <p:spPr>
            <a:xfrm>
              <a:off x="3965760" y="4149720"/>
              <a:ext cx="61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ДЦ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0" name="Text Box 54"/>
          <p:cNvSpPr/>
          <p:nvPr/>
        </p:nvSpPr>
        <p:spPr>
          <a:xfrm>
            <a:off x="5219640" y="981000"/>
            <a:ext cx="331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коменд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остановления,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оряжения, письм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AutoShape 55"/>
          <p:cNvSpPr/>
          <p:nvPr/>
        </p:nvSpPr>
        <p:spPr>
          <a:xfrm rot="1316400">
            <a:off x="4716360" y="141264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AutoShape 57"/>
          <p:cNvSpPr/>
          <p:nvPr/>
        </p:nvSpPr>
        <p:spPr>
          <a:xfrm rot="2272200">
            <a:off x="1044360" y="1700280"/>
            <a:ext cx="144360" cy="1006560"/>
          </a:xfrm>
          <a:prstGeom prst="downArrow">
            <a:avLst>
              <a:gd name="adj1" fmla="val 50000"/>
              <a:gd name="adj2" fmla="val 174314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58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AutoShape 59"/>
          <p:cNvSpPr/>
          <p:nvPr/>
        </p:nvSpPr>
        <p:spPr>
          <a:xfrm rot="17521800">
            <a:off x="2339640" y="2276640"/>
            <a:ext cx="216000" cy="3095640"/>
          </a:xfrm>
          <a:prstGeom prst="downArrow">
            <a:avLst>
              <a:gd name="adj1" fmla="val 50000"/>
              <a:gd name="adj2" fmla="val 358292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Oval 60"/>
          <p:cNvSpPr/>
          <p:nvPr/>
        </p:nvSpPr>
        <p:spPr>
          <a:xfrm>
            <a:off x="179280" y="2565360"/>
            <a:ext cx="935280" cy="934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Text Box 61"/>
          <p:cNvSpPr/>
          <p:nvPr/>
        </p:nvSpPr>
        <p:spPr>
          <a:xfrm>
            <a:off x="203400" y="2565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AutoShape 62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AutoShape 63"/>
          <p:cNvSpPr/>
          <p:nvPr/>
        </p:nvSpPr>
        <p:spPr>
          <a:xfrm rot="18334800">
            <a:off x="2495520" y="1242720"/>
            <a:ext cx="274680" cy="2693880"/>
          </a:xfrm>
          <a:prstGeom prst="downArrow">
            <a:avLst>
              <a:gd name="adj1" fmla="val 50000"/>
              <a:gd name="adj2" fmla="val 245183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17928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т моде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WordArt 4"/>
          <p:cNvSpPr txBox="1"/>
          <p:nvPr/>
        </p:nvSpPr>
        <p:spPr>
          <a:xfrm>
            <a:off x="324000" y="2752560"/>
            <a:ext cx="75834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Структуриров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систематизиров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</p:txBody>
      </p:sp>
      <p:sp>
        <p:nvSpPr>
          <p:cNvPr id="613" name="WordArt 4"/>
          <p:cNvSpPr txBox="1"/>
          <p:nvPr/>
        </p:nvSpPr>
        <p:spPr>
          <a:xfrm>
            <a:off x="324000" y="1557360"/>
            <a:ext cx="84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Единое информационное простран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дернизации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Главной целью процессов модернизации в системе образования страны является достижение нового качества образования, повышение его доступности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WordArt 4"/>
          <p:cNvSpPr txBox="1"/>
          <p:nvPr/>
        </p:nvSpPr>
        <p:spPr>
          <a:xfrm>
            <a:off x="539640" y="5805360"/>
            <a:ext cx="7363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c59d2"/>
                </a:solidFill>
                <a:latin typeface="Arial"/>
              </a:rPr>
              <a:t>Структуризация и системат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c59d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диные информационн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тивный, действующий сайт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оступный, действующий форум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пециализированные, действующие чат-кабинеты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бочие, действующие другие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hi-tech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сурсы (скайп, эл. почта, телеконференции,…)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624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6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27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628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629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0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31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2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633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5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636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637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8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39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40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641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642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3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44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45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646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647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8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49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0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651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652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3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54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5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658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659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1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662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64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Text Box 49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Text Box 50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70" name="Group 51"/>
          <p:cNvGrpSpPr/>
          <p:nvPr/>
        </p:nvGrpSpPr>
        <p:grpSpPr>
          <a:xfrm>
            <a:off x="3780000" y="4005360"/>
            <a:ext cx="934920" cy="969840"/>
            <a:chOff x="3780000" y="4005360"/>
            <a:chExt cx="934920" cy="969840"/>
          </a:xfrm>
        </p:grpSpPr>
        <p:sp>
          <p:nvSpPr>
            <p:cNvPr id="671" name="Oval 52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Text Box 53"/>
            <p:cNvSpPr/>
            <p:nvPr/>
          </p:nvSpPr>
          <p:spPr>
            <a:xfrm>
              <a:off x="3875400" y="4149720"/>
              <a:ext cx="79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С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73" name="Text Box 54"/>
          <p:cNvSpPr/>
          <p:nvPr/>
        </p:nvSpPr>
        <p:spPr>
          <a:xfrm>
            <a:off x="5219640" y="981000"/>
            <a:ext cx="331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коменд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остановления,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оряжения, письм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AutoShape 55"/>
          <p:cNvSpPr/>
          <p:nvPr/>
        </p:nvSpPr>
        <p:spPr>
          <a:xfrm rot="2268600">
            <a:off x="4932360" y="1699920"/>
            <a:ext cx="254160" cy="1727280"/>
          </a:xfrm>
          <a:prstGeom prst="downArrow">
            <a:avLst>
              <a:gd name="adj1" fmla="val 50000"/>
              <a:gd name="adj2" fmla="val 169901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56"/>
          <p:cNvSpPr/>
          <p:nvPr/>
        </p:nvSpPr>
        <p:spPr>
          <a:xfrm>
            <a:off x="25092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AutoShape 57"/>
          <p:cNvSpPr/>
          <p:nvPr/>
        </p:nvSpPr>
        <p:spPr>
          <a:xfrm rot="2272200">
            <a:off x="971280" y="191628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Rectangle 58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Oval 59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Text Box 60"/>
          <p:cNvSpPr/>
          <p:nvPr/>
        </p:nvSpPr>
        <p:spPr>
          <a:xfrm>
            <a:off x="6901200" y="3789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Oval 61"/>
          <p:cNvSpPr/>
          <p:nvPr/>
        </p:nvSpPr>
        <p:spPr>
          <a:xfrm rot="21120600">
            <a:off x="3582720" y="3498480"/>
            <a:ext cx="4537080" cy="1584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AutoShape 62"/>
          <p:cNvSpPr/>
          <p:nvPr/>
        </p:nvSpPr>
        <p:spPr>
          <a:xfrm rot="19945200">
            <a:off x="6854400" y="24066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WordArt 63"/>
          <p:cNvSpPr txBox="1"/>
          <p:nvPr/>
        </p:nvSpPr>
        <p:spPr>
          <a:xfrm rot="5400000">
            <a:off x="6885360" y="2915280"/>
            <a:ext cx="113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3" name="Oval 65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Text Box 66"/>
          <p:cNvSpPr/>
          <p:nvPr/>
        </p:nvSpPr>
        <p:spPr>
          <a:xfrm>
            <a:off x="6901200" y="371628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Oval 67"/>
          <p:cNvSpPr/>
          <p:nvPr/>
        </p:nvSpPr>
        <p:spPr>
          <a:xfrm>
            <a:off x="179280" y="2565360"/>
            <a:ext cx="935280" cy="934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Text Box 68"/>
          <p:cNvSpPr/>
          <p:nvPr/>
        </p:nvSpPr>
        <p:spPr>
          <a:xfrm>
            <a:off x="203400" y="2565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AutoShape 6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AutoShape 70"/>
          <p:cNvSpPr/>
          <p:nvPr/>
        </p:nvSpPr>
        <p:spPr>
          <a:xfrm rot="17644200">
            <a:off x="2411280" y="2238120"/>
            <a:ext cx="268200" cy="3167280"/>
          </a:xfrm>
          <a:prstGeom prst="upDownArrow">
            <a:avLst>
              <a:gd name="adj1" fmla="val 50000"/>
              <a:gd name="adj2" fmla="val 235094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AutoShape 71"/>
          <p:cNvSpPr/>
          <p:nvPr/>
        </p:nvSpPr>
        <p:spPr>
          <a:xfrm>
            <a:off x="2484360" y="1484280"/>
            <a:ext cx="2808360" cy="289080"/>
          </a:xfrm>
          <a:prstGeom prst="leftRightArrow">
            <a:avLst>
              <a:gd name="adj1" fmla="val 50000"/>
              <a:gd name="adj2" fmla="val 19339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174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ения работы модели С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6156360" y="1125360"/>
            <a:ext cx="2736720" cy="624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очных формах взаимодейств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156360" y="2205000"/>
            <a:ext cx="22287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Творческая лаборатория учител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6157800" y="5611680"/>
            <a:ext cx="22291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роки школы молодого педагог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6156360" y="3716280"/>
            <a:ext cx="22287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ференции узкопрофильных методических объединен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56360" y="4869000"/>
            <a:ext cx="223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еминары ассоциации творческих учител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97" name="AutoShape 8"/>
          <p:cNvCxnSpPr/>
          <p:nvPr/>
        </p:nvCxnSpPr>
        <p:spPr>
          <a:xfrm>
            <a:off x="8819640" y="1773000"/>
            <a:ext cx="1080" cy="410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8" name="AutoShape 9"/>
          <p:cNvCxnSpPr/>
          <p:nvPr/>
        </p:nvCxnSpPr>
        <p:spPr>
          <a:xfrm flipH="1">
            <a:off x="8388000" y="2421000"/>
            <a:ext cx="448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AutoShape 10"/>
          <p:cNvCxnSpPr/>
          <p:nvPr/>
        </p:nvCxnSpPr>
        <p:spPr>
          <a:xfrm flipH="1">
            <a:off x="8388000" y="414936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1"/>
          <p:cNvCxnSpPr/>
          <p:nvPr/>
        </p:nvCxnSpPr>
        <p:spPr>
          <a:xfrm flipH="1">
            <a:off x="8388000" y="508428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12"/>
          <p:cNvCxnSpPr/>
          <p:nvPr/>
        </p:nvCxnSpPr>
        <p:spPr>
          <a:xfrm flipH="1">
            <a:off x="8388000" y="587664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Rectangle 13"/>
          <p:cNvSpPr/>
          <p:nvPr/>
        </p:nvSpPr>
        <p:spPr>
          <a:xfrm>
            <a:off x="228600" y="11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1258920" y="1197000"/>
            <a:ext cx="3629160" cy="623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истанционных формах  взаимодейств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22200" y="2276640"/>
            <a:ext cx="22287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ый учебный процесс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on-line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роки, виртуальные уро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324000" y="5683320"/>
            <a:ext cx="22287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ые консультац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3490920" y="5084640"/>
            <a:ext cx="2276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влечение родителей в образовательный процес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324000" y="3360600"/>
            <a:ext cx="22287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ая внеурочная рабо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322200" y="4363920"/>
            <a:ext cx="22320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станционная работа по индивидуальным план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3490920" y="4148280"/>
            <a:ext cx="2276640" cy="52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овместная деятельность учащихс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490920" y="3139920"/>
            <a:ext cx="22766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овместная деятельность учител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490920" y="2347920"/>
            <a:ext cx="22986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бобщение педагогического опы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12" name="AutoShape 23"/>
          <p:cNvCxnSpPr/>
          <p:nvPr/>
        </p:nvCxnSpPr>
        <p:spPr>
          <a:xfrm>
            <a:off x="2985840" y="1844640"/>
            <a:ext cx="1080" cy="410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3" name="AutoShape 24"/>
          <p:cNvCxnSpPr/>
          <p:nvPr/>
        </p:nvCxnSpPr>
        <p:spPr>
          <a:xfrm flipH="1">
            <a:off x="2552040" y="2736360"/>
            <a:ext cx="4482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AutoShape 25"/>
          <p:cNvCxnSpPr/>
          <p:nvPr/>
        </p:nvCxnSpPr>
        <p:spPr>
          <a:xfrm>
            <a:off x="2986200" y="263664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AutoShape 26"/>
          <p:cNvCxnSpPr/>
          <p:nvPr/>
        </p:nvCxnSpPr>
        <p:spPr>
          <a:xfrm flipH="1">
            <a:off x="2552040" y="3638160"/>
            <a:ext cx="44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AutoShape 27"/>
          <p:cNvCxnSpPr/>
          <p:nvPr/>
        </p:nvCxnSpPr>
        <p:spPr>
          <a:xfrm>
            <a:off x="2986200" y="342864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AutoShape 28"/>
          <p:cNvCxnSpPr/>
          <p:nvPr/>
        </p:nvCxnSpPr>
        <p:spPr>
          <a:xfrm flipH="1">
            <a:off x="2553840" y="479556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AutoShape 29"/>
          <p:cNvCxnSpPr/>
          <p:nvPr/>
        </p:nvCxnSpPr>
        <p:spPr>
          <a:xfrm>
            <a:off x="2986200" y="443664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AutoShape 30"/>
          <p:cNvCxnSpPr/>
          <p:nvPr/>
        </p:nvCxnSpPr>
        <p:spPr>
          <a:xfrm flipH="1">
            <a:off x="2553840" y="594792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AutoShape 31"/>
          <p:cNvCxnSpPr/>
          <p:nvPr/>
        </p:nvCxnSpPr>
        <p:spPr>
          <a:xfrm>
            <a:off x="2986200" y="5587560"/>
            <a:ext cx="49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Rectangle 32"/>
          <p:cNvSpPr/>
          <p:nvPr/>
        </p:nvSpPr>
        <p:spPr>
          <a:xfrm>
            <a:off x="6156360" y="2997360"/>
            <a:ext cx="222876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Школьная мастерска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22" name="AutoShape 33"/>
          <p:cNvCxnSpPr/>
          <p:nvPr/>
        </p:nvCxnSpPr>
        <p:spPr>
          <a:xfrm flipH="1">
            <a:off x="8388000" y="3212640"/>
            <a:ext cx="4485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Oval 3"/>
          <p:cNvSpPr/>
          <p:nvPr/>
        </p:nvSpPr>
        <p:spPr>
          <a:xfrm>
            <a:off x="2484360" y="2133720"/>
            <a:ext cx="3633840" cy="3705120"/>
          </a:xfrm>
          <a:prstGeom prst="ellipse">
            <a:avLst/>
          </a:prstGeom>
          <a:gradFill rotWithShape="0">
            <a:gsLst>
              <a:gs pos="0">
                <a:srgbClr val="a0b5c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6" name="Group 4"/>
          <p:cNvGrpSpPr/>
          <p:nvPr/>
        </p:nvGrpSpPr>
        <p:grpSpPr>
          <a:xfrm>
            <a:off x="3348000" y="3068640"/>
            <a:ext cx="1852560" cy="1995480"/>
            <a:chOff x="3348000" y="3068640"/>
            <a:chExt cx="1852560" cy="1995480"/>
          </a:xfrm>
        </p:grpSpPr>
        <p:sp>
          <p:nvSpPr>
            <p:cNvPr id="727" name="Oval 5"/>
            <p:cNvSpPr/>
            <p:nvPr/>
          </p:nvSpPr>
          <p:spPr>
            <a:xfrm>
              <a:off x="3348000" y="306864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3559680" y="3101760"/>
              <a:ext cx="1429200" cy="753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29" name="Text Box 7"/>
          <p:cNvSpPr/>
          <p:nvPr/>
        </p:nvSpPr>
        <p:spPr>
          <a:xfrm>
            <a:off x="3420720" y="3068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. окру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30" name="Group 8"/>
          <p:cNvGrpSpPr/>
          <p:nvPr/>
        </p:nvGrpSpPr>
        <p:grpSpPr>
          <a:xfrm>
            <a:off x="3900600" y="1755720"/>
            <a:ext cx="617400" cy="615960"/>
            <a:chOff x="3900600" y="1755720"/>
            <a:chExt cx="617400" cy="615960"/>
          </a:xfrm>
        </p:grpSpPr>
        <p:grpSp>
          <p:nvGrpSpPr>
            <p:cNvPr id="731" name="Group 9"/>
            <p:cNvGrpSpPr/>
            <p:nvPr/>
          </p:nvGrpSpPr>
          <p:grpSpPr>
            <a:xfrm>
              <a:off x="3900600" y="1755720"/>
              <a:ext cx="617400" cy="615960"/>
              <a:chOff x="3900600" y="1755720"/>
              <a:chExt cx="617400" cy="615960"/>
            </a:xfrm>
          </p:grpSpPr>
          <p:sp>
            <p:nvSpPr>
              <p:cNvPr id="732" name="Oval 10"/>
              <p:cNvSpPr/>
              <p:nvPr/>
            </p:nvSpPr>
            <p:spPr>
              <a:xfrm>
                <a:off x="3900600" y="1755720"/>
                <a:ext cx="617400" cy="61596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84f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3" name="Freeform 11"/>
              <p:cNvSpPr/>
              <p:nvPr/>
            </p:nvSpPr>
            <p:spPr>
              <a:xfrm>
                <a:off x="3971160" y="1765800"/>
                <a:ext cx="476280" cy="23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5b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34" name="Text Box 12"/>
            <p:cNvSpPr/>
            <p:nvPr/>
          </p:nvSpPr>
          <p:spPr>
            <a:xfrm>
              <a:off x="4029840" y="1850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35" name="Group 13"/>
          <p:cNvGrpSpPr/>
          <p:nvPr/>
        </p:nvGrpSpPr>
        <p:grpSpPr>
          <a:xfrm>
            <a:off x="3299400" y="4830840"/>
            <a:ext cx="333720" cy="309960"/>
            <a:chOff x="3299400" y="4830840"/>
            <a:chExt cx="333720" cy="309960"/>
          </a:xfrm>
        </p:grpSpPr>
        <p:sp>
          <p:nvSpPr>
            <p:cNvPr id="736" name="Oval 14"/>
            <p:cNvSpPr/>
            <p:nvPr/>
          </p:nvSpPr>
          <p:spPr>
            <a:xfrm rot="18226800">
              <a:off x="3323520" y="4993200"/>
              <a:ext cx="122400" cy="1242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7" name="Oval 15"/>
            <p:cNvSpPr/>
            <p:nvPr/>
          </p:nvSpPr>
          <p:spPr>
            <a:xfrm rot="18226800">
              <a:off x="3486960" y="4854240"/>
              <a:ext cx="122400" cy="12276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6b79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38" name="Group 16"/>
          <p:cNvGrpSpPr/>
          <p:nvPr/>
        </p:nvGrpSpPr>
        <p:grpSpPr>
          <a:xfrm>
            <a:off x="2733840" y="5100480"/>
            <a:ext cx="617400" cy="642960"/>
            <a:chOff x="2733840" y="5100480"/>
            <a:chExt cx="617400" cy="642960"/>
          </a:xfrm>
        </p:grpSpPr>
        <p:grpSp>
          <p:nvGrpSpPr>
            <p:cNvPr id="739" name="Group 17"/>
            <p:cNvGrpSpPr/>
            <p:nvPr/>
          </p:nvGrpSpPr>
          <p:grpSpPr>
            <a:xfrm>
              <a:off x="2733840" y="5100480"/>
              <a:ext cx="617400" cy="642960"/>
              <a:chOff x="2733840" y="5100480"/>
              <a:chExt cx="617400" cy="642960"/>
            </a:xfrm>
          </p:grpSpPr>
          <p:sp>
            <p:nvSpPr>
              <p:cNvPr id="740" name="Oval 18"/>
              <p:cNvSpPr/>
              <p:nvPr/>
            </p:nvSpPr>
            <p:spPr>
              <a:xfrm>
                <a:off x="2733840" y="5100480"/>
                <a:ext cx="617400" cy="64296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272c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1" name="Freeform 19"/>
              <p:cNvSpPr/>
              <p:nvPr/>
            </p:nvSpPr>
            <p:spPr>
              <a:xfrm>
                <a:off x="2804400" y="5110920"/>
                <a:ext cx="476280" cy="24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b5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42" name="Text Box 20"/>
            <p:cNvSpPr/>
            <p:nvPr/>
          </p:nvSpPr>
          <p:spPr>
            <a:xfrm>
              <a:off x="2856960" y="52210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43" name="Group 21"/>
          <p:cNvGrpSpPr/>
          <p:nvPr/>
        </p:nvGrpSpPr>
        <p:grpSpPr>
          <a:xfrm>
            <a:off x="5754600" y="3038400"/>
            <a:ext cx="614520" cy="649440"/>
            <a:chOff x="5754600" y="3038400"/>
            <a:chExt cx="614520" cy="649440"/>
          </a:xfrm>
        </p:grpSpPr>
        <p:grpSp>
          <p:nvGrpSpPr>
            <p:cNvPr id="744" name="Group 22"/>
            <p:cNvGrpSpPr/>
            <p:nvPr/>
          </p:nvGrpSpPr>
          <p:grpSpPr>
            <a:xfrm>
              <a:off x="5754600" y="3038400"/>
              <a:ext cx="614520" cy="649440"/>
              <a:chOff x="5754600" y="3038400"/>
              <a:chExt cx="614520" cy="649440"/>
            </a:xfrm>
          </p:grpSpPr>
          <p:sp>
            <p:nvSpPr>
              <p:cNvPr id="745" name="Oval 23"/>
              <p:cNvSpPr/>
              <p:nvPr/>
            </p:nvSpPr>
            <p:spPr>
              <a:xfrm>
                <a:off x="5754600" y="3038400"/>
                <a:ext cx="614520" cy="649440"/>
              </a:xfrm>
              <a:prstGeom prst="ellipse">
                <a:avLst/>
              </a:prstGeom>
              <a:gradFill rotWithShape="0">
                <a:gsLst>
                  <a:gs pos="0">
                    <a:srgbClr val="4c59d2"/>
                  </a:gs>
                  <a:gs pos="100000">
                    <a:srgbClr val="989f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6" name="Freeform 24"/>
              <p:cNvSpPr/>
              <p:nvPr/>
            </p:nvSpPr>
            <p:spPr>
              <a:xfrm>
                <a:off x="5824800" y="3048840"/>
                <a:ext cx="474120" cy="245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59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47" name="Text Box 25"/>
            <p:cNvSpPr/>
            <p:nvPr/>
          </p:nvSpPr>
          <p:spPr>
            <a:xfrm>
              <a:off x="5866200" y="31276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48" name="Group 26"/>
          <p:cNvGrpSpPr/>
          <p:nvPr/>
        </p:nvGrpSpPr>
        <p:grpSpPr>
          <a:xfrm>
            <a:off x="5203800" y="5105520"/>
            <a:ext cx="587520" cy="582480"/>
            <a:chOff x="5203800" y="5105520"/>
            <a:chExt cx="587520" cy="582480"/>
          </a:xfrm>
        </p:grpSpPr>
        <p:grpSp>
          <p:nvGrpSpPr>
            <p:cNvPr id="749" name="Group 27"/>
            <p:cNvGrpSpPr/>
            <p:nvPr/>
          </p:nvGrpSpPr>
          <p:grpSpPr>
            <a:xfrm>
              <a:off x="5203800" y="5105520"/>
              <a:ext cx="587520" cy="582480"/>
              <a:chOff x="5203800" y="5105520"/>
              <a:chExt cx="587520" cy="582480"/>
            </a:xfrm>
          </p:grpSpPr>
          <p:sp>
            <p:nvSpPr>
              <p:cNvPr id="750" name="Oval 28"/>
              <p:cNvSpPr/>
              <p:nvPr/>
            </p:nvSpPr>
            <p:spPr>
              <a:xfrm>
                <a:off x="5203800" y="5105520"/>
                <a:ext cx="587520" cy="582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1" name="Freeform 29"/>
              <p:cNvSpPr/>
              <p:nvPr/>
            </p:nvSpPr>
            <p:spPr>
              <a:xfrm>
                <a:off x="5270760" y="5114880"/>
                <a:ext cx="453240" cy="219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52" name="Text Box 30"/>
            <p:cNvSpPr/>
            <p:nvPr/>
          </p:nvSpPr>
          <p:spPr>
            <a:xfrm>
              <a:off x="5321160" y="5136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53" name="Group 31"/>
          <p:cNvGrpSpPr/>
          <p:nvPr/>
        </p:nvGrpSpPr>
        <p:grpSpPr>
          <a:xfrm>
            <a:off x="2254320" y="3038400"/>
            <a:ext cx="617400" cy="641520"/>
            <a:chOff x="2254320" y="3038400"/>
            <a:chExt cx="617400" cy="641520"/>
          </a:xfrm>
        </p:grpSpPr>
        <p:grpSp>
          <p:nvGrpSpPr>
            <p:cNvPr id="754" name="Group 32"/>
            <p:cNvGrpSpPr/>
            <p:nvPr/>
          </p:nvGrpSpPr>
          <p:grpSpPr>
            <a:xfrm>
              <a:off x="2254320" y="3038400"/>
              <a:ext cx="617400" cy="641520"/>
              <a:chOff x="2254320" y="3038400"/>
              <a:chExt cx="617400" cy="641520"/>
            </a:xfrm>
          </p:grpSpPr>
          <p:sp>
            <p:nvSpPr>
              <p:cNvPr id="755" name="Oval 33"/>
              <p:cNvSpPr/>
              <p:nvPr/>
            </p:nvSpPr>
            <p:spPr>
              <a:xfrm>
                <a:off x="2254320" y="3038400"/>
                <a:ext cx="617400" cy="6415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53e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6" name="Freeform 34"/>
              <p:cNvSpPr/>
              <p:nvPr/>
            </p:nvSpPr>
            <p:spPr>
              <a:xfrm>
                <a:off x="2324880" y="3048840"/>
                <a:ext cx="476280" cy="2419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e8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757" name="Text Box 35"/>
            <p:cNvSpPr/>
            <p:nvPr/>
          </p:nvSpPr>
          <p:spPr>
            <a:xfrm>
              <a:off x="2379960" y="31096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58" name="Oval 36"/>
          <p:cNvSpPr/>
          <p:nvPr/>
        </p:nvSpPr>
        <p:spPr>
          <a:xfrm rot="18226800">
            <a:off x="5135400" y="4960440"/>
            <a:ext cx="122040" cy="12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Oval 37"/>
          <p:cNvSpPr/>
          <p:nvPr/>
        </p:nvSpPr>
        <p:spPr>
          <a:xfrm rot="18226800">
            <a:off x="4998960" y="4818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WordArt 38"/>
          <p:cNvSpPr txBox="1"/>
          <p:nvPr/>
        </p:nvSpPr>
        <p:spPr>
          <a:xfrm rot="19416000">
            <a:off x="2962440" y="2676600"/>
            <a:ext cx="2706480" cy="26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овательный  округ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761" name="Group 39"/>
          <p:cNvGrpSpPr/>
          <p:nvPr/>
        </p:nvGrpSpPr>
        <p:grpSpPr>
          <a:xfrm>
            <a:off x="2917440" y="3442320"/>
            <a:ext cx="375480" cy="240120"/>
            <a:chOff x="2917440" y="3442320"/>
            <a:chExt cx="375480" cy="240120"/>
          </a:xfrm>
        </p:grpSpPr>
        <p:sp>
          <p:nvSpPr>
            <p:cNvPr id="762" name="Oval 40"/>
            <p:cNvSpPr/>
            <p:nvPr/>
          </p:nvSpPr>
          <p:spPr>
            <a:xfrm rot="18226800">
              <a:off x="2942280" y="3464280"/>
              <a:ext cx="119880" cy="12456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804e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3" name="Oval 41"/>
            <p:cNvSpPr/>
            <p:nvPr/>
          </p:nvSpPr>
          <p:spPr>
            <a:xfrm rot="18226800">
              <a:off x="3148560" y="3536640"/>
              <a:ext cx="119880" cy="1231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c42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64" name="Group 42"/>
          <p:cNvGrpSpPr/>
          <p:nvPr/>
        </p:nvGrpSpPr>
        <p:grpSpPr>
          <a:xfrm>
            <a:off x="4151520" y="2485800"/>
            <a:ext cx="171720" cy="433080"/>
            <a:chOff x="4151520" y="2485800"/>
            <a:chExt cx="171720" cy="433080"/>
          </a:xfrm>
        </p:grpSpPr>
        <p:sp>
          <p:nvSpPr>
            <p:cNvPr id="765" name="Oval 43"/>
            <p:cNvSpPr/>
            <p:nvPr/>
          </p:nvSpPr>
          <p:spPr>
            <a:xfrm rot="18226800">
              <a:off x="4176000" y="2508840"/>
              <a:ext cx="12276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3c55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6" name="Oval 44"/>
            <p:cNvSpPr/>
            <p:nvPr/>
          </p:nvSpPr>
          <p:spPr>
            <a:xfrm rot="18226800">
              <a:off x="4175640" y="2771280"/>
              <a:ext cx="123120" cy="12384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415a2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7" name="Oval 45"/>
          <p:cNvSpPr/>
          <p:nvPr/>
        </p:nvSpPr>
        <p:spPr>
          <a:xfrm rot="18226800">
            <a:off x="5495760" y="3490920"/>
            <a:ext cx="122400" cy="12528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Oval 46"/>
          <p:cNvSpPr/>
          <p:nvPr/>
        </p:nvSpPr>
        <p:spPr>
          <a:xfrm rot="18226800">
            <a:off x="5272920" y="3607560"/>
            <a:ext cx="122400" cy="123840"/>
          </a:xfrm>
          <a:prstGeom prst="ellipse">
            <a:avLst/>
          </a:prstGeom>
          <a:gradFill rotWithShape="0">
            <a:gsLst>
              <a:gs pos="0">
                <a:srgbClr val="7881dd"/>
              </a:gs>
              <a:gs pos="100000">
                <a:srgbClr val="4c59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539640" y="321300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3351240" y="1413000"/>
            <a:ext cx="171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900000" y="530064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5819760" y="5319720"/>
            <a:ext cx="171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73" name="Group 51"/>
          <p:cNvGrpSpPr/>
          <p:nvPr/>
        </p:nvGrpSpPr>
        <p:grpSpPr>
          <a:xfrm>
            <a:off x="3780000" y="4005360"/>
            <a:ext cx="934920" cy="969840"/>
            <a:chOff x="3780000" y="4005360"/>
            <a:chExt cx="934920" cy="969840"/>
          </a:xfrm>
        </p:grpSpPr>
        <p:sp>
          <p:nvSpPr>
            <p:cNvPr id="774" name="Oval 52"/>
            <p:cNvSpPr/>
            <p:nvPr/>
          </p:nvSpPr>
          <p:spPr>
            <a:xfrm>
              <a:off x="3780000" y="400536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Text Box 53"/>
            <p:cNvSpPr/>
            <p:nvPr/>
          </p:nvSpPr>
          <p:spPr>
            <a:xfrm>
              <a:off x="3875400" y="4149720"/>
              <a:ext cx="79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ЦС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6" name="Text Box 54"/>
          <p:cNvSpPr/>
          <p:nvPr/>
        </p:nvSpPr>
        <p:spPr>
          <a:xfrm>
            <a:off x="5219640" y="981000"/>
            <a:ext cx="331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коменд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остановления,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оряжения, письм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AutoShape 55"/>
          <p:cNvSpPr/>
          <p:nvPr/>
        </p:nvSpPr>
        <p:spPr>
          <a:xfrm rot="2268600">
            <a:off x="4932360" y="1699920"/>
            <a:ext cx="254160" cy="1727280"/>
          </a:xfrm>
          <a:prstGeom prst="downArrow">
            <a:avLst>
              <a:gd name="adj1" fmla="val 50000"/>
              <a:gd name="adj2" fmla="val 169901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Rectangle 56"/>
          <p:cNvSpPr/>
          <p:nvPr/>
        </p:nvSpPr>
        <p:spPr>
          <a:xfrm>
            <a:off x="250920" y="1197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комендации (постановления,  распоряжения, письм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AutoShape 57"/>
          <p:cNvSpPr/>
          <p:nvPr/>
        </p:nvSpPr>
        <p:spPr>
          <a:xfrm rot="2272200">
            <a:off x="971280" y="191628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58"/>
          <p:cNvSpPr/>
          <p:nvPr/>
        </p:nvSpPr>
        <p:spPr>
          <a:xfrm>
            <a:off x="0" y="378936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зидент (указы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тельство РФ (постановления, распоря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нистерство образования и науки (приказ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Text Box 60"/>
          <p:cNvSpPr/>
          <p:nvPr/>
        </p:nvSpPr>
        <p:spPr>
          <a:xfrm>
            <a:off x="6901200" y="3789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Oval 61"/>
          <p:cNvSpPr/>
          <p:nvPr/>
        </p:nvSpPr>
        <p:spPr>
          <a:xfrm rot="21120600">
            <a:off x="3582720" y="3498480"/>
            <a:ext cx="4537080" cy="1584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AutoShape 62"/>
          <p:cNvSpPr/>
          <p:nvPr/>
        </p:nvSpPr>
        <p:spPr>
          <a:xfrm rot="19945200">
            <a:off x="6854400" y="24066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WordArt 63"/>
          <p:cNvSpPr txBox="1"/>
          <p:nvPr/>
        </p:nvSpPr>
        <p:spPr>
          <a:xfrm rot="5400000">
            <a:off x="6885360" y="2915280"/>
            <a:ext cx="113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6877080" y="3573360"/>
            <a:ext cx="934920" cy="9352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Text Box 66"/>
          <p:cNvSpPr/>
          <p:nvPr/>
        </p:nvSpPr>
        <p:spPr>
          <a:xfrm>
            <a:off x="6901200" y="371628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179280" y="2565360"/>
            <a:ext cx="935280" cy="934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03400" y="2565360"/>
            <a:ext cx="9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нт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AutoShape 69"/>
          <p:cNvSpPr/>
          <p:nvPr/>
        </p:nvSpPr>
        <p:spPr>
          <a:xfrm>
            <a:off x="4140360" y="3789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AutoShape 70"/>
          <p:cNvSpPr/>
          <p:nvPr/>
        </p:nvSpPr>
        <p:spPr>
          <a:xfrm rot="17644200">
            <a:off x="2411280" y="2238120"/>
            <a:ext cx="268200" cy="3167280"/>
          </a:xfrm>
          <a:prstGeom prst="upDownArrow">
            <a:avLst>
              <a:gd name="adj1" fmla="val 50000"/>
              <a:gd name="adj2" fmla="val 235094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AutoShape 71"/>
          <p:cNvSpPr/>
          <p:nvPr/>
        </p:nvSpPr>
        <p:spPr>
          <a:xfrm>
            <a:off x="2484360" y="1484280"/>
            <a:ext cx="2808360" cy="289080"/>
          </a:xfrm>
          <a:prstGeom prst="leftRightArrow">
            <a:avLst>
              <a:gd name="adj1" fmla="val 50000"/>
              <a:gd name="adj2" fmla="val 19339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модели сетевого взаимодейств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оздать равные возможности МОУ для использования ресурсов сети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еспечить доступность образовательных услуг для обучающихся через сетевое взаимодействие ОУ средствами ИКТ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чи модели сетевого взаимодейств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меньшить расходы на образовательный процесс малокомплектных школ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зработать и систематизировать научно-методическое сопровождение сетевого взаимодействия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ривлечь общественность в управление деятельностью сетевого взаимодействия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ценка ресурсного обеспечения модели сетевого взаимодейств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ормативно-правов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ционно-коммуникацион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атериально-техн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кадрово-образовательное,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финансово-экономическое,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тивно-правов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ТРЕБУЕТСЯ РАЗРАБОТАТЬ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о взаимодействии между базовой школой и сетевыми школами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утвержденное штатное расписание базовой школы в отношении сетевых специалистов в базовой школе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сетевых школ с сетевыми учителями базовой школы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лжностные инструкции педагогических и руководящих кадров, участвующих в организации  обучения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локальный акт «Изменения в Положение об оплате труда базовой школы» (с учетом стимулирующих выплат в отношении сетевых специалистов)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ложения: о дистанционном ресурсном центре, о стажировочной площадке, о школе молодого педагога, об ассоциации творческих педагогов, об использовании МТБ базовой школы, о Координационном совете ОО,  о порядке взаимодействия дистанционного ресурсного центра с МОУ и с советом ОО,  о сетевой методической службе, и другие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тивно-правов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ТРЕБУЕТСЯ РАЗРАБОТАТЬ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о взаимодействии между базовой школой и сетевыми школами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утвержденное штатное расписание базовой школы в отношении сетевых специалистов в базовой школе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говор сетевых школ с сетевыми учителями базовой школы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олжностные инструкции педагогических и руководящих кадров, участвующих в организации  обучения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локальный акт «Изменения в Положение об оплате труда базовой школы» (с учетом стимулирующих выплат в отношении сетевых специалистов),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ложения: о дистанционном ресурсном центре, о стажировочной площадке, о школе молодого педагога, об ассоциации творческих педагогов, об использовании МТБ базовой школы, о Координационном совете ОО,  о порядке взаимодействия дистанционного ресурсного центра с МОУ и с советом ОО,  о сетевой методической службе, и другие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имптомы пробл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Group 67"/>
          <p:cNvGrpSpPr/>
          <p:nvPr/>
        </p:nvGrpSpPr>
        <p:grpSpPr>
          <a:xfrm>
            <a:off x="1692360" y="1844640"/>
            <a:ext cx="4723920" cy="1029960"/>
            <a:chOff x="1692360" y="1844640"/>
            <a:chExt cx="4723920" cy="1029960"/>
          </a:xfrm>
        </p:grpSpPr>
        <p:sp>
          <p:nvSpPr>
            <p:cNvPr id="126" name="AutoShape 47"/>
            <p:cNvSpPr/>
            <p:nvPr/>
          </p:nvSpPr>
          <p:spPr>
            <a:xfrm>
              <a:off x="2073240" y="2023920"/>
              <a:ext cx="434304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AutoShape 48"/>
            <p:cNvSpPr/>
            <p:nvPr/>
          </p:nvSpPr>
          <p:spPr>
            <a:xfrm>
              <a:off x="1692360" y="1844640"/>
              <a:ext cx="685440" cy="102996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49"/>
            <p:cNvSpPr/>
            <p:nvPr/>
          </p:nvSpPr>
          <p:spPr>
            <a:xfrm>
              <a:off x="2555640" y="2062080"/>
              <a:ext cx="36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переход детей в другие школы, в т.ч. городские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Text Box 50"/>
            <p:cNvSpPr/>
            <p:nvPr/>
          </p:nvSpPr>
          <p:spPr>
            <a:xfrm>
              <a:off x="1847880" y="199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0" name="Group 66"/>
          <p:cNvGrpSpPr/>
          <p:nvPr/>
        </p:nvGrpSpPr>
        <p:grpSpPr>
          <a:xfrm>
            <a:off x="1692360" y="3716280"/>
            <a:ext cx="4723920" cy="1006200"/>
            <a:chOff x="1692360" y="3716280"/>
            <a:chExt cx="4723920" cy="1006200"/>
          </a:xfrm>
        </p:grpSpPr>
        <p:sp>
          <p:nvSpPr>
            <p:cNvPr id="131" name="AutoShape 52"/>
            <p:cNvSpPr/>
            <p:nvPr/>
          </p:nvSpPr>
          <p:spPr>
            <a:xfrm>
              <a:off x="2073240" y="3890880"/>
              <a:ext cx="4343040" cy="670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AutoShape 53"/>
            <p:cNvSpPr/>
            <p:nvPr/>
          </p:nvSpPr>
          <p:spPr>
            <a:xfrm>
              <a:off x="1692360" y="3716280"/>
              <a:ext cx="685440" cy="10062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Text Box 54"/>
            <p:cNvSpPr/>
            <p:nvPr/>
          </p:nvSpPr>
          <p:spPr>
            <a:xfrm>
              <a:off x="2555640" y="392796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снижение успеваемости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Text Box 55"/>
            <p:cNvSpPr/>
            <p:nvPr/>
          </p:nvSpPr>
          <p:spPr>
            <a:xfrm>
              <a:off x="1847880" y="386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коммуникационные ресурс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одготовка тьюторов; 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азработка образовательных программ и проектов;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ализация проектов;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информационно-методическое сопровождение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0760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В  качестве механизмов взаимодействия по обмену опытом выступают узкопрофильные методические объединения, сетевые семинары, виртуальные уроки, практикумы, конференции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Объединенные образовательные, информационно-коммуникационные, воспитательные ресурсы способствуют успешной социализации школьников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етевые проекты, конкурсы, олимпиады, соревнования создают условия для организации социально значимых видов деятельности школьников, развития их предметной, коммуникативной компетенции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За счет сетевого взаимодействия внутри округа учащиеся приобретают возможность получить расширенный спектр образовательных услуг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коммуникационные ресурс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риально – технические ресур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РОДОЛЖИТЬ РАБОТУ В НАПРАВЛЕНИИ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орудование кабинетов начальных классов, узкопрофильных кабинетов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ерепрофилирование школьных библиотек в информационно-библиотечные центры с соответствующим оборудованием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532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дрово-образовательны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едагог округа, в том числе из малокомплектной школы, становится с одной стороны уникальным ресурсом сети, с другой - имеет возможность развивать свою профессиональную компетенцию за счет общих ресурсов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силить ведущие направления функционирования ресурсной центра через создание структурных подразделений: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службы сопровождения личностного развития  учащихся,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информационно-ресурсного центра,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координационного совета,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- творческих групп учителей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461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нансово-экономические ресур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Источники финансирования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оптимизация и перепрофилирование на ДО методических служб при районных отделах образования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добровольные пожертвования, доходы от платных образовательных услуг и иных, предусмотренных законодательством РФ, источников (участие в Федеральных, региональных целевых программах,  грантовой поддержки), доходы на основе государственно-частного партнерства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асходование бюджетных средств: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развитие материально-технического оснащения ресурсного центра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повышение квалификации сетевых учителей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заработная плата работников сети: координатор, методисты,  программист;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асходование внебюджетных средств: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- стимулирование учителей и других работников сети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апы реализации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Этап 1: подготовительный (январь-август 2012 года)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. Выбор варианта сетевого взаимодействия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.1. Создание рабочей группы и назначение координатора в зависимости от варианта сетевого взаимодействия на базовой   школе (РМК) при Отделе образования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2. Мониторинг потребностей ОУ в сетевом взаимодействие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2.1. Выявление необходимого материального технического обеспечения и составление сметы проекта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3. Разработка нормативно-правовой базы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4. Изучение опыта работы в рамках организации сетевого взаимодействия (дистанционного обучения) по внеурочной деятельности.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5. Согласование проекта с Главой администрация района (ГОУ)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6. Шаг 1.3.(доработать)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7.  Повышение квалификации педагогических кадров проекта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8. Распределение функциональных обязанностей среди школ участников проекта (конкретизация деятельности каждого участника проекта)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9. Составление учебного плана, графика работы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9.1. Составление расписания внеурочной деятельности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0. Составление перечня основных образовательных услуг и организация деятельности по их оказанию (в соотв. с п.1.2.)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1.11. Согласование расписания внеурочной работы со всеми ОУ, и учебного плана.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Этапы реализации проек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продолжени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Этап 2: Основной (сентябрь 2012 года - май 2013 года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1. Проведение уроков с помощью дистанционного обучени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2. Проведение различных мероприятий: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«Мастер классов», вебинаров, ярмарки педагогических идей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3. Проведение различных мероприятий по внеурочной деятельности: проекты, конкурсы, олимпиады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4. Промежуточная экспертиза в ходе реализации проекта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5. Методическое сопровождение проекта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4. Корректировка работы по реализации проекта с учетом  возникающих проблем при проявлении интереса (в расширении рамок проекта)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2.5. Размещение информации о ходе реализации  проекта в СМИ, на информационных стендах, сайте сетевого взаимодействи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Этапы реализации проек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продолжени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Этап 3: Заключительный этап (июнь 2013года)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1. Анализ итогового мониторинга учебного процесса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2. Внешняя оценка реализации проекта со стороны совета ГОУ, учредителей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3. Разработка  рекомендаций по совершенствованию работы сетевого взаимодействия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жидаемые результа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Обеспечение доступности качественных образовательных услуг во всех образовательных учреждениях округа на основе сетевого взаимодействи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Создание банка образовательных услуг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Организация научно-методического сопровождения педагогов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ешение проблемы дефицита высококвалифицированных педагогических кадров в школах образовательного округа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редоставление возможности получения недоступных иным способом образовательных услуг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вышение результативности участия в олимпиадах различного уровн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Развитие творческой инициативы и организация интеллектуального досуга учащихся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Формирование набора ключевых компетенций у учащихся в интеллектуальной, общественно-политической, коммуникационной и информационных сферах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Повысится качество подготовки молодых специалистов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гулирование форс-мажорных обстоятель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457200" y="1076400"/>
          <a:ext cx="8229600" cy="50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иск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инимизация риск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есоответствие нормативно-правового пространства как на муниципальном, так и на региональном уровне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оздание специального нормативного правового пространства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имеющиеся в распоряжении округа ресурсы могут использоваться неоптимально и неэффективно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активное внедрение  инновационных производственных, образовательных  и иных технологий с привлечением ГОУ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жидаемый результ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692360" y="1844640"/>
            <a:ext cx="4723920" cy="1029960"/>
            <a:chOff x="1692360" y="1844640"/>
            <a:chExt cx="4723920" cy="1029960"/>
          </a:xfrm>
        </p:grpSpPr>
        <p:sp>
          <p:nvSpPr>
            <p:cNvPr id="139" name="AutoShape 5"/>
            <p:cNvSpPr/>
            <p:nvPr/>
          </p:nvSpPr>
          <p:spPr>
            <a:xfrm>
              <a:off x="2073240" y="2023920"/>
              <a:ext cx="434304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6"/>
            <p:cNvSpPr/>
            <p:nvPr/>
          </p:nvSpPr>
          <p:spPr>
            <a:xfrm>
              <a:off x="1692360" y="1844640"/>
              <a:ext cx="685440" cy="102996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2555640" y="2062080"/>
              <a:ext cx="36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сохранение контингента учащихся в школе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1847880" y="199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1692360" y="3716280"/>
            <a:ext cx="4751280" cy="1225440"/>
            <a:chOff x="1692360" y="3716280"/>
            <a:chExt cx="4751280" cy="1225440"/>
          </a:xfrm>
        </p:grpSpPr>
        <p:sp>
          <p:nvSpPr>
            <p:cNvPr id="144" name="AutoShape 10"/>
            <p:cNvSpPr/>
            <p:nvPr/>
          </p:nvSpPr>
          <p:spPr>
            <a:xfrm>
              <a:off x="2050920" y="3860640"/>
              <a:ext cx="434340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11"/>
            <p:cNvSpPr/>
            <p:nvPr/>
          </p:nvSpPr>
          <p:spPr>
            <a:xfrm>
              <a:off x="1692360" y="3716280"/>
              <a:ext cx="685800" cy="100656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2556000" y="3927600"/>
              <a:ext cx="38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положительная динамика успеваемости на всех ступенях обучения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848240" y="38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5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гулирование форс-мажорных обстоятель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57200" y="1076400"/>
          <a:ext cx="8229600" cy="50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ис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инимизация риск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недопонимание остроты проблемы неравного доступа к качественному образованию учащихся сельских школ, части их родителей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проведение разъяснительной работы через родительские собрания, консультации с родителями, информацию в СМИ, информационно-коммуникационные ресурсы школы и модели сетевого взаимодействи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технологическая неготовность части педагогов  сетевых школ к работе с обучающимися в дистанционном режиме (корректировка учебных планов и рабочих программ, УМК учителей образовательного  округа).создание методического объединения под руководством опытного сетевого методист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технологическая неготовность части педагогов  сетевых школ к работе с обучающимися в дистанционном режиме (корректировка учебных планов и рабочих программ, УМК учителей образовательного  округа).создание методического объединения под руководством опытного сетевого методист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атрица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W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Нижний колонтитул 2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24000" y="1397160"/>
          <a:ext cx="8351640" cy="529092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311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Возможност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1. Заинтересованность министерства образования в ……………………………………..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Формирование в рамках ГОУ социального партнерства и координация действий стейкхолдеров.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Консолидация ресурсов и направление их повышение качества образования.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Расширение, разнообразие и повышение качества внеурочной работы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. Возможность получения грантов, участия в  региональных и федеральных программа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5. Возможность стимулирования учителей, активно участвующих в проекте, из разных источник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. Вовлечение семьи во внеурочный процесс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7. Привлечение спонсор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Угроз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Недоверие и отказ педагогов от участия в сетевом взаимодействи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Небольшое количество заинтересованных ученик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 Недопонимание со стороны части родителей значимости создания сетевого сообще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Сильные сторон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Наличие в округе ресурсных центров, которые могут стать сетевым центром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Экономия ресурсов за счет оптимизации расход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Выравнивание доступности в получении качественного образования учеников малокомплектных школ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Улучшение профориентационной работы и профильного обуч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3366"/>
                          </a:solidFill>
                          <a:uFillTx/>
                          <a:latin typeface="Calibri"/>
                          <a:ea typeface="Calibri"/>
                        </a:rPr>
                        <a:t>Слабые сторон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1. Недостаточный уровень материально-технической базы ряда школ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2. Недостаточный уровень учителей информатики для сопровождения проек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3. Отсутствие опыта реализации проектов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4.  Не сформирована нормативно-правовая база организации сетевого взаимодейств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Нижний колонтитул 3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спективные направл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46" name="Group 18"/>
          <p:cNvGrpSpPr/>
          <p:nvPr/>
        </p:nvGrpSpPr>
        <p:grpSpPr>
          <a:xfrm>
            <a:off x="938520" y="1005120"/>
            <a:ext cx="7233840" cy="5149080"/>
            <a:chOff x="938520" y="1005120"/>
            <a:chExt cx="7233840" cy="5149080"/>
          </a:xfrm>
        </p:grpSpPr>
        <p:sp>
          <p:nvSpPr>
            <p:cNvPr id="847" name="Freeform 19"/>
            <p:cNvSpPr/>
            <p:nvPr/>
          </p:nvSpPr>
          <p:spPr>
            <a:xfrm rot="20805000">
              <a:off x="4424400" y="27385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Freeform 20"/>
            <p:cNvSpPr/>
            <p:nvPr/>
          </p:nvSpPr>
          <p:spPr>
            <a:xfrm rot="5461200">
              <a:off x="2630160" y="22906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Freeform 21"/>
            <p:cNvSpPr/>
            <p:nvPr/>
          </p:nvSpPr>
          <p:spPr>
            <a:xfrm rot="14128200">
              <a:off x="4480560" y="76068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50" name="Group 22"/>
            <p:cNvGrpSpPr/>
            <p:nvPr/>
          </p:nvGrpSpPr>
          <p:grpSpPr>
            <a:xfrm>
              <a:off x="1456560" y="1510560"/>
              <a:ext cx="5481000" cy="4643640"/>
              <a:chOff x="1456560" y="1510560"/>
              <a:chExt cx="5481000" cy="4643640"/>
            </a:xfrm>
          </p:grpSpPr>
          <p:sp>
            <p:nvSpPr>
              <p:cNvPr id="851" name="Freeform 23"/>
              <p:cNvSpPr/>
              <p:nvPr/>
            </p:nvSpPr>
            <p:spPr>
              <a:xfrm>
                <a:off x="4226760" y="283824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2" name="Freeform 24"/>
              <p:cNvSpPr/>
              <p:nvPr/>
            </p:nvSpPr>
            <p:spPr>
              <a:xfrm rot="6256200">
                <a:off x="2630160" y="213768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3" name="Freeform 25"/>
              <p:cNvSpPr/>
              <p:nvPr/>
            </p:nvSpPr>
            <p:spPr>
              <a:xfrm rot="14922600">
                <a:off x="4608000" y="99000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854" name="Group 26"/>
            <p:cNvGrpSpPr/>
            <p:nvPr/>
          </p:nvGrpSpPr>
          <p:grpSpPr>
            <a:xfrm>
              <a:off x="3716280" y="2801880"/>
              <a:ext cx="1339920" cy="1338120"/>
              <a:chOff x="3716280" y="2801880"/>
              <a:chExt cx="1339920" cy="1338120"/>
            </a:xfrm>
          </p:grpSpPr>
          <p:sp>
            <p:nvSpPr>
              <p:cNvPr id="855" name="Oval 27"/>
              <p:cNvSpPr/>
              <p:nvPr/>
            </p:nvSpPr>
            <p:spPr>
              <a:xfrm>
                <a:off x="3716280" y="280188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6" name="Freeform 28"/>
              <p:cNvSpPr/>
              <p:nvPr/>
            </p:nvSpPr>
            <p:spPr>
              <a:xfrm>
                <a:off x="3869280" y="282384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857" name="Text Box 29"/>
            <p:cNvSpPr/>
            <p:nvPr/>
          </p:nvSpPr>
          <p:spPr>
            <a:xfrm>
              <a:off x="3955680" y="329256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С В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Text Box 30"/>
            <p:cNvSpPr/>
            <p:nvPr/>
          </p:nvSpPr>
          <p:spPr>
            <a:xfrm>
              <a:off x="938520" y="2992320"/>
              <a:ext cx="2667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Развитие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коммуникационного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процесса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в различных формах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Text Box 31"/>
            <p:cNvSpPr/>
            <p:nvPr/>
          </p:nvSpPr>
          <p:spPr>
            <a:xfrm>
              <a:off x="4996800" y="2189160"/>
              <a:ext cx="317556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Реализация педагогически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обоснованного творческого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потенциала педагога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Text Box 32"/>
            <p:cNvSpPr/>
            <p:nvPr/>
          </p:nvSpPr>
          <p:spPr>
            <a:xfrm>
              <a:off x="1818360" y="4714920"/>
              <a:ext cx="331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Систематизация работы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по развитию одарённости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Arial"/>
                </a:rPr>
                <a:t>детей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оздать модель сетевого взаимодействия ОУ средствами ИКТ, направленное на обеспечение доступности качественного образования, и с учётом возможности государственно-общественного управления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и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ыявить причины, препятствующих повышению качества  и доступности образовательных услуг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ценить ресурсное обеспечение образовательных учреждений для создания модели;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пределить ресурсы образовательного округа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Найти способы эффективного использования ресурсов образовательного учреждения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Разработать модель сетевого взаимодействия МОУ в образовательном округе и  её обоснование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ценить ресурсы на реализацию модели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пределить этапы реализации проекта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Составить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SWOT-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анализ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лем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шаемые при помощи мод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30908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сутствие равных возможностей к получению качественного образования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возможность расширенного изучения отдельных предметов увлеченными учащимися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вынужденная приостановка учебного процесса из-за экстремальных погодных условий, эпидемий, болезней учащихся и педагогов;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4"/>
          <p:cNvSpPr/>
          <p:nvPr/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7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лем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шаемые при помощи мод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229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едостаточность информации об уникальных/эффективных методиках преподавания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евозможность создания узкопрофильных метод. объединений;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есформированность педагогических компетенций у молодых специалистов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2:17:22Z</dcterms:created>
  <dc:creator>Барышева</dc:creator>
  <dc:description/>
  <dc:language>en-US</dc:language>
  <cp:lastModifiedBy>User</cp:lastModifiedBy>
  <dcterms:modified xsi:type="dcterms:W3CDTF">2012-04-04T08:57:23Z</dcterms:modified>
  <cp:revision>58</cp:revision>
  <dc:subject/>
  <dc:title>Слайд 1</dc:title>
</cp:coreProperties>
</file>