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8B5-A6DB-46BB-A01E-10E12226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748-5D7A-4461-B3ED-70B38FD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79F-231B-4964-82EA-F81DC2C5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B39-C191-4144-B3AF-73BA78ED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7C9-3B89-40D8-BEAF-E7633285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DD23-654A-4385-95F1-C87C63E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ED1-1D85-4A41-ADD8-A272CA0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7648-C240-4A25-95E0-7A57855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516-0459-4532-ACC6-B4F9817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E2DF-9BBD-4F3E-84F0-C86515F1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BD5-4D67-40BC-9E07-F7812FB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B58-BF38-4F48-9AE6-8FF8C00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C21-668B-4D2C-B410-B94B58CF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41EE-CFF0-42A8-929A-1C2E87B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CF1-01AE-4085-81E8-F13C7DD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4732-6684-45B6-8E1B-E87796E7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A4C-7F79-489C-801E-6EA894E5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89B-0E57-42A9-9871-5FAC224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DB8-F76A-4772-9FD2-3377698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637-3236-423B-904C-EE045AF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42C-00CB-47E1-8889-92733453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3A2-D96A-4FCB-94B1-79BB50C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06D-B85C-47A9-B95E-C25ECE24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CCE-69E8-4B81-9033-C5AA8AB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134-60BD-4E31-8742-EF1F0EA76F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C69-598F-431F-A6E2-33843D2A7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pearls.ru/comments/300267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Моя педагогическая инициатива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Создание этнографического музея в школе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70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ИЗО и МХ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КОУ «Килинчин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. Героя России Азамата Тасим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тепова Н.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77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чется видеть в музее не только экспонаты, рассказывающие об истории, жизни и быте народов, но и записи обрядов и праздников, тексты песен и частушек, сказок, игр, рецепты национальных блю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альнейшем можно использовать материал в работе этнографического круж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Дом-музей М.К.Луконина в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с. Килинч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нашем селе уже есть краеведческий музей, который находится в доме-музее М.К.Луко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3674880" cy="2747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3162240"/>
            <a:ext cx="36720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ём собран материал об истории возникновения села, о коллективизации, о работе колхоза, о ветеранах войны и труда, есть литературный уголок, в котором рассказывается о нашем земляке М.Луконине, поэтах и писателях, но нет материалов по этнографии. И, я считаю, что этот пробел нужно обязательно восполнить и создать этнографический музей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3743280" cy="2590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3919680"/>
            <a:ext cx="3671640" cy="2639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492360" y="494172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уемые источ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томатериалы музе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inpearls.ru/comments/3002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пиграф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ком нет любви к стране родной, те сердцем нищие кал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. Шев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8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тобы возродить Россию, надо возродить духовность. Надо вспомнить, кто мы такие, где наши корни. Люди должны научиться гордиться своей страной, своей культуро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Человеку надо знать свои корни. Тогда и воздух, которым он дышит, будет целебен и вкусен, и земля, на которой стоят его ноги, будет дороже, и все, что будет выходить из рук его, будет овеяно мастерством его предшественников, красотой, наполненной в веках».                                                       В. Смир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учение традиций, обычаев и культуры народов, проживающих в нашем се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общение учащихся к духовным ценностям, национальной культуре, язы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итание у учащихся толерантности, стремления к взаимопониманию культур и сохранению культурных исторических ц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влечение учащихся в поисков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ктуаль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каждым годом становится всё меньше людей старшего поколения, а вместе с ними уходят обычаи, традиции, старинные обряды. Чтобы новое поколение знало и придерживалось их, нужно собирать местный фольклор, национальную одежду, предметы быта, изучать язык и культуру народов, проживающих в нашем с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сновные направления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оисковых груп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и систематизация накопленного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77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о значение этнографического музея для населения, особенно для подрастающего поколения, как центра сохранения и возрождения традиций местного на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создаётся духовная нить между прошлым и настоящ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99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задача поисковых групп - сбор подлинных предметов материальной и духов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нографический предмет может многое рассказать о разных сторонах жизни целого народа, его вековых традициях, о повседн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жизни давно ушедших поколений, рассказывая о том, как люди прошлого трудились, обустраивали свое жилище, одевались, воспитывали детей, во что они верили и как представляли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2:15:55Z</dcterms:created>
  <dc:creator>Админчик</dc:creator>
  <dc:description/>
  <dc:language>en-US</dc:language>
  <cp:lastModifiedBy>Admin</cp:lastModifiedBy>
  <dcterms:modified xsi:type="dcterms:W3CDTF">2013-02-04T15:32:58Z</dcterms:modified>
  <cp:revision>17</cp:revision>
  <dc:subject/>
  <dc:title>Моя педагогическая инициатива «Создание этнографического музея в школе»</dc:title>
</cp:coreProperties>
</file>