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  <p:custShowLst>
    <p:custShow name="Новая обычная демонстрация" id="0">
      <p:sldLst>
        <p:sld r:id="rId4"/>
        <p:sld r:id="rId4"/>
        <p:sld r:id="rId4"/>
        <p:sld r:id="rId4"/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55240" y="921960"/>
            <a:ext cx="43498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60404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605480" cy="37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605480" cy="37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605480" cy="37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040" y="464760"/>
            <a:ext cx="780444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464760"/>
            <a:ext cx="780444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464760"/>
            <a:ext cx="780444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710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98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86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71040" y="464760"/>
            <a:ext cx="780444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464760"/>
            <a:ext cx="780444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464760"/>
            <a:ext cx="780444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464760"/>
            <a:ext cx="780444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71040" y="464760"/>
            <a:ext cx="780444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464760"/>
            <a:ext cx="780444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464760"/>
            <a:ext cx="780444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040" y="464760"/>
            <a:ext cx="780444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1040" y="464760"/>
            <a:ext cx="780444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51760" indent="-28296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79440" indent="-2124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706760" indent="-2106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134080" indent="-21204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134080" indent="-212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134080" indent="-212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6770520" y="4381560"/>
            <a:ext cx="2373480" cy="23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1003320" y="539640"/>
            <a:ext cx="71960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е  бюджетное общеобразовательное учреждение средняя общеобразовательная школа № 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О  Озерный Твер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«Использование приемов мнемотехники на уроках русского языка для развития орфографической зоркости у обучающихся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368280" y="1979640"/>
            <a:ext cx="8466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340000" y="5214960"/>
            <a:ext cx="6696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Arial"/>
              </a:rPr>
              <a:t>Авторы проекта :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учитель русского языка и литературы Бакарева Ольга Вячеслав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079880" y="6300720"/>
            <a:ext cx="1044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Arial"/>
              </a:rPr>
              <a:t>2012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-48240"/>
            <a:ext cx="871524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Для учащихся грамматика рус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есть наука трудная, тяжела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внушающая страх и отвращение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Между тем должно быть совс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наоборот, потому что изу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грамматики в приложен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к родному языку, естественн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очень легк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Белинский В.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395280" y="476280"/>
            <a:ext cx="82296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23dc"/>
                </a:solidFill>
                <a:latin typeface="Arial"/>
              </a:rPr>
              <a:t>Актуальность проблем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500040" y="1571760"/>
            <a:ext cx="82296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Изучение русского языка, как и полтора века назад, не вызывает у большинства учащихся интереса. Множество громоздких правил, большое количество исключений, немалая доля речеупотреблений, которые не поддаются обобщению. Все это негативно сказывается на изучении предмета, внушая и по сей день «страх и отвращение», а как результат - ухудшение грамотности у «среднестатистического ученика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2520" y="360"/>
            <a:ext cx="30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Д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571680" y="400068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 наше время проблема заинтересованности предметом является актуальной, злободневной, она активно изучается и еще остро нуждается в исследования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611280" y="40464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23dc"/>
                </a:solidFill>
                <a:latin typeface="Arial"/>
              </a:rPr>
              <a:t>Цель проекта</a:t>
            </a:r>
            <a:r>
              <a:rPr b="0" lang="ru-RU" sz="4800" spc="-1" strike="noStrike">
                <a:solidFill>
                  <a:srgbClr val="660066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324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1979640"/>
            <a:ext cx="9144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1388880"/>
            <a:ext cx="914400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     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еодолеть интерференцию    орфографических навыко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Интерференция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ухудшение сохраняемого материала в результате воздействия (наложения) другого материала, с которым оперирует субъект. Интерференция ухудшает сохранение материала под влиянием предварительно заученного материала или вызванное заучиванием с последующим материалом.    </a:t>
            </a:r>
            <a:r>
              <a:rPr b="1" lang="ru-RU" sz="1100" spc="-1" strike="noStrike">
                <a:solidFill>
                  <a:srgbClr val="0070c0"/>
                </a:solidFill>
                <a:latin typeface="Calibri"/>
                <a:ea typeface="Times New Roman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642960" y="-13320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i="1" lang="ru-RU" sz="3600" spc="-1" strike="noStrike" u="sng">
                <a:solidFill>
                  <a:srgbClr val="0000cc"/>
                </a:solidFill>
                <a:uFillTx/>
                <a:latin typeface="Arial"/>
              </a:rPr>
              <a:t>Задачи проекта</a:t>
            </a: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684360" y="1260360"/>
            <a:ext cx="771516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14479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анализировать методическую литературу и опыт учителей русского языка по использованию на практике приемов мнемотехник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ать методические рекомендации по использованию приемов мнемотехники на уроках русского языка в средней школ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ысить мотивацию обучающихся, интерес к изучению русского язы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7804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71040" y="1000080"/>
            <a:ext cx="7804440" cy="52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198a8a"/>
                </a:solidFill>
                <a:latin typeface="Times New Roman"/>
              </a:rPr>
              <a:t>Использование приемов мнемотехники на уроках  русского языка будет способствовать: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198a8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198a8a"/>
                </a:solidFill>
                <a:latin typeface="Times New Roman"/>
              </a:rPr>
              <a:t>преодолению интерференции орфографических навыков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98a8a"/>
                </a:solidFill>
                <a:latin typeface="Times New Roman"/>
              </a:rPr>
              <a:t>формированию интереса к изучению языка, ведь хорошо известно, что знания, усвоенные без интереса, не становятся активным достоянием человека, а ложатся мертвым, застывшим грузом, не пригодным к применению;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98a8a"/>
                </a:solidFill>
                <a:latin typeface="Times New Roman"/>
              </a:rPr>
              <a:t>развитию эмоциональной сферы и ассоциативно - образного восприятия материала и, как следствие, устойчивых орфографических навыков, умению применять любое правило на практике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7804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Этапы реализации проек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42920" y="1000080"/>
          <a:ext cx="8572320" cy="5119560"/>
        </p:xfrm>
        <a:graphic>
          <a:graphicData uri="http://schemas.openxmlformats.org/drawingml/2006/table">
            <a:tbl>
              <a:tblPr/>
              <a:tblGrid>
                <a:gridCol w="1143000"/>
                <a:gridCol w="1054080"/>
                <a:gridCol w="3632040"/>
                <a:gridCol w="274320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3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и-тель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нтябрь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знакомление с теоретической базой по использованию приемов мнемотехнологии на уроках русского языка, научной и психологической литературой  по этой тем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Знакомство с опытом учителей, работающих по данной проблем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Составление банка уже имеющихся методических разработок, изучение материалов, наработок, распределение их по разделами школьной программы 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Входная диагностика обучаю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ние теоретических основ мнемотехнологии, возрастных психологических особенностей учащихся , владение уже имеющимися наработками по использованию мнемических приемов на урока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дение навыками по применению данной метод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57120" y="0"/>
          <a:ext cx="8572680" cy="6858000"/>
        </p:xfrm>
        <a:graphic>
          <a:graphicData uri="http://schemas.openxmlformats.org/drawingml/2006/table">
            <a:tbl>
              <a:tblPr/>
              <a:tblGrid>
                <a:gridCol w="1575000"/>
                <a:gridCol w="1576080"/>
                <a:gridCol w="3492720"/>
                <a:gridCol w="19288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1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ой (реализация проект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й 2013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кабрь 2013 –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й 2015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3-х лет действия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нтябрь 2013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й 2014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нтябрь-октябрь 2014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й 2015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ние теоретических основ по применению приемов мнемотехники на уроках русского язык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тическое использование имеющихся наработо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ежуточная диагностика.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 методических пособий по использованию приемов мнемотехники, написание статей по данной тематик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 нового (авторского) материала на уроках, апробация разработок на параллельных класса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ие  мониторинга успеваемости обучающихся за отдельные пери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ое овладение методикой и приемами мнемотехники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ивное внедрение  на урока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остранение авторских методических разработок среди колле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в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нтябрь 2014-май 2015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критериев измерения результативност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бщение опыта, создание методического пособия по использованию приемов мнемотехники на уроках 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ое применени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доление интерференции орфографических навы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464760"/>
            <a:ext cx="780444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Продукт проект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Методическое пособие по использованию приемов мнемотехники на уроках русского языка в средней школе с мультимедийными приложениями в виде презентаций, обучающих фильмов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K</dc:creator>
  <dc:description/>
  <dc:language>en-US</dc:language>
  <cp:lastModifiedBy>Admin</cp:lastModifiedBy>
  <dcterms:modified xsi:type="dcterms:W3CDTF">2013-02-07T12:49:21Z</dcterms:modified>
  <cp:revision>40</cp:revision>
  <dc:subject/>
  <dc:title>Слайд 1</dc:title>
</cp:coreProperties>
</file>