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25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BCC-E50C-4ED6-86D0-DB5336C8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E6B-AB1A-46DA-842A-430D211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B02-4CD4-41F3-837F-9D760F79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39A-642C-41AD-929C-30980B92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2F4-BE0A-4A40-B8F3-128D7DC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88D-A4D8-4694-8ADC-A5BBC80F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66-6B77-403F-A743-7AA1D47C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BD2-55BA-4988-B487-C8064D3C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A3C-3491-4971-AB92-D05E094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A1D-072C-484D-8B2E-0227B49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442-AD0C-49C0-A274-EB54680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C04-85C3-4055-9AD2-9B7E3A8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ADD-E9AB-4759-8F51-8A2B39CF5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512640"/>
            <a:ext cx="9156960" cy="2779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3"/>
          <a:stretch/>
        </p:blipFill>
        <p:spPr>
          <a:xfrm>
            <a:off x="712800" y="3193920"/>
            <a:ext cx="7881840" cy="165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651640" y="4941720"/>
            <a:ext cx="3492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подготовил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-организатор ОБЖ Солошенко С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95640" y="1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ГБОУ СОШ №280 имени М.Ю.Лермонтова Адмиралте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140360" y="6488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Санкт-Петербург –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Картинка 17 из 8975"/>
          <p:cNvPicPr/>
          <p:nvPr/>
        </p:nvPicPr>
        <p:blipFill>
          <a:blip r:embed="rId1"/>
          <a:stretch/>
        </p:blipFill>
        <p:spPr>
          <a:xfrm>
            <a:off x="5105520" y="4057560"/>
            <a:ext cx="4038480" cy="280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Картинка 64 из 67"/>
          <p:cNvPicPr/>
          <p:nvPr/>
        </p:nvPicPr>
        <p:blipFill>
          <a:blip r:embed="rId2"/>
          <a:stretch/>
        </p:blipFill>
        <p:spPr>
          <a:xfrm>
            <a:off x="0" y="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Если во время природного ЧС Вы на ул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60912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Держитесь подальше от з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Линий электропере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Стол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Трубопров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Times New Roman"/>
              </a:rPr>
              <a:t>Мо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артинка 11 из 49991"/>
          <p:cNvPicPr/>
          <p:nvPr/>
        </p:nvPicPr>
        <p:blipFill>
          <a:blip r:embed="rId3"/>
          <a:stretch/>
        </p:blipFill>
        <p:spPr>
          <a:xfrm>
            <a:off x="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Картинка 8 из 9234"/>
          <p:cNvPicPr/>
          <p:nvPr/>
        </p:nvPicPr>
        <p:blipFill>
          <a:blip r:embed="rId4"/>
          <a:stretch/>
        </p:blipFill>
        <p:spPr>
          <a:xfrm>
            <a:off x="0" y="1981080"/>
            <a:ext cx="417204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Картинка 8 из 64000"/>
          <p:cNvPicPr/>
          <p:nvPr/>
        </p:nvPicPr>
        <p:blipFill>
          <a:blip r:embed="rId5"/>
          <a:stretch/>
        </p:blipFill>
        <p:spPr>
          <a:xfrm>
            <a:off x="0" y="29718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48 из 64000"/>
          <p:cNvPicPr/>
          <p:nvPr/>
        </p:nvPicPr>
        <p:blipFill>
          <a:blip r:embed="rId6"/>
          <a:stretch/>
        </p:blipFill>
        <p:spPr>
          <a:xfrm>
            <a:off x="0" y="4059360"/>
            <a:ext cx="4191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feSafe85_0050"/>
          <p:cNvPicPr/>
          <p:nvPr/>
        </p:nvPicPr>
        <p:blipFill>
          <a:blip r:embed="rId1"/>
          <a:srcRect l="3112" t="69419" r="54558" b="7674"/>
          <a:stretch/>
        </p:blipFill>
        <p:spPr>
          <a:xfrm>
            <a:off x="-1440" y="835200"/>
            <a:ext cx="334944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Так что же необходимо делать при угрозе возникновения природной Ч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Закрыть все окна, двери, чердачные поме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С балконов и лоджий убрать все, что может быть унесе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Выключить газ, потушить огонь в печах. Подготовить фонари, свечи, лам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Запастись водой, продуктами, держать радио и телевизор включен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</a:rPr>
              <a:t>Подготовить медицинские и перевязочные материа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ifeSafe85_0050"/>
          <p:cNvPicPr/>
          <p:nvPr/>
        </p:nvPicPr>
        <p:blipFill>
          <a:blip r:embed="rId2"/>
          <a:srcRect l="48629" t="69419" r="6966" b="7674"/>
          <a:stretch/>
        </p:blipFill>
        <p:spPr>
          <a:xfrm>
            <a:off x="0" y="1484280"/>
            <a:ext cx="3354480" cy="22384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79" name="Picture 6" descr="LifeSafe85_0051"/>
          <p:cNvPicPr/>
          <p:nvPr/>
        </p:nvPicPr>
        <p:blipFill>
          <a:blip r:embed="rId3"/>
          <a:srcRect l="2075" t="9964" r="52927" b="67816"/>
          <a:stretch/>
        </p:blipFill>
        <p:spPr>
          <a:xfrm>
            <a:off x="0" y="2133720"/>
            <a:ext cx="3359160" cy="2147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80" name="Picture 7" descr="LifeSafe85_0051"/>
          <p:cNvPicPr/>
          <p:nvPr/>
        </p:nvPicPr>
        <p:blipFill>
          <a:blip r:embed="rId4"/>
          <a:srcRect l="49222" t="9964" r="4891" b="67816"/>
          <a:stretch/>
        </p:blipFill>
        <p:spPr>
          <a:xfrm>
            <a:off x="0" y="3284640"/>
            <a:ext cx="3346560" cy="20970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81" name="Picture 8" descr="LifeSafe85_0051"/>
          <p:cNvPicPr/>
          <p:nvPr/>
        </p:nvPicPr>
        <p:blipFill>
          <a:blip r:embed="rId5"/>
          <a:srcRect l="2223" t="39629" r="52927" b="37224"/>
          <a:stretch/>
        </p:blipFill>
        <p:spPr>
          <a:xfrm>
            <a:off x="0" y="4621320"/>
            <a:ext cx="3348000" cy="22366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В такой ситуации самый опасный враг паника и 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anikaris2"/>
          <p:cNvPicPr/>
          <p:nvPr/>
        </p:nvPicPr>
        <p:blipFill>
          <a:blip r:embed="rId1"/>
          <a:stretch/>
        </p:blipFill>
        <p:spPr>
          <a:xfrm>
            <a:off x="380880" y="2209680"/>
            <a:ext cx="3200400" cy="3505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04206218_97388"/>
          <p:cNvPicPr/>
          <p:nvPr/>
        </p:nvPicPr>
        <p:blipFill>
          <a:blip r:embed="rId2"/>
          <a:stretch/>
        </p:blipFill>
        <p:spPr>
          <a:xfrm>
            <a:off x="3886200" y="2133720"/>
            <a:ext cx="4419720" cy="362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28600" y="5867280"/>
            <a:ext cx="8763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Насколько человек побеждает стр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столько он  - чело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Чтобы психологически подготовиться к встрече с опасностью: надо обратить внимание на свой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харак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мперамент дан от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Характер зависит от нас сам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105520" y="3886200"/>
            <a:ext cx="38862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Вы можете помочь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выжить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противопоста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ЧС свои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умения, силу во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характер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353453gg3522"/>
          <p:cNvPicPr/>
          <p:nvPr/>
        </p:nvPicPr>
        <p:blipFill>
          <a:blip r:embed="rId1"/>
          <a:stretch/>
        </p:blipFill>
        <p:spPr>
          <a:xfrm>
            <a:off x="1143000" y="388620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038480" y="1844640"/>
            <a:ext cx="5105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Признаки па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бешенное сердцеби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ильное потоот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удуш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рвота или расстройство желуд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онемение или покалывание в те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тело словно не ва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боль в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кажется, что вы сходите с 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mer11"/>
          <p:cNvPicPr/>
          <p:nvPr/>
        </p:nvPicPr>
        <p:blipFill>
          <a:blip r:embed="rId1"/>
          <a:stretch/>
        </p:blipFill>
        <p:spPr>
          <a:xfrm>
            <a:off x="0" y="22860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15920"/>
            <a:ext cx="9156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2065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19280" y="1915920"/>
            <a:ext cx="752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взвинчен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легко пугае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не может сосредоточиться или вообще отключае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плохой сон, бессонниц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напряжение и боль в мышц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быстрая утомляем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4"/>
          <p:cNvSpPr/>
          <p:nvPr/>
        </p:nvSpPr>
        <p:spPr>
          <a:xfrm flipH="1">
            <a:off x="2362320" y="16765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5257800" y="1523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7200" y="2286000"/>
            <a:ext cx="3048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и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крик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олк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Сме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лач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Деру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являют агре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562720" y="2438280"/>
            <a:ext cx="3429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у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Менее распростран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ездви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цеп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твле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128680_703big"/>
          <p:cNvPicPr/>
          <p:nvPr/>
        </p:nvPicPr>
        <p:blipFill>
          <a:blip r:embed="rId1"/>
          <a:stretch/>
        </p:blipFill>
        <p:spPr>
          <a:xfrm>
            <a:off x="1219320" y="4876920"/>
            <a:ext cx="2286000" cy="2039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"/>
          <p:cNvPicPr/>
          <p:nvPr/>
        </p:nvPicPr>
        <p:blipFill>
          <a:blip r:embed="rId2"/>
          <a:stretch/>
        </p:blipFill>
        <p:spPr>
          <a:xfrm>
            <a:off x="62485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3"/>
          <a:stretch/>
        </p:blipFill>
        <p:spPr>
          <a:xfrm>
            <a:off x="-36360" y="-96840"/>
            <a:ext cx="96073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prover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866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238376854.jpg"/>
          <p:cNvPicPr/>
          <p:nvPr/>
        </p:nvPicPr>
        <p:blipFill>
          <a:blip r:embed="rId2"/>
          <a:stretch/>
        </p:blipFill>
        <p:spPr>
          <a:xfrm>
            <a:off x="1258920" y="1657440"/>
            <a:ext cx="7885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Что это такое – чрезвычайная ситуаци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Чрезвычайная ситуация –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это обстановка на определенной территории которая сложилась в результате аварии, опасного природного явления, катастрофы, стихийного бедствия, и может повлечь или повлекла за собой человеческие жертвы, ущерб здоровью людей и окружающей природной среде, значительные материальные потери и нарушение жизнедеятельност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9280" y="26028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резвычайную ситуацию можно предвидеть, но чаще всего она возникает внезапно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019.jpg"/>
          <p:cNvPicPr/>
          <p:nvPr/>
        </p:nvPicPr>
        <p:blipFill>
          <a:blip r:embed="rId1"/>
          <a:stretch/>
        </p:blipFill>
        <p:spPr>
          <a:xfrm>
            <a:off x="250920" y="2133720"/>
            <a:ext cx="4370400" cy="291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picture.jpg"/>
          <p:cNvPicPr/>
          <p:nvPr/>
        </p:nvPicPr>
        <p:blipFill>
          <a:blip r:embed="rId2"/>
          <a:stretch/>
        </p:blipFill>
        <p:spPr>
          <a:xfrm>
            <a:off x="5003640" y="3573360"/>
            <a:ext cx="4007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 Российской Федерации созданы областные, районные и прочие управления по ЧС и службы по ЧС, а в масштабе страны – Министерство по Ч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%7b7FC2D345-1F9F-46EE-B367-2DA2FCC2CCD3%7d"/>
          <p:cNvPicPr/>
          <p:nvPr/>
        </p:nvPicPr>
        <p:blipFill>
          <a:blip r:embed="rId1"/>
          <a:stretch/>
        </p:blipFill>
        <p:spPr>
          <a:xfrm>
            <a:off x="0" y="2637000"/>
            <a:ext cx="411480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артинка 169 из 389"/>
          <p:cNvPicPr/>
          <p:nvPr/>
        </p:nvPicPr>
        <p:blipFill>
          <a:blip r:embed="rId2"/>
          <a:stretch/>
        </p:blipFill>
        <p:spPr>
          <a:xfrm>
            <a:off x="4457880" y="2637000"/>
            <a:ext cx="46861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случае предвиденной катастрофы территориальные управления ЧС подают сигнал для населения: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имание вс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это рев сирены и частые гу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280" y="2276280"/>
            <a:ext cx="83883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 сигнал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нимание всем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Немедленно включить радио или телевизор для прослушивания экстренных сообщ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роинформировать родственников и соседей о случившем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ривести домой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Действовать согла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олученному сооб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При необходимости эваку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Собрать в небольшой чемодан (рюкзак) вещи первой необходимости: необходимую одежду, документы, деньги, ценности, воду, консервированные и сухие продукты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Подготовить квартиру к консервации – закрыть окна, балкон, перекрыть газ, воду, выключить электроэнергию погасить огнь в печ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Приготовить средства индивидуальной защиты и второй комплект ключей для сдачи в РЭ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Оказать помощь в сборах больным и престарелым проживающим по сосед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230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191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3328-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огромной территории нашей страны возмо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етряс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у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во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сные и торфяные пож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аганы, бури, смер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ли (водогрязевые потоки) и опол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ежные лавины и зан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оз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В любом случае, попав в зону стихийного бедствия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ценить силу и масштабы стихийного бед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пределить его географическую и временную направ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Отметить наиболее выгодные с точки зрения безопасности учас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Составить прогноз развития аварии и самого стихийного бедствия на ближайшие часы и су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7575d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Times New Roman"/>
              </a:rPr>
              <a:t>Учесть возможность повторных ударов стих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Выживание в зоне стихийного бедствия обеспечиваетс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-мя</a:t>
            </a:r>
            <a:r>
              <a:rPr b="1" lang="ru-RU" sz="4000" spc="-1" strike="noStrike">
                <a:solidFill>
                  <a:srgbClr val="ff9933"/>
                </a:solidFill>
                <a:latin typeface="Times New Roman"/>
              </a:rPr>
              <a:t> основными факторами</a:t>
            </a:r>
            <a:r>
              <a:rPr b="0" lang="ru-RU" sz="4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596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Знанием особенностей природных яв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Умением распознать приближение стихийного бед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Знанием приемов спасения при конкретном стихийном бедств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Психологической подготовкой к действиям в особых сложн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8:35Z</dcterms:created>
  <dc:creator>Сережа</dc:creator>
  <dc:description/>
  <dc:language>en-US</dc:language>
  <cp:lastModifiedBy>Сережа</cp:lastModifiedBy>
  <dcterms:modified xsi:type="dcterms:W3CDTF">2013-02-12T18:19:41Z</dcterms:modified>
  <cp:revision>9</cp:revision>
  <dc:subject/>
  <dc:title>Слайд 1</dc:title>
</cp:coreProperties>
</file>