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25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933-64F4-456B-8491-303334E3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E8F-1E85-4267-9C23-D8196F03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75C-2842-4163-83C3-98953BB4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F60-FD65-44DE-ACD0-85D24782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E7C-4530-424E-92E1-B398DDF4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49B-1C4B-4175-91D3-FAF50C60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D59-11C3-4E62-A351-E0DA533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E4B-3CD9-4B9B-893D-C7D01010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975-9901-4D00-BCDE-5C0F741C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3BA-C6AF-4CE5-A010-8CCF1EE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C38-FEE1-40FB-8388-1462C87F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B15-A3A8-46D1-9776-085E1913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7B17-031F-4F40-94E7-E87CBB09E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512640"/>
            <a:ext cx="9156960" cy="27799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7" descr=""/>
          <p:cNvPicPr/>
          <p:nvPr/>
        </p:nvPicPr>
        <p:blipFill>
          <a:blip r:embed="rId3"/>
          <a:stretch/>
        </p:blipFill>
        <p:spPr>
          <a:xfrm>
            <a:off x="712800" y="3193920"/>
            <a:ext cx="7881840" cy="1652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651640" y="4941720"/>
            <a:ext cx="3492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подготовил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подаватель-организатор ОБЖ Солошенко С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195640" y="189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ГБОУ СОШ №280 имени М.Ю.Лермонтова Адмиралте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140360" y="64882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Санкт-Петербург –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Картинка 17 из 8975"/>
          <p:cNvPicPr/>
          <p:nvPr/>
        </p:nvPicPr>
        <p:blipFill>
          <a:blip r:embed="rId1"/>
          <a:stretch/>
        </p:blipFill>
        <p:spPr>
          <a:xfrm>
            <a:off x="5105520" y="4057560"/>
            <a:ext cx="4038480" cy="2800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Картинка 64 из 67"/>
          <p:cNvPicPr/>
          <p:nvPr/>
        </p:nvPicPr>
        <p:blipFill>
          <a:blip r:embed="rId2"/>
          <a:stretch/>
        </p:blipFill>
        <p:spPr>
          <a:xfrm>
            <a:off x="0" y="0"/>
            <a:ext cx="4191120" cy="2590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Если во время природного ЧС Вы на улиц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400" y="609120"/>
            <a:ext cx="4952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Держитесь подальше от з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Линий электропере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Стол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Трубопров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Мо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артинка 11 из 49991"/>
          <p:cNvPicPr/>
          <p:nvPr/>
        </p:nvPicPr>
        <p:blipFill>
          <a:blip r:embed="rId3"/>
          <a:stretch/>
        </p:blipFill>
        <p:spPr>
          <a:xfrm>
            <a:off x="0" y="990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Картинка 8 из 9234"/>
          <p:cNvPicPr/>
          <p:nvPr/>
        </p:nvPicPr>
        <p:blipFill>
          <a:blip r:embed="rId4"/>
          <a:stretch/>
        </p:blipFill>
        <p:spPr>
          <a:xfrm>
            <a:off x="0" y="1981080"/>
            <a:ext cx="417204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Картинка 8 из 64000"/>
          <p:cNvPicPr/>
          <p:nvPr/>
        </p:nvPicPr>
        <p:blipFill>
          <a:blip r:embed="rId5"/>
          <a:stretch/>
        </p:blipFill>
        <p:spPr>
          <a:xfrm>
            <a:off x="0" y="2971800"/>
            <a:ext cx="4191120" cy="314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артинка 48 из 64000"/>
          <p:cNvPicPr/>
          <p:nvPr/>
        </p:nvPicPr>
        <p:blipFill>
          <a:blip r:embed="rId6"/>
          <a:stretch/>
        </p:blipFill>
        <p:spPr>
          <a:xfrm>
            <a:off x="0" y="4059360"/>
            <a:ext cx="4191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ifeSafe85_0050"/>
          <p:cNvPicPr/>
          <p:nvPr/>
        </p:nvPicPr>
        <p:blipFill>
          <a:blip r:embed="rId1"/>
          <a:srcRect l="3112" t="69419" r="54558" b="7674"/>
          <a:stretch/>
        </p:blipFill>
        <p:spPr>
          <a:xfrm>
            <a:off x="-1440" y="835200"/>
            <a:ext cx="3349440" cy="223812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Так что же необходимо делать при угрозе возникновения природной Ч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9880" y="10666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Закрыть все окна, двери, чердачные поме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С балконов и лоджий убрать все, что может быть унесе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Выключить газ, потушить огонь в печах. Подготовить фонари, свечи, лам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Запастись водой, продуктами, держать радио и телевизор включенн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Подготовить медицинские и перевязочные материа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ifeSafe85_0050"/>
          <p:cNvPicPr/>
          <p:nvPr/>
        </p:nvPicPr>
        <p:blipFill>
          <a:blip r:embed="rId2"/>
          <a:srcRect l="48629" t="69419" r="6966" b="7674"/>
          <a:stretch/>
        </p:blipFill>
        <p:spPr>
          <a:xfrm>
            <a:off x="0" y="1484280"/>
            <a:ext cx="3354480" cy="22384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79" name="Picture 6" descr="LifeSafe85_0051"/>
          <p:cNvPicPr/>
          <p:nvPr/>
        </p:nvPicPr>
        <p:blipFill>
          <a:blip r:embed="rId3"/>
          <a:srcRect l="2075" t="9964" r="52927" b="67816"/>
          <a:stretch/>
        </p:blipFill>
        <p:spPr>
          <a:xfrm>
            <a:off x="0" y="2133720"/>
            <a:ext cx="3359160" cy="21477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80" name="Picture 7" descr="LifeSafe85_0051"/>
          <p:cNvPicPr/>
          <p:nvPr/>
        </p:nvPicPr>
        <p:blipFill>
          <a:blip r:embed="rId4"/>
          <a:srcRect l="49222" t="9964" r="4891" b="67816"/>
          <a:stretch/>
        </p:blipFill>
        <p:spPr>
          <a:xfrm>
            <a:off x="0" y="3284640"/>
            <a:ext cx="3346560" cy="209700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81" name="Picture 8" descr="LifeSafe85_0051"/>
          <p:cNvPicPr/>
          <p:nvPr/>
        </p:nvPicPr>
        <p:blipFill>
          <a:blip r:embed="rId5"/>
          <a:srcRect l="2223" t="39629" r="52927" b="37224"/>
          <a:stretch/>
        </p:blipFill>
        <p:spPr>
          <a:xfrm>
            <a:off x="0" y="4621320"/>
            <a:ext cx="3348000" cy="22366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В такой ситуации самый опасный враг паника и 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anikaris2"/>
          <p:cNvPicPr/>
          <p:nvPr/>
        </p:nvPicPr>
        <p:blipFill>
          <a:blip r:embed="rId1"/>
          <a:stretch/>
        </p:blipFill>
        <p:spPr>
          <a:xfrm>
            <a:off x="380880" y="2209680"/>
            <a:ext cx="3200400" cy="3505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204206218_97388"/>
          <p:cNvPicPr/>
          <p:nvPr/>
        </p:nvPicPr>
        <p:blipFill>
          <a:blip r:embed="rId2"/>
          <a:stretch/>
        </p:blipFill>
        <p:spPr>
          <a:xfrm>
            <a:off x="3886200" y="2133720"/>
            <a:ext cx="4419720" cy="3625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228600" y="5867280"/>
            <a:ext cx="8763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Насколько человек побеждает стр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столько он  - челов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Чтобы психологически подготовиться к встрече с опасностью: надо обратить внимание на свой </a:t>
            </a: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харак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Темперамент дан от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Характер зависит от нас сам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105520" y="3886200"/>
            <a:ext cx="38862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Вы можете помочь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выжить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противопоста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ЧС свои 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умения, силу во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характер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353453gg3522"/>
          <p:cNvPicPr/>
          <p:nvPr/>
        </p:nvPicPr>
        <p:blipFill>
          <a:blip r:embed="rId1"/>
          <a:stretch/>
        </p:blipFill>
        <p:spPr>
          <a:xfrm>
            <a:off x="1143000" y="3886200"/>
            <a:ext cx="3048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038480" y="1844640"/>
            <a:ext cx="51055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Признаки па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бешенное сердцеби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ильное потоотд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удуш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рвота или расстройство желуд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онемение или покалывание в те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тело словно не ва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боль в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кажется, что вы сходите с 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mer11"/>
          <p:cNvPicPr/>
          <p:nvPr/>
        </p:nvPicPr>
        <p:blipFill>
          <a:blip r:embed="rId1"/>
          <a:stretch/>
        </p:blipFill>
        <p:spPr>
          <a:xfrm>
            <a:off x="0" y="228600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15920"/>
            <a:ext cx="9156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-6480" y="-285840"/>
            <a:ext cx="9156960" cy="2065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19280" y="1915920"/>
            <a:ext cx="752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взвинчен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легко пугает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не может сосредоточиться или вообще отключает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плохой сон, бессонниц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напряжение и боль в мышц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быстрая утомляем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4"/>
          <p:cNvSpPr/>
          <p:nvPr/>
        </p:nvSpPr>
        <p:spPr>
          <a:xfrm flipH="1">
            <a:off x="2362320" y="16765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5257800" y="15238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57200" y="2286000"/>
            <a:ext cx="30481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и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ыкрик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Толк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Сме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лач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Деру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роявляют агресс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562720" y="2438280"/>
            <a:ext cx="3429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у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Менее распростран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ездвиж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цеп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твлеч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128680_703big"/>
          <p:cNvPicPr/>
          <p:nvPr/>
        </p:nvPicPr>
        <p:blipFill>
          <a:blip r:embed="rId1"/>
          <a:stretch/>
        </p:blipFill>
        <p:spPr>
          <a:xfrm>
            <a:off x="1219320" y="4876920"/>
            <a:ext cx="2286000" cy="2039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i"/>
          <p:cNvPicPr/>
          <p:nvPr/>
        </p:nvPicPr>
        <p:blipFill>
          <a:blip r:embed="rId2"/>
          <a:stretch/>
        </p:blipFill>
        <p:spPr>
          <a:xfrm>
            <a:off x="624852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3"/>
          <a:stretch/>
        </p:blipFill>
        <p:spPr>
          <a:xfrm>
            <a:off x="-36360" y="-96840"/>
            <a:ext cx="96073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prover.png"/>
          <p:cNvPicPr/>
          <p:nvPr/>
        </p:nvPicPr>
        <p:blipFill>
          <a:blip r:embed="rId1"/>
          <a:stretch/>
        </p:blipFill>
        <p:spPr>
          <a:xfrm>
            <a:off x="0" y="0"/>
            <a:ext cx="9144000" cy="1866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238376854.jpg"/>
          <p:cNvPicPr/>
          <p:nvPr/>
        </p:nvPicPr>
        <p:blipFill>
          <a:blip r:embed="rId2"/>
          <a:stretch/>
        </p:blipFill>
        <p:spPr>
          <a:xfrm>
            <a:off x="1258920" y="1657440"/>
            <a:ext cx="7885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Что это такое – чрезвычайная ситуация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Чрезвычайная ситуация –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это обстановка на определенной территории которая сложилась в результате аварии, опасного природного явления, катастрофы, стихийного бедствия, и может повлечь или повлекла за собой человеческие жертвы, ущерб здоровью людей и окружающей природной среде, значительные материальные потери и нарушение жизнедеятельност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79280" y="26028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Чрезвычайную ситуацию можно предвидеть, но чаще всего она возникает внезапно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019.jpg"/>
          <p:cNvPicPr/>
          <p:nvPr/>
        </p:nvPicPr>
        <p:blipFill>
          <a:blip r:embed="rId1"/>
          <a:stretch/>
        </p:blipFill>
        <p:spPr>
          <a:xfrm>
            <a:off x="250920" y="2133720"/>
            <a:ext cx="4370400" cy="2913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picture.jpg"/>
          <p:cNvPicPr/>
          <p:nvPr/>
        </p:nvPicPr>
        <p:blipFill>
          <a:blip r:embed="rId2"/>
          <a:stretch/>
        </p:blipFill>
        <p:spPr>
          <a:xfrm>
            <a:off x="5003640" y="3573360"/>
            <a:ext cx="40071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 Российской Федерации созданы областные, районные и прочие управления по ЧС и службы по ЧС, а в масштабе страны – Министерство по Ч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%7b7FC2D345-1F9F-46EE-B367-2DA2FCC2CCD3%7d"/>
          <p:cNvPicPr/>
          <p:nvPr/>
        </p:nvPicPr>
        <p:blipFill>
          <a:blip r:embed="rId1"/>
          <a:stretch/>
        </p:blipFill>
        <p:spPr>
          <a:xfrm>
            <a:off x="0" y="2637000"/>
            <a:ext cx="4114800" cy="38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артинка 169 из 389"/>
          <p:cNvPicPr/>
          <p:nvPr/>
        </p:nvPicPr>
        <p:blipFill>
          <a:blip r:embed="rId2"/>
          <a:stretch/>
        </p:blipFill>
        <p:spPr>
          <a:xfrm>
            <a:off x="4457880" y="2637000"/>
            <a:ext cx="46861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случае предвиденной катастрофы территориальные управления ЧС подают сигнал для населения:</a:t>
            </a: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нимание вс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это рев сирены и частые гуд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280" y="2276280"/>
            <a:ext cx="83883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 сигналу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нимание всем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Немедленно включить радио или телевизор для прослушивания экстренных сообщ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Проинформировать родственников и соседей о случившем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Привести домой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Действовать согла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полученному сообщ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При необходимости эваку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412640"/>
            <a:ext cx="4643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Собрать в небольшой чемодан (рюкзак) вещи первой необходимости: необходимую одежду, документы, деньги, ценности, воду, консервированные и сухие продукты 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Подготовить квартиру к консервации – закрыть окна, балкон, перекрыть газ, воду, выключить электроэнергию погасить огнь в печ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Приготовить средства индивидуальной защиты и второй комплект ключей для сдачи в РЭ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Оказать помощь в сборах больным и престарелым проживающим по сосед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230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4191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3328-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 огромной территории нашей страны возмож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етряс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у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вод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сные и торфяные пожа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аганы, бури, смер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ли (водогрязевые потоки) и опол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ежные лавины и зан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оз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9933"/>
                </a:solidFill>
                <a:latin typeface="Times New Roman"/>
              </a:rPr>
              <a:t>В любом случае, попав в зону стихийного бедствия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7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Оценить силу и масштабы стихийного бед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Определить его географическую и временную направ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Отметить наиболее выгодные с точки зрения безопасности учас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Составить прогноз развития аварии и самого стихийного бедствия на ближайшие часы и су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Учесть возможность повторных ударов стих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imes New Roman"/>
              </a:rPr>
              <a:t>Выживание в зоне стихийного бедствия обеспечивается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-мя</a:t>
            </a:r>
            <a:r>
              <a:rPr b="1" lang="ru-RU" sz="4000" spc="-1" strike="noStrike">
                <a:solidFill>
                  <a:srgbClr val="ff9933"/>
                </a:solidFill>
                <a:latin typeface="Times New Roman"/>
              </a:rPr>
              <a:t> основными факторами</a:t>
            </a:r>
            <a:r>
              <a:rPr b="0" lang="ru-RU" sz="4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628640"/>
            <a:ext cx="7596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</a:rPr>
              <a:t>Знанием особенностей природных явл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</a:rPr>
              <a:t>Умением распознать приближение стихийного бедств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</a:rPr>
              <a:t>Знанием приемов спасения при конкретном стихийном бедств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</a:rPr>
              <a:t>Психологической подготовкой к действиям в особых сложных усло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7:08:35Z</dcterms:created>
  <dc:creator>Сережа</dc:creator>
  <dc:description/>
  <dc:language>en-US</dc:language>
  <cp:lastModifiedBy>Сережа</cp:lastModifiedBy>
  <dcterms:modified xsi:type="dcterms:W3CDTF">2013-02-12T18:19:41Z</dcterms:modified>
  <cp:revision>9</cp:revision>
  <dc:subject/>
  <dc:title>Слайд 1</dc:title>
</cp:coreProperties>
</file>