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34D-8BBC-4F9A-BBF6-048E3B0A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F08-BA78-4FC2-B5FD-16FD4F1F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BB8-5DBC-4F07-A497-A83A84E8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46D-DE92-4BBD-B908-60302474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0DE2-C04D-4157-AF77-F6ABDD2B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55E8-E1BB-44F8-A175-0E8A0055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BE47-3FE9-46DA-8AF0-9AE80F65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0729-B900-427C-9AD0-ACEC1C7C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3D19-A223-47F4-A24F-634D0580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47EC-65AC-4591-A4A1-D95889DA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1FAB-158E-4446-8AC9-899F13B2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92A-D92B-442E-B29A-0E63086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9177-8B92-4648-AE8F-68BC2A9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29E1-381A-453F-BD6D-79209CF7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9817-EBE7-41D3-8EC8-83C924C9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E393-9E61-4B8C-9B12-0B9E8AEA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8A74-1FC1-45CE-85EF-26BFDCCD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211-0717-43FC-A3A4-7D31B43D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573-1B60-4881-A73B-09D6824F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129-870A-4AB0-B93E-46B17C7C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E6C-B4D0-4A21-8389-DBDE6C19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E54-0271-40EF-8299-93EE203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367-7EBB-4205-9E4D-7183F963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DE8-6000-4D41-A2CB-6BACABCA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C7FD-88BC-48DD-B37E-88B1D3BD06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355C-4D95-4DF5-84A9-0EE0FB6A74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9"/>
          <p:cNvSpPr txBox="1"/>
          <p:nvPr/>
        </p:nvSpPr>
        <p:spPr>
          <a:xfrm>
            <a:off x="1332000" y="1268280"/>
            <a:ext cx="611964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4916880" y="285840"/>
            <a:ext cx="369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врова С.В., ГАОУ школа №5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a9a"/>
            </a:gs>
            <a:gs pos="100000">
              <a:srgbClr val="78966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3200" y="765000"/>
            <a:ext cx="6400800" cy="44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c0039"/>
                </a:solidFill>
                <a:latin typeface="Arial"/>
              </a:rPr>
              <a:t>АРИФМЕТИЧЕСКИЕ</a:t>
            </a:r>
            <a:br>
              <a:rPr sz="4800"/>
            </a:br>
            <a:r>
              <a:rPr b="1" i="1" lang="ru-RU" sz="4800" spc="-1" strike="noStrike">
                <a:solidFill>
                  <a:srgbClr val="8c0039"/>
                </a:solidFill>
                <a:latin typeface="Arial"/>
              </a:rPr>
              <a:t>     ОПЕРАЦИИ </a:t>
            </a:r>
            <a:br>
              <a:rPr sz="4800"/>
            </a:br>
            <a:r>
              <a:rPr b="1" i="1" lang="ru-RU" sz="4800" spc="-1" strike="noStrike">
                <a:solidFill>
                  <a:srgbClr val="8c0039"/>
                </a:solidFill>
                <a:latin typeface="Arial"/>
              </a:rPr>
              <a:t>  И ИХ СВОЙСТВА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c9e42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743200" y="1930320"/>
            <a:ext cx="6400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c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- СЛАГАЕ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СУ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 flipV="1" rot="16200000">
            <a:off x="4485600" y="3658320"/>
            <a:ext cx="503280" cy="2635200"/>
          </a:xfrm>
          <a:prstGeom prst="flowChartDelay">
            <a:avLst/>
          </a:prstGeom>
          <a:solidFill>
            <a:srgbClr val="ffffff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4"/>
          <p:cNvSpPr txBox="1"/>
          <p:nvPr/>
        </p:nvSpPr>
        <p:spPr>
          <a:xfrm>
            <a:off x="2700360" y="333360"/>
            <a:ext cx="61624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ЛОЖЕНИЕ И ВЫЧИТ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3" name="Oval 18"/>
          <p:cNvSpPr/>
          <p:nvPr/>
        </p:nvSpPr>
        <p:spPr>
          <a:xfrm>
            <a:off x="2771640" y="3429000"/>
            <a:ext cx="289080" cy="360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9"/>
          <p:cNvSpPr/>
          <p:nvPr/>
        </p:nvSpPr>
        <p:spPr>
          <a:xfrm>
            <a:off x="3635280" y="1989000"/>
            <a:ext cx="289080" cy="360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0"/>
          <p:cNvSpPr/>
          <p:nvPr/>
        </p:nvSpPr>
        <p:spPr>
          <a:xfrm>
            <a:off x="3635280" y="2492280"/>
            <a:ext cx="289080" cy="360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1"/>
          <p:cNvSpPr/>
          <p:nvPr/>
        </p:nvSpPr>
        <p:spPr>
          <a:xfrm>
            <a:off x="2771640" y="2924280"/>
            <a:ext cx="289080" cy="360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baea9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743200" y="198864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ПЕРЕСТАНОВКИ СЛАГАЕМЫХ СУММА НЕ ИЗ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ИЗ СУММЫ ВЫЧЕСТЬ ОДНО СЛАГАЕМОЕ, ТО ПОЛУЧИТСЯ ДРУГОЕ СЛАГ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3203640" y="333360"/>
            <a:ext cx="476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В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baea9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743200" y="1628640"/>
            <a:ext cx="640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множ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׃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׃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прямо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площ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ямо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843280" y="333360"/>
            <a:ext cx="6049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множение и дел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203640" y="4797360"/>
            <a:ext cx="151128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843280" y="3357720"/>
            <a:ext cx="288720" cy="360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708360" y="1773360"/>
            <a:ext cx="289080" cy="360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780000" y="2276640"/>
            <a:ext cx="288720" cy="360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771640" y="2781360"/>
            <a:ext cx="289080" cy="360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baea9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987640" y="981000"/>
            <a:ext cx="5616720" cy="1003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й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411280" y="224928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перестановки множителей произведение не ме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роизведение разделить на один из множителей, то получится другой множ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31:24Z</dcterms:created>
  <dc:creator>Фараон</dc:creator>
  <dc:description/>
  <dc:language>en-US</dc:language>
  <cp:lastModifiedBy>sonya</cp:lastModifiedBy>
  <dcterms:modified xsi:type="dcterms:W3CDTF">2013-02-11T20:50:55Z</dcterms:modified>
  <cp:revision>20</cp:revision>
  <dc:subject/>
  <dc:title>Слайд 1</dc:title>
</cp:coreProperties>
</file>