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0EE0-0DFC-4FF8-8CCE-A6F9B05C0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9821-B0CA-4E5D-A69F-5C6CA1611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74C2-4FE1-418D-AEA5-636369792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CD46-EDCF-424D-981C-1FF404D99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A9ED-A49D-4647-90C0-E6AE3CB0B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5505-040E-4EF5-8A1C-A2424B5A0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b050"/>
                </a:solidFill>
                <a:latin typeface="Century Gothic"/>
              </a:rPr>
              <a:t>         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тодическое мультимедийное пособие                для учителей начальных классов с использованием мнемотехнологии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-составитель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учитель русского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зыка и литературы МБОУ СОШ № 2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ТО Озерный Тверской област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карева Ольга Вячеславов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7"/>
          <p:cNvSpPr/>
          <p:nvPr/>
        </p:nvSpPr>
        <p:spPr>
          <a:xfrm>
            <a:off x="1476360" y="1052640"/>
            <a:ext cx="6335640" cy="4248000"/>
          </a:xfrm>
          <a:prstGeom prst="ellipse">
            <a:avLst/>
          </a:prstGeom>
          <a:gradFill rotWithShape="0">
            <a:gsLst>
              <a:gs pos="0">
                <a:srgbClr val="b6dce8"/>
              </a:gs>
              <a:gs pos="100000">
                <a:srgbClr val="fcfd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3789000"/>
            <a:ext cx="684036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адежи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" name="Рисунок 5" descr="радуга.gif"/>
          <p:cNvPicPr/>
          <p:nvPr/>
        </p:nvPicPr>
        <p:blipFill>
          <a:blip r:embed="rId1"/>
          <a:stretch/>
        </p:blipFill>
        <p:spPr>
          <a:xfrm>
            <a:off x="642960" y="222120"/>
            <a:ext cx="7358040" cy="3843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000" y="1571760"/>
            <a:ext cx="784836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          </a:t>
            </a: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Имя</a:t>
            </a: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 тебе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Не случайно дано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Кто</a:t>
            </a: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-то и </a:t>
            </a: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что</a:t>
            </a: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-то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Вложили в него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332000" y="657360"/>
            <a:ext cx="70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Именитель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падежи 1.gif"/>
          <p:cNvPicPr/>
          <p:nvPr/>
        </p:nvPicPr>
        <p:blipFill>
          <a:blip r:embed="rId1"/>
          <a:stretch/>
        </p:blipFill>
        <p:spPr>
          <a:xfrm>
            <a:off x="6072120" y="1571760"/>
            <a:ext cx="307188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0920" y="1571400"/>
            <a:ext cx="80643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Century Gothic"/>
              </a:rPr>
              <a:t>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ошадь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ла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бенка –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епростого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жеребенка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И сказала: «И-го-го!»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Тут вопрос: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ого? чего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332000" y="54936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Родитель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лош с жер 2.jpg"/>
          <p:cNvPicPr/>
          <p:nvPr/>
        </p:nvPicPr>
        <p:blipFill>
          <a:blip r:embed="rId1"/>
          <a:stretch/>
        </p:blipFill>
        <p:spPr>
          <a:xfrm>
            <a:off x="5429160" y="150012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93" name="ржание лошад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1785960"/>
            <a:ext cx="7920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                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е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ова молок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                                    И говорит все время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у-у-у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у? К чему?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е пойму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все время я мычу!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32000" y="65736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Датель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корова.gif"/>
          <p:cNvPicPr/>
          <p:nvPr/>
        </p:nvPicPr>
        <p:blipFill>
          <a:blip r:embed="rId1"/>
          <a:stretch/>
        </p:blipFill>
        <p:spPr>
          <a:xfrm>
            <a:off x="428760" y="1928880"/>
            <a:ext cx="3500280" cy="3809880"/>
          </a:xfrm>
          <a:prstGeom prst="rect">
            <a:avLst/>
          </a:prstGeom>
          <a:ln w="0">
            <a:noFill/>
          </a:ln>
        </p:spPr>
      </p:pic>
      <p:pic>
        <p:nvPicPr>
          <p:cNvPr id="97" name="мычание коров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0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640" y="1785960"/>
            <a:ext cx="792144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mbria"/>
              </a:rPr>
              <a:t>Повиниться</a:t>
            </a:r>
            <a:r>
              <a:rPr b="1" i="1" lang="ru-RU" sz="5400" spc="-1" strike="noStrike">
                <a:solidFill>
                  <a:srgbClr val="002060"/>
                </a:solidFill>
                <a:latin typeface="Cambria"/>
              </a:rPr>
              <a:t> нелегко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mbria"/>
              </a:rPr>
              <a:t>Обидел ты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mbria"/>
              </a:rPr>
              <a:t>кого?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mbria"/>
              </a:rPr>
              <a:t>За </a:t>
            </a:r>
            <a:r>
              <a:rPr b="1" i="1" lang="ru-RU" sz="5400" spc="-1" strike="noStrike">
                <a:solidFill>
                  <a:srgbClr val="c00000"/>
                </a:solidFill>
                <a:latin typeface="Cambria"/>
              </a:rPr>
              <a:t>что</a:t>
            </a:r>
            <a:r>
              <a:rPr b="1" i="1" lang="ru-RU" sz="5400" spc="-1" strike="noStrike">
                <a:solidFill>
                  <a:srgbClr val="002060"/>
                </a:solidFill>
                <a:latin typeface="Cambri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1258920" y="62064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Винитель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вингительный.gif"/>
          <p:cNvPicPr/>
          <p:nvPr/>
        </p:nvPicPr>
        <p:blipFill>
          <a:blip r:embed="rId1"/>
          <a:stretch/>
        </p:blipFill>
        <p:spPr>
          <a:xfrm>
            <a:off x="3714840" y="2243160"/>
            <a:ext cx="4500360" cy="3900600"/>
          </a:xfrm>
          <a:prstGeom prst="rect">
            <a:avLst/>
          </a:prstGeom>
          <a:ln w="0">
            <a:noFill/>
          </a:ln>
        </p:spPr>
      </p:pic>
      <p:pic>
        <p:nvPicPr>
          <p:cNvPr id="101" name="Сова_-_Крик сов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81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mbria"/>
              </a:rPr>
              <a:t>Творительный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00000" y="1571760"/>
            <a:ext cx="79200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- Это что ж 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натвор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С </a:t>
            </a: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кем?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и </a:t>
            </a: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ч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подрал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- Я с Сережкой во дв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Боксом занималс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творительный.jpg"/>
          <p:cNvPicPr/>
          <p:nvPr/>
        </p:nvPicPr>
        <p:blipFill>
          <a:blip r:embed="rId1"/>
          <a:stretch/>
        </p:blipFill>
        <p:spPr>
          <a:xfrm>
            <a:off x="5072040" y="1428840"/>
            <a:ext cx="40719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Предложный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16000" y="1628640"/>
            <a:ext cx="7632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логом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ночью и д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ивут вопро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ком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че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предложный.jpg"/>
          <p:cNvPicPr/>
          <p:nvPr/>
        </p:nvPicPr>
        <p:blipFill>
          <a:blip r:embed="rId1"/>
          <a:stretch/>
        </p:blipFill>
        <p:spPr>
          <a:xfrm>
            <a:off x="428760" y="178596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колобок.jpeg"/>
          <p:cNvPicPr/>
          <p:nvPr/>
        </p:nvPicPr>
        <p:blipFill>
          <a:blip r:embed="rId2"/>
          <a:stretch/>
        </p:blipFill>
        <p:spPr>
          <a:xfrm>
            <a:off x="1571760" y="1643040"/>
            <a:ext cx="121428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Cambria"/>
              </a:rPr>
              <a:t>Запомни!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79440" y="1600200"/>
            <a:ext cx="557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И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ван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имени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Р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одил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роди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Д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евчонку</a:t>
            </a:r>
            <a:r>
              <a:rPr b="1" lang="ru-RU" sz="2800" spc="-1" strike="noStrike">
                <a:solidFill>
                  <a:srgbClr val="7030a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да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В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елел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вини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Т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ащить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твори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П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еленку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предлож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5:39:00Z</dcterms:created>
  <dc:creator>Бел</dc:creator>
  <dc:description/>
  <cp:keywords/>
  <dc:language>en-US</dc:language>
  <cp:lastModifiedBy>МОУ СОШ №2</cp:lastModifiedBy>
  <dcterms:modified xsi:type="dcterms:W3CDTF">2013-02-12T11:09:05Z</dcterms:modified>
  <cp:revision>38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