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CBC-1716-4632-81EB-029DCA2F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ABB-543D-495E-A4C3-ADAC220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E1C-9002-4C34-9AC9-4DF7C11E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931-17E8-4C88-A386-80A27B2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D337-3301-4166-9C48-EB74B44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80B-7417-4FBC-AD44-47569C6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0E08-73BC-4671-82E6-1DAEBAE9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4BB-86A0-41B9-898A-661D06F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A734-AFAB-4A44-B7CE-35C7ABCF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962F-5884-4292-BD50-A8F2A82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D69C-1058-4283-B370-F9AF7C7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C31-F98C-4992-A1D8-231C2234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0E6-8631-4DBA-BA8D-A484A54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D280-9BF7-4D12-91B9-D68112D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EEDF-D368-4F5A-80E9-6C92A07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55C7-DDC5-4850-B283-88AC7E76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E625-7CDD-46B1-B537-3DC3FF50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CCA2-0AAA-4146-B601-5CC082C4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171E-F4AC-4515-A484-6FB9F69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B948-A480-4708-9C59-40BC244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0D3F-1EEE-4B26-929E-C5AC94AA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51FF-E5D3-4693-9D9F-1F1D9BA7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AF2-3E01-4735-B499-758D295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6A5D-2BD7-4E3D-9281-58FD1A8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ED81-59B9-4C06-AE00-1FD62486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2D92-92BD-4CC3-B4FA-9A3B259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6C99-9F73-4C55-9407-E7661EB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DDEB-644B-4240-92D6-52C3B3E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5555-FD0B-4993-A821-3CFBF1F5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10F5-5887-4DA6-9A83-41E0590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24F9-8618-4F9B-BBFA-742B3AE2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4DF2-F835-41FE-AF39-9ADC1E3F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801B-9605-4EAC-8C8D-1D3FBFE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5C7-3619-4CC4-8CE9-BC45DA3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7003-7EF2-408F-8DA8-4F3FEF41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DDF1-0BCB-402E-AD49-C9B6002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4008-F440-4819-A2F3-5E4307F9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6A75-48FD-45C7-9478-01F7D2C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35DE-30DB-4F7D-A98B-58AC2E7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F842-E1FB-4A1E-A182-4BBEFEC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465B-2469-4E0E-A6DD-E2F0725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2593-0CBF-4A67-8F02-99D65BC2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D9F6-DBBC-41A9-8723-2A7DD341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629-C9EB-42EA-B9B8-B0966CD1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031-9EE1-42BF-B557-2A76AF9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2BE-99B2-4C00-A6C9-CE97D13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540-1F2B-4015-8956-F1A5744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CAA-8151-4713-860D-C87C5F6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240-61BA-4C8F-A5F4-3F8FF8BEC7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CE17-C04A-46E7-8BBD-29E06E386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B3E-A780-46D1-9C14-061C300EE1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D5AC-B598-4E07-A33A-9D9C3A06BD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46000" y="1074600"/>
            <a:ext cx="57758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лияние пищевых добавок на здоровье челове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495680" y="327636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Авторы: Семёнова Кс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ьина Крист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666880" y="5791320"/>
            <a:ext cx="3810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МОБУ СОШ с. Солнеч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2 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600200" y="2590920"/>
            <a:ext cx="601992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74674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Цель работ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исследовать продукты питания школьников на наличие в них опасных пищевых добав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тановить, какие пищевые добавки являются вредными, и выявить их опасное воздействие на организ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брать материал о  наличии пищевых добавок в продуктах пита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следовать и классифицировать продукты питания на наличие в них опасных пищевых  добавок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делать выводы о продуктах питания, употребляемых школьника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ть буклет «Вредные пищевые добавк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7508880" y="510552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ль пищевых добаво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ищевые добав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—химические вещества и природные соединения, сами по себе обычно не употребляемые как пищевой продукт или обычный компонент пищи, но преднамеренно добавляемые в пищевой продукт по технологическим соображениям на различных этапах производства, хранения, транспортировки с целью получения или облегчения производственного процесса или отдельных операций, увеличения стойкости продукта к различным видам порчи, сохранения структуры и внешнего вида или намеренного изменения свойст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748520" y="452880"/>
            <a:ext cx="64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ы пищевых добаво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100 - Е182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рас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200 - Е2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сервант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300 - Е3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тиокисл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400 - Е4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билизаторы. Загустител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500 - Е5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мульгатор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600 - Е6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силители вкуса и запах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700 - Е8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резервированные номе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E900 - E9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еногас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1000 и далее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- газирующие агенты, подсластители, крахмал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дукты питания, часто употребляемые школь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Rectangle 51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5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10670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371600" y="2438280"/>
          <a:ext cx="6489720" cy="40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438280"/>
                    <a:ext cx="648972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990720" y="2362320"/>
          <a:ext cx="7924680" cy="4519440"/>
        </p:xfrm>
        <a:graphic>
          <a:graphicData uri="http://schemas.openxmlformats.org/drawingml/2006/table">
            <a:tbl>
              <a:tblPr/>
              <a:tblGrid>
                <a:gridCol w="2520720"/>
                <a:gridCol w="540396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щевые добавки, обнаруженные в продуктах питания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100-182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,120,141,160,102,129,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3,171,104,122,124,11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феты «Эмемдемс», жевательная резинка «Ассорти», «Фруша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.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200-Е2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,211, 290,2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«Кириешки», «Милкис», печенье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газированная вода «Буратино», «Тархун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300-Е399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0,320,322,338, 34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«Кириешки», «Милкис», жевательная резинка «Ассорти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Кока кола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400-Е4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0,422,421,414,465,47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вательная резинка «Ассорти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батончик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sguik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Эмемдемс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ts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itKa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печенье «Весёлые грибочки», быстрый завтрак «Звёздочки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500-Е599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3,551,5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Кириешки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600-Е6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1,627,6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чипсы «Читос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900 - E999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3,950,951,9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Буратино», «Тархун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1000 и далее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22, 144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Йогурт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uttis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AutoShape 44"/>
          <p:cNvSpPr/>
          <p:nvPr/>
        </p:nvSpPr>
        <p:spPr>
          <a:xfrm>
            <a:off x="3200400" y="533520"/>
            <a:ext cx="594360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Результат исследования продуктов на наличие пищевых добавок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5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371600" cy="1014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1020600" cy="104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757800"/>
            <a:ext cx="511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сификация продуктов по степени вредност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838080" y="2246400"/>
            <a:ext cx="1295640" cy="1211040"/>
          </a:xfrm>
          <a:prstGeom prst="rect">
            <a:avLst/>
          </a:prstGeom>
          <a:ln w="0">
            <a:noFill/>
          </a:ln>
        </p:spPr>
      </p:pic>
      <p:sp>
        <p:nvSpPr>
          <p:cNvPr id="214" name="Line 5"/>
          <p:cNvSpPr/>
          <p:nvPr/>
        </p:nvSpPr>
        <p:spPr>
          <a:xfrm>
            <a:off x="838080" y="3429000"/>
            <a:ext cx="13716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2209680" y="342900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2209680" y="3962520"/>
            <a:ext cx="1295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505320" y="3962520"/>
            <a:ext cx="0" cy="5331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505320" y="4495680"/>
            <a:ext cx="12189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4724280" y="449568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724280" y="5029200"/>
            <a:ext cx="1295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849240" cy="990720"/>
          </a:xfrm>
          <a:prstGeom prst="rect">
            <a:avLst/>
          </a:prstGeom>
          <a:ln w="0">
            <a:noFill/>
          </a:ln>
        </p:spPr>
      </p:pic>
      <p:sp>
        <p:nvSpPr>
          <p:cNvPr id="223" name="Line 16"/>
          <p:cNvSpPr/>
          <p:nvPr/>
        </p:nvSpPr>
        <p:spPr>
          <a:xfrm>
            <a:off x="6019920" y="556272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7315200" y="5562720"/>
            <a:ext cx="0" cy="5331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7315200" y="609588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8610480" y="609588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21" descr=""/>
          <p:cNvPicPr/>
          <p:nvPr/>
        </p:nvPicPr>
        <p:blipFill>
          <a:blip r:embed="rId5"/>
          <a:stretch/>
        </p:blipFill>
        <p:spPr>
          <a:xfrm>
            <a:off x="4876920" y="3962520"/>
            <a:ext cx="1295280" cy="966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"/>
          <p:cNvPicPr/>
          <p:nvPr/>
        </p:nvPicPr>
        <p:blipFill>
          <a:blip r:embed="rId6"/>
          <a:stretch/>
        </p:blipFill>
        <p:spPr>
          <a:xfrm>
            <a:off x="6248520" y="4343400"/>
            <a:ext cx="1066680" cy="1060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7"/>
          <a:stretch/>
        </p:blipFill>
        <p:spPr>
          <a:xfrm>
            <a:off x="7391520" y="487692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5"/>
          <p:cNvSpPr/>
          <p:nvPr/>
        </p:nvSpPr>
        <p:spPr>
          <a:xfrm>
            <a:off x="1447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274320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38098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I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51055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647712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762012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248520" y="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5000" y="91008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сификация вредных пищевых добаво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38080" y="2666880"/>
          <a:ext cx="7693200" cy="37245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асны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02, Е 110, Е120, Е 129, Е 5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нцероген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24, Е211, Е3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стройство желуд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320, Е 338, Е341, Е46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320, Е95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стройство кишечн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627, Е6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дозрительны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00, Е104, Е122, Е141, Е1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34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834120" y="757800"/>
            <a:ext cx="5493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339"/>
                </a:solidFill>
                <a:latin typeface="Arial"/>
              </a:rPr>
              <a:t>Рекомендаци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2189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купайте продукты неизвестных вам производителей, а также слишком яркие, остро и раздражающе пахнущие, с необычным вкус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имательней читайте надписи на этикет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йте для приготовления пищи натуральные продукты и спе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отребляйте экологически чистые продукты – свежие сырые овощи, фрукты и ягод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правляясь в магазин, не поленитесь взять с собой список пищевых добавок «Е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купайте продукты с большим сроком хранения, указанным на этикетке – признак того, что там много консервант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13T10:50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