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D83-C36B-405D-A1C3-5660254E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FBA-B826-4D30-A483-423C5BF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1C0-AF80-4B25-95AB-A679FF6C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8B1-201A-48FA-8A45-6FBA1957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CBE9-6A27-4628-B765-FC64A8F3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885-1ADA-4F35-A9B9-E1FA5240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B503-44FC-427D-AD8E-10C09CF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1C52-36FD-412D-AAD6-89E46128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688-9AE9-4800-9A28-62AF3103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A74-5B74-43B5-A8CF-885D7545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4653-C5DA-46BA-8195-2ECF1F7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2E2-735C-4702-9482-35C7C83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810A-E13B-457A-965B-6746D39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6AE1-6CB6-43BF-ABD5-B3EA95B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BD0C-0B2F-45A1-BD0F-823B9A1F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8134-1D2F-451D-BA4A-17FCBA9C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DC9D-127A-4D86-936F-03C6A290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8F98-6FE3-45FA-AB60-8EEB6D86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24A8-34EE-45EE-B140-EB4569D0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07B1-082F-477B-8F8E-87A11924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9F713-1DE1-401A-A730-90FEE19C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C5ED-1A23-46D8-8251-30612F7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EC4-7B22-446F-95B0-6E31AC6C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2ADA-B828-4A9B-80D6-083DBD8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4798-43CF-4445-92B7-BC25323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C41A-5B01-41EA-9F30-B3B6941A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E5B7-54AA-44C7-A457-6322448A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A752-DFA7-4516-B825-9B5B3144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0E03-A6F2-4221-ACF8-06E799D2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F045-19D6-4A25-B29E-B206BB49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C787-AC01-4FE2-B5AF-806A9C31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EC4F-029F-4B0B-926E-ABC7596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1959-F432-489C-869D-AAB0352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F8C-FBD9-4ADB-9BF9-393DFE48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A228-4B0D-4A50-A980-A7D5F24C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F35B-A813-42DC-8FD4-F06765AD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5022-1F61-46BF-8B58-9A05FE26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39121-06EC-431F-B4A9-1C256CF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C6B7-0369-44BE-9435-27B2A75A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EB735-D620-4EED-AC6C-108BF64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78FA-2DAA-49CA-858F-B2128B6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40B25-72C2-4D3A-B2C6-C70C9BB0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F40E-D2F2-451F-A4CF-09C5ADA4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4E9-DB50-4F7C-B147-80B4FA9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DF3-22B6-43FD-AB2D-574950B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1FC-0949-4A58-B045-D786DC6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0E5-144E-4634-83DC-FF9E276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E3B-33EE-436D-8544-58F53B10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8DA-3257-40BC-8A5E-00F9BF86D1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614C-591F-4C76-97F0-8691D41188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5520-AA98-412A-AAD6-6FC04C8081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465E-3003-46CB-9ACF-E33ADD204B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46000" y="1074600"/>
            <a:ext cx="57758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лияние пищевых добавок на здоровье челове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495680" y="3276360"/>
            <a:ext cx="46483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Авторы: Семёнова Кс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ьина Крист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666880" y="5791320"/>
            <a:ext cx="3810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МОБУ СОШ с. Солнеч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012 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600200" y="2590920"/>
            <a:ext cx="6019920" cy="10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746748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Цель работ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исследовать продукты питания школьников на наличие в них опасных пищевых добаво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становить, какие пищевые добавки являются вредными, и выявить их опасное воздействие на организ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брать материал о  наличии пищевых добавок в продуктах пита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следовать и классифицировать продукты питания на наличие в них опасных пищевых  добавок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делать выводы о продуктах питания, употребляемых школьника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аботать буклет «Вредные пищевые добавк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7508880" y="510552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оль пищевых добаво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ищевые добав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—химические вещества и природные соединения, сами по себе обычно не употребляемые как пищевой продукт или обычный компонент пищи, но преднамеренно добавляемые в пищевой продукт по технологическим соображениям на различных этапах производства, хранения, транспортировки с целью получения или облегчения производственного процесса или отдельных операций, увеличения стойкости продукта к различным видам порчи, сохранения структуры и внешнего вида или намеренного изменения свойст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748520" y="452880"/>
            <a:ext cx="64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ы пищевых добаво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100 - Е182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расител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200 - Е2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нсерванты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300 - Е3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тиокислител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400 - Е4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табилизаторы. Загустител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500 - Е5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мульгаторы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600 - Е6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силители вкуса и запах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700 - Е8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резервированные номе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E900 - E999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еногасител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Е1000 и далее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- газирующие агенты, подсластители, крахмалы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дукты питания, часто употребляемые школьник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Rectangle 51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5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106704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371600" y="2438280"/>
          <a:ext cx="6489720" cy="40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438280"/>
                    <a:ext cx="648972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990720" y="2362320"/>
          <a:ext cx="7924680" cy="4519440"/>
        </p:xfrm>
        <a:graphic>
          <a:graphicData uri="http://schemas.openxmlformats.org/drawingml/2006/table">
            <a:tbl>
              <a:tblPr/>
              <a:tblGrid>
                <a:gridCol w="2520720"/>
                <a:gridCol w="5403960"/>
              </a:tblGrid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щевые добавки, обнаруженные в продуктах питания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одукт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100-182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,120,141,160,102,129,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3,171,104,122,124,11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феты «Эмемдемс», жевательная резинка «Ассорти», «Фруша», «О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bi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.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200-Е299: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,211, 290,2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Воронцовские сухарики», «Кириешки», «Милкис», печенье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cópie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газированная вода «Буратино», «Тархун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300-Е399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0,320,322,338, 34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Воронцовские сухарики», «Кириешки», «Милкис», жевательная резинка «Ассорти»,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cópie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«Кока кола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400-Е499: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20,422,421,414,465,47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евательная резинка «Ассорти», «О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bi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батончик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sguik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«Эмемдемс»,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ts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itKa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печенье «Весёлые грибочки», быстрый завтрак «Звёздочки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500-Е599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3,551,5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Кириешки», «О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bi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cópie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600-Е699: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1,627,6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Воронцовские сухарики», чипсы «Читос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E900 - E999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3,950,951,9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О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bit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, «Буратино», «Тархун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Е1000 и далее: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22, 144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Йогурт «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ruttis</a:t>
                      </a: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AutoShape 44"/>
          <p:cNvSpPr/>
          <p:nvPr/>
        </p:nvSpPr>
        <p:spPr>
          <a:xfrm>
            <a:off x="3200400" y="533520"/>
            <a:ext cx="594360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Результат исследования продуктов на наличие пищевых добавок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5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371600" cy="1014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1020600" cy="1047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757800"/>
            <a:ext cx="5113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сификация продуктов по степени вредност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838080" y="2246400"/>
            <a:ext cx="1295640" cy="1211040"/>
          </a:xfrm>
          <a:prstGeom prst="rect">
            <a:avLst/>
          </a:prstGeom>
          <a:ln w="0">
            <a:noFill/>
          </a:ln>
        </p:spPr>
      </p:pic>
      <p:sp>
        <p:nvSpPr>
          <p:cNvPr id="214" name="Line 5"/>
          <p:cNvSpPr/>
          <p:nvPr/>
        </p:nvSpPr>
        <p:spPr>
          <a:xfrm>
            <a:off x="838080" y="3429000"/>
            <a:ext cx="13716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2209680" y="3429000"/>
            <a:ext cx="0" cy="533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2209680" y="3962520"/>
            <a:ext cx="12956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505320" y="3962520"/>
            <a:ext cx="0" cy="5331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3505320" y="4495680"/>
            <a:ext cx="12189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4724280" y="4495680"/>
            <a:ext cx="0" cy="533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4724280" y="5029200"/>
            <a:ext cx="12956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13" descr=""/>
          <p:cNvPicPr/>
          <p:nvPr/>
        </p:nvPicPr>
        <p:blipFill>
          <a:blip r:embed="rId4"/>
          <a:stretch/>
        </p:blipFill>
        <p:spPr>
          <a:xfrm>
            <a:off x="2286000" y="2895480"/>
            <a:ext cx="849240" cy="990720"/>
          </a:xfrm>
          <a:prstGeom prst="rect">
            <a:avLst/>
          </a:prstGeom>
          <a:ln w="0">
            <a:noFill/>
          </a:ln>
        </p:spPr>
      </p:pic>
      <p:sp>
        <p:nvSpPr>
          <p:cNvPr id="223" name="Line 16"/>
          <p:cNvSpPr/>
          <p:nvPr/>
        </p:nvSpPr>
        <p:spPr>
          <a:xfrm>
            <a:off x="6019920" y="5562720"/>
            <a:ext cx="129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7315200" y="5562720"/>
            <a:ext cx="0" cy="5331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7315200" y="6095880"/>
            <a:ext cx="129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8610480" y="6095880"/>
            <a:ext cx="0" cy="533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21" descr=""/>
          <p:cNvPicPr/>
          <p:nvPr/>
        </p:nvPicPr>
        <p:blipFill>
          <a:blip r:embed="rId5"/>
          <a:stretch/>
        </p:blipFill>
        <p:spPr>
          <a:xfrm>
            <a:off x="4876920" y="3962520"/>
            <a:ext cx="1295280" cy="966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"/>
          <p:cNvPicPr/>
          <p:nvPr/>
        </p:nvPicPr>
        <p:blipFill>
          <a:blip r:embed="rId6"/>
          <a:stretch/>
        </p:blipFill>
        <p:spPr>
          <a:xfrm>
            <a:off x="6248520" y="4343400"/>
            <a:ext cx="1066680" cy="1060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"/>
          <p:cNvPicPr/>
          <p:nvPr/>
        </p:nvPicPr>
        <p:blipFill>
          <a:blip r:embed="rId7"/>
          <a:stretch/>
        </p:blipFill>
        <p:spPr>
          <a:xfrm>
            <a:off x="7391520" y="487692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5"/>
          <p:cNvSpPr/>
          <p:nvPr/>
        </p:nvSpPr>
        <p:spPr>
          <a:xfrm>
            <a:off x="14479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274320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 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380988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 I 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51055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 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647712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762012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 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6248520" y="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5000" y="910080"/>
            <a:ext cx="5570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сификация вредных пищевых добаво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38080" y="2666880"/>
          <a:ext cx="7693200" cy="372456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асны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102, Е 110, Е120, Е 129, Е 5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нцероген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124, Е211, Е3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стройство желуд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320, Е 338, Е341, Е46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жные заболева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320, Е95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стройство кишечни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627, Е6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дозрительны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100, Е104, Е122, Е141, Е1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Picture 234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834120" y="757800"/>
            <a:ext cx="5493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339"/>
                </a:solidFill>
                <a:latin typeface="Arial"/>
              </a:rPr>
              <a:t>Рекомендаци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218960" y="25142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окупайте продукты неизвестных вам производителей, а также слишком яркие, остро и раздражающе пахнущие, с необычным вкус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имательней читайте надписи на этикетк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йте для приготовления пищи натуральные продукты и спе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отребляйте экологически чистые продукты – свежие сырые овощи, фрукты и ягод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правляясь в магазин, не поленитесь взять с собой список пищевых добавок «Е»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окупайте продукты с большим сроком хранения, указанным на этикетке – признак того, что там много консервант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2-13T10:50:4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