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0.gif" ContentType="image/gif"/>
  <Override PartName="/ppt/media/image8.wmf" ContentType="image/x-wmf"/>
  <Override PartName="/ppt/media/image11.png" ContentType="image/png"/>
  <Override PartName="/ppt/media/image17.gif" ContentType="image/gif"/>
  <Override PartName="/ppt/media/image16.gif" ContentType="image/gif"/>
  <Override PartName="/ppt/media/image14.png" ContentType="image/png"/>
  <Override PartName="/ppt/media/image1.png" ContentType="image/png"/>
  <Override PartName="/ppt/media/image3.gif" ContentType="image/gif"/>
  <Override PartName="/ppt/media/image12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195-E972-4868-9A02-D440A7DD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6E7-7881-4598-A6B2-364FB58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1D3-6486-4D59-AFB4-A4919CA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BAF-E636-433C-923F-8B5BDFE4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D5E1-B967-4453-97DA-C65DE1A4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D10-B020-47C2-8BBB-BC53A78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021-29D9-4586-B554-778A347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A41-D1E1-4AD7-AF9C-1B8646D6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D257-238E-49E5-B9C1-ABA8CD5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D26-F6FD-4540-93F4-D242DA3C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954F-30A1-41DA-826E-3AE009F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485-FBBB-4C29-8062-042F5F5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7F02-5C1F-4409-8C56-0BFF3BD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EEFE-DBC0-4EA0-B115-C63D6E5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98EB-6D4E-47CC-A39E-0640E54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9729-FC9D-4BC0-B3C2-C6CB489F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238F-6D1E-40D0-9182-B03923E5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D7E-9A6B-4D43-AADE-C126FED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40C-CBE7-4AE5-A143-827645A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03F-364D-4E6E-92DA-287C321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F2E-E0EB-4C54-A6AE-B08D417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1E5-7163-4A9B-B0A9-0207145D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BE8-E7E5-4B0E-83DC-6874638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116-CB90-4215-8A53-9FC0A30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B91-10A0-431A-8203-30E802421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B7E-421B-4182-BB68-FFED0CF054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hudesa.by.ru/grogon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428760" y="0"/>
            <a:ext cx="820728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лотность вещества</a:t>
            </a:r>
            <a:endParaRPr b="1" i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izmerinieVtela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5761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5" descr="resDCD92022-75AD-464E-8160-A663AAF006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res188FD948-117A-49BF-B6DA-63DD99111DA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668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179280" y="185760"/>
            <a:ext cx="8964720" cy="28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тность - это физическая величина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ая равна отношению масс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а к его объёму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55640" y="3284640"/>
            <a:ext cx="7596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Плотность     =   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 Narrow"/>
              </a:rPr>
              <a:t>М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124000" y="4508640"/>
            <a:ext cx="460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9280" y="1052640"/>
          <a:ext cx="8785440" cy="4295520"/>
        </p:xfrm>
        <a:graphic>
          <a:graphicData uri="http://schemas.openxmlformats.org/drawingml/2006/table">
            <a:tbl>
              <a:tblPr/>
              <a:tblGrid>
                <a:gridCol w="2919600"/>
                <a:gridCol w="2936880"/>
                <a:gridCol w="2928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 величи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, 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 , с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/м ,   г/с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658800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лезо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олото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хар – рафинад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Лёд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ёд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ода чиста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зин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род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х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одяной пар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356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dfd35"/>
                </a:solidFill>
                <a:latin typeface="Arial"/>
              </a:rPr>
              <a:t>Одно и то же вещество в различных агрегатных состояниях имеет разную плотно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2050920" y="765000"/>
            <a:ext cx="18590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800 кг/м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2195640" y="1268280"/>
            <a:ext cx="22604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800 кг/м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4067280" y="1700280"/>
            <a:ext cx="158436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600 кг/м3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1403280" y="2205000"/>
            <a:ext cx="1629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900 кг/м3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1403280" y="3141720"/>
            <a:ext cx="172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50 кг/м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WordArt 11"/>
          <p:cNvSpPr txBox="1"/>
          <p:nvPr/>
        </p:nvSpPr>
        <p:spPr>
          <a:xfrm>
            <a:off x="2987640" y="3500280"/>
            <a:ext cx="1800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000 кг/м3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2050920" y="4149720"/>
            <a:ext cx="1962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0 кг/м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2556000" y="5084640"/>
            <a:ext cx="1439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,430кг/м3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WordArt 14"/>
          <p:cNvSpPr txBox="1"/>
          <p:nvPr/>
        </p:nvSpPr>
        <p:spPr>
          <a:xfrm>
            <a:off x="2124000" y="5589720"/>
            <a:ext cx="1943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,290 кг/м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8" name="WordArt 15"/>
          <p:cNvSpPr txBox="1"/>
          <p:nvPr/>
        </p:nvSpPr>
        <p:spPr>
          <a:xfrm>
            <a:off x="3203640" y="6093000"/>
            <a:ext cx="240984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,590 кг/м3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p:transition>
    <p:push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какого металла изготовлена втулка подшипника, если её масса 3,9 кг, а объём 500 см3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но:            С.и.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с объяснение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= 3.9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г     3900 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запишем формулу плот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50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м3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= m/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числи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= 3900 : 500 = 7,8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Докажем размерно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= г/см3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 втулка изготовлена из ст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1908000" y="189000"/>
            <a:ext cx="489600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.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2916360" y="292428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24000" y="443700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4211640" y="292428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4356000" y="5661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435600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356000" y="6021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5940360" y="5661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940360" y="6021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5" descr="j0440424[1]"/>
          <p:cNvPicPr/>
          <p:nvPr/>
        </p:nvPicPr>
        <p:blipFill>
          <a:blip r:embed="rId1"/>
          <a:stretch/>
        </p:blipFill>
        <p:spPr>
          <a:xfrm>
            <a:off x="7164360" y="515772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Первичное закрепление пройденного материа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35"/>
                </a:solidFill>
                <a:latin typeface="Arial"/>
              </a:rPr>
              <a:t>Как называется новая характеристика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35"/>
                </a:solidFill>
                <a:latin typeface="Arial"/>
              </a:rPr>
              <a:t>Как определить плотность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35"/>
                </a:solidFill>
                <a:latin typeface="Arial"/>
              </a:rPr>
              <a:t>Какой буквой обозначается 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35"/>
                </a:solidFill>
                <a:latin typeface="Arial"/>
              </a:rPr>
              <a:t>Единица измерения плотности в 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1"/>
          <p:cNvPicPr/>
          <p:nvPr/>
        </p:nvPicPr>
        <p:blipFill>
          <a:blip r:embed="rId1"/>
          <a:stretch/>
        </p:blipFill>
        <p:spPr>
          <a:xfrm>
            <a:off x="6372360" y="2060640"/>
            <a:ext cx="42840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"/>
          <p:cNvPicPr/>
          <p:nvPr/>
        </p:nvPicPr>
        <p:blipFill>
          <a:blip r:embed="rId2"/>
          <a:stretch/>
        </p:blipFill>
        <p:spPr>
          <a:xfrm>
            <a:off x="3203640" y="3141720"/>
            <a:ext cx="42840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1"/>
          <p:cNvPicPr/>
          <p:nvPr/>
        </p:nvPicPr>
        <p:blipFill>
          <a:blip r:embed="rId3"/>
          <a:stretch/>
        </p:blipFill>
        <p:spPr>
          <a:xfrm>
            <a:off x="3348000" y="422100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1"/>
          <p:cNvPicPr/>
          <p:nvPr/>
        </p:nvPicPr>
        <p:blipFill>
          <a:blip r:embed="rId4"/>
          <a:stretch/>
        </p:blipFill>
        <p:spPr>
          <a:xfrm>
            <a:off x="8459640" y="472428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7"/>
          <p:cNvPicPr/>
          <p:nvPr/>
        </p:nvPicPr>
        <p:blipFill>
          <a:blip r:embed="rId5"/>
          <a:stretch/>
        </p:blipFill>
        <p:spPr>
          <a:xfrm>
            <a:off x="7524720" y="2349360"/>
            <a:ext cx="1197000" cy="1584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5832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д вами бруски одинаковой массы, изготовленные из меди, алюминия, олова, золота, сви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ьзуясь таблицей плотностей, определите, из какого вещества изготовлен каждый брус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5">
            <a:hlinkClick r:id="" action="ppaction://hlinkshowjump?jump=nextslide"/>
          </p:cNvPr>
          <p:cNvSpPr/>
          <p:nvPr/>
        </p:nvSpPr>
        <p:spPr>
          <a:xfrm>
            <a:off x="7956720" y="2133720"/>
            <a:ext cx="647640" cy="28728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7451640" y="2781360"/>
            <a:ext cx="1152720" cy="28872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7667640" y="3429000"/>
            <a:ext cx="934920" cy="28728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7093080" y="4149720"/>
            <a:ext cx="1511280" cy="28728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6012000" y="4653000"/>
            <a:ext cx="2592360" cy="3603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1 – золот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2 – мед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3 – свинец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 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4 – олов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       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5 – алюми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468360" y="1916280"/>
            <a:ext cx="1979640" cy="1800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/см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1908000" y="4221000"/>
            <a:ext cx="1943280" cy="17290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8 г/см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4572000" y="1844640"/>
            <a:ext cx="1871640" cy="17287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3,6 г/см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16360" y="4581360"/>
            <a:ext cx="1440000" cy="12960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013 г/см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1258920" y="98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5148360" y="90792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627280" y="3357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7093080" y="33577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з какого вещества сделан каждый куб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7"/>
          <p:cNvSpPr txBox="1"/>
          <p:nvPr/>
        </p:nvSpPr>
        <p:spPr>
          <a:xfrm>
            <a:off x="1187280" y="333360"/>
            <a:ext cx="7417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Человек страшится только того,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го не знает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нием побеждается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який страх.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И. Лени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1 – вод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2 – ртуть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                   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3 – желез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                         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4 – возду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4"/>
          <p:cNvSpPr txBox="1"/>
          <p:nvPr/>
        </p:nvSpPr>
        <p:spPr>
          <a:xfrm>
            <a:off x="755640" y="404640"/>
            <a:ext cx="6551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Impact"/>
              </a:rPr>
              <a:t>Подведение итого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Что нового вы узнали на урок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324000" y="549360"/>
            <a:ext cx="8280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dfd35"/>
                </a:solidFill>
                <a:latin typeface="Arial"/>
              </a:rPr>
              <a:t>Параграф № 2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dfd35"/>
                </a:solidFill>
                <a:latin typeface="Arial"/>
              </a:rPr>
              <a:t>Упражнение 7 № 4, 5 (письменно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7" descr="j0315816"/>
          <p:cNvPicPr/>
          <p:nvPr/>
        </p:nvPicPr>
        <p:blipFill>
          <a:blip r:embed="rId1"/>
          <a:stretch/>
        </p:blipFill>
        <p:spPr>
          <a:xfrm>
            <a:off x="6877080" y="4581360"/>
            <a:ext cx="2266920" cy="227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>
            <a:off x="1547640" y="333360"/>
            <a:ext cx="64090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6"/>
          <p:cNvSpPr txBox="1"/>
          <p:nvPr/>
        </p:nvSpPr>
        <p:spPr>
          <a:xfrm>
            <a:off x="1187280" y="4005360"/>
            <a:ext cx="6913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3" name="Picture 7" descr="3"/>
          <p:cNvPicPr/>
          <p:nvPr/>
        </p:nvPicPr>
        <p:blipFill>
          <a:blip r:embed="rId3"/>
          <a:stretch/>
        </p:blipFill>
        <p:spPr>
          <a:xfrm>
            <a:off x="2843280" y="2349360"/>
            <a:ext cx="3744720" cy="288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250920" y="1628640"/>
          <a:ext cx="4572000" cy="466416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Text Box 149"/>
          <p:cNvSpPr/>
          <p:nvPr/>
        </p:nvSpPr>
        <p:spPr>
          <a:xfrm>
            <a:off x="291636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К р о с с в о р 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50"/>
          <p:cNvSpPr/>
          <p:nvPr/>
        </p:nvSpPr>
        <p:spPr>
          <a:xfrm>
            <a:off x="4643280" y="23493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«Маленькая ма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51"/>
          <p:cNvSpPr/>
          <p:nvPr/>
        </p:nvSpPr>
        <p:spPr>
          <a:xfrm>
            <a:off x="611280" y="2276640"/>
            <a:ext cx="30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   О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Е    К    У   Л 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52"/>
          <p:cNvSpPr/>
          <p:nvPr/>
        </p:nvSpPr>
        <p:spPr>
          <a:xfrm>
            <a:off x="4716360" y="278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Быстрота 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53"/>
          <p:cNvSpPr/>
          <p:nvPr/>
        </p:nvSpPr>
        <p:spPr>
          <a:xfrm>
            <a:off x="755640" y="278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  К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Р  О    С   Т    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54"/>
          <p:cNvSpPr/>
          <p:nvPr/>
        </p:nvSpPr>
        <p:spPr>
          <a:xfrm>
            <a:off x="4716360" y="314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Единица д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55"/>
          <p:cNvSpPr/>
          <p:nvPr/>
        </p:nvSpPr>
        <p:spPr>
          <a:xfrm>
            <a:off x="4788000" y="3500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Явление сохранения скорости движения тела или его поко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56"/>
          <p:cNvSpPr/>
          <p:nvPr/>
        </p:nvSpPr>
        <p:spPr>
          <a:xfrm>
            <a:off x="684360" y="3141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    Е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7"/>
          <p:cNvSpPr/>
          <p:nvPr/>
        </p:nvSpPr>
        <p:spPr>
          <a:xfrm>
            <a:off x="1042920" y="3716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Е    Р   Ц   И   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58"/>
          <p:cNvSpPr/>
          <p:nvPr/>
        </p:nvSpPr>
        <p:spPr>
          <a:xfrm>
            <a:off x="1332000" y="4292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Б   Ъ    Е  М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9"/>
          <p:cNvSpPr/>
          <p:nvPr/>
        </p:nvSpPr>
        <p:spPr>
          <a:xfrm>
            <a:off x="684360" y="479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   А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С 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0"/>
          <p:cNvSpPr/>
          <p:nvPr/>
        </p:nvSpPr>
        <p:spPr>
          <a:xfrm>
            <a:off x="140328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Е    Р    М  О   М    Е   Т   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61"/>
          <p:cNvSpPr/>
          <p:nvPr/>
        </p:nvSpPr>
        <p:spPr>
          <a:xfrm>
            <a:off x="4788000" y="4149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еличина, которую можно измерять с помощью мензур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62"/>
          <p:cNvSpPr/>
          <p:nvPr/>
        </p:nvSpPr>
        <p:spPr>
          <a:xfrm>
            <a:off x="4859280" y="4724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Величина, которую измеряют в фунтах, каратах, центне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63"/>
          <p:cNvSpPr/>
          <p:nvPr/>
        </p:nvSpPr>
        <p:spPr>
          <a:xfrm>
            <a:off x="5148360" y="544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Прибор для измерения температу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64"/>
          <p:cNvSpPr/>
          <p:nvPr/>
        </p:nvSpPr>
        <p:spPr>
          <a:xfrm>
            <a:off x="1403280" y="1700280"/>
            <a:ext cx="36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67" descr="j0354499"/>
          <p:cNvPicPr/>
          <p:nvPr/>
        </p:nvPicPr>
        <p:blipFill>
          <a:blip r:embed="rId1"/>
          <a:stretch/>
        </p:blipFill>
        <p:spPr>
          <a:xfrm>
            <a:off x="395280" y="0"/>
            <a:ext cx="3384720" cy="1440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8" descr="j0336777"/>
          <p:cNvPicPr/>
          <p:nvPr/>
        </p:nvPicPr>
        <p:blipFill>
          <a:blip r:embed="rId2"/>
          <a:stretch/>
        </p:blipFill>
        <p:spPr>
          <a:xfrm>
            <a:off x="8028000" y="5084640"/>
            <a:ext cx="1116000" cy="177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77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851600" cy="4483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УЧИТЕЛЯ ФИЗИКИ МБОУ СОШ№1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ХУСЯИНОВОЙ Л.Н.  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1800" y="4143240"/>
            <a:ext cx="7850520" cy="2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250920" y="40464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3564000" y="549360"/>
            <a:ext cx="538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накомится с такой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ой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ществ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лотность,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яснить физический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ысл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тности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7"/>
          <p:cNvSpPr txBox="1"/>
          <p:nvPr/>
        </p:nvSpPr>
        <p:spPr>
          <a:xfrm>
            <a:off x="2195640" y="189000"/>
            <a:ext cx="482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Задачи урока: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Обучающа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аучить ребят понимать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мысл пло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Развивающа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интерес к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физике и физическим явле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оспитательна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оспит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ворческой, думающей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99ff"/>
                </a:solidFill>
                <a:latin typeface="Arial"/>
              </a:rPr>
              <a:t>Ответы на тест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риа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ариа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j0441400"/>
          <p:cNvPicPr/>
          <p:nvPr/>
        </p:nvPicPr>
        <p:blipFill>
          <a:blip r:embed="rId1"/>
          <a:stretch/>
        </p:blipFill>
        <p:spPr>
          <a:xfrm>
            <a:off x="6227640" y="3789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Arial"/>
              </a:rPr>
              <a:t>Критерии оценок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т ошибок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– 5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 ошибка –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– 3 ошибки –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 ошибки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0003"/>
          <p:cNvPicPr/>
          <p:nvPr/>
        </p:nvPicPr>
        <p:blipFill>
          <a:blip r:embed="rId1"/>
          <a:stretch/>
        </p:blipFill>
        <p:spPr>
          <a:xfrm>
            <a:off x="324000" y="3429000"/>
            <a:ext cx="1871640" cy="296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468360" y="0"/>
            <a:ext cx="820728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лотность вещества</a:t>
            </a:r>
            <a:endParaRPr b="1" i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чка, пластмасса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тол, алюминий, ртуть, нефть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нига, золото, вода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rhim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0"/>
            <a:ext cx="54738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 rot="5400000">
            <a:off x="-1872360" y="2601000"/>
            <a:ext cx="648000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рхиме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19:32Z</dcterms:created>
  <dc:creator>учитель</dc:creator>
  <dc:description/>
  <dc:language>en-US</dc:language>
  <cp:lastModifiedBy>Учитель Копылова</cp:lastModifiedBy>
  <dcterms:modified xsi:type="dcterms:W3CDTF">2012-10-29T07:47:22Z</dcterms:modified>
  <cp:revision>18</cp:revision>
  <dc:subject/>
  <dc:title>Слайд 1</dc:title>
</cp:coreProperties>
</file>