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wmf" ContentType="image/x-wmf"/>
  <Override PartName="/ppt/media/image27.gif" ContentType="image/gif"/>
  <Override PartName="/ppt/media/image22.png" ContentType="image/png"/>
  <Override PartName="/ppt/media/image19.gif" ContentType="image/gif"/>
  <Override PartName="/ppt/media/image41.jpeg" ContentType="image/jpe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24.gif" ContentType="image/gif"/>
  <Override PartName="/ppt/media/image31.png" ContentType="image/png"/>
  <Override PartName="/ppt/media/image32.png" ContentType="image/png"/>
  <Override PartName="/ppt/media/image33.jpeg" ContentType="image/jpeg"/>
  <Override PartName="/ppt/media/image36.png" ContentType="image/png"/>
  <Override PartName="/ppt/media/image13.gif" ContentType="image/gif"/>
  <Override PartName="/ppt/media/image37.gif" ContentType="image/gif"/>
  <Override PartName="/ppt/media/image42.png" ContentType="image/png"/>
  <Override PartName="/ppt/media/image30.gif" ContentType="image/gif"/>
  <Override PartName="/ppt/media/image40.jpeg" ContentType="image/jpeg"/>
  <Override PartName="/ppt/media/image45.png" ContentType="image/png"/>
  <Override PartName="/ppt/media/image44.jpeg" ContentType="image/jpeg"/>
  <Override PartName="/ppt/media/image17.wmf" ContentType="image/x-wmf"/>
  <Override PartName="/ppt/media/image43.jpeg" ContentType="image/jpeg"/>
  <Override PartName="/ppt/media/image46.jpeg" ContentType="image/jpeg"/>
  <Override PartName="/ppt/media/image12.gif" ContentType="image/gif"/>
  <Override PartName="/ppt/media/image15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1.gif" ContentType="image/gif"/>
  <Override PartName="/ppt/media/image10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35.gif" ContentType="image/gif"/>
  <Override PartName="/ppt/media/image28.png" ContentType="image/png"/>
  <Override PartName="/ppt/media/image5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0A6-8B62-46A5-BAB2-CD84F537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A44-376D-4791-B96E-48BDE0F3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5CC-37B1-46B1-A506-CDC0C86C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1EE-0F32-409E-BC70-3C1D96A2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317-D263-4C98-BA48-E254E22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776-A144-4E54-B8E1-599FF40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7B9-519A-4CCA-B937-E0BF029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F5B-BBEB-4A65-A2AC-B787580A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44F-09E0-4B24-AABF-E9260B4B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2B2-575F-4787-BBD9-1C885FD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23E-C27C-4715-B198-985DAB0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B8E-1E2C-463E-9468-F0B9D94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8280-146D-4740-88E4-04185E88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17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37.gif"/><Relationship Id="rId7" Type="http://schemas.openxmlformats.org/officeDocument/2006/relationships/image" Target="../media/image38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3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hyperlink" Target="http://images.yandex.ru/schoolsearch?rpt=simage&amp;ed=1&amp;text=&#1084;&#1072;&#1089;&#1083;&#1077;&#1085;&#1080;&#1094;&#1072;%20%20%20&#1082;&#1072;&#1088;&#1090;&#1080;&#1085;&#1082;&#1072;&amp;p=186&amp;img_url=s001.radikal.ru/i194/1001/a0/d23390e44cec.jpg" TargetMode="External"/><Relationship Id="rId8" Type="http://schemas.openxmlformats.org/officeDocument/2006/relationships/image" Target="../media/image21.png"/><Relationship Id="rId9" Type="http://schemas.openxmlformats.org/officeDocument/2006/relationships/image" Target="../media/image17.wmf"/><Relationship Id="rId10" Type="http://schemas.openxmlformats.org/officeDocument/2006/relationships/image" Target="../media/image4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990720"/>
            <a:ext cx="8229600" cy="360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LIT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095560" cy="122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0880" y="5105520"/>
            <a:ext cx="85345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Behaviour - a rainbow that colours our lif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77192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5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ролова Галина Михайл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СОШ №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 Белореченск Краснодарский кр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0" t="0" r="7780" b="0"/>
          <a:stretch/>
        </p:blipFill>
        <p:spPr>
          <a:xfrm>
            <a:off x="4656240" y="609480"/>
            <a:ext cx="321624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609480"/>
            <a:ext cx="2849760" cy="556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6677280" cy="414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13395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33520" y="1371600"/>
            <a:ext cx="5410080" cy="4405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0120" y="2305080"/>
            <a:ext cx="1209600" cy="4552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0552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 flipH="1">
            <a:off x="2534760" y="4038480"/>
            <a:ext cx="862200" cy="235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828800" y="4038480"/>
            <a:ext cx="86688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895480" y="380880"/>
            <a:ext cx="46483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658 English people began to use f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04920" y="3848040"/>
            <a:ext cx="1104840" cy="3009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80880" y="1828800"/>
            <a:ext cx="2714760" cy="192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2895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268800" cy="4934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809880" y="3427560"/>
            <a:ext cx="495324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438280" y="228600"/>
            <a:ext cx="12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depending on need, a set of flatware may contain five forks: dinner fork, fish fork, luncheon fork, salad or dessert f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651040" cy="235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554976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6320" y="0"/>
          <a:ext cx="9067680" cy="6857640"/>
        </p:xfrm>
        <a:graphic>
          <a:graphicData uri="http://schemas.openxmlformats.org/drawingml/2006/table">
            <a:tbl>
              <a:tblPr/>
              <a:tblGrid>
                <a:gridCol w="6553080"/>
                <a:gridCol w="251460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wo-prong twig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fork. By the seventh century, small forks were used at Middle Eastern courts Eating with a fork onc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andalous. While fork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regular feature on the tables of nobles in Italy since the 11th Century, and used in France in the 14th Century, it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…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England only in 1611 by Thomas Coryat. In England the fork was slow to gain. In 1608, Thomas Coryat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"grand tour" of Europe, and in Italy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ork. He liked it. He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forks and showed them to his friends. Coryate's friends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t him. And a fork appeared on the English tables 50 years later. In Russia the first fork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………….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17th centu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19160" y="380520"/>
            <a:ext cx="297180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1257480"/>
            <a:ext cx="7467480" cy="5600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ich topics are best avoided for small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11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earance or weigh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al gossip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летн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about somebody  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kes that might off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vious or current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isms or compl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09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094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609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09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7010280" y="2971800"/>
            <a:ext cx="14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8880" y="3429000"/>
            <a:ext cx="1251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0" r="0" b="7843"/>
          <a:stretch/>
        </p:blipFill>
        <p:spPr>
          <a:xfrm>
            <a:off x="3576600" y="2819520"/>
            <a:ext cx="261936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3048120" cy="183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04920"/>
            <a:ext cx="7772400" cy="1904760"/>
          </a:xfrm>
          <a:prstGeom prst="wedgeRectCallout">
            <a:avLst>
              <a:gd name="adj1" fmla="val 30962"/>
              <a:gd name="adj2" fmla="val 112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s like doors, will open with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y, very little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on’t forget that two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thank you” and if you “pleas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066680" y="281952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086600" cy="5486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, ”Thank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, ”Ple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interrupt or t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argue. We don’t fu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isten when folks talk to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iss, shake hands, and take our 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nners aren’t hard to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really easy, when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nner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BEING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10280" y="3886200"/>
            <a:ext cx="137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3520" y="685800"/>
            <a:ext cx="8229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ANK  YOU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581280" y="4495680"/>
            <a:ext cx="285768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71840" y="4191120"/>
            <a:ext cx="25909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04920"/>
            <a:ext cx="28954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14800"/>
            <a:ext cx="25146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819520"/>
            <a:ext cx="243828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666880"/>
            <a:ext cx="2895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37160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371600"/>
            <a:ext cx="28954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486400"/>
            <a:ext cx="40388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72200" y="5105520"/>
            <a:ext cx="166392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137160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4495320"/>
            <a:ext cx="27432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374600">
            <a:off x="2819520" y="1219320"/>
            <a:ext cx="3348000" cy="3881160"/>
          </a:xfrm>
          <a:custGeom>
            <a:avLst/>
            <a:gdLst>
              <a:gd name="textAreaLeft" fmla="*/ 837000 w 3348000"/>
              <a:gd name="textAreaRight" fmla="*/ 2511000 w 3348000"/>
              <a:gd name="textAreaTop" fmla="*/ 970200 h 3881160"/>
              <a:gd name="textAreaBottom" fmla="*/ 2910960 h 3881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657600" y="2743200"/>
            <a:ext cx="1662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OLITENE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808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971800"/>
            <a:ext cx="236196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the c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638680"/>
            <a:ext cx="19810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34340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523880"/>
            <a:ext cx="2286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752480"/>
            <a:ext cx="2210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819520"/>
            <a:ext cx="243864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quette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112392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71760" cy="1370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33520" y="5257800"/>
            <a:ext cx="1314360" cy="1293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77120" y="457200"/>
            <a:ext cx="174600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400800" y="5562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543800" y="5181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49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ussian       The Englis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said to b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114444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670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724280" y="30492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020080" y="533520"/>
            <a:ext cx="1123920" cy="67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0" y="533520"/>
            <a:ext cx="1052640" cy="760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ered na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den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981080"/>
            <a:ext cx="3657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d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http://im6-tub.yandex.net/i?id=97884463-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41600" y="4648320"/>
            <a:ext cx="1616040" cy="183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7467480" y="3657600"/>
            <a:ext cx="13734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4343400" y="4038480"/>
            <a:ext cx="84132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4191120" y="1981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solidFill>
            <a:srgbClr val="dddddd"/>
          </a:solidFill>
          <a:ln w="93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FORKS  AND  FIN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1049400" cy="304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flipH="1">
            <a:off x="7924320" y="2590920"/>
            <a:ext cx="901800" cy="3119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flipH="1">
            <a:off x="1676160" y="2743200"/>
            <a:ext cx="834840" cy="28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162920" y="3048120"/>
            <a:ext cx="915840" cy="2662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572000" y="4299120"/>
            <a:ext cx="267660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2362320" y="1981080"/>
            <a:ext cx="29239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rcRect l="31017" t="0" r="0" b="5493"/>
          <a:stretch/>
        </p:blipFill>
        <p:spPr>
          <a:xfrm>
            <a:off x="3276720" y="304920"/>
            <a:ext cx="4914720" cy="459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4610160" cy="4240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5880" y="1447920"/>
            <a:ext cx="2068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480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 with a fork considered scandal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dinner in Constantinople -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.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ern courts-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7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aly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1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ce – the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4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tables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flipH="1">
            <a:off x="7086240" y="2895480"/>
            <a:ext cx="1033560" cy="358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335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33520" y="3505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5335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335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8:43:18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