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823-F191-4572-9B21-8F48D46855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C61F-15B7-4F6C-ACDA-73364F7FC9C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D66-8402-4BD7-BB17-6897C35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C50-B5B5-4298-9CA5-9B7F78E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1B88-1778-4D98-8076-DFDF813C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FA0C-3AE7-4722-81D1-FDF16C9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9D80B-3204-4608-89A3-3038BA5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BA7C9-E506-4CF1-A05A-17A31CB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2439-5E80-475F-BE95-72B7F4C7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4EA6-4CAE-491C-845E-2091473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84B8B-6E13-40E6-BA07-F90CF5C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5DDB5-FC01-4107-88FE-D87B23CC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A7105-A153-4559-BE7E-9D014AA8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4E2-EF58-45A0-9635-B6FAB6C7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52E-39D2-4F58-8D27-6F6F55E0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F19-D974-44CA-8267-E3013E0C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6246-DD98-4FCD-B77B-16B17E2F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E9DE-6D74-4E89-B548-F29FB5BB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75D-6817-4EB6-AB4C-13E4997B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906F-7444-41FE-A678-0A188DB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63DB-E92E-487A-A6C7-DE7C1DF9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9604-C166-4652-8EE9-33D8F9C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2D4-ADEB-4267-82B4-20435EEF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E61-F6E9-4C96-8D01-E20D31E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5A6-2F85-45C0-9FB9-BEE650C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E1C-B012-49BE-8EAC-624A2C0E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E06-DA9B-484C-A94B-81DE73BD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793C-A110-4308-B01A-237124F2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1EDA-446D-4B3F-9FB6-A7062E78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A318-5232-40D3-9147-4CF0F78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9F8E-2A1D-4C0B-9C4F-24232E4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5E6B-0539-4932-907A-253EEE60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3B08-1CEA-4215-A140-DC6072B0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E22-4797-4BB4-8157-FB95C59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82E1-18E5-408D-8719-0007976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7545-DAF3-4E37-8812-69493D1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4EE9-5354-4ADD-8662-D2BCCDE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974E-02A3-44E7-8316-502F2B4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FDA1-F64C-4EF5-9BF2-12F791B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807F-751F-4D44-8CFF-B78AE61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F575-0A6C-4F44-81C9-738FE4B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D46E-AFBE-4F8C-8F79-B5134B2A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9104-7D93-4A53-BB6A-FE68DC6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13F7-0387-4AF5-8A02-4B558EB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C33-295E-4FEC-8436-78E555AB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56AA-B72C-4EC9-8E44-7FC0392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29AB-5F30-4B71-ACDE-4706B7A1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9DAF-1BF8-448E-8F87-60E6AA5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0746-C96D-4958-905F-71A1788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39F9-36BF-4FC7-B34F-A32FB22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C1A6-340B-4CA2-A792-667CB34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D34C-E29E-4CA2-81E1-7C4256A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68D9-CF7B-49EB-B886-11EB4CC3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71C5-B057-44D9-BE68-03B5EE3D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9ED6-9AAC-45D3-A7BC-8F05B0A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A7E-71AF-4B93-A70C-A76ECE7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AA41-E265-4024-BD2D-89B00A9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5AF3-D8C0-460E-94CC-E55532B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2C7F-CFAF-433C-831A-D6A203C7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25772-F7B5-443A-94AE-E4CA5C6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87347-E3B5-4A08-A4C3-0BB3DFF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BF74-EEBD-4D91-84DC-EBDEAD4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0E25-FBBA-42AF-A88A-2DDB8175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163C-205D-452B-B80D-2B080F3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DD71-2EFC-4FBF-9293-634BB22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874A-00F4-46E3-8353-BC808E25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324-3329-4FB8-97D6-0B9D032F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38FC-7331-4778-959E-E5CD1BB0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572E-1B81-4E9C-97A5-BAEFF9C1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6084-FE87-4A14-9272-2A504515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DA565-8F2D-4B66-885F-2861B42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5F42-4DD7-4AB8-9FE1-DACCD7D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2172-AE27-46B9-ABEB-D92B4D0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6B42-A21D-4744-A190-FC525FC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B1ED-7D7C-460B-A42C-8F57501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2AC3-C4C9-4BCC-8749-C18FBDA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966E-27ED-494E-B08E-3D14B6C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744-392F-4BD9-99A0-92CCD9D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E034-7D4D-4C51-8BBF-73BAB02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5000-0EF4-49AC-946A-81820CCD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0D1B2-6A1B-4207-9B67-8C1EA7F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3C5DA-1818-4A01-A5EC-389689E1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7CD1-E0FC-41E5-A329-4E1B5F8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42B5-A402-4646-BF5E-88744928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8BB7F-E05C-4286-B1BA-620386A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F321-D1A3-49ED-A467-B42ED302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198B-972D-46C7-8BC1-F4ED0A9D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888E-D2D8-4973-AB38-AD3DD6C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FAC-8632-4104-9960-B8D50C0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C574-8759-4C29-A438-0A111E5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90259-94BB-4906-88E2-17DB141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BD7BA-B77F-4FA8-986A-673F234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18D0-9460-4849-BED2-DFAE8840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7F56-DBA5-46D7-A87C-415300BE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5AB3-CEDD-4F2F-9A08-F90105F9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51B27-D3F4-4BCC-917B-ECA8B8B7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2EA25-59DD-4418-9B0E-7D31CD7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B6EC-5D44-4946-839B-094C134D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6F6E3-F92A-49FD-AAFE-5FBEF88B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DB0-BBD6-4AF7-BC4B-6C3AE19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94CC-0A81-403A-88BC-C6CDF6D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63723-6562-4D97-8C39-1F16B09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B222-875C-4A95-A250-1D29F48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B13BF-FD38-4273-952F-747ACBC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C36B7-61EF-432D-973F-72F4DA9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44233-2E45-4D73-A364-9075BA21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163B-1DBF-41C2-AE2E-C6538F2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69E65-8B98-4E05-9377-D0C02A3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E6EB-A238-4FBF-BCE6-5205289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4786A-1303-4388-9E93-48F466FE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7AA-BA13-40F8-9873-0529B0AAE8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FA17-8B3B-4170-8DAF-8958106C5A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C17-436D-49CB-A191-E2BEECF17F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2B8F-5CC1-4F1F-A326-58D1699866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CCAC-48AB-4A1B-A439-9D5FA4F6DF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8BE-E2A2-4BDE-A5D3-FA9C584675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5FD-24E0-43FB-9AF3-22CEBF533A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BD7-4EA4-498B-BABC-FD1C391290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F6B-AE68-4C20-B840-14284A5F2E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11"/>
          <p:cNvSpPr txBox="1"/>
          <p:nvPr/>
        </p:nvSpPr>
        <p:spPr>
          <a:xfrm>
            <a:off x="482760" y="260280"/>
            <a:ext cx="8251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Оздоровление и развитие дошкольников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посредством танцевально-ритмической гимнас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1"/>
          <a:stretch/>
        </p:blipFill>
        <p:spPr>
          <a:xfrm>
            <a:off x="336600" y="1457280"/>
            <a:ext cx="3133800" cy="3638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90440" y="1530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Савоник Маргари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Георгиевна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 Black"/>
              </a:rPr>
              <a:t>                    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Инструктор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по физической культур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первой категор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ДОУ №46 «Сказка</a:t>
            </a:r>
            <a:r>
              <a:rPr b="0" lang="ru-RU" sz="3200" spc="-1" strike="noStrike">
                <a:solidFill>
                  <a:srgbClr val="339966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34"/>
          <p:cNvSpPr/>
          <p:nvPr/>
        </p:nvSpPr>
        <p:spPr>
          <a:xfrm>
            <a:off x="1030320" y="3355920"/>
            <a:ext cx="3240000" cy="3240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традиционные виды упражнен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WordArt 7"/>
          <p:cNvSpPr txBox="1"/>
          <p:nvPr/>
        </p:nvSpPr>
        <p:spPr>
          <a:xfrm>
            <a:off x="190440" y="81000"/>
            <a:ext cx="87631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нцевально-ритмические игры-занятия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Oval 32"/>
          <p:cNvSpPr/>
          <p:nvPr/>
        </p:nvSpPr>
        <p:spPr>
          <a:xfrm>
            <a:off x="2892600" y="1092240"/>
            <a:ext cx="3240000" cy="3240000"/>
          </a:xfrm>
          <a:prstGeom prst="ellipse">
            <a:avLst/>
          </a:prstGeom>
          <a:gradFill rotWithShape="0">
            <a:gsLst>
              <a:gs pos="0">
                <a:srgbClr val="ffffe7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анцевально-ритмическая гимнасти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2" name="Рисунок 8" descr="Спортивный праздник 006.jpg"/>
          <p:cNvPicPr/>
          <p:nvPr/>
        </p:nvPicPr>
        <p:blipFill>
          <a:blip r:embed="rId3"/>
          <a:stretch/>
        </p:blipFill>
        <p:spPr>
          <a:xfrm>
            <a:off x="6215040" y="1165320"/>
            <a:ext cx="2746440" cy="211752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pic>
        <p:nvPicPr>
          <p:cNvPr id="413" name="Рисунок 14" descr="Изображение 040.jpg"/>
          <p:cNvPicPr/>
          <p:nvPr/>
        </p:nvPicPr>
        <p:blipFill>
          <a:blip r:embed="rId4"/>
          <a:stretch/>
        </p:blipFill>
        <p:spPr>
          <a:xfrm>
            <a:off x="190440" y="1128600"/>
            <a:ext cx="2665440" cy="215424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sp>
        <p:nvSpPr>
          <p:cNvPr id="414" name="Oval 33"/>
          <p:cNvSpPr/>
          <p:nvPr/>
        </p:nvSpPr>
        <p:spPr>
          <a:xfrm>
            <a:off x="4498920" y="3282840"/>
            <a:ext cx="3240000" cy="3240360"/>
          </a:xfrm>
          <a:prstGeom prst="ellipse">
            <a:avLst/>
          </a:prstGeom>
          <a:gradFill rotWithShape="0">
            <a:gsLst>
              <a:gs pos="0">
                <a:srgbClr val="e7ffe7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еативная гимнастик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18"/>
          <p:cNvSpPr/>
          <p:nvPr/>
        </p:nvSpPr>
        <p:spPr>
          <a:xfrm>
            <a:off x="2271600" y="1566720"/>
            <a:ext cx="4645080" cy="4069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анцевально-ритмическая гимнасти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AutoShape 21"/>
          <p:cNvSpPr/>
          <p:nvPr/>
        </p:nvSpPr>
        <p:spPr>
          <a:xfrm>
            <a:off x="5229360" y="0"/>
            <a:ext cx="361476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7f5d7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гимнасти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AutoShape 19"/>
          <p:cNvSpPr/>
          <p:nvPr/>
        </p:nvSpPr>
        <p:spPr>
          <a:xfrm>
            <a:off x="336600" y="0"/>
            <a:ext cx="365112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ритми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2527200" y="4941720"/>
            <a:ext cx="4381560" cy="1916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50000">
                <a:srgbClr val="d7ebff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танец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9" name="Рисунок 16" descr="Спортивный праздник 013.jpg"/>
          <p:cNvPicPr/>
          <p:nvPr/>
        </p:nvPicPr>
        <p:blipFill>
          <a:blip r:embed="rId2"/>
          <a:stretch/>
        </p:blipFill>
        <p:spPr>
          <a:xfrm>
            <a:off x="5850000" y="2370240"/>
            <a:ext cx="3066840" cy="222732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20" name="Рисунок 18" descr="Изображение 039.jpg"/>
          <p:cNvPicPr/>
          <p:nvPr/>
        </p:nvPicPr>
        <p:blipFill>
          <a:blip r:embed="rId3"/>
          <a:stretch/>
        </p:blipFill>
        <p:spPr>
          <a:xfrm>
            <a:off x="190440" y="2297160"/>
            <a:ext cx="2994120" cy="2373120"/>
          </a:xfrm>
          <a:prstGeom prst="rect">
            <a:avLst/>
          </a:prstGeom>
          <a:ln w="9360">
            <a:solidFill>
              <a:srgbClr val="a5644e"/>
            </a:solidFill>
            <a:miter/>
          </a:ln>
        </p:spPr>
      </p:pic>
      <p:sp>
        <p:nvSpPr>
          <p:cNvPr id="421" name="TextBox 20"/>
          <p:cNvSpPr/>
          <p:nvPr/>
        </p:nvSpPr>
        <p:spPr>
          <a:xfrm>
            <a:off x="3002040" y="-550800"/>
            <a:ext cx="4795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Oval 18"/>
          <p:cNvSpPr/>
          <p:nvPr/>
        </p:nvSpPr>
        <p:spPr>
          <a:xfrm>
            <a:off x="3095640" y="2205000"/>
            <a:ext cx="2844720" cy="2664000"/>
          </a:xfrm>
          <a:prstGeom prst="ellipse">
            <a:avLst/>
          </a:prstGeom>
          <a:gradFill rotWithShape="0">
            <a:gsLst>
              <a:gs pos="0">
                <a:srgbClr val="f1f5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традиционные виды упражнений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299880" y="325440"/>
            <a:ext cx="2921040" cy="1752480"/>
          </a:xfrm>
          <a:prstGeom prst="wedgeRectCallout">
            <a:avLst>
              <a:gd name="adj1" fmla="val 70208"/>
              <a:gd name="adj2" fmla="val 100314"/>
            </a:avLst>
          </a:prstGeom>
          <a:gradFill rotWithShape="0">
            <a:gsLst>
              <a:gs pos="0">
                <a:srgbClr val="91daff"/>
              </a:gs>
              <a:gs pos="100000">
                <a:srgbClr val="f5fc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опластик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4060800" y="179280"/>
            <a:ext cx="3176640" cy="1643040"/>
          </a:xfrm>
          <a:prstGeom prst="wedgeRectCallout">
            <a:avLst>
              <a:gd name="adj1" fmla="val -10620"/>
              <a:gd name="adj2" fmla="val 94537"/>
            </a:avLst>
          </a:prstGeom>
          <a:gradFill rotWithShape="0">
            <a:gsLst>
              <a:gs pos="0">
                <a:srgbClr val="66ff66"/>
              </a:gs>
              <a:gs pos="100000">
                <a:srgbClr val="f1fff1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льчиковая гимнастик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6178680" y="2333520"/>
            <a:ext cx="2619360" cy="1908360"/>
          </a:xfrm>
          <a:prstGeom prst="wedgeRectCallout">
            <a:avLst>
              <a:gd name="adj1" fmla="val -66712"/>
              <a:gd name="adj2" fmla="val 31449"/>
            </a:avLst>
          </a:prstGeom>
          <a:gradFill rotWithShape="0">
            <a:gsLst>
              <a:gs pos="0">
                <a:srgbClr val="ff9999"/>
              </a:gs>
              <a:gs pos="100000">
                <a:srgbClr val="fff9f9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овой самомассаж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754520" y="4925880"/>
            <a:ext cx="2773440" cy="1511280"/>
          </a:xfrm>
          <a:prstGeom prst="wedgeRectCallout">
            <a:avLst>
              <a:gd name="adj1" fmla="val -75356"/>
              <a:gd name="adj2" fmla="val -57351"/>
            </a:avLst>
          </a:prstGeom>
          <a:gradFill rotWithShape="0">
            <a:gsLst>
              <a:gs pos="0">
                <a:srgbClr val="cc99ff"/>
              </a:gs>
              <a:gs pos="100000">
                <a:srgbClr val="faf5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зыкально-подвижные игр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7" name="AutoShape 29"/>
          <p:cNvSpPr/>
          <p:nvPr/>
        </p:nvSpPr>
        <p:spPr>
          <a:xfrm>
            <a:off x="336600" y="3429000"/>
            <a:ext cx="2700360" cy="1835280"/>
          </a:xfrm>
          <a:prstGeom prst="wedgeRectCallout">
            <a:avLst>
              <a:gd name="adj1" fmla="val 67990"/>
              <a:gd name="adj2" fmla="val 171"/>
            </a:avLst>
          </a:prstGeom>
          <a:gradFill rotWithShape="0">
            <a:gsLst>
              <a:gs pos="0">
                <a:srgbClr val="ff9999"/>
              </a:gs>
              <a:gs pos="100000">
                <a:srgbClr val="fff2f2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ы-путешеств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16" descr="Спортивный праздник 021.jpg"/>
          <p:cNvPicPr/>
          <p:nvPr/>
        </p:nvPicPr>
        <p:blipFill>
          <a:blip r:embed="rId1"/>
          <a:stretch/>
        </p:blipFill>
        <p:spPr>
          <a:xfrm>
            <a:off x="190440" y="1785960"/>
            <a:ext cx="3322800" cy="2281320"/>
          </a:xfrm>
          <a:prstGeom prst="rect">
            <a:avLst/>
          </a:prstGeom>
          <a:ln w="9360">
            <a:solidFill>
              <a:srgbClr val="c3986d"/>
            </a:solidFill>
            <a:miter/>
          </a:ln>
        </p:spPr>
      </p:pic>
      <p:pic>
        <p:nvPicPr>
          <p:cNvPr id="429" name="Рисунок 19" descr="Спортивный праздник 022.jpg"/>
          <p:cNvPicPr/>
          <p:nvPr/>
        </p:nvPicPr>
        <p:blipFill>
          <a:blip r:embed="rId2"/>
          <a:stretch/>
        </p:blipFill>
        <p:spPr>
          <a:xfrm>
            <a:off x="5667480" y="1676520"/>
            <a:ext cx="3213000" cy="237312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sp>
        <p:nvSpPr>
          <p:cNvPr id="430" name="Oval 33"/>
          <p:cNvSpPr/>
          <p:nvPr/>
        </p:nvSpPr>
        <p:spPr>
          <a:xfrm>
            <a:off x="2819520" y="252360"/>
            <a:ext cx="3240000" cy="1825560"/>
          </a:xfrm>
          <a:prstGeom prst="ellipse">
            <a:avLst/>
          </a:prstGeom>
          <a:gradFill rotWithShape="0">
            <a:gsLst>
              <a:gs pos="0">
                <a:srgbClr val="e7ffe7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реативная гимнастик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574560" y="1521000"/>
            <a:ext cx="3132360" cy="4824360"/>
            <a:chOff x="574560" y="1521000"/>
            <a:chExt cx="3132360" cy="4824360"/>
          </a:xfrm>
        </p:grpSpPr>
        <p:sp>
          <p:nvSpPr>
            <p:cNvPr id="432" name="AutoShape 7"/>
            <p:cNvSpPr/>
            <p:nvPr/>
          </p:nvSpPr>
          <p:spPr>
            <a:xfrm>
              <a:off x="574560" y="4257720"/>
              <a:ext cx="3097440" cy="2087640"/>
            </a:xfrm>
            <a:prstGeom prst="roundRect">
              <a:avLst>
                <a:gd name="adj" fmla="val 3113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333ff"/>
                  </a:solidFill>
                  <a:latin typeface="Arial"/>
                </a:rPr>
                <a:t>Музыкально-творческие игры</a:t>
              </a:r>
              <a:endParaRPr b="0" lang="en-US" sz="2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3" name="Line 13"/>
            <p:cNvSpPr/>
            <p:nvPr/>
          </p:nvSpPr>
          <p:spPr>
            <a:xfrm flipH="1">
              <a:off x="2879640" y="1521000"/>
              <a:ext cx="827280" cy="287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434" name="Group 18"/>
          <p:cNvGrpSpPr/>
          <p:nvPr/>
        </p:nvGrpSpPr>
        <p:grpSpPr>
          <a:xfrm>
            <a:off x="4859280" y="1557360"/>
            <a:ext cx="3205080" cy="4751280"/>
            <a:chOff x="4859280" y="1557360"/>
            <a:chExt cx="3205080" cy="4751280"/>
          </a:xfrm>
        </p:grpSpPr>
        <p:sp>
          <p:nvSpPr>
            <p:cNvPr id="435" name="AutoShape 8"/>
            <p:cNvSpPr/>
            <p:nvPr/>
          </p:nvSpPr>
          <p:spPr>
            <a:xfrm>
              <a:off x="4859280" y="4257720"/>
              <a:ext cx="3205080" cy="2050920"/>
            </a:xfrm>
            <a:prstGeom prst="roundRect">
              <a:avLst>
                <a:gd name="adj" fmla="val 31139"/>
              </a:avLst>
            </a:prstGeom>
            <a:solidFill>
              <a:srgbClr val="ccecff"/>
            </a:solidFill>
            <a:ln w="9360">
              <a:solidFill>
                <a:srgbClr val="f0a22e"/>
              </a:solidFill>
              <a:miter/>
            </a:ln>
            <a:effectLst>
              <a:outerShdw dist="53966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333ff"/>
                  </a:solidFill>
                  <a:latin typeface="Arial"/>
                </a:rPr>
                <a:t>Специальные задания</a:t>
              </a:r>
              <a:endParaRPr b="0" lang="en-US" sz="2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>
              <a:off x="5254560" y="1557360"/>
              <a:ext cx="793800" cy="2735280"/>
            </a:xfrm>
            <a:prstGeom prst="line">
              <a:avLst/>
            </a:prstGeom>
            <a:ln cap="sq" w="76320">
              <a:solidFill>
                <a:srgbClr val="00b0f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 spd="med"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22" descr="Спортивный праздник 005.jpg"/>
          <p:cNvPicPr/>
          <p:nvPr/>
        </p:nvPicPr>
        <p:blipFill>
          <a:blip r:embed="rId1"/>
          <a:stretch/>
        </p:blipFill>
        <p:spPr>
          <a:xfrm>
            <a:off x="3002040" y="982800"/>
            <a:ext cx="2811240" cy="230004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38" name="Рисунок 23" descr="Спортивный праздник 006.jpg"/>
          <p:cNvPicPr/>
          <p:nvPr/>
        </p:nvPicPr>
        <p:blipFill>
          <a:blip r:embed="rId2"/>
          <a:stretch/>
        </p:blipFill>
        <p:spPr>
          <a:xfrm>
            <a:off x="0" y="1566720"/>
            <a:ext cx="2855880" cy="233712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39" name="Рисунок 24" descr="Спортивный праздник 007.jpg"/>
          <p:cNvPicPr/>
          <p:nvPr/>
        </p:nvPicPr>
        <p:blipFill>
          <a:blip r:embed="rId3"/>
          <a:stretch/>
        </p:blipFill>
        <p:spPr>
          <a:xfrm>
            <a:off x="5959440" y="1384200"/>
            <a:ext cx="2970360" cy="251964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sp>
        <p:nvSpPr>
          <p:cNvPr id="440" name="AutoShape 6"/>
          <p:cNvSpPr/>
          <p:nvPr/>
        </p:nvSpPr>
        <p:spPr>
          <a:xfrm>
            <a:off x="811080" y="0"/>
            <a:ext cx="7010640" cy="13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e3b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ел «Пальчиковая гимнастика»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Oval 18"/>
          <p:cNvSpPr/>
          <p:nvPr/>
        </p:nvSpPr>
        <p:spPr>
          <a:xfrm>
            <a:off x="8332920" y="0"/>
            <a:ext cx="811080" cy="727200"/>
          </a:xfrm>
          <a:prstGeom prst="ellipse">
            <a:avLst/>
          </a:prstGeom>
          <a:gradFill rotWithShape="0">
            <a:gsLst>
              <a:gs pos="0">
                <a:srgbClr val="f1f5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AutoShape 2"/>
          <p:cNvSpPr/>
          <p:nvPr/>
        </p:nvSpPr>
        <p:spPr>
          <a:xfrm>
            <a:off x="299880" y="4013280"/>
            <a:ext cx="8445600" cy="232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4e3b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лужит основой для развития ручной умелости, мелкой моторики и координации движения ру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Бабушка кисель варил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Сидит белка на заборе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Круг»,  «Домик»,  «Бинокль»,  «Очки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31:36Z</dcterms:created>
  <dc:creator>vlad</dc:creator>
  <dc:description/>
  <dc:language>en-US</dc:language>
  <cp:lastModifiedBy>Admin</cp:lastModifiedBy>
  <dcterms:modified xsi:type="dcterms:W3CDTF">2013-02-11T08:12:13Z</dcterms:modified>
  <cp:revision>341</cp:revision>
  <dc:subject/>
  <dc:title>Слайд 1</dc:title>
</cp:coreProperties>
</file>