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9A5A-9EA1-4A9E-98FB-A17D753A02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F05C-007C-4D27-B6F5-7A47A54C9BAC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8284-67E8-49C6-8B4C-7D01F9D72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7A9E-77DC-42DF-A22C-E83C2A37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26329-9E17-4CDF-9726-5AB16F9E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E2928-9271-4524-8CD2-9F4566FE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DBEE3-55F0-4E6A-991B-82C3D7E8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EDB77-79D1-4ED9-A76E-B52B350A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A4487-3DB2-4045-8ED5-6CA7106E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F565D-C907-4298-9C7D-A37F9F20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8FBC64-C045-4FFE-BA3F-2D725370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B0374-984F-49D5-B923-F7B2CA72F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65DF52-00AB-4A34-B9DA-362A081ED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4302-014D-4A6E-8468-B8C44485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DA32-5D40-4BD9-84AA-0E239B0BA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0248-3E1B-40D0-99E3-403864D6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C9DA-E395-4CB5-A85D-EE6B95D2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8A10-7EE1-46BB-B82C-B7C2ED22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D192-1179-4B11-A08C-03EF968F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2847-1354-4D29-810F-F82352FF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D2D4-7CFC-4004-8DB9-CBD17E38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9D4C1-59BC-4F8D-AC62-FF5505ED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3606-55D1-4F73-8647-625319D2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CAD9-9736-4C5B-9FAC-E58DFC6A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FA99-507E-499D-BC59-A377728D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6B57-D775-4A69-8AEC-C49695E6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6FEB-86E8-4D98-BD03-D24C8963E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8F27-25D6-40C3-829A-3181F7767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AAA36-EA62-4F28-B03C-F1451B6E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07CCA-3ADE-4CE9-89FC-13530979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CFDD1-CBF5-40D1-AF98-D5D1D03F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BC520-C9B6-4A81-AA6F-F1A0BC9F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F1A01-18B8-4DE3-A011-A6E37B70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07D4-B6F4-4C08-AEB8-E34E7EB3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60156-59C3-4F89-8A5E-582EF7B5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4FD96-5BD7-40ED-B1FC-1FE103E0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00641-A81F-458D-AA4F-29F69FF8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6C4B4-42C5-42D0-9F82-33E8B6CD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10579-671D-4A3E-8A1A-7CE34459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2D17E-42A6-44F9-8BE1-757B77C5A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AB44A-A770-4B2F-90FA-AA8FFE5BE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E85DA-E171-44FB-95E1-15A0ADE92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C61F4-CAF6-43A4-9B2D-138C82E9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30518-5773-418A-BE17-24DF7022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561C-ABD0-42CA-94D1-6A021F73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51418-56D6-4993-ADF7-8FC60A0D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CE6AD-55F6-4620-82FE-04DF812A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F3213-13C9-4091-965F-5046C21D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7840D-02F2-4E4F-88A2-4C296FE3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0DCAA-B2FA-40B8-928D-1FE64832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69422-05D4-4F11-A210-78879218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E12C7-275A-43CE-AE49-2259EE12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8BD3E-ACA6-4962-99B5-F948D3196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B9DD6-911C-4E02-B54F-BD07095EA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D7166-1B0F-49B7-ADBD-72CD971F3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C9AC-C7F7-4B3F-9782-58D985DB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2727A-F93C-443D-98EA-478C14E3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C9184-52A8-4325-ABFE-50D40C7E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9E8A7-6596-4EF7-A881-3004D474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B5928-C6E6-4C6B-8AB3-662AF33F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F9402-3DC4-4254-8C8E-43E86A7F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446D0-C356-4D5B-85B5-D1CA01A5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A5243-04D4-4983-B1B9-B6E39672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CF864-62A8-489C-8F68-2757EEB2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C58F5-D657-4AF1-B948-B503F428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C2A20-9171-4E4D-8D0A-B101A1A5C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B23A-397A-47B5-8ECC-B575307D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E5180-0E7A-43F1-B9B0-A980E74D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D9CE7-61D8-478A-8F8D-C6A10B098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D48C1-88D8-446F-8E16-5A8EFA47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D4865-93E4-4881-AB99-AEFFADC7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5F270-834C-493F-8676-1657A358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A76D9-65B9-4915-B16E-DF396757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81108-F295-478D-8811-2D6F641E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B4A73-2712-4759-BBA8-E545536E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93E4A-9CAD-438E-B941-FE5D5006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8534D-C938-45AB-9582-E80A2C50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79F1-227D-4835-9100-F2617D91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6A0E6-4EEA-47E0-8E96-7BCEF60A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8E2EA-4192-4F4C-9AD4-81D12B789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0C1F5-B11E-41C7-99D6-F59186F5E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02905-9622-4797-A559-1B72AB06D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52A1D-63C1-4C46-8560-398EB8AD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A02FB-0A5F-4375-8A1C-8DA4375B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A3C06-4A25-4FB0-B801-24E5E84D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6A34C-2FB5-4C10-80BD-585975FE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303E7-2B8B-4FC2-A369-9A8329C6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72F39-8D3E-4FF8-8E45-2E8B8DF0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1716-6893-46AD-B783-03664572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D9574-0A1A-4891-9DF3-47AACB57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B732B-ABA1-4F35-A02B-87B1AE33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94D24-578A-4592-A132-AEDD5746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77589-8437-4922-8CB0-79940E25A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726F4-B63F-47A3-B6CB-90BADD5CA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AA19D-D5D8-4360-8146-5EACA0AD5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885BA-BC61-47BC-BB30-CA77A86C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DC35A-7BB2-4DA7-851C-539E4E83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C5339-968F-4F3E-872D-EEC7E525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33556-7165-424E-9B36-422359D3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69F9-92E2-4FEE-9350-1C5F0871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349C5-CBE6-454D-B1FF-FDE6EF20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8A2C0-B37C-4B43-A3FD-32FE0CB4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8FA98-55FF-440B-9DE9-8FD65978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C194A-5CD9-467B-8FC5-F4CBE025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23DA2-A215-44C8-8B68-E3D67823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6F0BF-9F41-4D9C-94F4-030EA8EF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D251A-CE79-4385-B239-07E557D45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CF365-7CCB-4DB2-8ACC-AB0E8C07B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A3FCC-D961-402D-9308-8F06F0BA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E713E-59FE-4016-BC7E-2F0F7F7E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0E8B-9FBB-4E56-9704-28AA8C79BEF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F537-B1E8-47B2-ABCC-570C915FF57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D6D5-B786-4112-83DC-1F57C5CF6D5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99DA-1BF1-49C6-AEAD-0839A6A0C41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51A4-16AA-41A6-BD6C-877DC9C9E94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A266-0F48-462D-9DE9-D86F25C5114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2902-ABDC-4765-A685-48950A1A5C3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CDDD-41A3-4916-9E91-92CAC1AAE29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8AD5-31E4-405E-9104-A72FF4D2242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WordArt 11"/>
          <p:cNvSpPr txBox="1"/>
          <p:nvPr/>
        </p:nvSpPr>
        <p:spPr>
          <a:xfrm>
            <a:off x="482760" y="260280"/>
            <a:ext cx="82515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Impact"/>
              </a:rPr>
              <a:t>Оздоровление и развитие дошкольников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Impact"/>
              </a:rPr>
              <a:t>посредством танцевально-ритмической гимнастик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Impact"/>
              <a:ea typeface="Impact"/>
            </a:endParaRPr>
          </a:p>
        </p:txBody>
      </p:sp>
      <p:pic>
        <p:nvPicPr>
          <p:cNvPr id="407" name="Рисунок 1" descr=""/>
          <p:cNvPicPr/>
          <p:nvPr/>
        </p:nvPicPr>
        <p:blipFill>
          <a:blip r:embed="rId1"/>
          <a:stretch/>
        </p:blipFill>
        <p:spPr>
          <a:xfrm>
            <a:off x="336600" y="1457280"/>
            <a:ext cx="3133800" cy="36385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190440" y="1530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                               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              </a:t>
            </a:r>
            <a:r>
              <a:rPr b="0" lang="ru-RU" sz="2800" spc="-1" strike="noStrike">
                <a:solidFill>
                  <a:srgbClr val="4e3b30"/>
                </a:solidFill>
                <a:latin typeface="Arial Black"/>
              </a:rPr>
              <a:t>Савоник Маргарит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Arial Black"/>
              </a:rPr>
              <a:t>                    </a:t>
            </a:r>
            <a:r>
              <a:rPr b="0" lang="ru-RU" sz="2800" spc="-1" strike="noStrike">
                <a:solidFill>
                  <a:srgbClr val="4e3b30"/>
                </a:solidFill>
                <a:latin typeface="Arial Black"/>
              </a:rPr>
              <a:t>Георгиевна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 Black"/>
              </a:rPr>
              <a:t>                     </a:t>
            </a:r>
            <a:r>
              <a:rPr b="0" lang="ru-RU" sz="1800" spc="-1" strike="noStrike">
                <a:solidFill>
                  <a:srgbClr val="339966"/>
                </a:solidFill>
                <a:latin typeface="Arial Black"/>
                <a:ea typeface="Arial"/>
              </a:rPr>
              <a:t>Инструктор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66"/>
                </a:solidFill>
                <a:latin typeface="Arial Black"/>
                <a:ea typeface="Arial"/>
              </a:rPr>
              <a:t> </a:t>
            </a:r>
            <a:r>
              <a:rPr b="0" lang="ru-RU" sz="1800" spc="-1" strike="noStrike">
                <a:solidFill>
                  <a:srgbClr val="339966"/>
                </a:solidFill>
                <a:latin typeface="Arial Black"/>
                <a:ea typeface="Arial"/>
              </a:rPr>
              <a:t>по физической культуре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66"/>
                </a:solidFill>
                <a:latin typeface="Arial Black"/>
                <a:ea typeface="Arial"/>
              </a:rPr>
              <a:t> </a:t>
            </a:r>
            <a:r>
              <a:rPr b="0" lang="ru-RU" sz="1800" spc="-1" strike="noStrike">
                <a:solidFill>
                  <a:srgbClr val="339966"/>
                </a:solidFill>
                <a:latin typeface="Arial Black"/>
                <a:ea typeface="Arial"/>
              </a:rPr>
              <a:t>первой категории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66"/>
                </a:solidFill>
                <a:latin typeface="Arial Black"/>
                <a:ea typeface="Arial"/>
              </a:rPr>
              <a:t>ДОУ №46 «Сказка</a:t>
            </a:r>
            <a:r>
              <a:rPr b="0" lang="ru-RU" sz="3200" spc="-1" strike="noStrike">
                <a:solidFill>
                  <a:srgbClr val="339966"/>
                </a:solidFill>
                <a:latin typeface="Franklin Gothic Book"/>
              </a:rPr>
              <a:t>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Oval 34"/>
          <p:cNvSpPr/>
          <p:nvPr/>
        </p:nvSpPr>
        <p:spPr>
          <a:xfrm>
            <a:off x="1030320" y="3355920"/>
            <a:ext cx="3240000" cy="3240000"/>
          </a:xfrm>
          <a:prstGeom prst="ellipse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Нетрадиционные виды упражнений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0" name="WordArt 7"/>
          <p:cNvSpPr txBox="1"/>
          <p:nvPr/>
        </p:nvSpPr>
        <p:spPr>
          <a:xfrm>
            <a:off x="190440" y="81000"/>
            <a:ext cx="8763120" cy="6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анцевально-ритмические игры-занятия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1" name="Oval 32"/>
          <p:cNvSpPr/>
          <p:nvPr/>
        </p:nvSpPr>
        <p:spPr>
          <a:xfrm>
            <a:off x="2892600" y="1092240"/>
            <a:ext cx="3240000" cy="3240000"/>
          </a:xfrm>
          <a:prstGeom prst="ellipse">
            <a:avLst/>
          </a:prstGeom>
          <a:gradFill rotWithShape="0">
            <a:gsLst>
              <a:gs pos="0">
                <a:srgbClr val="ffffe7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Танцевально-ритмическая гимнастика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12" name="Рисунок 8" descr="Спортивный праздник 006.jpg"/>
          <p:cNvPicPr/>
          <p:nvPr/>
        </p:nvPicPr>
        <p:blipFill>
          <a:blip r:embed="rId3"/>
          <a:stretch/>
        </p:blipFill>
        <p:spPr>
          <a:xfrm>
            <a:off x="6215040" y="1165320"/>
            <a:ext cx="2746440" cy="2117520"/>
          </a:xfrm>
          <a:prstGeom prst="rect">
            <a:avLst/>
          </a:prstGeom>
          <a:ln w="19080">
            <a:solidFill>
              <a:srgbClr val="c3986d"/>
            </a:solidFill>
            <a:miter/>
          </a:ln>
        </p:spPr>
      </p:pic>
      <p:pic>
        <p:nvPicPr>
          <p:cNvPr id="413" name="Рисунок 14" descr="Изображение 040.jpg"/>
          <p:cNvPicPr/>
          <p:nvPr/>
        </p:nvPicPr>
        <p:blipFill>
          <a:blip r:embed="rId4"/>
          <a:stretch/>
        </p:blipFill>
        <p:spPr>
          <a:xfrm>
            <a:off x="190440" y="1128600"/>
            <a:ext cx="2665440" cy="2154240"/>
          </a:xfrm>
          <a:prstGeom prst="rect">
            <a:avLst/>
          </a:prstGeom>
          <a:ln w="19080">
            <a:solidFill>
              <a:srgbClr val="c3986d"/>
            </a:solidFill>
            <a:miter/>
          </a:ln>
        </p:spPr>
      </p:pic>
      <p:sp>
        <p:nvSpPr>
          <p:cNvPr id="414" name="Oval 33"/>
          <p:cNvSpPr/>
          <p:nvPr/>
        </p:nvSpPr>
        <p:spPr>
          <a:xfrm>
            <a:off x="4498920" y="3282840"/>
            <a:ext cx="3240000" cy="3240360"/>
          </a:xfrm>
          <a:prstGeom prst="ellipse">
            <a:avLst/>
          </a:prstGeom>
          <a:gradFill rotWithShape="0">
            <a:gsLst>
              <a:gs pos="0">
                <a:srgbClr val="e7ffe7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реативная гимнастика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AutoShape 18"/>
          <p:cNvSpPr/>
          <p:nvPr/>
        </p:nvSpPr>
        <p:spPr>
          <a:xfrm>
            <a:off x="2271600" y="1566720"/>
            <a:ext cx="4645080" cy="406908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Танцевально-ритмическая гимнастика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6" name="AutoShape 21"/>
          <p:cNvSpPr/>
          <p:nvPr/>
        </p:nvSpPr>
        <p:spPr>
          <a:xfrm>
            <a:off x="5229360" y="0"/>
            <a:ext cx="3614760" cy="2160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3cc33"/>
              </a:gs>
              <a:gs pos="50000">
                <a:srgbClr val="d7f5d7"/>
              </a:gs>
              <a:gs pos="100000">
                <a:srgbClr val="33cc33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грогимнастика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7" name="AutoShape 19"/>
          <p:cNvSpPr/>
          <p:nvPr/>
        </p:nvSpPr>
        <p:spPr>
          <a:xfrm>
            <a:off x="336600" y="0"/>
            <a:ext cx="3651120" cy="2160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00ff"/>
              </a:gs>
              <a:gs pos="50000">
                <a:srgbClr val="ffcdff"/>
              </a:gs>
              <a:gs pos="100000">
                <a:srgbClr val="ff00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гроритмика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8" name="AutoShape 22"/>
          <p:cNvSpPr/>
          <p:nvPr/>
        </p:nvSpPr>
        <p:spPr>
          <a:xfrm>
            <a:off x="2527200" y="4941720"/>
            <a:ext cx="4381560" cy="1916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399ff"/>
              </a:gs>
              <a:gs pos="50000">
                <a:srgbClr val="d7ebff"/>
              </a:gs>
              <a:gs pos="100000">
                <a:srgbClr val="3399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гротанец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19" name="Рисунок 16" descr="Спортивный праздник 013.jpg"/>
          <p:cNvPicPr/>
          <p:nvPr/>
        </p:nvPicPr>
        <p:blipFill>
          <a:blip r:embed="rId2"/>
          <a:stretch/>
        </p:blipFill>
        <p:spPr>
          <a:xfrm>
            <a:off x="5850000" y="2370240"/>
            <a:ext cx="3066840" cy="2227320"/>
          </a:xfrm>
          <a:prstGeom prst="rect">
            <a:avLst/>
          </a:prstGeom>
          <a:ln w="19080">
            <a:solidFill>
              <a:srgbClr val="a5644e"/>
            </a:solidFill>
            <a:miter/>
          </a:ln>
        </p:spPr>
      </p:pic>
      <p:pic>
        <p:nvPicPr>
          <p:cNvPr id="420" name="Рисунок 18" descr="Изображение 039.jpg"/>
          <p:cNvPicPr/>
          <p:nvPr/>
        </p:nvPicPr>
        <p:blipFill>
          <a:blip r:embed="rId3"/>
          <a:stretch/>
        </p:blipFill>
        <p:spPr>
          <a:xfrm>
            <a:off x="190440" y="2297160"/>
            <a:ext cx="2994120" cy="2373120"/>
          </a:xfrm>
          <a:prstGeom prst="rect">
            <a:avLst/>
          </a:prstGeom>
          <a:ln w="9360">
            <a:solidFill>
              <a:srgbClr val="a5644e"/>
            </a:solidFill>
            <a:miter/>
          </a:ln>
        </p:spPr>
      </p:pic>
      <p:sp>
        <p:nvSpPr>
          <p:cNvPr id="421" name="TextBox 20"/>
          <p:cNvSpPr/>
          <p:nvPr/>
        </p:nvSpPr>
        <p:spPr>
          <a:xfrm>
            <a:off x="3002040" y="-550800"/>
            <a:ext cx="4795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Oval 18"/>
          <p:cNvSpPr/>
          <p:nvPr/>
        </p:nvSpPr>
        <p:spPr>
          <a:xfrm>
            <a:off x="3095640" y="2205000"/>
            <a:ext cx="2844720" cy="2664000"/>
          </a:xfrm>
          <a:prstGeom prst="ellipse">
            <a:avLst/>
          </a:prstGeom>
          <a:gradFill rotWithShape="0">
            <a:gsLst>
              <a:gs pos="0">
                <a:srgbClr val="f1f5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Нетрадиционные виды упражнений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3" name="AutoShape 19"/>
          <p:cNvSpPr/>
          <p:nvPr/>
        </p:nvSpPr>
        <p:spPr>
          <a:xfrm>
            <a:off x="299880" y="325440"/>
            <a:ext cx="2921040" cy="1752480"/>
          </a:xfrm>
          <a:prstGeom prst="wedgeRectCallout">
            <a:avLst>
              <a:gd name="adj1" fmla="val 70208"/>
              <a:gd name="adj2" fmla="val 100314"/>
            </a:avLst>
          </a:prstGeom>
          <a:gradFill rotWithShape="0">
            <a:gsLst>
              <a:gs pos="0">
                <a:srgbClr val="91daff"/>
              </a:gs>
              <a:gs pos="100000">
                <a:srgbClr val="f5fcff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гропластика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4" name="AutoShape 20"/>
          <p:cNvSpPr/>
          <p:nvPr/>
        </p:nvSpPr>
        <p:spPr>
          <a:xfrm>
            <a:off x="4060800" y="179280"/>
            <a:ext cx="3176640" cy="1643040"/>
          </a:xfrm>
          <a:prstGeom prst="wedgeRectCallout">
            <a:avLst>
              <a:gd name="adj1" fmla="val -10620"/>
              <a:gd name="adj2" fmla="val 94537"/>
            </a:avLst>
          </a:prstGeom>
          <a:gradFill rotWithShape="0">
            <a:gsLst>
              <a:gs pos="0">
                <a:srgbClr val="66ff66"/>
              </a:gs>
              <a:gs pos="100000">
                <a:srgbClr val="f1fff1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альчиковая гимнастика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5" name="AutoShape 21"/>
          <p:cNvSpPr/>
          <p:nvPr/>
        </p:nvSpPr>
        <p:spPr>
          <a:xfrm>
            <a:off x="6178680" y="2333520"/>
            <a:ext cx="2619360" cy="1908360"/>
          </a:xfrm>
          <a:prstGeom prst="wedgeRectCallout">
            <a:avLst>
              <a:gd name="adj1" fmla="val -66712"/>
              <a:gd name="adj2" fmla="val 31449"/>
            </a:avLst>
          </a:prstGeom>
          <a:gradFill rotWithShape="0">
            <a:gsLst>
              <a:gs pos="0">
                <a:srgbClr val="ff9999"/>
              </a:gs>
              <a:gs pos="100000">
                <a:srgbClr val="fff9f9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гровой самомассаж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6" name="AutoShape 22"/>
          <p:cNvSpPr/>
          <p:nvPr/>
        </p:nvSpPr>
        <p:spPr>
          <a:xfrm>
            <a:off x="4754520" y="4925880"/>
            <a:ext cx="2773440" cy="1511280"/>
          </a:xfrm>
          <a:prstGeom prst="wedgeRectCallout">
            <a:avLst>
              <a:gd name="adj1" fmla="val -75356"/>
              <a:gd name="adj2" fmla="val -57351"/>
            </a:avLst>
          </a:prstGeom>
          <a:gradFill rotWithShape="0">
            <a:gsLst>
              <a:gs pos="0">
                <a:srgbClr val="cc99ff"/>
              </a:gs>
              <a:gs pos="100000">
                <a:srgbClr val="faf5ff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узыкально-подвижные игры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7" name="AutoShape 29"/>
          <p:cNvSpPr/>
          <p:nvPr/>
        </p:nvSpPr>
        <p:spPr>
          <a:xfrm>
            <a:off x="336600" y="3429000"/>
            <a:ext cx="2700360" cy="1835280"/>
          </a:xfrm>
          <a:prstGeom prst="wedgeRectCallout">
            <a:avLst>
              <a:gd name="adj1" fmla="val 67990"/>
              <a:gd name="adj2" fmla="val 171"/>
            </a:avLst>
          </a:prstGeom>
          <a:gradFill rotWithShape="0">
            <a:gsLst>
              <a:gs pos="0">
                <a:srgbClr val="ff9999"/>
              </a:gs>
              <a:gs pos="100000">
                <a:srgbClr val="fff2f2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гры-путешествия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>
    <p:split dir="out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Рисунок 16" descr="Спортивный праздник 021.jpg"/>
          <p:cNvPicPr/>
          <p:nvPr/>
        </p:nvPicPr>
        <p:blipFill>
          <a:blip r:embed="rId1"/>
          <a:stretch/>
        </p:blipFill>
        <p:spPr>
          <a:xfrm>
            <a:off x="190440" y="1785960"/>
            <a:ext cx="3322800" cy="2281320"/>
          </a:xfrm>
          <a:prstGeom prst="rect">
            <a:avLst/>
          </a:prstGeom>
          <a:ln w="9360">
            <a:solidFill>
              <a:srgbClr val="c3986d"/>
            </a:solidFill>
            <a:miter/>
          </a:ln>
        </p:spPr>
      </p:pic>
      <p:pic>
        <p:nvPicPr>
          <p:cNvPr id="429" name="Рисунок 19" descr="Спортивный праздник 022.jpg"/>
          <p:cNvPicPr/>
          <p:nvPr/>
        </p:nvPicPr>
        <p:blipFill>
          <a:blip r:embed="rId2"/>
          <a:stretch/>
        </p:blipFill>
        <p:spPr>
          <a:xfrm>
            <a:off x="5667480" y="1676520"/>
            <a:ext cx="3213000" cy="2373120"/>
          </a:xfrm>
          <a:prstGeom prst="rect">
            <a:avLst/>
          </a:prstGeom>
          <a:ln w="19080">
            <a:solidFill>
              <a:srgbClr val="c3986d"/>
            </a:solidFill>
            <a:miter/>
          </a:ln>
        </p:spPr>
      </p:pic>
      <p:sp>
        <p:nvSpPr>
          <p:cNvPr id="430" name="Oval 33"/>
          <p:cNvSpPr/>
          <p:nvPr/>
        </p:nvSpPr>
        <p:spPr>
          <a:xfrm>
            <a:off x="2819520" y="252360"/>
            <a:ext cx="3240000" cy="1825560"/>
          </a:xfrm>
          <a:prstGeom prst="ellipse">
            <a:avLst/>
          </a:prstGeom>
          <a:gradFill rotWithShape="0">
            <a:gsLst>
              <a:gs pos="0">
                <a:srgbClr val="e7ffe7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Креативная гимнастика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431" name="Group 17"/>
          <p:cNvGrpSpPr/>
          <p:nvPr/>
        </p:nvGrpSpPr>
        <p:grpSpPr>
          <a:xfrm>
            <a:off x="574560" y="1521000"/>
            <a:ext cx="3132360" cy="4824360"/>
            <a:chOff x="574560" y="1521000"/>
            <a:chExt cx="3132360" cy="4824360"/>
          </a:xfrm>
        </p:grpSpPr>
        <p:sp>
          <p:nvSpPr>
            <p:cNvPr id="432" name="AutoShape 7"/>
            <p:cNvSpPr/>
            <p:nvPr/>
          </p:nvSpPr>
          <p:spPr>
            <a:xfrm>
              <a:off x="574560" y="4257720"/>
              <a:ext cx="3097440" cy="2087640"/>
            </a:xfrm>
            <a:prstGeom prst="roundRect">
              <a:avLst>
                <a:gd name="adj" fmla="val 31139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fbeec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3333ff"/>
                  </a:solidFill>
                  <a:latin typeface="Arial"/>
                </a:rPr>
                <a:t>Музыкально-творческие игры</a:t>
              </a:r>
              <a:endParaRPr b="0" lang="en-US" sz="2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33" name="Line 13"/>
            <p:cNvSpPr/>
            <p:nvPr/>
          </p:nvSpPr>
          <p:spPr>
            <a:xfrm flipH="1">
              <a:off x="2879640" y="1521000"/>
              <a:ext cx="827280" cy="2879640"/>
            </a:xfrm>
            <a:prstGeom prst="line">
              <a:avLst/>
            </a:prstGeom>
            <a:ln cap="sq" w="76320">
              <a:solidFill>
                <a:srgbClr val="3333cc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434" name="Group 18"/>
          <p:cNvGrpSpPr/>
          <p:nvPr/>
        </p:nvGrpSpPr>
        <p:grpSpPr>
          <a:xfrm>
            <a:off x="4859280" y="1557360"/>
            <a:ext cx="3205080" cy="4751280"/>
            <a:chOff x="4859280" y="1557360"/>
            <a:chExt cx="3205080" cy="4751280"/>
          </a:xfrm>
        </p:grpSpPr>
        <p:sp>
          <p:nvSpPr>
            <p:cNvPr id="435" name="AutoShape 8"/>
            <p:cNvSpPr/>
            <p:nvPr/>
          </p:nvSpPr>
          <p:spPr>
            <a:xfrm>
              <a:off x="4859280" y="4257720"/>
              <a:ext cx="3205080" cy="2050920"/>
            </a:xfrm>
            <a:prstGeom prst="roundRect">
              <a:avLst>
                <a:gd name="adj" fmla="val 31139"/>
              </a:avLst>
            </a:prstGeom>
            <a:solidFill>
              <a:srgbClr val="ccecff"/>
            </a:solidFill>
            <a:ln w="9360">
              <a:solidFill>
                <a:srgbClr val="f0a22e"/>
              </a:solidFill>
              <a:miter/>
            </a:ln>
            <a:effectLst>
              <a:outerShdw dist="53966" dir="2700000" blurRad="0" rotWithShape="0">
                <a:srgbClr val="fbeec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3333ff"/>
                  </a:solidFill>
                  <a:latin typeface="Arial"/>
                </a:rPr>
                <a:t>Специальные задания</a:t>
              </a:r>
              <a:endParaRPr b="0" lang="en-US" sz="2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36" name="Line 14"/>
            <p:cNvSpPr/>
            <p:nvPr/>
          </p:nvSpPr>
          <p:spPr>
            <a:xfrm>
              <a:off x="5254560" y="1557360"/>
              <a:ext cx="793800" cy="2735280"/>
            </a:xfrm>
            <a:prstGeom prst="line">
              <a:avLst/>
            </a:prstGeom>
            <a:ln cap="sq" w="76320">
              <a:solidFill>
                <a:srgbClr val="00b0f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p:transition spd="med">
    <p:pull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Рисунок 22" descr="Спортивный праздник 005.jpg"/>
          <p:cNvPicPr/>
          <p:nvPr/>
        </p:nvPicPr>
        <p:blipFill>
          <a:blip r:embed="rId1"/>
          <a:stretch/>
        </p:blipFill>
        <p:spPr>
          <a:xfrm>
            <a:off x="3002040" y="982800"/>
            <a:ext cx="2811240" cy="2300040"/>
          </a:xfrm>
          <a:prstGeom prst="rect">
            <a:avLst/>
          </a:prstGeom>
          <a:ln w="19080">
            <a:solidFill>
              <a:srgbClr val="a5644e"/>
            </a:solidFill>
            <a:miter/>
          </a:ln>
        </p:spPr>
      </p:pic>
      <p:pic>
        <p:nvPicPr>
          <p:cNvPr id="438" name="Рисунок 23" descr="Спортивный праздник 006.jpg"/>
          <p:cNvPicPr/>
          <p:nvPr/>
        </p:nvPicPr>
        <p:blipFill>
          <a:blip r:embed="rId2"/>
          <a:stretch/>
        </p:blipFill>
        <p:spPr>
          <a:xfrm>
            <a:off x="0" y="1566720"/>
            <a:ext cx="2855880" cy="2337120"/>
          </a:xfrm>
          <a:prstGeom prst="rect">
            <a:avLst/>
          </a:prstGeom>
          <a:ln w="19080">
            <a:solidFill>
              <a:srgbClr val="a5644e"/>
            </a:solidFill>
            <a:miter/>
          </a:ln>
        </p:spPr>
      </p:pic>
      <p:pic>
        <p:nvPicPr>
          <p:cNvPr id="439" name="Рисунок 24" descr="Спортивный праздник 007.jpg"/>
          <p:cNvPicPr/>
          <p:nvPr/>
        </p:nvPicPr>
        <p:blipFill>
          <a:blip r:embed="rId3"/>
          <a:stretch/>
        </p:blipFill>
        <p:spPr>
          <a:xfrm>
            <a:off x="5959440" y="1384200"/>
            <a:ext cx="2970360" cy="2519640"/>
          </a:xfrm>
          <a:prstGeom prst="rect">
            <a:avLst/>
          </a:prstGeom>
          <a:ln w="19080">
            <a:solidFill>
              <a:srgbClr val="a5644e"/>
            </a:solidFill>
            <a:miter/>
          </a:ln>
        </p:spPr>
      </p:pic>
      <p:sp>
        <p:nvSpPr>
          <p:cNvPr id="440" name="AutoShape 6"/>
          <p:cNvSpPr/>
          <p:nvPr/>
        </p:nvSpPr>
        <p:spPr>
          <a:xfrm>
            <a:off x="811080" y="0"/>
            <a:ext cx="7010640" cy="131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4e3b3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Раздел «Пальчиковая гимнастика»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1" name="Oval 18"/>
          <p:cNvSpPr/>
          <p:nvPr/>
        </p:nvSpPr>
        <p:spPr>
          <a:xfrm>
            <a:off x="8332920" y="0"/>
            <a:ext cx="811080" cy="727200"/>
          </a:xfrm>
          <a:prstGeom prst="ellipse">
            <a:avLst/>
          </a:prstGeom>
          <a:gradFill rotWithShape="0">
            <a:gsLst>
              <a:gs pos="0">
                <a:srgbClr val="f1f5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2" name="AutoShape 2"/>
          <p:cNvSpPr/>
          <p:nvPr/>
        </p:nvSpPr>
        <p:spPr>
          <a:xfrm>
            <a:off x="299880" y="4013280"/>
            <a:ext cx="8445600" cy="232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4e3b3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лужит основой для развития ручной умелости, мелкой моторики и координации движения рук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«Бабушка кисель варила»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«Сидит белка на заборе»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«Круг»,  «Домик»,  «Бинокль»,  «Очки»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6:31:36Z</dcterms:created>
  <dc:creator>vlad</dc:creator>
  <dc:description/>
  <dc:language>en-US</dc:language>
  <cp:lastModifiedBy>Admin</cp:lastModifiedBy>
  <dcterms:modified xsi:type="dcterms:W3CDTF">2013-02-11T08:12:13Z</dcterms:modified>
  <cp:revision>341</cp:revision>
  <dc:subject/>
  <dc:title>Слайд 1</dc:title>
</cp:coreProperties>
</file>