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DB1-7324-478A-9440-A56A3491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134-26A7-40FE-88BF-E7A4D2C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F60-94D8-49FB-BC1A-A51BAC6F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45E-DB2A-4E9E-AB6F-B0D89421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D26-1370-4028-B88A-7380BCEC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DE2D-1FA1-4D14-A13C-507718A8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5D3-8EA5-4810-BAAB-1CF05667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424-B844-41A6-BC1F-1483EADA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B06-D4C9-4768-8774-0F10AB93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2CA-2B8C-44A2-B773-26D0BBC1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0156-DBFC-4984-ABDC-B81EEFF9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8A0-35E5-4250-808A-A3CE2B8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D559-ACC1-4D46-ABA9-26BB26F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FF23-670E-4CDC-AB27-0BF6174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87ED-1CDE-45A8-86CE-AA9C4CE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2B3-3725-4204-A5F4-21CF4D74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7EF8-8AA3-4CA1-8FB7-12A7CD3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9FE-E1E5-4D99-8142-D56FC6E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B4B-BF29-4330-8C97-64BD0980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6D4-7729-461D-A0E9-53FA5C9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B88-F328-4CD5-89E6-55702F9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AE0-C203-4054-AFA3-C2CC817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78A-1268-43D3-8C19-C701BB0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97E-DF65-48C3-937D-465C088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BD7D-3E63-484B-B194-E7DC4E2CE2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B807-FCFE-446C-8810-F7809DC4A5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Краевая научно-практическая конференция школьников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Эврик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43280" y="2924280"/>
            <a:ext cx="5905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учно- исследовательский прое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Выполнил учени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10 «б» класса гимназии №8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. Краснода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ончаренко Ива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Научный руководитель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имназии №8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идоренко Наталья Анатоль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1125360"/>
            <a:ext cx="57243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Изменения клинической рефракции глаз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3900240" cy="2925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2340000" y="1916280"/>
            <a:ext cx="50482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у школьников 10-х классов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ИЛАКТИКА МИОП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Соблюдение гигиенических условий для занятий (хорошее освещение рабочего места, классных комна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здоровление организма, занятия спор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граничение зрительной нагрузки  и правильное распределение труда и отдых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и выявлении миопии – соблюдение рекомендаций врача- офтальмолога,  правильная и своевременная коррекция  нарушений рефрак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750"/>
                            </p:stCondLst>
                            <p:childTnLst>
                              <p:par>
                                <p:cTn id="3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453708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cument"/>
          <p:cNvSpPr/>
          <p:nvPr/>
        </p:nvSpPr>
        <p:spPr>
          <a:xfrm>
            <a:off x="826920" y="2276640"/>
            <a:ext cx="4032360" cy="4392360"/>
          </a:xfrm>
          <a:prstGeom prst="pie">
            <a:avLst/>
          </a:prstGeom>
          <a:solidFill>
            <a:srgbClr val="b0d8b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246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Глаз как оптическая систем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Светопроводящий отдел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- составляют прозрачные, преломляющие свет среды глаза: роговица, влага передней камеры, хрусталик и стекловидное  тело. Вместе они образуют сложную  оптическую систему глаз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Световоспринимающим отделом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является сетчатая оболоч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глаз как фото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70280" cy="254484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07672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384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5084640"/>
            <a:ext cx="3600360" cy="1513080"/>
          </a:xfrm>
          <a:prstGeom prst="upArrowCallout">
            <a:avLst>
              <a:gd name="adj1" fmla="val 59493"/>
              <a:gd name="adj2" fmla="val 59487"/>
              <a:gd name="adj3" fmla="val 16667"/>
              <a:gd name="adj4" fmla="val 6666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 строению глаз  можно сравнит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 любым техническим устройством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для передачи изображений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фото или видеокамерой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16280" y="1025280"/>
            <a:ext cx="394272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оение гла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48000" y="2492280"/>
            <a:ext cx="3770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820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2330280"/>
            <a:ext cx="63356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826920" y="2276640"/>
            <a:ext cx="3457800" cy="4321080"/>
          </a:xfrm>
          <a:prstGeom prst="pie">
            <a:avLst/>
          </a:prstGeom>
          <a:solidFill>
            <a:srgbClr val="b0d8b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280" y="89064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фракция  гла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352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Физическая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рефракция</a:t>
            </a:r>
            <a:r>
              <a:rPr b="1" i="1" lang="ru-RU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6666"/>
                </a:solidFill>
                <a:latin typeface="Times New Roman"/>
              </a:rPr>
              <a:t>–</a:t>
            </a:r>
            <a:r>
              <a:rPr b="0" lang="ru-RU" sz="1900" spc="-1" strike="noStrike">
                <a:solidFill>
                  <a:srgbClr val="006666"/>
                </a:solidFill>
                <a:latin typeface="Times New Roman"/>
              </a:rPr>
              <a:t> характеризует преломляющую силу  оптической системы глаза</a:t>
            </a:r>
            <a:r>
              <a:rPr b="0" lang="ru-RU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Клиническая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3300"/>
                </a:solidFill>
                <a:latin typeface="Times New Roman"/>
              </a:rPr>
              <a:t>рефракция</a:t>
            </a:r>
            <a:r>
              <a:rPr b="1" i="1" lang="ru-RU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6666"/>
                </a:solidFill>
                <a:latin typeface="Times New Roman"/>
              </a:rPr>
              <a:t>– характеризует положение главного фокуса оптической системы глаза по отношению к сетчатой оболочке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933720"/>
            <a:ext cx="180000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Эмметро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300640"/>
            <a:ext cx="223200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Гиперметро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3933720"/>
            <a:ext cx="180036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Мио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492280"/>
            <a:ext cx="1800360" cy="1008000"/>
          </a:xfrm>
          <a:prstGeom prst="flowChartAlternateProcess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Клиническ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рефракци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1"/>
            <a:endCxn id="115" idx="0"/>
          </p:cNvCxnSpPr>
          <p:nvPr/>
        </p:nvCxnSpPr>
        <p:spPr>
          <a:xfrm flipH="1">
            <a:off x="5400360" y="2997000"/>
            <a:ext cx="396000" cy="937080"/>
          </a:xfrm>
          <a:prstGeom prst="straightConnector1">
            <a:avLst/>
          </a:prstGeom>
          <a:ln w="9360">
            <a:solidFill>
              <a:srgbClr val="cc3300"/>
            </a:solidFill>
            <a:miter/>
          </a:ln>
        </p:spPr>
      </p:cxnSp>
      <p:cxnSp>
        <p:nvCxnSpPr>
          <p:cNvPr id="120" name=""/>
          <p:cNvCxnSpPr>
            <a:stCxn id="118" idx="3"/>
            <a:endCxn id="117" idx="0"/>
          </p:cNvCxnSpPr>
          <p:nvPr/>
        </p:nvCxnSpPr>
        <p:spPr>
          <a:xfrm>
            <a:off x="7596360" y="2997000"/>
            <a:ext cx="468720" cy="937080"/>
          </a:xfrm>
          <a:prstGeom prst="straightConnector1">
            <a:avLst/>
          </a:prstGeom>
          <a:ln w="9360">
            <a:solidFill>
              <a:srgbClr val="cc3300"/>
            </a:solidFill>
            <a:miter/>
          </a:ln>
        </p:spPr>
      </p:cxnSp>
      <p:cxnSp>
        <p:nvCxnSpPr>
          <p:cNvPr id="121" name=""/>
          <p:cNvCxnSpPr>
            <a:stCxn id="118" idx="2"/>
            <a:endCxn id="116" idx="0"/>
          </p:cNvCxnSpPr>
          <p:nvPr/>
        </p:nvCxnSpPr>
        <p:spPr>
          <a:xfrm>
            <a:off x="6695640" y="3499920"/>
            <a:ext cx="1080" cy="1801080"/>
          </a:xfrm>
          <a:prstGeom prst="straightConnector1">
            <a:avLst/>
          </a:prstGeom>
          <a:ln w="9360">
            <a:solidFill>
              <a:srgbClr val="cc33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09280" y="96192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иды клинической рефрак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4321440" cy="204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84360" y="4708440"/>
            <a:ext cx="4537080" cy="214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64000" y="2349360"/>
            <a:ext cx="3529080" cy="215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32720" y="458136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2852640"/>
            <a:ext cx="8137800" cy="4005360"/>
          </a:xfrm>
          <a:prstGeom prst="horizontalScroll">
            <a:avLst>
              <a:gd name="adj" fmla="val 125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460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9360" y="3428640"/>
            <a:ext cx="7694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зучение клинической рефракции у школьников 10 классов нашей шко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Выявление изменений клинической рефракции за период  1-10 кла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Возможное выявление причин изменений клинической рефра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671640" cy="2754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35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55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Ы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6920" y="2565360"/>
          <a:ext cx="8244000" cy="3834000"/>
        </p:xfrm>
        <a:graphic>
          <a:graphicData uri="http://schemas.openxmlformats.org/drawingml/2006/table">
            <a:tbl>
              <a:tblPr/>
              <a:tblGrid>
                <a:gridCol w="2976840"/>
                <a:gridCol w="1909440"/>
                <a:gridCol w="1638360"/>
                <a:gridCol w="17193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фракци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класс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класс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 класс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b7ff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иперметроп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азм аккомода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иоп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b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намика изменений клинической рефра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71640" y="2565360"/>
          <a:ext cx="74898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74898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Основным видом изменения клинической рефракции у школьников является  миопия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Миопия развивается  в период роста ребенка  в раннем школьном возрасте и провоцируется значительным напряжением зрения, что приводит сначала к спазму цилиарной мышцы, развитию ложной близорукости, которая со временем переходит в истинную миопию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Миопия к окончанию 10 класса выявилась у 25 %  учащихся, что превышает                                   среднестатистические данные по стране (18%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80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6:59:35Z</dcterms:created>
  <dc:creator>AMD</dc:creator>
  <dc:description/>
  <dc:language>en-US</dc:language>
  <cp:lastModifiedBy>Ваня</cp:lastModifiedBy>
  <dcterms:modified xsi:type="dcterms:W3CDTF">2006-02-17T11:14:27Z</dcterms:modified>
  <cp:revision>41</cp:revision>
  <dc:subject/>
  <dc:title>Краевая научно-практическая конференция школьников «Эврика»</dc:title>
</cp:coreProperties>
</file>