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358D-2EA8-409E-9B6F-D223BB0A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E36E-6E84-4206-A6B7-014D9193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B9D-37A7-4D12-98CC-669A7DF4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6AE9-B65B-4BB1-A761-593AA7F5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BCAF-CCFE-46A6-A344-878C3680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4F9E-0CC7-4EEB-9BAE-422A1DEC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A21E-0E1E-4CBF-9FFB-280BF7B2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413C-6501-4073-8159-681656E9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7558-354A-4E72-9F56-BCE5F0B2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34F8-847F-4B50-9488-FC37EB47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29B4-B460-4A50-B9E9-8B426CC1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8D2E-2CBD-4E59-9820-3580236C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FED3-F75F-4618-9176-6C539330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EB54-ACB6-462E-B47C-CC231360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0645-538E-4371-80A9-0A238FAB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50BA-2399-40C2-8F9E-E32068E9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4649-3D8A-43F1-8BE5-4BD014A5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C53-1DC3-4880-BD06-395E73CF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369-E232-4951-B1EF-DB1E4CBF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EBB-DEF9-40A8-8BFF-AAC06C11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8E6-AF47-4655-BD82-6CC41847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E3E-72BF-44CB-AF2D-FBAE81E3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6F3-1C5A-443F-AAD6-41BAA2FC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4723-C2B3-4FFE-B7D6-7BB264B0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53EC-03FB-4589-BD91-CBA02E3E002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5687-8548-45AB-922F-4B6CAB59C81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Краевая научно-практическая конференция школьников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«Эврика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843280" y="2924280"/>
            <a:ext cx="59054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Научно- исследовательский проек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Выполнил учени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10 «б» класса гимназии №8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г. Краснодар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Гончаренко Ива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Научный руководитель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учитель биолог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гимназии №8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Сидоренко Наталья Анатольев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79640" y="1125360"/>
            <a:ext cx="572436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Изменения клинической рефракции глаз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3645000"/>
            <a:ext cx="3900240" cy="2925720"/>
          </a:xfrm>
          <a:prstGeom prst="rect">
            <a:avLst/>
          </a:prstGeom>
          <a:ln w="19080">
            <a:solidFill>
              <a:srgbClr val="808000"/>
            </a:solidFill>
            <a:miter/>
          </a:ln>
        </p:spPr>
      </p:pic>
      <p:sp>
        <p:nvSpPr>
          <p:cNvPr id="99" name=""/>
          <p:cNvSpPr txBox="1"/>
          <p:nvPr/>
        </p:nvSpPr>
        <p:spPr>
          <a:xfrm>
            <a:off x="2340000" y="1916280"/>
            <a:ext cx="50482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у школьников 10-х классов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ФИЛАКТИКА МИОП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Соблюдение гигиенических условий для занятий (хорошее освещение рабочего места, классных комнат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Оздоровление организма, занятия спор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Ограничение зрительной нагрузки  и правильное распределение труда и отдых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При выявлении миопии – соблюдение рекомендаций врача- офтальмолога,  правильная и своевременная коррекция  нарушений рефрак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750"/>
                            </p:stCondLst>
                            <p:childTnLst>
                              <p:par>
                                <p:cTn id="30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1700"/>
                            </p:stCondLst>
                            <p:childTnLst>
                              <p:par>
                                <p:cTn id="3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Спасибо за внимание!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843280" y="2565360"/>
            <a:ext cx="4537080" cy="367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ocument"/>
          <p:cNvSpPr/>
          <p:nvPr/>
        </p:nvSpPr>
        <p:spPr>
          <a:xfrm>
            <a:off x="826920" y="2276640"/>
            <a:ext cx="4032360" cy="4392360"/>
          </a:xfrm>
          <a:prstGeom prst="pie">
            <a:avLst/>
          </a:prstGeom>
          <a:solidFill>
            <a:srgbClr val="b0d8b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79246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Глаз как оптическая систем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4021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Светопроводящий отдел</a:t>
            </a: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 - составляют прозрачные, преломляющие свет среды глаза: роговица, влага передней камеры, хрусталик и стекловидное  тело. Вместе они образуют сложную  оптическую систему глаз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Световоспринимающим отделом</a:t>
            </a: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 является сетчатая оболоч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глаз как фото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770280" cy="2544840"/>
          </a:xfrm>
          <a:prstGeom prst="rect">
            <a:avLst/>
          </a:prstGeom>
          <a:ln w="57240">
            <a:solidFill>
              <a:srgbClr val="003366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07672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2384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5084640"/>
            <a:ext cx="3600360" cy="1513080"/>
          </a:xfrm>
          <a:prstGeom prst="upArrowCallout">
            <a:avLst>
              <a:gd name="adj1" fmla="val 59493"/>
              <a:gd name="adj2" fmla="val 59487"/>
              <a:gd name="adj3" fmla="val 16667"/>
              <a:gd name="adj4" fmla="val 6666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о строению глаз  можно сравнить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с любым техническим устройством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для передачи изображений-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фото или видеокамерой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016280" y="1025280"/>
            <a:ext cx="394272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оение гла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148000" y="2492280"/>
            <a:ext cx="37702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8200" y="265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35280" y="2330280"/>
            <a:ext cx="633564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ocument"/>
          <p:cNvSpPr/>
          <p:nvPr/>
        </p:nvSpPr>
        <p:spPr>
          <a:xfrm>
            <a:off x="826920" y="2276640"/>
            <a:ext cx="3457800" cy="4321080"/>
          </a:xfrm>
          <a:prstGeom prst="pie">
            <a:avLst/>
          </a:prstGeom>
          <a:solidFill>
            <a:srgbClr val="b0d8b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280" y="890640"/>
            <a:ext cx="78166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фракция  гла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352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3300"/>
                </a:solidFill>
                <a:latin typeface="Times New Roman"/>
              </a:rPr>
              <a:t>Физическая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ru-RU" sz="1900" spc="-1" strike="noStrike">
                <a:solidFill>
                  <a:srgbClr val="cc3300"/>
                </a:solidFill>
                <a:latin typeface="Times New Roman"/>
              </a:rPr>
              <a:t>рефракция</a:t>
            </a:r>
            <a:r>
              <a:rPr b="1" i="1" lang="ru-RU" sz="19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900" spc="-1" strike="noStrike">
                <a:solidFill>
                  <a:srgbClr val="006666"/>
                </a:solidFill>
                <a:latin typeface="Times New Roman"/>
              </a:rPr>
              <a:t>–</a:t>
            </a:r>
            <a:r>
              <a:rPr b="0" lang="ru-RU" sz="1900" spc="-1" strike="noStrike">
                <a:solidFill>
                  <a:srgbClr val="006666"/>
                </a:solidFill>
                <a:latin typeface="Times New Roman"/>
              </a:rPr>
              <a:t> характеризует преломляющую силу  оптической системы глаза</a:t>
            </a:r>
            <a:r>
              <a:rPr b="0" lang="ru-RU" sz="19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3300"/>
                </a:solidFill>
                <a:latin typeface="Times New Roman"/>
              </a:rPr>
              <a:t>Клиническая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3300"/>
                </a:solidFill>
                <a:latin typeface="Times New Roman"/>
              </a:rPr>
              <a:t>рефракция</a:t>
            </a:r>
            <a:r>
              <a:rPr b="1" i="1" lang="ru-RU" sz="19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6666"/>
                </a:solidFill>
                <a:latin typeface="Times New Roman"/>
              </a:rPr>
              <a:t>– характеризует положение главного фокуса оптической системы глаза по отношению к сетчатой оболочке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3933720"/>
            <a:ext cx="1800000" cy="1008000"/>
          </a:xfrm>
          <a:prstGeom prst="flowChartAlternateProcess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Эмметроп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5300640"/>
            <a:ext cx="2232000" cy="1008000"/>
          </a:xfrm>
          <a:prstGeom prst="flowChartAlternateProcess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Гиперметроп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4360" y="3933720"/>
            <a:ext cx="1800360" cy="1008000"/>
          </a:xfrm>
          <a:prstGeom prst="flowChartAlternateProcess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Миоп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6000" y="2492280"/>
            <a:ext cx="1800360" cy="1008000"/>
          </a:xfrm>
          <a:prstGeom prst="flowChartAlternateProcess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Клиническа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рефракция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1"/>
            <a:endCxn id="115" idx="0"/>
          </p:cNvCxnSpPr>
          <p:nvPr/>
        </p:nvCxnSpPr>
        <p:spPr>
          <a:xfrm flipH="1">
            <a:off x="5400360" y="2997000"/>
            <a:ext cx="396000" cy="937080"/>
          </a:xfrm>
          <a:prstGeom prst="straightConnector1">
            <a:avLst/>
          </a:prstGeom>
          <a:ln w="9360">
            <a:solidFill>
              <a:srgbClr val="cc3300"/>
            </a:solidFill>
            <a:miter/>
          </a:ln>
        </p:spPr>
      </p:cxnSp>
      <p:cxnSp>
        <p:nvCxnSpPr>
          <p:cNvPr id="120" name=""/>
          <p:cNvCxnSpPr>
            <a:stCxn id="118" idx="3"/>
            <a:endCxn id="117" idx="0"/>
          </p:cNvCxnSpPr>
          <p:nvPr/>
        </p:nvCxnSpPr>
        <p:spPr>
          <a:xfrm>
            <a:off x="7596360" y="2997000"/>
            <a:ext cx="468720" cy="937080"/>
          </a:xfrm>
          <a:prstGeom prst="straightConnector1">
            <a:avLst/>
          </a:prstGeom>
          <a:ln w="9360">
            <a:solidFill>
              <a:srgbClr val="cc3300"/>
            </a:solidFill>
            <a:miter/>
          </a:ln>
        </p:spPr>
      </p:cxnSp>
      <p:cxnSp>
        <p:nvCxnSpPr>
          <p:cNvPr id="121" name=""/>
          <p:cNvCxnSpPr>
            <a:stCxn id="118" idx="2"/>
            <a:endCxn id="116" idx="0"/>
          </p:cNvCxnSpPr>
          <p:nvPr/>
        </p:nvCxnSpPr>
        <p:spPr>
          <a:xfrm>
            <a:off x="6695640" y="3499920"/>
            <a:ext cx="1080" cy="1801080"/>
          </a:xfrm>
          <a:prstGeom prst="straightConnector1">
            <a:avLst/>
          </a:prstGeom>
          <a:ln w="9360">
            <a:solidFill>
              <a:srgbClr val="cc33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09280" y="961920"/>
            <a:ext cx="78166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иды клинической рефрак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4321440" cy="204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484360" y="4708440"/>
            <a:ext cx="4537080" cy="214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64000" y="2349360"/>
            <a:ext cx="3529080" cy="2159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732720" y="4581360"/>
            <a:ext cx="19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лизорукость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26920" y="2852640"/>
            <a:ext cx="8137800" cy="4005360"/>
          </a:xfrm>
          <a:prstGeom prst="horizontalScroll">
            <a:avLst>
              <a:gd name="adj" fmla="val 125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460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Цель работы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9360" y="3428640"/>
            <a:ext cx="7694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зучение клинической рефракции у школьников 10 классов нашей школы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Выявление изменений клинической рефракции за период  1-10 клас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Возможное выявление причин изменений клинической рефрак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48360" y="333360"/>
            <a:ext cx="3671640" cy="275436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350"/>
                            </p:stCondLst>
                            <p:childTnLst>
                              <p:par>
                                <p:cTn id="2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55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ЗУЛЬТАТЫ ИССЛЕДОВ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6920" y="2565360"/>
          <a:ext cx="8244000" cy="3834000"/>
        </p:xfrm>
        <a:graphic>
          <a:graphicData uri="http://schemas.openxmlformats.org/drawingml/2006/table">
            <a:tbl>
              <a:tblPr/>
              <a:tblGrid>
                <a:gridCol w="2976840"/>
                <a:gridCol w="1909440"/>
                <a:gridCol w="1638360"/>
                <a:gridCol w="171936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ефракция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b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 класс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b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 класс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b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 класс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b7ff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иперметроп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азм аккомодац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4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иоп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4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</a:t>
                      </a:r>
                      <a:endParaRPr b="0" lang="en-US" sz="4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b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инамика изменений клинической рефрак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71640" y="2565360"/>
          <a:ext cx="7489800" cy="45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565360"/>
                    <a:ext cx="74898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ВОД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66"/>
                </a:solidFill>
                <a:latin typeface="Arial"/>
              </a:rPr>
              <a:t>Основным видом изменения клинической рефракции у школьников является  миопия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66"/>
                </a:solidFill>
                <a:latin typeface="Arial"/>
              </a:rPr>
              <a:t>Миопия развивается  в период роста ребенка  в раннем школьном возрасте и провоцируется значительным напряжением зрения, что приводит сначала к спазму цилиарной мышцы, развитию ложной близорукости, которая со временем переходит в истинную миопию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66"/>
                </a:solidFill>
                <a:latin typeface="Arial"/>
              </a:rPr>
              <a:t>Миопия к окончанию 10 класса выявилась у 25 %  учащихся, что превышает                                   среднестатистические данные по стране (18%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800"/>
                            </p:stCondLst>
                            <p:childTnLst>
                              <p:par>
                                <p:cTn id="2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800"/>
                            </p:stCondLst>
                            <p:childTnLst>
                              <p:par>
                                <p:cTn id="2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06:59:35Z</dcterms:created>
  <dc:creator>AMD</dc:creator>
  <dc:description/>
  <dc:language>en-US</dc:language>
  <cp:lastModifiedBy>Ваня</cp:lastModifiedBy>
  <dcterms:modified xsi:type="dcterms:W3CDTF">2006-02-17T11:14:27Z</dcterms:modified>
  <cp:revision>41</cp:revision>
  <dc:subject/>
  <dc:title>Краевая научно-практическая конференция школьников «Эврика»</dc:title>
</cp:coreProperties>
</file>