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3C18-0C62-49F9-90AF-9C658905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01F7-4201-4B48-A549-12E4D7EC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1801-DD10-4CD2-841D-81789203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1A4-3CF7-4BF6-8543-A74BB699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7B3C-229B-4C2A-ACBA-C4B7BA1F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0BCE-E1AB-4A4C-9296-F5C5F89F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B77E-9353-4BBA-964E-5EAAB685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5284-439B-42CD-AB11-6C694408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3C8A-C0AF-4507-9A15-10F58CFB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5180-30F7-4E05-9BA3-E19C3345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A9CC-D9F2-4D82-A447-D643645B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4FDC-E513-4732-8D6D-F598DF02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3C34-4D3C-439F-B3FC-D9C063D6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9C25-35D5-4222-8E54-89F3DD2C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15D9-2F4E-4245-931E-8B810459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2461-DF2E-49E8-A183-71097089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6887-4FEB-448B-A015-BE1F32DB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019F6-2B1A-4A2E-8317-747C7DEB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3CA19-A742-4E76-A803-CE14F5E9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0F21F-BA1D-4648-8155-502874FC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CF8A-3B82-4CB6-9BD8-D714A0C4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B969F-B9B7-4020-B786-9D9C8F9E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3F6A-982D-4933-8771-F3D04DC8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A0CD0-D2B2-4FF9-9684-C40F54AE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9B839-B5CA-437B-8915-5ED86F74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A99FB-72BC-4464-B802-B739ED5C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359DD-ABC2-4A56-9832-AEAF30F6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F991A-E2D7-47D3-A22C-EFCA698C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D7C06-0089-4599-856A-C19475E3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24903-26F5-4DDB-B114-3A94B836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046DE-2A96-4A8A-8C3F-F5B29A0B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C2EDB-AD19-4C85-AF89-1224A053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D76BD-90D3-40E2-901B-690086CD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B371-E2D7-4B88-9B16-1AE41DD0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1BD6E-AE3E-45AA-8083-D0CBCCA7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A0C51-E6AB-4794-8097-D72A1113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96D9A-D433-4CCB-8C8A-A7F8C449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76520-350B-4DE3-94FB-57690C5A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60703-F244-45F2-9D6A-AEF9C0F3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B94BA-0B09-4B1D-B002-BDE7054E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8E43A-4DB0-4473-932F-1AA98106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517DA-450E-49CD-A8CD-D92C2F36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6B297-F5FE-4E00-8528-5534D314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13F-6F6A-4D0F-9322-33AA89E2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3CD4-7BA8-4A41-82D9-BDB961AE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B570-9A72-4DB0-9EDB-4710EE35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D0F4-8778-4CF6-85C4-8E6F8ACD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3E85-1388-490F-AA1E-6A37FAD2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C36A-FBF6-4525-B534-AD954B90F6AB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BE78-0988-4BC1-8275-E7E93F26D145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B0EA-64E0-4456-A1FA-4997062678EF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0AFD-F37F-480E-AF07-B280CC78159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33DA-4B54-40F3-86DA-FCAFFA984216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693E-BCC0-4406-834A-2D11FBDD6009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933B-331D-481A-9356-0BC8D20BC28A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85FC-EC29-4032-8B42-2AB6E08A2B4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4E21-E92D-4315-941A-B182299FE0C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Заголовок 2" descr=""/>
          <p:cNvPicPr/>
          <p:nvPr/>
        </p:nvPicPr>
        <p:blipFill>
          <a:blip r:embed="rId1"/>
          <a:stretch/>
        </p:blipFill>
        <p:spPr>
          <a:xfrm>
            <a:off x="128520" y="208080"/>
            <a:ext cx="8717040" cy="1444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323640" y="1557360"/>
            <a:ext cx="482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rebuchet MS"/>
              </a:rPr>
              <a:t>Цель МО:  </a:t>
            </a: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овершенствование форм и методов воспитания через повышение мастерства классного руководителя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rebuchet MS"/>
              </a:rPr>
              <a:t>Задачи МО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Активное включение классных руководителей в научно-методическую, инновационную, опытно-педагогическую деятельность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Организация методической помощи классным руководителям в совершенствовании форм и методов организации воспитательной работы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оздание классными руководителями информационно-педагогического банка собственных достижений, популяризация собственного опыта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Развитие информационной культуры педагогов и использование информационных технологий в воспитательной работе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64000" y="1268280"/>
            <a:ext cx="33465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Основные формы работы: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совещания, тематические семинары, тренинги, планёрки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отчёты классных руководителей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открытые классные часы и внеклассные мероприятия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доклады, сообщения, презентации опыта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изучение документов и передового педагогического опыт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63AD-E1A5-4CF8-AC06-6B287FB469A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1. Целенаправленное выявление способных ребят, переподготовка  (повышение квалификации) педагогических кадров для работы с одаренными детьми. Создание банка данных по одарённым детям уже в начальной школе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CEC6-731E-4625-92E8-AA308ED6F9E3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143000" y="731880"/>
            <a:ext cx="6400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Школьники с очень высоким общим уровнем развития интеллектуальных способностей,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явно превышающих средний уровень; творческим подходом и настойчивостью в достижении цели. У этих детей сильно развитое чувство справедливости и очень широкие личные системы ценностей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Школьники с признаками специальной умственной одаренности в определенной области знаний,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 предпочтением заниматься каким-то определенным видом деятель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Школьники, не достигающие по каким-либо причинам успехов в учении, но обладающие яркой познавательной активностью,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ригинальностью психического склада, незаурядными умственными резервами, креативностью, продуктивностью мышления, 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способностью к творчеству и лидерству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97B3-C506-40F9-AF95-6D17A60BCFB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684360" y="227160"/>
            <a:ext cx="8280360" cy="459720"/>
          </a:xfrm>
          <a:prstGeom prst="rect">
            <a:avLst/>
          </a:prstGeom>
          <a:gradFill rotWithShape="0">
            <a:gsLst>
              <a:gs pos="0">
                <a:srgbClr val="fdb3af"/>
              </a:gs>
              <a:gs pos="100000">
                <a:srgbClr val="f07872"/>
              </a:gs>
            </a:gsLst>
            <a:lin ang="5400000"/>
          </a:gradFill>
          <a:ln w="9360">
            <a:solidFill>
              <a:srgbClr val="f14124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́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-  целое, составленное из частей; соединен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Схема 3" descr=""/>
          <p:cNvPicPr/>
          <p:nvPr/>
        </p:nvPicPr>
        <p:blipFill>
          <a:blip r:embed="rId1"/>
          <a:stretch/>
        </p:blipFill>
        <p:spPr>
          <a:xfrm>
            <a:off x="609480" y="907920"/>
            <a:ext cx="8285400" cy="692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C244-AF56-4EDB-A2FF-963661207EB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143000" y="731520"/>
            <a:ext cx="6400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rebuchet MS"/>
              </a:rPr>
              <a:t>2. </a:t>
            </a:r>
            <a:r>
              <a:rPr b="1" lang="ru-RU" sz="1700" spc="-1" strike="noStrike">
                <a:solidFill>
                  <a:srgbClr val="ff0000"/>
                </a:solidFill>
                <a:latin typeface="Trebuchet MS"/>
              </a:rPr>
              <a:t>Непосредственная работа с одаренными учащимися.</a:t>
            </a:r>
            <a:r>
              <a:rPr b="0" lang="ru-RU" sz="17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3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2060"/>
                </a:solidFill>
                <a:uFillTx/>
                <a:latin typeface="Trebuchet MS"/>
              </a:rPr>
              <a:t>Организация учебного процесса: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— нестандартные уроки,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— включение детей в исследовательскую деятельность, самостоятельный поиск истины,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— работа с дополнительной литературой,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— обдумывание и размышление, высказывание своего мнения, нестандартные задания,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— профильное  обучение,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— выставка творческих работ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3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2060"/>
                </a:solidFill>
                <a:uFillTx/>
                <a:latin typeface="Trebuchet MS"/>
              </a:rPr>
              <a:t>Развитие творческих способностей учащихся посредством взаимосвязи уроков с внеклассной работой по предмету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— организация исследовательской работы учащихся,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— опережающие задания творческого плана,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— участие детей в олимпиадах, конференциях, конкурсах,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— обеспечение базового дополнительного образования: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(организация факультативов, элективных курсов, работа предметных кружков),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— проведение научно-практических конференций в младших, средних и старших классах,</a:t>
            </a:r>
            <a:br>
              <a:rPr sz="1700"/>
            </a:br>
            <a:r>
              <a:rPr b="1" lang="ru-RU" sz="1700" spc="-1" strike="noStrike" u="sng">
                <a:solidFill>
                  <a:srgbClr val="002060"/>
                </a:solidFill>
                <a:uFillTx/>
                <a:latin typeface="Trebuchet MS"/>
              </a:rPr>
              <a:t>Общеразвивающие мероприятия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— традиционные мероприятия в школе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— предметные недели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3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932A-BD20-4464-AF00-C0FEB50A588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Прямоугольник 2"/>
          <p:cNvSpPr/>
          <p:nvPr/>
        </p:nvSpPr>
        <p:spPr>
          <a:xfrm>
            <a:off x="1913760" y="620640"/>
            <a:ext cx="5316480" cy="368280"/>
          </a:xfrm>
          <a:prstGeom prst="rect">
            <a:avLst/>
          </a:prstGeom>
          <a:solidFill>
            <a:srgbClr val="ffffff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СИХОЛОГИЧЕСКИЙ ПОРТРЕТ УЧИТЕЛЯ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6021000" y="1015920"/>
            <a:ext cx="2977200" cy="398880"/>
          </a:xfrm>
          <a:prstGeom prst="rect">
            <a:avLst/>
          </a:prstGeom>
          <a:solidFill>
            <a:srgbClr val="ffffff"/>
          </a:solidFill>
          <a:ln w="15840">
            <a:solidFill>
              <a:srgbClr val="293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ность к детя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Прямоугольник 4"/>
          <p:cNvSpPr/>
          <p:nvPr/>
        </p:nvSpPr>
        <p:spPr>
          <a:xfrm>
            <a:off x="22320" y="1203480"/>
            <a:ext cx="5573520" cy="703800"/>
          </a:xfrm>
          <a:prstGeom prst="rect">
            <a:avLst/>
          </a:prstGeom>
          <a:solidFill>
            <a:srgbClr val="ffffff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и специальные педагогические способност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Прямоугольник 5"/>
          <p:cNvSpPr/>
          <p:nvPr/>
        </p:nvSpPr>
        <p:spPr>
          <a:xfrm>
            <a:off x="4044960" y="2189160"/>
            <a:ext cx="4940280" cy="703800"/>
          </a:xfrm>
          <a:prstGeom prst="rect">
            <a:avLst/>
          </a:prstGeom>
          <a:solidFill>
            <a:srgbClr val="ffffff"/>
          </a:solidFill>
          <a:ln w="15840">
            <a:solidFill>
              <a:srgbClr val="293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чивое  объяснение  учебного  материа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173160" y="3844800"/>
            <a:ext cx="7076880" cy="119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пособность говорить экспромтом. В основе такой способности лежат такие элементарные способности, как вербальная память, богатство словесных ассоциаций, свободный отбор языковых средств, словарного запас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Прямоугольник 7"/>
          <p:cNvSpPr/>
          <p:nvPr/>
        </p:nvSpPr>
        <p:spPr>
          <a:xfrm>
            <a:off x="5190120" y="5342040"/>
            <a:ext cx="3475440" cy="3682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кадемические способности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Прямоугольник 8"/>
          <p:cNvSpPr/>
          <p:nvPr/>
        </p:nvSpPr>
        <p:spPr>
          <a:xfrm>
            <a:off x="3751200" y="2897280"/>
            <a:ext cx="5113440" cy="916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рцептивные способности – это способности учителя воспринимать  внутренний мир ученик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Прямоугольник 9"/>
          <p:cNvSpPr/>
          <p:nvPr/>
        </p:nvSpPr>
        <p:spPr>
          <a:xfrm>
            <a:off x="84240" y="2205000"/>
            <a:ext cx="3646440" cy="368280"/>
          </a:xfrm>
          <a:prstGeom prst="rect">
            <a:avLst/>
          </a:prstGeom>
          <a:solidFill>
            <a:srgbClr val="ffffff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дагогическое воображение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Прямая со стрелкой 11" descr=""/>
          <p:cNvPicPr/>
          <p:nvPr/>
        </p:nvPicPr>
        <p:blipFill>
          <a:blip r:embed="rId1"/>
          <a:stretch/>
        </p:blipFill>
        <p:spPr>
          <a:xfrm>
            <a:off x="2901960" y="944640"/>
            <a:ext cx="590400" cy="457200"/>
          </a:xfrm>
          <a:prstGeom prst="rect">
            <a:avLst/>
          </a:prstGeom>
          <a:ln w="0">
            <a:noFill/>
          </a:ln>
        </p:spPr>
      </p:pic>
      <p:cxnSp>
        <p:nvCxnSpPr>
          <p:cNvPr id="260" name="Прямая со стрелкой 13"/>
          <p:cNvCxnSpPr>
            <a:endCxn id="252" idx="1"/>
          </p:cNvCxnSpPr>
          <p:nvPr/>
        </p:nvCxnSpPr>
        <p:spPr>
          <a:xfrm>
            <a:off x="5076720" y="1015920"/>
            <a:ext cx="936000" cy="200880"/>
          </a:xfrm>
          <a:prstGeom prst="straightConnector1">
            <a:avLst/>
          </a:prstGeom>
          <a:ln w="381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61" name="Прямая со стрелкой 21"/>
          <p:cNvCxnSpPr>
            <a:stCxn id="258" idx="2"/>
          </p:cNvCxnSpPr>
          <p:nvPr/>
        </p:nvCxnSpPr>
        <p:spPr>
          <a:xfrm>
            <a:off x="1908000" y="2575080"/>
            <a:ext cx="1804320" cy="646560"/>
          </a:xfrm>
          <a:prstGeom prst="straightConnector1">
            <a:avLst/>
          </a:prstGeom>
          <a:ln w="28440">
            <a:solidFill>
              <a:srgbClr val="4e67c8"/>
            </a:solidFill>
            <a:miter/>
            <a:tailEnd len="med" type="triangle" w="med"/>
          </a:ln>
        </p:spPr>
      </p:cxnSp>
      <p:cxnSp>
        <p:nvCxnSpPr>
          <p:cNvPr id="262" name="Прямая со стрелкой 23"/>
          <p:cNvCxnSpPr/>
          <p:nvPr/>
        </p:nvCxnSpPr>
        <p:spPr>
          <a:xfrm flipH="1">
            <a:off x="2496600" y="3428640"/>
            <a:ext cx="1215360" cy="416520"/>
          </a:xfrm>
          <a:prstGeom prst="straightConnector1">
            <a:avLst/>
          </a:prstGeom>
          <a:ln w="2844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63" name="Прямая со стрелкой 25"/>
          <p:cNvCxnSpPr>
            <a:stCxn id="255" idx="2"/>
          </p:cNvCxnSpPr>
          <p:nvPr/>
        </p:nvCxnSpPr>
        <p:spPr>
          <a:xfrm>
            <a:off x="3711240" y="5044680"/>
            <a:ext cx="1508760" cy="483480"/>
          </a:xfrm>
          <a:prstGeom prst="straightConnector1">
            <a:avLst/>
          </a:prstGeom>
          <a:ln w="2844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64" name="Прямая со стрелкой 27"/>
          <p:cNvCxnSpPr/>
          <p:nvPr/>
        </p:nvCxnSpPr>
        <p:spPr>
          <a:xfrm>
            <a:off x="5076360" y="1910880"/>
            <a:ext cx="1583640" cy="150120"/>
          </a:xfrm>
          <a:prstGeom prst="straightConnector1">
            <a:avLst/>
          </a:prstGeom>
          <a:ln w="2844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65" name="Прямая со стрелкой 29"/>
          <p:cNvCxnSpPr/>
          <p:nvPr/>
        </p:nvCxnSpPr>
        <p:spPr>
          <a:xfrm flipH="1">
            <a:off x="3069720" y="1910880"/>
            <a:ext cx="781920" cy="150120"/>
          </a:xfrm>
          <a:prstGeom prst="straightConnector1">
            <a:avLst/>
          </a:prstGeom>
          <a:ln w="28440">
            <a:solidFill>
              <a:srgbClr val="4e67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00C1-0AC4-4D93-B6DE-D828F34D3CB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143000" y="731880"/>
            <a:ext cx="640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0000"/>
                </a:solidFill>
                <a:latin typeface="Trebuchet MS"/>
              </a:rPr>
              <a:t>Личность учителя является ведущим фактором любого обучения. Наиболее значима для успешности работы учителя его общая личностная характеристика: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разрабатывает гибкие индивидуальные программы;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создаёт тёплую, эмоционально безопасную атмосферу в классе;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предоставляет учащимся обратную связь;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использует различные стратегии обучения;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уважает личность, способствует формированию положительной самооценки ученика;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поощряет творчество и работу воображения, стимулирует развитие умственных процессов высшего уровня;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проявляет уважение к индивидуальности ученика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10920" y="981000"/>
            <a:ext cx="74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rebuchet MS"/>
              </a:rPr>
              <a:t>Основной формой организации учебного процесса в школе остается урок</a:t>
            </a:r>
            <a:r>
              <a:rPr b="1" lang="ru-RU" sz="15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12745"/>
                </a:solidFill>
                <a:latin typeface="Trebuchet MS"/>
              </a:rPr>
              <a:t>Формы и приемы в рамках отдельного урока должны отличаться значительным разнообразием и направленностью на дифференциацию и индивидуализацию работы: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12745"/>
                </a:solidFill>
                <a:latin typeface="Trebuchet MS"/>
              </a:rPr>
              <a:t>групповые формы работы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12745"/>
                </a:solidFill>
                <a:latin typeface="Trebuchet MS"/>
              </a:rPr>
              <a:t>творческие задания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12745"/>
                </a:solidFill>
                <a:latin typeface="Trebuchet MS"/>
              </a:rPr>
              <a:t>вовлечение учащихся в самостоятельную познавательную деятельность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12745"/>
                </a:solidFill>
                <a:latin typeface="Trebuchet MS"/>
              </a:rPr>
              <a:t>дискуссии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12745"/>
                </a:solidFill>
                <a:latin typeface="Trebuchet MS"/>
              </a:rPr>
              <a:t>диалоги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12745"/>
                </a:solidFill>
                <a:latin typeface="Trebuchet MS"/>
              </a:rPr>
              <a:t> 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rebuchet MS"/>
              </a:rPr>
              <a:t>Среди форм и методов внеурочной работы широкими возможностями выявления и развития одаренных учащихся обладают: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12745"/>
                </a:solidFill>
                <a:latin typeface="Trebuchet MS"/>
              </a:rPr>
              <a:t>факультативы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12745"/>
                </a:solidFill>
                <a:latin typeface="Trebuchet MS"/>
              </a:rPr>
              <a:t>кружки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12745"/>
                </a:solidFill>
                <a:latin typeface="Trebuchet MS"/>
              </a:rPr>
              <a:t>конкурсы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12745"/>
                </a:solidFill>
                <a:latin typeface="Trebuchet MS"/>
              </a:rPr>
              <a:t>интеллектуальные марафоны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12745"/>
                </a:solidFill>
                <a:latin typeface="Trebuchet MS"/>
              </a:rPr>
              <a:t>привлечение школьников к участию в самых различных олимпиадах и конкурсах вне школы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12745"/>
                </a:solidFill>
                <a:latin typeface="Trebuchet MS"/>
              </a:rPr>
              <a:t>система внеурочной исследовательской работы учащихся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12745"/>
                </a:solidFill>
                <a:latin typeface="Trebuchet MS"/>
              </a:rPr>
              <a:t>работа учащихся по самообразованию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12745"/>
                </a:solidFill>
                <a:latin typeface="Trebuchet MS"/>
              </a:rPr>
              <a:t> 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A016-43F1-4DCB-9DEE-A60C64AFB8C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82E3-AB0E-4AFB-BD94-9D9226A8929B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Заголовок 2" descr=""/>
          <p:cNvPicPr/>
          <p:nvPr/>
        </p:nvPicPr>
        <p:blipFill>
          <a:blip r:embed="rId1"/>
          <a:stretch/>
        </p:blipFill>
        <p:spPr>
          <a:xfrm>
            <a:off x="1262160" y="573120"/>
            <a:ext cx="6510240" cy="6951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1187280" y="141264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rebuchet MS"/>
              </a:rPr>
              <a:t>В обучении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Разноуровневое обучение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Элективные курсы.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Проектно-исследовательская деятельность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F532-6469-4282-9FB5-94816BB1CD55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143000" y="731880"/>
            <a:ext cx="6400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Trebuchet MS"/>
              </a:rPr>
              <a:t>Во внеурочное время: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04040"/>
                </a:solidFill>
                <a:latin typeface="Trebuchet MS"/>
              </a:rPr>
              <a:t>Школьный интеллектуальный клуб «Что? Где? Когда?»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04040"/>
                </a:solidFill>
                <a:latin typeface="Trebuchet MS"/>
              </a:rPr>
              <a:t>Проектная деятельность учащихся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04040"/>
                </a:solidFill>
                <a:latin typeface="Trebuchet MS"/>
              </a:rPr>
              <a:t>Персональные выставки работ. 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04040"/>
                </a:solidFill>
                <a:latin typeface="Trebuchet MS"/>
              </a:rPr>
              <a:t>Творческие конкурсы 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04040"/>
                </a:solidFill>
                <a:latin typeface="Trebuchet MS"/>
              </a:rPr>
              <a:t>День самоуправления. 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04040"/>
                </a:solidFill>
                <a:latin typeface="Trebuchet MS"/>
              </a:rPr>
              <a:t>Традиционные общешкольные дела и акции. 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04040"/>
                </a:solidFill>
                <a:latin typeface="Trebuchet MS"/>
              </a:rPr>
              <a:t>Работа кружков и спортивных секций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04040"/>
                </a:solidFill>
                <a:latin typeface="Trebuchet MS"/>
              </a:rPr>
              <a:t>Портфолио достижений школьника. 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B5C4-C2E8-42FC-90B1-825D9E9365FD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Взаимодействие с родителями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истема информирования родителей (электронный дневник, сайт школы в сети Интернет)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одительские собрания, проводимые в групповой форме (или индивидуальные беседы родителей с членами администрации, классными руководителями, учителями-предметниками, )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Управляющий Совет школ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бщешкольные мероприятия с привлечением родителей в качестве участников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7B56-80AD-43E9-B044-A5617EDA6255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9" name="Заголовок 11" descr=""/>
          <p:cNvPicPr/>
          <p:nvPr/>
        </p:nvPicPr>
        <p:blipFill>
          <a:blip r:embed="rId1"/>
          <a:stretch/>
        </p:blipFill>
        <p:spPr>
          <a:xfrm>
            <a:off x="1042920" y="225360"/>
            <a:ext cx="6912000" cy="1401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539640" y="1915920"/>
            <a:ext cx="78487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«Система работы с одарёнными и талантливыми учащимися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Семинар «Развитие ученического самоуправления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Семинар «Работа с учащимися « группы риска» в урочное и внеурочное время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Педагогический совет по воспитательной работе «Модель современного выпускника школы глазами учителей, родителей, учащихся: социальное партнёрство в формировании личности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Круглый стол «Мастерская педагогического общения: анализ реализации планов воспитательной работы, обмен опытом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068E-7E5B-4173-81D9-D97A962525D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3. 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Контроль за ходом реализации проекта,  анализ достигнутых результатов, определение проблем, возникших  в ходе реализации проекта, рассмотрение путей  их решения, составление перспективного плана дальнейшей работы в этом направлен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699A-E80B-40BD-8985-FD1EE5E8FAD3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0" name="Заголовок 2" descr=""/>
          <p:cNvPicPr/>
          <p:nvPr/>
        </p:nvPicPr>
        <p:blipFill>
          <a:blip r:embed="rId1"/>
          <a:stretch/>
        </p:blipFill>
        <p:spPr>
          <a:xfrm>
            <a:off x="-109440" y="298440"/>
            <a:ext cx="89676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FC40-CE80-46DD-864B-3BC3D6CCA53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48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Ожидаемые результаты от внедрения проекта: 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248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беспечение каждому ребенку равных стартовых возможностей в реализации интересов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248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езультативность участия в конкурсах, конференциях, олимпиадах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248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увеличение числа детей, активно занимающихся творческой, интеллектуальной деятельностью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248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азработка методических рекомендаций для работы с одаренными детьм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248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оздание  банка  данных «Одаренные дети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248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0BE3-6C4F-472A-8789-82BD2530433B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08000" y="-152280"/>
          <a:ext cx="8856720" cy="6703920"/>
        </p:xfrm>
        <a:graphic>
          <a:graphicData uri="http://schemas.openxmlformats.org/drawingml/2006/table">
            <a:tbl>
              <a:tblPr/>
              <a:tblGrid>
                <a:gridCol w="1584360"/>
                <a:gridCol w="431640"/>
                <a:gridCol w="5904000"/>
                <a:gridCol w="936720"/>
              </a:tblGrid>
              <a:tr h="29844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Лапшина Э.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24516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Чижова Л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енний праздник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24588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Мельникова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енний праздник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208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Жабрикова Т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л.час «Урок добра. Учимся понимать других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52704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оловьёва В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л.час «Огонь – друг или враг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итературные посиделки «Мои любимые книж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ян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208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Аноева Е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л.час «Мама милая мо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2832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мирнова В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езентация модели уч. самоуправления мл. шк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352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Жукова Н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Классный час в рамках месячника патриотического воспитани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26208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Болотова Г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аздник «День матер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352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Артюх О.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л.час «Да здравствует вежливость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26352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овикова С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л.час «Школа хороших манер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208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Леденёва Н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л.час «Значение труда. Мой труд дом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2832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Лавренович А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 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н.мер. «Торжественное открытие кадетского класс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каб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352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Маврина В.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л.час «Бой равнодушию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26208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арежная В.С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 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южетно-ролевая игра «Спаси природу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352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Маджитова О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л.час «Есть ли границы у свободы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р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26352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Лисицына О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 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искуссионный клуб «Юность–пора для самоутвержд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ян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208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Трифонова М.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филактическая акция «Суд над сигаретой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26352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Исаева В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 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лассный час по гражданско-патриотическому воспитанию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172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Михайленко Л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л.час «Проба наркотика – шаг в пропасть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26352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Симутина С.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л.час «Они сражались а Родину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560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Фасхутинова С.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шивайло Н.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 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руглый стол для уч. 9-11 классов «Все работы хороши – выбирай на вкус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26280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ходова Г.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л.час «Идеальные условия для скуки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23760" marR="23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E24F-BB90-40CE-ADA2-3840FC45128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85840" y="615960"/>
            <a:ext cx="8754840" cy="268776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2"/>
          <p:cNvSpPr/>
          <p:nvPr/>
        </p:nvSpPr>
        <p:spPr>
          <a:xfrm>
            <a:off x="1692360" y="3699000"/>
            <a:ext cx="55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Цель семинара: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изучить теорию вопроса; рассмотреть педагогический опыт работы с одаренными обучающимися; обсудить возможность использования предложенных форм работы в собственной практике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EB26-79B4-4366-B32E-3603A60EE50D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8360" y="1125000"/>
            <a:ext cx="78487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«Одаренность человека — это маленький росточек, едва проклюнувшийся из земли и требующий к себе огромного внимания. Необходимо холить и лелеять, ухаживать за ним, сделать все необходимое, чтобы он вырос и дал обильный плод»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В. А. Сухомлинский 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9AD7-0148-464A-A782-45DD6D58DE5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4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Человеческое мышление, способность к творчеству - величайший дар природы. Очень важно понимать, что даром этим природа отмечает каждого человека. Но так же очевидно и то, что свои дары она поровну не делит и кого-то награждает щедро, не скупясь, а кого-то обходит стороной. Одаренным же принято называть того, чей дар явно превосходит некие средние возможности, способности большинства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24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Trebuchet MS"/>
              </a:rPr>
              <a:t>Одарённый ребенок 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— это ребенок, который выделяется яркими, очевидными, иногда выдающимися достижениями (или имеет внутренние предпосылки для таких достижений) в том или ином виде деятельности.</a:t>
            </a:r>
            <a:br>
              <a:rPr sz="1900"/>
            </a:b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94CE-AE56-48CA-BD96-4F6CD08AF32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731880"/>
            <a:ext cx="79930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rebuchet MS"/>
              </a:rPr>
              <a:t>Портрет одарённого ребёнк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1. Проявляет любопытство ко многим вещам, постоянно задаёт вопросы, самостоятельно ищет на них ответы.</a:t>
            </a: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2. Креативен: предлагает много идей, вариантов решений задач, ответов на вопросы.</a:t>
            </a: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3. Свободно высказывает своё мнение, энергично  и грамотно отстаивает его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4. Обладает богатой фантазией, воображением, грамотной речью.</a:t>
            </a: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6. Обладает хорошо развитым чувством юмора.</a:t>
            </a: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7. Чувствителен к красоте, внимателен к эстетике вещей.</a:t>
            </a: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8. Не конфликтен, не боится отличаться от других.</a:t>
            </a: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9. Конструктивно критичен, не принимает авторитарных указаний без критического изучени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10. Занимается самообразованием.</a:t>
            </a: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10. Стремится к самовыражению, творческому росту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2"/>
          <p:cNvSpPr/>
          <p:nvPr/>
        </p:nvSpPr>
        <p:spPr>
          <a:xfrm>
            <a:off x="468360" y="260280"/>
            <a:ext cx="7704000" cy="459720"/>
          </a:xfrm>
          <a:prstGeom prst="rect">
            <a:avLst/>
          </a:prstGeom>
          <a:solidFill>
            <a:srgbClr val="ffffff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сихологический портрет одаренного ребёнка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9A5C-95D1-41F7-90B7-7C856656713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Прямоугольник 3"/>
          <p:cNvSpPr/>
          <p:nvPr/>
        </p:nvSpPr>
        <p:spPr>
          <a:xfrm>
            <a:off x="2916360" y="765000"/>
            <a:ext cx="5651280" cy="119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иятие смысловых неясностей, сохранение высокого порога восприятия в течение длительного времен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Прямоугольник 4"/>
          <p:cNvSpPr/>
          <p:nvPr/>
        </p:nvSpPr>
        <p:spPr>
          <a:xfrm>
            <a:off x="2644920" y="3203640"/>
            <a:ext cx="6192720" cy="1557000"/>
          </a:xfrm>
          <a:prstGeom prst="rect">
            <a:avLst/>
          </a:prstGeom>
          <a:solidFill>
            <a:srgbClr val="ffffff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социальная чувствительность.  Одаренные дети обнаруживают обостренное чувство справедливост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Прямоугольник 5"/>
          <p:cNvSpPr/>
          <p:nvPr/>
        </p:nvSpPr>
        <p:spPr>
          <a:xfrm>
            <a:off x="233280" y="2205000"/>
            <a:ext cx="7002720" cy="825480"/>
          </a:xfrm>
          <a:prstGeom prst="rect">
            <a:avLst/>
          </a:prstGeom>
          <a:solidFill>
            <a:srgbClr val="ffffff"/>
          </a:solidFill>
          <a:ln w="15840">
            <a:solidFill>
              <a:srgbClr val="293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е воображение, включение элементов игры в выполнение задач, творчество, изобретате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Прямоугольник 6"/>
          <p:cNvSpPr/>
          <p:nvPr/>
        </p:nvSpPr>
        <p:spPr>
          <a:xfrm>
            <a:off x="227160" y="4941720"/>
            <a:ext cx="5595840" cy="825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ренных детей отличает высокий энергетический уровен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39" name="Номер слайда 2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1B23-0654-435D-B6FF-96DAC4738AC3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Заголовок 3" descr=""/>
          <p:cNvPicPr/>
          <p:nvPr/>
        </p:nvPicPr>
        <p:blipFill>
          <a:blip r:embed="rId1"/>
          <a:stretch/>
        </p:blipFill>
        <p:spPr>
          <a:xfrm>
            <a:off x="-182520" y="328680"/>
            <a:ext cx="89298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20:26:13Z</dcterms:created>
  <dc:creator>Asus</dc:creator>
  <dc:description/>
  <dc:language>en-US</dc:language>
  <cp:lastModifiedBy>****</cp:lastModifiedBy>
  <dcterms:modified xsi:type="dcterms:W3CDTF">2013-02-11T17:58:05Z</dcterms:modified>
  <cp:revision>36</cp:revision>
  <dc:subject/>
  <dc:title>Подготовка учащихся к предметным олимпиадам</dc:title>
</cp:coreProperties>
</file>