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2.png" ContentType="image/png"/>
  <Override PartName="/ppt/media/image19.gif" ContentType="image/gif"/>
  <Override PartName="/ppt/media/image26.png" ContentType="image/png"/>
  <Override PartName="/ppt/media/image3.png" ContentType="image/png"/>
  <Override PartName="/ppt/media/image6.jpeg" ContentType="image/jpeg"/>
  <Override PartName="/ppt/media/image25.gif" ContentType="image/gif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1.wmf" ContentType="image/x-wmf"/>
  <Override PartName="/ppt/media/image15.gif" ContentType="image/gif"/>
  <Override PartName="/ppt/media/image5.jpeg" ContentType="image/jpeg"/>
  <Override PartName="/ppt/media/image2.jpeg" ContentType="image/jpeg"/>
  <Override PartName="/ppt/media/image23.jpeg" ContentType="image/jpeg"/>
  <Override PartName="/ppt/media/image1.gif" ContentType="image/gif"/>
  <Override PartName="/ppt/media/image33.jpeg" ContentType="image/jpeg"/>
  <Override PartName="/ppt/media/image27.png" ContentType="image/png"/>
  <Override PartName="/ppt/media/image10.jpeg" ContentType="image/jpeg"/>
  <Override PartName="/ppt/media/image14.png" ContentType="image/png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6AE0-D622-4C85-8426-A8845EB70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6E85-2F20-491A-B9BC-B572BAA4B2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е с сай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hkolazhizni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6CC2-574B-41C6-8727-10BBD78F07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049-84F5-488D-867B-364E5757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FF9-C364-411D-908C-3BEE68A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841-CBFA-451B-B3FD-8F7CB3F8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683-5A8E-4906-A843-26A5D455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1E8-DEB8-4B41-9A65-85ADC0E2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5FC-38FA-4503-9134-CABF09C7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3FF-8CEB-47C8-A355-C404AED8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21B-6887-4E35-82F3-9A3753AD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2D0-123A-4603-BE87-CEB18ADF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E62-BDBD-4AC0-9D43-1ED37D5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996-BD19-4997-87F4-9EF58E8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1DE-0A92-44B0-86A1-8C2793B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371E-5106-4903-9476-16DD6E2D9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560" y="1125360"/>
            <a:ext cx="67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КРЫТОЕ  МЕРО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ПРОФИЛАКТИКЕ ВРЕДНЫХ ПРИВЫЧЕК: Ток шоу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усть говорят» на тему «Учусь говорить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БОУ Ясенец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вл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жегоро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юшкина Екатерин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цветы"/>
          <p:cNvPicPr/>
          <p:nvPr/>
        </p:nvPicPr>
        <p:blipFill>
          <a:blip r:embed="rId1"/>
          <a:stretch/>
        </p:blipFill>
        <p:spPr>
          <a:xfrm rot="16200000">
            <a:off x="-2005560" y="3310200"/>
            <a:ext cx="5681880" cy="59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цветы"/>
          <p:cNvPicPr/>
          <p:nvPr/>
        </p:nvPicPr>
        <p:blipFill>
          <a:blip r:embed="rId2"/>
          <a:stretch/>
        </p:blipFill>
        <p:spPr>
          <a:xfrm rot="5400000">
            <a:off x="5623560" y="3313800"/>
            <a:ext cx="5545080" cy="59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цветы"/>
          <p:cNvPicPr/>
          <p:nvPr/>
        </p:nvPicPr>
        <p:blipFill>
          <a:blip r:embed="rId3"/>
          <a:stretch/>
        </p:blipFill>
        <p:spPr>
          <a:xfrm>
            <a:off x="755640" y="5950080"/>
            <a:ext cx="7488360" cy="59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цветы"/>
          <p:cNvPicPr/>
          <p:nvPr/>
        </p:nvPicPr>
        <p:blipFill>
          <a:blip r:embed="rId4"/>
          <a:stretch/>
        </p:blipFill>
        <p:spPr>
          <a:xfrm>
            <a:off x="826920" y="404640"/>
            <a:ext cx="763272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11280" y="0"/>
            <a:ext cx="799128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ЕННЫЕ ФОРМЫ ОТКА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, спасибо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Говорится уверенным тоном без объяснения прич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спасибо + объяснение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головная боль, необходимость идти на тренировку, боязнь огорчить родител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спасибо + предложение чего-то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играть вместе, съесть конфетку, предложить жвачку, игруш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ь односложный ответ на все уговоры и предложения: “Нет!”, “Не буду!”, “Не хочу!”, “Не курю!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ть вид, что не услышал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йти в сторону от тех, кто предлаг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или пройти мим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й вопрос: “Почему тебе хочется, чтобы я закурил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Если настаиваю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ить тему раз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F:\post-3-1245532056636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баб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0" y="11595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А «КАК ОТКАЗАТЬС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цв26"/>
          <p:cNvPicPr/>
          <p:nvPr/>
        </p:nvPicPr>
        <p:blipFill>
          <a:blip r:embed="rId1"/>
          <a:stretch/>
        </p:blipFill>
        <p:spPr>
          <a:xfrm>
            <a:off x="4211640" y="620640"/>
            <a:ext cx="493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9" name="музыка к релаксационному комплексу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6801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11280" y="907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Е «СИТУА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maryllis02"/>
          <p:cNvPicPr/>
          <p:nvPr/>
        </p:nvPicPr>
        <p:blipFill>
          <a:blip r:embed="rId2"/>
          <a:stretch/>
        </p:blipFill>
        <p:spPr>
          <a:xfrm>
            <a:off x="2340000" y="2349360"/>
            <a:ext cx="4175280" cy="3714840"/>
          </a:xfrm>
          <a:prstGeom prst="rect">
            <a:avLst/>
          </a:prstGeom>
          <a:ln w="0">
            <a:noFill/>
          </a:ln>
        </p:spPr>
      </p:pic>
      <p:pic>
        <p:nvPicPr>
          <p:cNvPr id="103" name="музыка к упражнению ситуация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792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xpstyle_walls_10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WordArt 8"/>
          <p:cNvSpPr txBox="1"/>
          <p:nvPr/>
        </p:nvSpPr>
        <p:spPr>
          <a:xfrm>
            <a:off x="1692360" y="184464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  Е  К  Л  А  М  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29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900000" y="4508640"/>
            <a:ext cx="75596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арство хороших при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Царстве города носят такие прекрасные названия труда, спорта, музыки, чтения, гиги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img-3b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916360" y="189000"/>
            <a:ext cx="590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260280"/>
            <a:ext cx="8351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 "СТЕНА ЗДОРОВЬ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музыка к упражнению стена здоровья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7063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4454e9c94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музыка к заставке пусть говоря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028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24454e9c94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музыка к заставке пусть говорят.mp3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8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kiouglz8ydaidj7r6v2fmzv8tzqdqc2m_1[1]"/>
          <p:cNvPicPr/>
          <p:nvPr/>
        </p:nvPicPr>
        <p:blipFill>
          <a:blip r:embed="rId1"/>
          <a:srcRect l="0" t="0" r="0" b="2110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179280" y="189000"/>
            <a:ext cx="8964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СПАСИБО ЗА ВНИМАНИЕ И БУДЬТЕ ЗДОРОВЫ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урок 1 (4 кл). Россия - наша Роди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35596_or копия.png"/>
          <p:cNvPicPr/>
          <p:nvPr/>
        </p:nvPicPr>
        <p:blipFill>
          <a:blip r:embed="rId2"/>
          <a:stretch/>
        </p:blipFill>
        <p:spPr>
          <a:xfrm>
            <a:off x="3714840" y="733320"/>
            <a:ext cx="4305240" cy="5462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126828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Arial"/>
              </a:rPr>
              <a:t>Игра «ПОДАРИ УЛЫБ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353-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9" name="Picture 3" descr="Без имени-1"/>
          <p:cNvPicPr/>
          <p:nvPr/>
        </p:nvPicPr>
        <p:blipFill>
          <a:blip r:embed="rId2"/>
          <a:srcRect l="0" t="11399" r="0" b="0"/>
          <a:stretch/>
        </p:blipFill>
        <p:spPr>
          <a:xfrm>
            <a:off x="1258920" y="333360"/>
            <a:ext cx="6804000" cy="227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0" name="Picture 4" descr="Без имени-2"/>
          <p:cNvPicPr/>
          <p:nvPr/>
        </p:nvPicPr>
        <p:blipFill>
          <a:blip r:embed="rId3"/>
          <a:stretch/>
        </p:blipFill>
        <p:spPr>
          <a:xfrm>
            <a:off x="1187280" y="2997360"/>
            <a:ext cx="6913800" cy="3558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1" name="Text Box 5"/>
          <p:cNvSpPr/>
          <p:nvPr/>
        </p:nvSpPr>
        <p:spPr>
          <a:xfrm>
            <a:off x="1403280" y="765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гра – активатор: «Друг к друж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музыка к упражнению-активатору Друг-дружке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44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12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11280" y="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71640" y="184464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дность - от лени, а болезнь - от невоздержанност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39640" y="189000"/>
            <a:ext cx="81378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365120" y="921600"/>
            <a:ext cx="6413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5402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611280" y="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71640" y="1844640"/>
            <a:ext cx="72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O02067_"/>
          <p:cNvPicPr/>
          <p:nvPr/>
        </p:nvPicPr>
        <p:blipFill>
          <a:blip r:embed="rId1"/>
          <a:stretch/>
        </p:blipFill>
        <p:spPr>
          <a:xfrm>
            <a:off x="826920" y="404640"/>
            <a:ext cx="7632720" cy="387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364000" y="486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11280" y="4437000"/>
            <a:ext cx="8281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арство вредных при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м Царстве самые крупные города - это Никотин, Алкоголь, Аз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Рисунок6.png"/>
          <p:cNvPicPr/>
          <p:nvPr/>
        </p:nvPicPr>
        <p:blipFill>
          <a:blip r:embed="rId2"/>
          <a:srcRect l="0" t="0" r="0" b="28692"/>
          <a:stretch/>
        </p:blipFill>
        <p:spPr>
          <a:xfrm>
            <a:off x="928800" y="5423040"/>
            <a:ext cx="7358040" cy="14349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2195640" y="595008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ценка «На лесной полян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2" descr="птицы 1.gif"/>
          <p:cNvPicPr/>
          <p:nvPr/>
        </p:nvPicPr>
        <p:blipFill>
          <a:blip r:embed="rId3"/>
          <a:stretch/>
        </p:blipFill>
        <p:spPr>
          <a:xfrm>
            <a:off x="6286680" y="214200"/>
            <a:ext cx="1428480" cy="12891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bird28.gif"/>
          <p:cNvPicPr/>
          <p:nvPr/>
        </p:nvPicPr>
        <p:blipFill>
          <a:blip r:embed="rId4"/>
          <a:stretch/>
        </p:blipFill>
        <p:spPr>
          <a:xfrm>
            <a:off x="2928960" y="64296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bird33.gif"/>
          <p:cNvPicPr/>
          <p:nvPr/>
        </p:nvPicPr>
        <p:blipFill>
          <a:blip r:embed="rId5"/>
          <a:stretch/>
        </p:blipFill>
        <p:spPr>
          <a:xfrm>
            <a:off x="0" y="1214280"/>
            <a:ext cx="666720" cy="733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242.gif"/>
          <p:cNvPicPr/>
          <p:nvPr/>
        </p:nvPicPr>
        <p:blipFill>
          <a:blip r:embed="rId6"/>
          <a:stretch/>
        </p:blipFill>
        <p:spPr>
          <a:xfrm>
            <a:off x="6429240" y="3857760"/>
            <a:ext cx="1733760" cy="1238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5"/>
          <p:cNvPicPr/>
          <p:nvPr/>
        </p:nvPicPr>
        <p:blipFill>
          <a:blip r:embed="rId7"/>
          <a:stretch/>
        </p:blipFill>
        <p:spPr>
          <a:xfrm>
            <a:off x="7389720" y="4784760"/>
            <a:ext cx="1754280" cy="2073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732.gif"/>
          <p:cNvPicPr/>
          <p:nvPr/>
        </p:nvPicPr>
        <p:blipFill>
          <a:blip r:embed="rId8"/>
          <a:stretch/>
        </p:blipFill>
        <p:spPr>
          <a:xfrm>
            <a:off x="1214280" y="3071880"/>
            <a:ext cx="1606680" cy="2104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brown_mushrooms_dance_hc.gif"/>
          <p:cNvPicPr/>
          <p:nvPr/>
        </p:nvPicPr>
        <p:blipFill>
          <a:blip r:embed="rId9"/>
          <a:stretch/>
        </p:blipFill>
        <p:spPr>
          <a:xfrm>
            <a:off x="0" y="5014800"/>
            <a:ext cx="2452680" cy="1843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brown_mushrooms_dance_hc.gif"/>
          <p:cNvPicPr/>
          <p:nvPr/>
        </p:nvPicPr>
        <p:blipFill>
          <a:blip r:embed="rId10"/>
          <a:stretch/>
        </p:blipFill>
        <p:spPr>
          <a:xfrm>
            <a:off x="2857680" y="4643280"/>
            <a:ext cx="928440" cy="698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brown_mushrooms_dance_hc.gif"/>
          <p:cNvPicPr/>
          <p:nvPr/>
        </p:nvPicPr>
        <p:blipFill>
          <a:blip r:embed="rId11"/>
          <a:stretch/>
        </p:blipFill>
        <p:spPr>
          <a:xfrm>
            <a:off x="5715000" y="4857840"/>
            <a:ext cx="1214280" cy="912600"/>
          </a:xfrm>
          <a:prstGeom prst="rect">
            <a:avLst/>
          </a:prstGeom>
          <a:ln w="0">
            <a:noFill/>
          </a:ln>
        </p:spPr>
      </p:pic>
      <p:pic>
        <p:nvPicPr>
          <p:cNvPr id="86" name="музыка к сценке на лесной поляне.wav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655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4454e9c94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755640" y="602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тему: « УЧУСЬ ГОВОРИТЬ «НЕТ!!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музыка к заставке пусть говоря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28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9:48:36Z</dcterms:created>
  <dc:creator>Sveta</dc:creator>
  <dc:description/>
  <dc:language>en-US</dc:language>
  <cp:lastModifiedBy>Кабинет истории </cp:lastModifiedBy>
  <dcterms:modified xsi:type="dcterms:W3CDTF">2012-01-30T05:44:00Z</dcterms:modified>
  <cp:revision>60</cp:revision>
  <dc:subject/>
  <dc:title>Слайд 1</dc:title>
</cp:coreProperties>
</file>