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9.wmf" ContentType="image/x-wmf"/>
  <Override PartName="/ppt/media/image25.jpeg" ContentType="image/jpeg"/>
  <Override PartName="/ppt/media/image10.wmf" ContentType="image/x-wmf"/>
  <Override PartName="/ppt/media/image6.png" ContentType="image/png"/>
  <Override PartName="/ppt/media/image20.jpeg" ContentType="image/jpeg"/>
  <Override PartName="/ppt/media/image7.wmf" ContentType="image/x-wmf"/>
  <Override PartName="/ppt/media/image1.gif" ContentType="image/gif"/>
  <Override PartName="/ppt/media/image12.wmf" ContentType="image/x-wmf"/>
  <Override PartName="/ppt/media/image4.jpeg" ContentType="image/jpeg"/>
  <Override PartName="/ppt/media/image8.wmf" ContentType="image/x-wmf"/>
  <Override PartName="/ppt/media/image17.jpeg" ContentType="image/jpeg"/>
  <Override PartName="/ppt/media/image13.jpeg" ContentType="image/jpeg"/>
  <Override PartName="/ppt/media/image30.wmf" ContentType="image/x-wmf"/>
  <Override PartName="/ppt/media/image27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2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7615-F187-4AA1-8BFF-2856124C0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26B2-1ECE-4EEA-9F26-AC41C5058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F3A-A55A-47EE-A63A-96BC7BF61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587-856F-481E-876F-18E311BCD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0C17-773C-42F5-97E7-12AE53AA6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93E-1523-47D7-9DBA-993184CD6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647A-9A1A-42E7-80C0-E067E6165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AFC-79E5-433E-889B-7211CA513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285-685F-44D7-BB89-6509E36E2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40D6-B556-48DB-A935-14C60C38E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C9E-3A6F-43AD-A9D4-C21257677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9B4-6C29-439D-9A31-286BA03ED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1E2B-6193-41BB-9FE5-35F6A432F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85"/>
            </a:gs>
            <a:gs pos="50000">
              <a:srgbClr val="ffffb3"/>
            </a:gs>
            <a:gs pos="100000">
              <a:srgbClr val="c2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85"/>
            </a:gs>
            <a:gs pos="50000">
              <a:srgbClr val="ffffb3"/>
            </a:gs>
            <a:gs pos="100000">
              <a:srgbClr val="c2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76480" y="5950080"/>
            <a:ext cx="76435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 вашего ребенка проблемы в речевом развитии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Вы хотите чтобы он лучше учился и на уроках письма и чтения было меньше ошибок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Трудности в общении со сверстниками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Недостаточно развита познавательная сфера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 Black"/>
              </a:rPr>
              <a:t>Мы вам поможем !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Picture 6" descr="79ce09b50a2b620d190479ba67404f31"/>
          <p:cNvPicPr/>
          <p:nvPr/>
        </p:nvPicPr>
        <p:blipFill>
          <a:blip r:embed="rId1"/>
          <a:stretch/>
        </p:blipFill>
        <p:spPr>
          <a:xfrm>
            <a:off x="5724360" y="4149720"/>
            <a:ext cx="2667240" cy="24480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553080" cy="508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вязной реч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д текстом и предложением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7" name="Picture 6" descr="IMG_0180"/>
          <p:cNvPicPr/>
          <p:nvPr/>
        </p:nvPicPr>
        <p:blipFill>
          <a:blip r:embed="rId1"/>
          <a:stretch/>
        </p:blipFill>
        <p:spPr>
          <a:xfrm>
            <a:off x="611280" y="206064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0182"/>
          <p:cNvPicPr/>
          <p:nvPr/>
        </p:nvPicPr>
        <p:blipFill>
          <a:blip r:embed="rId2"/>
          <a:stretch/>
        </p:blipFill>
        <p:spPr>
          <a:xfrm>
            <a:off x="5292720" y="1628640"/>
            <a:ext cx="3238560" cy="431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05960" y="534240"/>
            <a:ext cx="7803720" cy="398880"/>
          </a:xfrm>
          <a:prstGeom prst="rect">
            <a:avLst/>
          </a:prstGeom>
          <a:solidFill>
            <a:srgbClr val="66ff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курсия по кабинету психолого-логопедической служб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08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776320" cy="2082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"/>
          <p:cNvPicPr/>
          <p:nvPr/>
        </p:nvPicPr>
        <p:blipFill>
          <a:blip r:embed="rId3"/>
          <a:stretch/>
        </p:blipFill>
        <p:spPr>
          <a:xfrm>
            <a:off x="1116000" y="148428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"/>
          <p:cNvPicPr/>
          <p:nvPr/>
        </p:nvPicPr>
        <p:blipFill>
          <a:blip r:embed="rId4"/>
          <a:stretch/>
        </p:blipFill>
        <p:spPr>
          <a:xfrm>
            <a:off x="5580000" y="4076640"/>
            <a:ext cx="27766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6"/>
          <p:cNvGraphicFramePr/>
          <p:nvPr/>
        </p:nvGraphicFramePr>
        <p:xfrm>
          <a:off x="3386160" y="2852640"/>
          <a:ext cx="291456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52640"/>
                    <a:ext cx="29145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WordArt 5"/>
          <p:cNvSpPr txBox="1"/>
          <p:nvPr/>
        </p:nvSpPr>
        <p:spPr>
          <a:xfrm>
            <a:off x="2340000" y="1268280"/>
            <a:ext cx="5315040" cy="1312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6438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ша концепция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любовь к детям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сновная задача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–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вселить уверенность в ребенка, убрать  его  страх  перед  неудаче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юбимый афоризм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«Умей любить и понять чужого ребенка»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10000"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212040"/>
            <a:ext cx="4680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    Развитие реч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    Совершенствование движений и сенсомоторного развити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     Коррекция отдельных сторон психической деятель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различных видов мышлени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   Коррекция нарушений в развитии эмоционально-личностной сферы (релаксационные упражнения для мимики лица, драматизация, чтение по ролям и т.д.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43280" y="836640"/>
            <a:ext cx="48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фонематических процессов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, речевого дыхания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и автоматизация дефектных звуков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 недостатков лексико-грамматического строя реч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язной речи, навыков построения связного высказывания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608360" y="1989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елкой моторики кистей и пальцев рук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643280" y="2492280"/>
            <a:ext cx="45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зрительного восприятия и узнавания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зрительной памяти и внимания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обобщенных представлений о свойствах предметов (цвет, форма, величина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 и ориент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едставлений о времен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памят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фонетико-фонематических представлений, формирование звукового анализ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680000" y="4365720"/>
            <a:ext cx="457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наглядно-образного мышления (умение видеть и устанавливать логические связи между предметами, явлениями и событиями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ловесно-логического мышления (умение видеть и устанавливать логические связи между предметами, явлениями и событиями)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908000" y="235080"/>
            <a:ext cx="547236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 нашей работы 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3635280" y="2133720"/>
            <a:ext cx="882720" cy="230040"/>
          </a:xfrm>
          <a:prstGeom prst="rightArrow">
            <a:avLst>
              <a:gd name="adj1" fmla="val 64741"/>
              <a:gd name="adj2" fmla="val 7022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3708360" y="4618080"/>
            <a:ext cx="882720" cy="230040"/>
          </a:xfrm>
          <a:prstGeom prst="rightArrow">
            <a:avLst>
              <a:gd name="adj1" fmla="val 64741"/>
              <a:gd name="adj2" fmla="val 7022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3635280" y="981000"/>
            <a:ext cx="882720" cy="230400"/>
          </a:xfrm>
          <a:prstGeom prst="rightArrow">
            <a:avLst>
              <a:gd name="adj1" fmla="val 64741"/>
              <a:gd name="adj2" fmla="val 7011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3635280" y="2852640"/>
            <a:ext cx="882720" cy="230400"/>
          </a:xfrm>
          <a:prstGeom prst="rightArrow">
            <a:avLst>
              <a:gd name="adj1" fmla="val 64741"/>
              <a:gd name="adj2" fmla="val 7011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Формы работы: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ая, развёрнутая, комплексная диагностика дет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уровня речевой готовности детей-дошкольников и первоклассников к обучению в школе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, корректировка и реализация комплексных индивидуальных коррекционно-развивающих программ, комплексных перспективных планов взаимодействия всех специалистов ГБОУ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с родителями как с параспециалистами (активное привлечение родителей к наблюдениям и оценке развития их детей на протяжении всего коррекционно-развивающего периода)\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ащение логопедического и психологического кабинета  не только как библиотеки коррекционно-развивающих материалов, игрушек и т.д., но и как центра методической работы с родителями, педагогами и специалистами.   Создание системы информационно - коррекционного обеспечения, своего рода информационно – коррекционно-педагогической службы (ИКПС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индивидуальных, групповых (подгрупповых)  коррекционно-развивающих занят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с документаци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ционная работа с родителям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ционная работа с учителям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553080" cy="507960"/>
          </a:xfrm>
          <a:prstGeom prst="rect">
            <a:avLst/>
          </a:prstGeom>
          <a:solidFill>
            <a:srgbClr val="66ff66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фонематического восприятия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4" name="Picture 13" descr="IMG_0177"/>
          <p:cNvPicPr/>
          <p:nvPr/>
        </p:nvPicPr>
        <p:blipFill>
          <a:blip r:embed="rId1"/>
          <a:stretch/>
        </p:blipFill>
        <p:spPr>
          <a:xfrm>
            <a:off x="395280" y="836640"/>
            <a:ext cx="313524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483200" y="3283920"/>
            <a:ext cx="6375960" cy="368280"/>
          </a:xfrm>
          <a:prstGeom prst="rect">
            <a:avLst/>
          </a:prstGeom>
          <a:solidFill>
            <a:srgbClr val="66ff6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зрительно – пространственного восприят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7" descr="IMG_0162"/>
          <p:cNvPicPr/>
          <p:nvPr/>
        </p:nvPicPr>
        <p:blipFill>
          <a:blip r:embed="rId2"/>
          <a:stretch/>
        </p:blipFill>
        <p:spPr>
          <a:xfrm>
            <a:off x="4932360" y="907920"/>
            <a:ext cx="2921040" cy="223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IMG_0159"/>
          <p:cNvPicPr/>
          <p:nvPr/>
        </p:nvPicPr>
        <p:blipFill>
          <a:blip r:embed="rId3"/>
          <a:stretch/>
        </p:blipFill>
        <p:spPr>
          <a:xfrm>
            <a:off x="684360" y="3789360"/>
            <a:ext cx="3321000" cy="266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IMG_0150"/>
          <p:cNvPicPr/>
          <p:nvPr/>
        </p:nvPicPr>
        <p:blipFill>
          <a:blip r:embed="rId4"/>
          <a:stretch/>
        </p:blipFill>
        <p:spPr>
          <a:xfrm>
            <a:off x="5076720" y="3789360"/>
            <a:ext cx="3257640" cy="266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IMG_0177"/>
          <p:cNvPicPr/>
          <p:nvPr/>
        </p:nvPicPr>
        <p:blipFill>
          <a:blip r:embed="rId5"/>
          <a:stretch/>
        </p:blipFill>
        <p:spPr>
          <a:xfrm>
            <a:off x="395280" y="836640"/>
            <a:ext cx="3135240" cy="230508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553440" cy="508320"/>
          </a:xfrm>
          <a:prstGeom prst="rect">
            <a:avLst/>
          </a:prstGeom>
          <a:solidFill>
            <a:srgbClr val="66ff6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по обучению детей грамоте, формирование темпоритмических сторон речи, эмоциональной выразительности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11" name="Object 15"/>
          <p:cNvGraphicFramePr/>
          <p:nvPr/>
        </p:nvGraphicFramePr>
        <p:xfrm>
          <a:off x="6588000" y="2276640"/>
          <a:ext cx="2298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276640"/>
                    <a:ext cx="2298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5" descr="BELL"/>
          <p:cNvPicPr/>
          <p:nvPr/>
        </p:nvPicPr>
        <p:blipFill>
          <a:blip r:embed="rId3"/>
          <a:stretch/>
        </p:blipFill>
        <p:spPr>
          <a:xfrm rot="10800000">
            <a:off x="4788000" y="2204640"/>
            <a:ext cx="1727280" cy="15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MDYTRAG"/>
          <p:cNvPicPr/>
          <p:nvPr/>
        </p:nvPicPr>
        <p:blipFill>
          <a:blip r:embed="rId4"/>
          <a:stretch/>
        </p:blipFill>
        <p:spPr>
          <a:xfrm>
            <a:off x="3708360" y="5153040"/>
            <a:ext cx="1165320" cy="9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EATURTL"/>
          <p:cNvPicPr/>
          <p:nvPr/>
        </p:nvPicPr>
        <p:blipFill>
          <a:blip r:embed="rId5"/>
          <a:stretch/>
        </p:blipFill>
        <p:spPr>
          <a:xfrm>
            <a:off x="7451640" y="5327640"/>
            <a:ext cx="951120" cy="795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BABYCRY"/>
          <p:cNvPicPr/>
          <p:nvPr/>
        </p:nvPicPr>
        <p:blipFill>
          <a:blip r:embed="rId6"/>
          <a:stretch/>
        </p:blipFill>
        <p:spPr>
          <a:xfrm>
            <a:off x="324000" y="5229360"/>
            <a:ext cx="1152360" cy="112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GECKO"/>
          <p:cNvPicPr/>
          <p:nvPr/>
        </p:nvPicPr>
        <p:blipFill>
          <a:blip r:embed="rId7"/>
          <a:stretch/>
        </p:blipFill>
        <p:spPr>
          <a:xfrm>
            <a:off x="5651640" y="5013360"/>
            <a:ext cx="1265040" cy="157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OONSTAR"/>
          <p:cNvPicPr/>
          <p:nvPr/>
        </p:nvPicPr>
        <p:blipFill>
          <a:blip r:embed="rId8"/>
          <a:stretch/>
        </p:blipFill>
        <p:spPr>
          <a:xfrm>
            <a:off x="2266920" y="5162400"/>
            <a:ext cx="1009800" cy="1009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250920" y="4581360"/>
            <a:ext cx="8675640" cy="432000"/>
          </a:xfrm>
          <a:custGeom>
            <a:avLst/>
            <a:gdLst>
              <a:gd name="textAreaLeft" fmla="*/ 2081160 w 8675640"/>
              <a:gd name="textAreaRight" fmla="*/ 6594480 w 8675640"/>
              <a:gd name="textAreaTop" fmla="*/ 0 h 432000"/>
              <a:gd name="textAreaBottom" fmla="*/ 288000 h 432000"/>
            </a:gdLst>
            <a:ahLst/>
            <a:rect l="textAreaLeft" t="textAreaTop" r="textAreaRight" b="textAreaBottom"/>
            <a:pathLst>
              <a:path w="21600" h="21600">
                <a:moveTo>
                  <a:pt x="7882" y="14400"/>
                </a:moveTo>
                <a:lnTo>
                  <a:pt x="7882" y="19800"/>
                </a:lnTo>
                <a:cubicBezTo>
                  <a:pt x="7882" y="20700"/>
                  <a:pt x="7462" y="21600"/>
                  <a:pt x="7042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182" y="7200"/>
                </a:lnTo>
                <a:lnTo>
                  <a:pt x="5182" y="1800"/>
                </a:lnTo>
                <a:cubicBezTo>
                  <a:pt x="5182" y="900"/>
                  <a:pt x="5602" y="0"/>
                  <a:pt x="6022" y="0"/>
                </a:cubicBezTo>
                <a:lnTo>
                  <a:pt x="15578" y="0"/>
                </a:lnTo>
                <a:cubicBezTo>
                  <a:pt x="15998" y="0"/>
                  <a:pt x="16418" y="900"/>
                  <a:pt x="16418" y="1800"/>
                </a:cubicBezTo>
                <a:lnTo>
                  <a:pt x="16418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558" y="21600"/>
                </a:lnTo>
                <a:cubicBezTo>
                  <a:pt x="14138" y="21600"/>
                  <a:pt x="13718" y="20700"/>
                  <a:pt x="13718" y="19800"/>
                </a:cubicBezTo>
                <a:lnTo>
                  <a:pt x="13718" y="14400"/>
                </a:lnTo>
                <a:close/>
              </a:path>
              <a:path fill="darkenLess" w="21600" h="21600">
                <a:moveTo>
                  <a:pt x="7882" y="14400"/>
                </a:moveTo>
                <a:lnTo>
                  <a:pt x="7882" y="19800"/>
                </a:lnTo>
                <a:cubicBezTo>
                  <a:pt x="7882" y="18900"/>
                  <a:pt x="7462" y="18000"/>
                  <a:pt x="7042" y="18000"/>
                </a:cubicBezTo>
                <a:lnTo>
                  <a:pt x="6022" y="18000"/>
                </a:lnTo>
                <a:cubicBezTo>
                  <a:pt x="5602" y="18000"/>
                  <a:pt x="5182" y="17100"/>
                  <a:pt x="5182" y="16200"/>
                </a:cubicBezTo>
                <a:cubicBezTo>
                  <a:pt x="5182" y="15300"/>
                  <a:pt x="5602" y="14400"/>
                  <a:pt x="6022" y="14400"/>
                </a:cubicBezTo>
                <a:close/>
              </a:path>
              <a:path fill="darkenLess" w="21600" h="21600">
                <a:moveTo>
                  <a:pt x="13718" y="14400"/>
                </a:moveTo>
                <a:lnTo>
                  <a:pt x="13718" y="19800"/>
                </a:lnTo>
                <a:cubicBezTo>
                  <a:pt x="13718" y="18900"/>
                  <a:pt x="14138" y="18000"/>
                  <a:pt x="14558" y="18000"/>
                </a:cubicBezTo>
                <a:lnTo>
                  <a:pt x="15578" y="18000"/>
                </a:lnTo>
                <a:cubicBezTo>
                  <a:pt x="15998" y="18000"/>
                  <a:pt x="16418" y="17100"/>
                  <a:pt x="16418" y="16200"/>
                </a:cubicBezTo>
                <a:cubicBezTo>
                  <a:pt x="16418" y="15300"/>
                  <a:pt x="15998" y="14400"/>
                  <a:pt x="15578" y="14400"/>
                </a:cubicBezTo>
                <a:close/>
              </a:path>
              <a:path fill="darkenLess" w="21600" h="21600">
                <a:moveTo>
                  <a:pt x="5182" y="16200"/>
                </a:moveTo>
                <a:lnTo>
                  <a:pt x="5182" y="7200"/>
                </a:lnTo>
              </a:path>
              <a:path fill="darkenLess" w="21600" h="21600">
                <a:moveTo>
                  <a:pt x="16418" y="16200"/>
                </a:moveTo>
                <a:lnTo>
                  <a:pt x="16418" y="720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4" descr=""/>
          <p:cNvPicPr/>
          <p:nvPr/>
        </p:nvPicPr>
        <p:blipFill>
          <a:blip r:embed="rId9"/>
          <a:stretch/>
        </p:blipFill>
        <p:spPr>
          <a:xfrm>
            <a:off x="468360" y="1268280"/>
            <a:ext cx="3672000" cy="295452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2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0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9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6553440" cy="507960"/>
          </a:xfrm>
          <a:prstGeom prst="rect">
            <a:avLst/>
          </a:prstGeom>
          <a:solidFill>
            <a:srgbClr val="66ff6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хронизация межполушарного взаимодействия. Использование развивающей кинезиологической программы</a:t>
            </a:r>
            <a:r>
              <a:rPr b="0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921040" cy="222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919240" cy="21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3178080" cy="2442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3130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836280"/>
            <a:ext cx="6553080" cy="507960"/>
          </a:xfrm>
          <a:prstGeom prst="rect">
            <a:avLst/>
          </a:prstGeom>
          <a:solidFill>
            <a:srgbClr val="66ff66">
              <a:alpha val="6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дение артикуляционной гимнастики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447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Picture 5" descr="Untitled-Scanned-1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429000"/>
            <a:ext cx="2857320" cy="23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9592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5534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Весёлый  язычок»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2" name="Picture 4" descr="Untitled-Scanned-04"/>
          <p:cNvPicPr/>
          <p:nvPr/>
        </p:nvPicPr>
        <p:blipFill>
          <a:blip r:embed="rId1"/>
          <a:stretch/>
        </p:blipFill>
        <p:spPr>
          <a:xfrm>
            <a:off x="6980400" y="3141720"/>
            <a:ext cx="17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Untitled-Scanned-03"/>
          <p:cNvPicPr/>
          <p:nvPr/>
        </p:nvPicPr>
        <p:blipFill>
          <a:blip r:embed="rId2"/>
          <a:stretch/>
        </p:blipFill>
        <p:spPr>
          <a:xfrm>
            <a:off x="4788000" y="314172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Untitled-Scanned-02"/>
          <p:cNvPicPr/>
          <p:nvPr/>
        </p:nvPicPr>
        <p:blipFill>
          <a:blip r:embed="rId3"/>
          <a:stretch/>
        </p:blipFill>
        <p:spPr>
          <a:xfrm>
            <a:off x="250920" y="3141720"/>
            <a:ext cx="1758960" cy="222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Untitled-Scanned-05"/>
          <p:cNvPicPr/>
          <p:nvPr/>
        </p:nvPicPr>
        <p:blipFill>
          <a:blip r:embed="rId4"/>
          <a:stretch/>
        </p:blipFill>
        <p:spPr>
          <a:xfrm>
            <a:off x="2627280" y="3141720"/>
            <a:ext cx="17128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10:04Z</dcterms:created>
  <dc:creator>Зуб Олег Борисович</dc:creator>
  <dc:description/>
  <dc:language>en-US</dc:language>
  <cp:lastModifiedBy>1</cp:lastModifiedBy>
  <dcterms:modified xsi:type="dcterms:W3CDTF">2013-02-12T16:45:05Z</dcterms:modified>
  <cp:revision>91</cp:revision>
  <dc:subject/>
  <dc:title>Name of presentation</dc:title>
</cp:coreProperties>
</file>