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7.gif" ContentType="image/gif"/>
  <Override PartName="/ppt/media/image23.png" ContentType="image/png"/>
  <Override PartName="/ppt/media/image20.gif" ContentType="image/gif"/>
  <Override PartName="/ppt/media/image13.png" ContentType="image/png"/>
  <Override PartName="/ppt/media/image21.png" ContentType="image/png"/>
  <Override PartName="/ppt/media/image16.gif" ContentType="image/gif"/>
  <Override PartName="/ppt/media/image18.png" ContentType="image/png"/>
  <Override PartName="/ppt/media/image25.gif" ContentType="image/gif"/>
  <Override PartName="/ppt/media/image15.gif" ContentType="image/gif"/>
  <Override PartName="/ppt/media/image17.png" ContentType="image/png"/>
  <Override PartName="/ppt/media/image14.gif" ContentType="image/gif"/>
  <Override PartName="/ppt/media/image24.png" ContentType="image/png"/>
  <Override PartName="/ppt/media/image19.gif" ContentType="image/gif"/>
  <Override PartName="/ppt/media/image41.jpeg" ContentType="image/jpeg"/>
  <Override PartName="/ppt/media/image1.png" ContentType="image/png"/>
  <Override PartName="/ppt/media/image31.png" ContentType="image/png"/>
  <Override PartName="/ppt/media/image8.png" ContentType="image/png"/>
  <Override PartName="/ppt/media/image32.gif" ContentType="image/gif"/>
  <Override PartName="/ppt/media/image10.gif" ContentType="image/gif"/>
  <Override PartName="/ppt/media/image34.gif" ContentType="image/gif"/>
  <Override PartName="/ppt/media/image9.gif" ContentType="image/gif"/>
  <Override PartName="/ppt/media/image38.gif" ContentType="image/gif"/>
  <Override PartName="/ppt/media/image43.png" ContentType="image/png"/>
  <Override PartName="/ppt/media/image39.png" ContentType="image/png"/>
  <Override PartName="/ppt/media/image40.png" ContentType="image/png"/>
  <Override PartName="/ppt/media/image30.png" ContentType="image/png"/>
  <Override PartName="/ppt/media/image5.png" ContentType="image/png"/>
  <Override PartName="/ppt/media/image35.gif" ContentType="image/gif"/>
  <Override PartName="/ppt/media/image28.png" ContentType="image/png"/>
  <Override PartName="/ppt/media/image42.png" ContentType="image/png"/>
  <Override PartName="/ppt/media/image7.gif" ContentType="image/gif"/>
  <Override PartName="/ppt/media/image37.gif" ContentType="image/gif"/>
  <Override PartName="/ppt/media/image44.png" ContentType="image/png"/>
  <Override PartName="/ppt/media/image45.png" ContentType="image/png"/>
  <Override PartName="/ppt/media/image12.gif" ContentType="image/gif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3.png" ContentType="image/png"/>
  <Override PartName="/ppt/media/image33.gif" ContentType="image/gif"/>
  <Override PartName="/ppt/media/image26.png" ContentType="image/png"/>
  <Override PartName="/ppt/media/image2.png" ContentType="image/png"/>
  <Override PartName="/ppt/media/image2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4061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682F-C900-492E-AC82-20EE888F69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2215-303D-4A69-8D27-FB1EDAB863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6E4A-6906-4881-B6CD-69E5BFDBD8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A5AB-3FFE-4A36-B975-6384084DB1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A8CD-1B8E-4A98-B4B4-311B3C6910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79C5-248C-4499-9026-640BFA40F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658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8229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4520"/>
            <a:ext cx="8229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05FF-F7F7-4395-89D2-B0AA9E9E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658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4015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71360"/>
            <a:ext cx="4015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4520"/>
            <a:ext cx="4015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4520"/>
            <a:ext cx="4015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372D-7A39-44BF-A8B6-BEAF13A39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658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2649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71360"/>
            <a:ext cx="2649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71360"/>
            <a:ext cx="2649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4520"/>
            <a:ext cx="2649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4520"/>
            <a:ext cx="2649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4520"/>
            <a:ext cx="2649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411C-7365-47CC-83D4-8FE34E3A9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8C70-BDCB-4C9F-881A-D0C82DF6C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658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848B-2778-44E3-AADF-4D1ABDA4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658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8A6E-BB0D-46E2-8EEF-4627EB73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658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40158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071360"/>
            <a:ext cx="40158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6FD7-B89A-45C6-8FC4-5961D20E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658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6F46-A959-43E7-86E5-5611BB20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56840" y="-360"/>
            <a:ext cx="765828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D775-B99E-40D5-9BA3-590EF8AA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658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4015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71360"/>
            <a:ext cx="40158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4520"/>
            <a:ext cx="4015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A830-F062-4433-9936-B2666881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658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641A-6AB8-42BB-B342-C41395EC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658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40158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71360"/>
            <a:ext cx="4015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4520"/>
            <a:ext cx="4015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5F94-160C-4124-A771-AA68855E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658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4015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71360"/>
            <a:ext cx="4015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4520"/>
            <a:ext cx="8229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4B7C-9906-4493-B7C5-AEDEAB83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658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8229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4520"/>
            <a:ext cx="8229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30B9-0B32-4967-9CE7-652C3411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658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4015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71360"/>
            <a:ext cx="4015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4520"/>
            <a:ext cx="4015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4520"/>
            <a:ext cx="4015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BDD1-CEE9-4578-BA93-9CEBDB287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658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2649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071360"/>
            <a:ext cx="2649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071360"/>
            <a:ext cx="2649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4520"/>
            <a:ext cx="2649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4520"/>
            <a:ext cx="2649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4520"/>
            <a:ext cx="2649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D1DB-DDB5-4AA1-B46E-8DE78C63D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658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1D25-4FBE-4D2D-8982-93503748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658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40158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71360"/>
            <a:ext cx="40158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9972-D134-4868-9CEE-135003CD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658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66B6-845F-47B5-8E10-8C4D4286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56840" y="-360"/>
            <a:ext cx="765828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28A9-371D-4EF4-98BE-23ED6985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658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4015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71360"/>
            <a:ext cx="40158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4520"/>
            <a:ext cx="4015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FD9B-95A5-4626-A9A4-56B2C574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658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40158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71360"/>
            <a:ext cx="4015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4520"/>
            <a:ext cx="4015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7E57-EAFB-4088-B771-20891DCD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658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4015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71360"/>
            <a:ext cx="4015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4520"/>
            <a:ext cx="8229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CF6C-318F-42C3-8E9A-CA155A5C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658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406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442B-5298-4EF0-ADF3-1B28F41C23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658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406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C892-15B4-49E0-9C6D-A3817FF11F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5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image" Target="../media/image12.gif"/><Relationship Id="rId6" Type="http://schemas.openxmlformats.org/officeDocument/2006/relationships/image" Target="../media/image14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1322280" y="1047600"/>
            <a:ext cx="6089760" cy="32259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692360" y="4436640"/>
            <a:ext cx="5379840" cy="20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Презентация выполнена учителем математики Новоэкономической ОШ Калашник Н. И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1352520" y="-92160"/>
            <a:ext cx="7669080" cy="9572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324000" y="105696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73% людей, которые покупают цветы в День Святого Валентина - мужчины, в то время как только 27% процентов – женщины</a:t>
            </a:r>
            <a:r>
              <a:rPr b="1" i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16" descr="C:\Documents and Settings\Чупров Леонид\Мои документы\А. наглядность\Анимации цветочные\redrosea.gif"/>
          <p:cNvPicPr/>
          <p:nvPr/>
        </p:nvPicPr>
        <p:blipFill>
          <a:blip r:embed="rId2"/>
          <a:stretch/>
        </p:blipFill>
        <p:spPr>
          <a:xfrm>
            <a:off x="3924360" y="1844640"/>
            <a:ext cx="1008000" cy="7365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0" y="258192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амый красивый и невероятный подарок любви - Тадж-Махал в Индии. Построенный императором Великих Моголов Шах-Джаханом как памятник жене. Он стоит как эмблема истории вечной любви. Работа над Тадж-Махалом началась в 1634 году и продолжалась в течение почти 22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Трудилось 20 тысяч рабоч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о всей Индии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Централь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А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18" descr="C:\Documents and Settings\Чупров Леонид\Мои документы\А. наглядность\А. фон природа\13.gif"/>
          <p:cNvPicPr/>
          <p:nvPr/>
        </p:nvPicPr>
        <p:blipFill>
          <a:blip r:embed="rId3"/>
          <a:stretch/>
        </p:blipFill>
        <p:spPr>
          <a:xfrm>
            <a:off x="3995640" y="4508640"/>
            <a:ext cx="3816360" cy="20890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9" descr="C:\Documents and Settings\Чупров Леонид\Мои документы\А. наглядность\А. люди анимация\arizona05.gif"/>
          <p:cNvPicPr/>
          <p:nvPr/>
        </p:nvPicPr>
        <p:blipFill>
          <a:blip r:embed="rId4"/>
          <a:stretch/>
        </p:blipFill>
        <p:spPr>
          <a:xfrm>
            <a:off x="7524720" y="1557360"/>
            <a:ext cx="129528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54061"/>
                </a:solidFill>
                <a:latin typeface="Arial"/>
              </a:rPr>
              <a:t>Самое длинное официальное название места в мире –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Taumatawhakatangihangakoauauotamateapokaiwhenuakitanatahu</a:t>
            </a:r>
            <a:r>
              <a:rPr b="1" i="1" lang="ru-RU" sz="2400" spc="-1" strike="noStrike">
                <a:solidFill>
                  <a:srgbClr val="254061"/>
                </a:solidFill>
                <a:latin typeface="Arial"/>
              </a:rPr>
              <a:t>.Оно имеет 85 букв. Это название горы в Новой Зеландии высотой 305 метров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54061"/>
                </a:solidFill>
                <a:latin typeface="Arial"/>
              </a:rPr>
              <a:t>Американские авиалинии сэкономили $40000 в 1987 году, исключив одну оливку из каждой подаваемой порции салата в первом классе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Arial"/>
              </a:rPr>
              <a:t>Бамбук может расти со скоростью почти метр за сутки</a:t>
            </a:r>
            <a:r>
              <a:rPr b="0" i="1" lang="ru-RU" sz="2400" spc="-1" strike="noStrike">
                <a:solidFill>
                  <a:srgbClr val="25406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Arial"/>
              </a:rPr>
              <a:t>Численность кур на земле равняется численности людей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Arial"/>
              </a:rPr>
              <a:t>Когда стекло разбивается, трещины двигаются со скоростью до 3000 километров в час. 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Arial"/>
              </a:rPr>
              <a:t>Более 4 млн. автомобилей в Бразилии в настоящее время работают на газохоле вместо бензина. Газохол - это топливо из сахарного тростника</a:t>
            </a:r>
            <a:r>
              <a:rPr b="0" lang="ru-RU" sz="2400" spc="-1" strike="noStrike">
                <a:solidFill>
                  <a:srgbClr val="25406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7" name="Прямоугольник 5"/>
          <p:cNvSpPr/>
          <p:nvPr/>
        </p:nvSpPr>
        <p:spPr>
          <a:xfrm>
            <a:off x="1842480" y="260280"/>
            <a:ext cx="64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О разном: о большом и мал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6" descr="C:\Documents and Settings\Чупров Леонид\Мои документы\А. наглядность\Анимации цветочные\icon_010.gif"/>
          <p:cNvPicPr/>
          <p:nvPr/>
        </p:nvPicPr>
        <p:blipFill>
          <a:blip r:embed="rId1"/>
          <a:stretch/>
        </p:blipFill>
        <p:spPr>
          <a:xfrm>
            <a:off x="6588000" y="2060640"/>
            <a:ext cx="363600" cy="21096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7" descr="C:\Documents and Settings\Чупров Леонид\Мои документы\А. наглядность\Анимации цветочные\FLOWER22.gif"/>
          <p:cNvPicPr/>
          <p:nvPr/>
        </p:nvPicPr>
        <p:blipFill>
          <a:blip r:embed="rId2"/>
          <a:stretch/>
        </p:blipFill>
        <p:spPr>
          <a:xfrm>
            <a:off x="5724360" y="32130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8" descr="C:\Documents and Settings\Чупров Леонид\Мои документы\А. наглядность\Анимации цветочные\FLOWER18.gif"/>
          <p:cNvPicPr/>
          <p:nvPr/>
        </p:nvPicPr>
        <p:blipFill>
          <a:blip r:embed="rId3"/>
          <a:stretch/>
        </p:blipFill>
        <p:spPr>
          <a:xfrm>
            <a:off x="1763640" y="44370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9" descr="C:\Documents and Settings\Чупров Леонид\Мои документы\А. наглядность\Анимации цветочные\f012.gif"/>
          <p:cNvPicPr/>
          <p:nvPr/>
        </p:nvPicPr>
        <p:blipFill>
          <a:blip r:embed="rId4"/>
          <a:stretch/>
        </p:blipFill>
        <p:spPr>
          <a:xfrm>
            <a:off x="6300720" y="5300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0" descr="C:\Documents and Settings\Чупров Леонид\Мои документы\А. наглядность\Анимации цветочные\f011.gif"/>
          <p:cNvPicPr/>
          <p:nvPr/>
        </p:nvPicPr>
        <p:blipFill>
          <a:blip r:embed="rId5"/>
          <a:stretch/>
        </p:blipFill>
        <p:spPr>
          <a:xfrm>
            <a:off x="6227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7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7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2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0" y="1071360"/>
            <a:ext cx="86868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54061"/>
                </a:solidFill>
                <a:latin typeface="Arial"/>
              </a:rPr>
              <a:t>. </a:t>
            </a:r>
            <a:r>
              <a:rPr b="0" i="1" lang="ru-RU" sz="2400" spc="-1" strike="noStrike">
                <a:solidFill>
                  <a:srgbClr val="254061"/>
                </a:solidFill>
                <a:latin typeface="Arial"/>
              </a:rPr>
              <a:t>Нормальный человек умрет от полного отсутствия сна раньше, чем от голода. Смерть настанет где-то после 10 дней без сна, в то время как при голодании – через несколько недель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54061"/>
                </a:solidFill>
                <a:latin typeface="Arial"/>
              </a:rPr>
              <a:t>2475576000 секунд - средняя продолжительность жизни. За это время мы в среднем говорим 123205750 слов, проливаем 70 литров слез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54061"/>
                </a:solidFill>
                <a:latin typeface="Arial"/>
              </a:rPr>
              <a:t>К 70 годам сердце человека совершает около 2,5 миллиарда сокращений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54061"/>
                </a:solidFill>
                <a:latin typeface="Arial"/>
              </a:rPr>
              <a:t>В среднем, человек переворачивается 25 раз во время сна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54061"/>
                </a:solidFill>
                <a:latin typeface="Arial"/>
              </a:rPr>
              <a:t>Самый тяжелый мозг человека когда-либо зарегистрированный весил 2,3 кг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4" name="Прямоугольник 4"/>
          <p:cNvSpPr/>
          <p:nvPr/>
        </p:nvSpPr>
        <p:spPr>
          <a:xfrm>
            <a:off x="1414800" y="260280"/>
            <a:ext cx="46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 человеке и его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D:\всё для презентаций\анимации для презентаций\анимашки\239453721.gif"/>
          <p:cNvPicPr/>
          <p:nvPr/>
        </p:nvPicPr>
        <p:blipFill>
          <a:blip r:embed="rId1"/>
          <a:stretch/>
        </p:blipFill>
        <p:spPr>
          <a:xfrm>
            <a:off x="7020000" y="0"/>
            <a:ext cx="1368360" cy="1514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Рисунок18"/>
          <p:cNvPicPr/>
          <p:nvPr/>
        </p:nvPicPr>
        <p:blipFill>
          <a:blip r:embed="rId2"/>
          <a:stretch/>
        </p:blipFill>
        <p:spPr>
          <a:xfrm>
            <a:off x="7596360" y="3716280"/>
            <a:ext cx="944280" cy="80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1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61128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Arial"/>
              </a:rPr>
              <a:t>Самый мощный лазер в мире (Нова Лазер в Ливерморской национальной лаборатории, штат Калифорния, США) генерирует импульс энергии, равной 100.000.000.000.000 Вт мощности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Arial"/>
              </a:rPr>
              <a:t>Население мира увеличилось на 3,1 млрд. за последние 40 лет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Arial"/>
              </a:rPr>
              <a:t>Первый университет в мире был создан в Индии в 700 до н. э. Более 10500 студентов со всего мира изучали более 60 предметов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Arial"/>
              </a:rPr>
              <a:t>Вы вырастаете примерно на 8 мм каждую ночь, когда спите. Но на следующий день вы возвращаетесь к своей обычной высоте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8" name="Прямоугольник 10"/>
          <p:cNvSpPr/>
          <p:nvPr/>
        </p:nvSpPr>
        <p:spPr>
          <a:xfrm>
            <a:off x="1495080" y="189000"/>
            <a:ext cx="587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емного о разном с цыфр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9" descr="SMILE8"/>
          <p:cNvPicPr/>
          <p:nvPr/>
        </p:nvPicPr>
        <p:blipFill>
          <a:blip r:embed="rId1"/>
          <a:stretch/>
        </p:blipFill>
        <p:spPr>
          <a:xfrm>
            <a:off x="7524720" y="189000"/>
            <a:ext cx="1371600" cy="75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Шустрик"/>
          <p:cNvPicPr/>
          <p:nvPr/>
        </p:nvPicPr>
        <p:blipFill>
          <a:blip r:embed="rId2"/>
          <a:stretch/>
        </p:blipFill>
        <p:spPr>
          <a:xfrm>
            <a:off x="0" y="1844640"/>
            <a:ext cx="1224000" cy="134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Заголовок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7255080" cy="981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899640" y="1197000"/>
            <a:ext cx="74883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Пушкин   </a:t>
            </a: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                                                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17 30 48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140 10 01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126 138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140 3 501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Маяковский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2 46 38 1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116 14 20!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15 14 21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14 0 17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153" name="Picture 2" descr="D:\всё для презентаций\анимации для презентаций\анимашки\картинки из квн 5 кл\Animate0035.GIF"/>
          <p:cNvPicPr/>
          <p:nvPr/>
        </p:nvPicPr>
        <p:blipFill>
          <a:blip r:embed="rId2"/>
          <a:stretch/>
        </p:blipFill>
        <p:spPr>
          <a:xfrm>
            <a:off x="1258920" y="1114560"/>
            <a:ext cx="1941480" cy="23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2"/>
          <p:cNvSpPr/>
          <p:nvPr/>
        </p:nvSpPr>
        <p:spPr>
          <a:xfrm>
            <a:off x="1692360" y="1484280"/>
            <a:ext cx="37432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Calibri"/>
              </a:rPr>
              <a:t>Есен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14 126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132 17 4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6 42... 5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04 8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70! 16 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14 700 1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12 3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7 114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4"/>
          <p:cNvSpPr/>
          <p:nvPr/>
        </p:nvSpPr>
        <p:spPr>
          <a:xfrm>
            <a:off x="4140360" y="1484280"/>
            <a:ext cx="307800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Весел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 15 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2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7 08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0 20 2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 14 1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 00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7 08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0 20 2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5"/>
          <p:cNvSpPr/>
          <p:nvPr/>
        </p:nvSpPr>
        <p:spPr>
          <a:xfrm>
            <a:off x="6804000" y="1628640"/>
            <a:ext cx="19447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Часту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17 1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9 9 5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17 1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8 35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6"/>
          <p:cNvSpPr/>
          <p:nvPr/>
        </p:nvSpPr>
        <p:spPr>
          <a:xfrm>
            <a:off x="324000" y="1557360"/>
            <a:ext cx="21603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Calibri"/>
              </a:rPr>
              <a:t>Грус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511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 20 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12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2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7"/>
          <p:cNvSpPr/>
          <p:nvPr/>
        </p:nvSpPr>
        <p:spPr>
          <a:xfrm>
            <a:off x="1332000" y="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46c0a"/>
                </a:solidFill>
                <a:latin typeface="Arial"/>
              </a:rPr>
              <a:t>Проговори э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e46c0a"/>
                </a:solidFill>
                <a:latin typeface="Arial"/>
              </a:rPr>
              <a:t>цифровые строки нарас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D:\всё для презентаций\анимации для презентаций\анимашки\картинки из квн 5 кл\AG00383_.GIF"/>
          <p:cNvPicPr/>
          <p:nvPr/>
        </p:nvPicPr>
        <p:blipFill>
          <a:blip r:embed="rId1"/>
          <a:stretch/>
        </p:blipFill>
        <p:spPr>
          <a:xfrm>
            <a:off x="468360" y="3933720"/>
            <a:ext cx="201600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Заголовок 3" descr=""/>
          <p:cNvPicPr/>
          <p:nvPr/>
        </p:nvPicPr>
        <p:blipFill>
          <a:blip r:embed="rId1"/>
          <a:stretch/>
        </p:blipFill>
        <p:spPr>
          <a:xfrm>
            <a:off x="1352520" y="-6480"/>
            <a:ext cx="7924680" cy="871560"/>
          </a:xfrm>
          <a:prstGeom prst="rect">
            <a:avLst/>
          </a:prstGeom>
          <a:ln w="0">
            <a:noFill/>
          </a:ln>
        </p:spPr>
      </p:pic>
      <p:pic>
        <p:nvPicPr>
          <p:cNvPr id="161" name="Содержимое 6" descr=""/>
          <p:cNvPicPr/>
          <p:nvPr/>
        </p:nvPicPr>
        <p:blipFill>
          <a:blip r:embed="rId2"/>
          <a:stretch/>
        </p:blipFill>
        <p:spPr>
          <a:xfrm>
            <a:off x="0" y="0"/>
            <a:ext cx="3995640" cy="2781360"/>
          </a:xfrm>
          <a:prstGeom prst="rect">
            <a:avLst/>
          </a:prstGeom>
          <a:ln w="0">
            <a:noFill/>
          </a:ln>
        </p:spPr>
      </p:pic>
      <p:pic>
        <p:nvPicPr>
          <p:cNvPr id="162" name="Содержимое 7" descr=""/>
          <p:cNvPicPr/>
          <p:nvPr/>
        </p:nvPicPr>
        <p:blipFill>
          <a:blip r:embed="rId3"/>
          <a:stretch/>
        </p:blipFill>
        <p:spPr>
          <a:xfrm>
            <a:off x="250920" y="2997360"/>
            <a:ext cx="871380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Рисунок 1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63272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Рисунок 1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1374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Заголовок 1" descr=""/>
          <p:cNvPicPr/>
          <p:nvPr/>
        </p:nvPicPr>
        <p:blipFill>
          <a:blip r:embed="rId1"/>
          <a:stretch/>
        </p:blipFill>
        <p:spPr>
          <a:xfrm>
            <a:off x="1352520" y="-92160"/>
            <a:ext cx="7669080" cy="9572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1499760" y="1071360"/>
            <a:ext cx="73580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54061"/>
                </a:solidFill>
                <a:uFillTx/>
                <a:latin typeface="Arial"/>
              </a:rPr>
              <a:t>http://im6-tub.yandex.net/i?id=313833065-30-72</a:t>
            </a:r>
            <a:r>
              <a:rPr b="0" lang="ru-RU" sz="2400" spc="-1" strike="noStrike">
                <a:solidFill>
                  <a:srgbClr val="25406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54061"/>
                </a:solidFill>
                <a:uFillTx/>
                <a:latin typeface="Arial"/>
              </a:rPr>
              <a:t>http://uti-puti.com.ua/img/01/41754757_shkola_school.jpg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54061"/>
                </a:solidFill>
                <a:uFillTx/>
                <a:latin typeface="Arial"/>
              </a:rPr>
              <a:t>http://www.proshkolu.ru/content/media/pic/std/1000000/248000/247659-a3befaa6af58cffa.jpg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54061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54061"/>
                </a:solidFill>
                <a:uFillTx/>
                <a:latin typeface="Arial"/>
              </a:rPr>
              <a:t>http://www.vectory.ru/products_pictures/CAW092a.gif</a:t>
            </a:r>
            <a:r>
              <a:rPr b="0" lang="ru-RU" sz="2400" spc="-1" strike="noStrike">
                <a:solidFill>
                  <a:srgbClr val="25406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54061"/>
                </a:solidFill>
                <a:uFillTx/>
                <a:latin typeface="Arial"/>
              </a:rPr>
              <a:t>http://stat18.privet.ru/lr/0a2446eea378dac32a93eb6b71162201</a:t>
            </a:r>
            <a:r>
              <a:rPr b="0" lang="ru-RU" sz="2400" spc="-1" strike="noStrike">
                <a:solidFill>
                  <a:srgbClr val="25406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167" name="Picture 4" descr="d:\Мои документы\Мои рисунки\девочка.jpeg"/>
          <p:cNvPicPr/>
          <p:nvPr/>
        </p:nvPicPr>
        <p:blipFill>
          <a:blip r:embed="rId2"/>
          <a:stretch/>
        </p:blipFill>
        <p:spPr>
          <a:xfrm>
            <a:off x="0" y="3141720"/>
            <a:ext cx="1401840" cy="135720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6" descr=""/>
          <p:cNvPicPr/>
          <p:nvPr/>
        </p:nvPicPr>
        <p:blipFill>
          <a:blip r:embed="rId3"/>
          <a:stretch/>
        </p:blipFill>
        <p:spPr>
          <a:xfrm rot="15812400">
            <a:off x="353160" y="5793480"/>
            <a:ext cx="92880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1352520" y="-92160"/>
            <a:ext cx="7669080" cy="957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68360" y="105228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Презентация совместно с разработкой внеклассного мероприятия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поможет увидеть красоту математических примеров, нестандартность жизненных фактов;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даст возможность посмотреть на математику со стороны «очевидного и невероятного»;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проникнуться к науке если не любовью, то уважением. 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93" name="Picture 4" descr="d:\Мои документы\Мои рисунки\девочка.jpeg"/>
          <p:cNvPicPr/>
          <p:nvPr/>
        </p:nvPicPr>
        <p:blipFill>
          <a:blip r:embed="rId2"/>
          <a:stretch/>
        </p:blipFill>
        <p:spPr>
          <a:xfrm>
            <a:off x="6732720" y="1844640"/>
            <a:ext cx="1401480" cy="1357200"/>
          </a:xfrm>
          <a:prstGeom prst="rect">
            <a:avLst/>
          </a:prstGeom>
          <a:ln w="0">
            <a:noFill/>
          </a:ln>
        </p:spPr>
      </p:pic>
    </p:spTree>
  </p:cSld>
  <p:transition spd="med" advTm="40000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1352520" y="103320"/>
            <a:ext cx="7669080" cy="13176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1332000" y="9853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Если вы ослепнете на один глаз, вы потеряете только около одной пятой вашего поля зрения (но вы потеряете восприятие глубины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2259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ши глаза всегда одного размера от рождения, но наш нос и уши никогда не перестают р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692360" y="32857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Нормальный человек смеется пять раз в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D:\всё для презентаций\анимации для презентаций\анимашки\картинки из квн 5 кл\Animate0105.GIF"/>
          <p:cNvPicPr/>
          <p:nvPr/>
        </p:nvPicPr>
        <p:blipFill>
          <a:blip r:embed="rId2"/>
          <a:stretch/>
        </p:blipFill>
        <p:spPr>
          <a:xfrm>
            <a:off x="5580000" y="3660840"/>
            <a:ext cx="1728720" cy="195084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12"/>
          <p:cNvSpPr/>
          <p:nvPr/>
        </p:nvSpPr>
        <p:spPr>
          <a:xfrm>
            <a:off x="324000" y="40766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 среднем, человек имеет 100000 волос на голове. Каждый волос вырастает на 13 см с каждым го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3"/>
          <p:cNvSpPr/>
          <p:nvPr/>
        </p:nvSpPr>
        <p:spPr>
          <a:xfrm>
            <a:off x="2124000" y="57326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Люди имеют 46 хромосом, горох – 14, раки - 2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D:\всё для презентаций\анимации для презентаций\Глаза\eyes15.gif"/>
          <p:cNvPicPr/>
          <p:nvPr/>
        </p:nvPicPr>
        <p:blipFill>
          <a:blip r:embed="rId3"/>
          <a:stretch/>
        </p:blipFill>
        <p:spPr>
          <a:xfrm>
            <a:off x="250920" y="1557360"/>
            <a:ext cx="1085760" cy="447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D:\всё для презентаций\анимации для презентаций\Буквы и цифры\Другие\slovar4.gif"/>
          <p:cNvPicPr/>
          <p:nvPr/>
        </p:nvPicPr>
        <p:blipFill>
          <a:blip r:embed="rId4"/>
          <a:stretch/>
        </p:blipFill>
        <p:spPr>
          <a:xfrm>
            <a:off x="8244000" y="0"/>
            <a:ext cx="574560" cy="981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8500"/>
                            </p:stCondLst>
                            <p:childTnLst>
                              <p:par>
                                <p:cTn id="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5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10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15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68360" y="3863880"/>
            <a:ext cx="61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Таракан является самым быстрым животным на 6 ног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D:\всё для презентаций\анимации для презентаций\животные\colec64.gif"/>
          <p:cNvPicPr/>
          <p:nvPr/>
        </p:nvPicPr>
        <p:blipFill>
          <a:blip r:embed="rId1"/>
          <a:stretch/>
        </p:blipFill>
        <p:spPr>
          <a:xfrm>
            <a:off x="1332000" y="5084640"/>
            <a:ext cx="1388880" cy="1524240"/>
          </a:xfrm>
          <a:prstGeom prst="rect">
            <a:avLst/>
          </a:prstGeom>
          <a:ln w="0">
            <a:noFill/>
          </a:ln>
        </p:spPr>
      </p:pic>
      <p:pic>
        <p:nvPicPr>
          <p:cNvPr id="105" name="Заголовок 1" descr=""/>
          <p:cNvPicPr/>
          <p:nvPr/>
        </p:nvPicPr>
        <p:blipFill>
          <a:blip r:embed="rId2"/>
          <a:stretch/>
        </p:blipFill>
        <p:spPr>
          <a:xfrm>
            <a:off x="1352520" y="-92160"/>
            <a:ext cx="7669080" cy="95724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3"/>
          <p:cNvGrpSpPr/>
          <p:nvPr/>
        </p:nvGrpSpPr>
        <p:grpSpPr>
          <a:xfrm>
            <a:off x="6659640" y="2565360"/>
            <a:ext cx="1963800" cy="1295280"/>
            <a:chOff x="6659640" y="2565360"/>
            <a:chExt cx="1963800" cy="1295280"/>
          </a:xfrm>
        </p:grpSpPr>
        <p:pic>
          <p:nvPicPr>
            <p:cNvPr id="107" name="Picture 4" descr="101"/>
            <p:cNvPicPr/>
            <p:nvPr/>
          </p:nvPicPr>
          <p:blipFill>
            <a:blip r:embed="rId3"/>
            <a:stretch/>
          </p:blipFill>
          <p:spPr>
            <a:xfrm>
              <a:off x="7371000" y="2565360"/>
              <a:ext cx="125244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5" descr="101"/>
            <p:cNvPicPr/>
            <p:nvPr/>
          </p:nvPicPr>
          <p:blipFill>
            <a:blip r:embed="rId4"/>
            <a:stretch/>
          </p:blipFill>
          <p:spPr>
            <a:xfrm>
              <a:off x="7680600" y="3274560"/>
              <a:ext cx="927720" cy="5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6" descr="101"/>
            <p:cNvPicPr/>
            <p:nvPr/>
          </p:nvPicPr>
          <p:blipFill>
            <a:blip r:embed="rId5"/>
            <a:stretch/>
          </p:blipFill>
          <p:spPr>
            <a:xfrm>
              <a:off x="6659640" y="3097080"/>
              <a:ext cx="1128600" cy="71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Rectangle 3"/>
          <p:cNvSpPr/>
          <p:nvPr/>
        </p:nvSpPr>
        <p:spPr>
          <a:xfrm>
            <a:off x="395280" y="114696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Белый медведь может выглядеть неуклюжим и медленным, но во время погони на льду, он может достигать 40 км/ч</a:t>
            </a:r>
            <a:r>
              <a:rPr b="0" i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24000" y="187704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Детеныши тигровой акулы воюют друг с другом в утробе матери. Рождаются выживш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24000" y="263808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Акулы могут жить до 100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2"/>
          <p:cNvSpPr/>
          <p:nvPr/>
        </p:nvSpPr>
        <p:spPr>
          <a:xfrm>
            <a:off x="395280" y="465300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Язык синего кита весит больше, чем весит сл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3"/>
          <p:cNvSpPr/>
          <p:nvPr/>
        </p:nvSpPr>
        <p:spPr>
          <a:xfrm>
            <a:off x="2580840" y="5300640"/>
            <a:ext cx="46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убы слона могут весить до 9 к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D:\всё для презентаций\анимации для презентаций\животные\colec52.gif"/>
          <p:cNvPicPr/>
          <p:nvPr/>
        </p:nvPicPr>
        <p:blipFill>
          <a:blip r:embed="rId6"/>
          <a:stretch/>
        </p:blipFill>
        <p:spPr>
          <a:xfrm>
            <a:off x="395280" y="843120"/>
            <a:ext cx="887400" cy="6014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D:\всё для презентаций\анимации для презентаций\Буквы и цифры\Другие\slovar4.gif"/>
          <p:cNvPicPr/>
          <p:nvPr/>
        </p:nvPicPr>
        <p:blipFill>
          <a:blip r:embed="rId7"/>
          <a:stretch/>
        </p:blipFill>
        <p:spPr>
          <a:xfrm>
            <a:off x="8182080" y="0"/>
            <a:ext cx="4204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281 0.03144 L -0.65851 0.03144 E">
                                      <p:cBhvr>
                                        <p:cTn id="98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500"/>
                            </p:stCondLst>
                            <p:childTnLst>
                              <p:par>
                                <p:cTn id="1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-36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254061"/>
                </a:solidFill>
                <a:latin typeface="Arial"/>
              </a:rPr>
              <a:t>      </a:t>
            </a:r>
            <a:r>
              <a:rPr b="1" i="1" lang="ru-RU" sz="3000" spc="-1" strike="noStrike">
                <a:solidFill>
                  <a:srgbClr val="ff0000"/>
                </a:solidFill>
                <a:latin typeface="Arial"/>
              </a:rPr>
              <a:t>Это интересно !!! 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i="1" lang="ru-RU" sz="3000" spc="-1" strike="noStrike">
                <a:solidFill>
                  <a:srgbClr val="ff0000"/>
                </a:solidFill>
                <a:latin typeface="Arial"/>
              </a:rPr>
              <a:t>Красота математики</a:t>
            </a:r>
            <a:r>
              <a:rPr b="1" i="1" lang="ru-RU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</a:t>
            </a:r>
            <a:r>
              <a:rPr b="1" i="1" lang="ru-RU" sz="3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Arial"/>
              </a:rPr>
              <a:t>                 </a:t>
            </a:r>
            <a:r>
              <a:rPr b="1" lang="ru-RU" sz="3000" spc="-1" strike="noStrike">
                <a:solidFill>
                  <a:srgbClr val="0070c0"/>
                </a:solidFill>
                <a:latin typeface="Arial"/>
              </a:rPr>
              <a:t>Умножая ряды          имеем :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54061"/>
                </a:solidFill>
                <a:latin typeface="Arial"/>
              </a:rPr>
              <a:t>      </a:t>
            </a: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          </a:t>
            </a: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6 x 7 = 42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              </a:t>
            </a: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66 x 67 = 4422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            </a:t>
            </a: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666 x 667 = 444222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          </a:t>
            </a: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6666 x 6667 = 44442222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        </a:t>
            </a: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66666 x 66667 = 4444422222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      </a:t>
            </a: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666666 x 666667 = 444444222222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6666666 x 6666667 = 44444442222222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66666666 x 66666667 = 4444444422222222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54061"/>
                </a:solidFill>
                <a:latin typeface="Arial"/>
              </a:rPr>
              <a:t>666666666 x 666666667 = 444444444222222222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118" name="Picture 2" descr="D:\всё для презентаций\анимации для презентаций\Буквы и цифры\цифры 3\6_clr.gif"/>
          <p:cNvPicPr/>
          <p:nvPr/>
        </p:nvPicPr>
        <p:blipFill>
          <a:blip r:embed="rId1"/>
          <a:stretch/>
        </p:blipFill>
        <p:spPr>
          <a:xfrm>
            <a:off x="5364000" y="1239840"/>
            <a:ext cx="576360" cy="692280"/>
          </a:xfrm>
          <a:prstGeom prst="rect">
            <a:avLst/>
          </a:prstGeom>
          <a:ln w="9360">
            <a:solidFill>
              <a:srgbClr val="77933c"/>
            </a:solidFill>
            <a:miter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250920" y="700920"/>
            <a:ext cx="835344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Calibri"/>
                <a:ea typeface="Calibri"/>
              </a:rPr>
              <a:t>                             </a:t>
            </a:r>
            <a:r>
              <a:rPr b="1" lang="ru-RU" sz="4000" spc="-1" strike="noStrike">
                <a:solidFill>
                  <a:srgbClr val="e46c0a"/>
                </a:solidFill>
                <a:latin typeface="Calibri"/>
                <a:ea typeface="Calibri"/>
              </a:rPr>
              <a:t>Умножая ряды </a:t>
            </a:r>
            <a:r>
              <a:rPr b="0" lang="ru-RU" sz="4000" spc="-1" strike="noStrike">
                <a:solidFill>
                  <a:srgbClr val="e46c0a"/>
                </a:solidFill>
                <a:latin typeface="Calibri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ru-RU" sz="4000" spc="-1" strike="noStrike">
                <a:solidFill>
                  <a:srgbClr val="e46c0a"/>
                </a:solidFill>
                <a:latin typeface="Calibri"/>
                <a:ea typeface="Calibri"/>
              </a:rPr>
              <a:t>имеем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9 x 9 = 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99 x 99 = 98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999 x 999 = 998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9999 x 9999 = 9998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99999 x 99999 = 999980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999999 x 999999 = 99999800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9999999 x 9999999 = 9999998000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99999999 x 99999999 = 999999980000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999999999 x 999999999 = 999999998000000001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D:\всё для презентаций\анимации для презентаций\Буквы и цифры\цифры 5\9999.gif"/>
          <p:cNvPicPr/>
          <p:nvPr/>
        </p:nvPicPr>
        <p:blipFill>
          <a:blip r:embed="rId1"/>
          <a:stretch/>
        </p:blipFill>
        <p:spPr>
          <a:xfrm>
            <a:off x="5724360" y="549360"/>
            <a:ext cx="648000" cy="934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0d7bfbb42edcbbc148491e5164e3ef67"/>
          <p:cNvPicPr/>
          <p:nvPr/>
        </p:nvPicPr>
        <p:blipFill>
          <a:blip r:embed="rId2"/>
          <a:stretch/>
        </p:blipFill>
        <p:spPr>
          <a:xfrm rot="20286000">
            <a:off x="6771960" y="1692360"/>
            <a:ext cx="1835280" cy="172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2364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множение  без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25406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694"/>
                </a:solidFill>
                <a:latin typeface="Arial"/>
              </a:rPr>
              <a:t>12345679 x   9 = 111111111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694"/>
                </a:solidFill>
                <a:latin typeface="Arial"/>
              </a:rPr>
              <a:t>12345679 x 18 = 222222222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694"/>
                </a:solidFill>
                <a:latin typeface="Arial"/>
              </a:rPr>
              <a:t>12345679 x 27 = 333333333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694"/>
                </a:solidFill>
                <a:latin typeface="Arial"/>
              </a:rPr>
              <a:t>12345679 x 36 = 444444444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694"/>
                </a:solidFill>
                <a:latin typeface="Arial"/>
              </a:rPr>
              <a:t>12345679 x 45 = 555555555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694"/>
                </a:solidFill>
                <a:latin typeface="Arial"/>
              </a:rPr>
              <a:t>12345679 x 54 = 666666666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694"/>
                </a:solidFill>
                <a:latin typeface="Arial"/>
              </a:rPr>
              <a:t>12345679 x 63 = 777777777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694"/>
                </a:solidFill>
                <a:latin typeface="Arial"/>
              </a:rPr>
              <a:t>12345679 x 72 = 888888888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694"/>
                </a:solidFill>
                <a:latin typeface="Arial"/>
              </a:rPr>
              <a:t>12345679 x 81 = 999999999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123" name="Picture 2" descr="D:\всё для презентаций\анимации для презентаций\Буквы и цифры\цифры 6\88888.gif"/>
          <p:cNvPicPr/>
          <p:nvPr/>
        </p:nvPicPr>
        <p:blipFill>
          <a:blip r:embed="rId1"/>
          <a:stretch/>
        </p:blipFill>
        <p:spPr>
          <a:xfrm>
            <a:off x="6126120" y="-30240"/>
            <a:ext cx="750960" cy="81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Числовой палиндром из        :</a:t>
            </a: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cc00ff"/>
                </a:solidFill>
                <a:latin typeface="Arial"/>
              </a:rPr>
              <a:t>1 x 1 = 1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cc00ff"/>
                </a:solidFill>
                <a:latin typeface="Arial"/>
              </a:rPr>
              <a:t>11 x 11 = 121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cc00ff"/>
                </a:solidFill>
                <a:latin typeface="Arial"/>
              </a:rPr>
              <a:t>111 x 111 = 12321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cc00ff"/>
                </a:solidFill>
                <a:latin typeface="Arial"/>
              </a:rPr>
              <a:t>1111 x 1111 = 1234321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cc00ff"/>
                </a:solidFill>
                <a:latin typeface="Arial"/>
              </a:rPr>
              <a:t>11111 x 11111 = 123454321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cc00ff"/>
                </a:solidFill>
                <a:latin typeface="Arial"/>
              </a:rPr>
              <a:t>111111 x 111111 = 12345654321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cc00ff"/>
                </a:solidFill>
                <a:latin typeface="Arial"/>
              </a:rPr>
              <a:t>1111111 x 1111111 = 1234567654321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cc00ff"/>
                </a:solidFill>
                <a:latin typeface="Arial"/>
              </a:rPr>
              <a:t>1111111 x 11111111 = 123456787654321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Arial"/>
              </a:rPr>
              <a:t>111111111 x 111111111 = 12345678987654321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125" name="Picture 2" descr="D:\всё для презентаций\анимации для презентаций\Буквы и цифры\цифры 6\11111.gif"/>
          <p:cNvPicPr/>
          <p:nvPr/>
        </p:nvPicPr>
        <p:blipFill>
          <a:blip r:embed="rId1"/>
          <a:stretch/>
        </p:blipFill>
        <p:spPr>
          <a:xfrm>
            <a:off x="5780160" y="-47520"/>
            <a:ext cx="952560" cy="1028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AG00020_"/>
          <p:cNvPicPr/>
          <p:nvPr/>
        </p:nvPicPr>
        <p:blipFill>
          <a:blip r:embed="rId2"/>
          <a:stretch/>
        </p:blipFill>
        <p:spPr>
          <a:xfrm>
            <a:off x="6084720" y="1700280"/>
            <a:ext cx="251460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1" descr=""/>
          <p:cNvPicPr/>
          <p:nvPr/>
        </p:nvPicPr>
        <p:blipFill>
          <a:blip r:embed="rId1"/>
          <a:stretch/>
        </p:blipFill>
        <p:spPr>
          <a:xfrm>
            <a:off x="493560" y="-133200"/>
            <a:ext cx="8156880" cy="9381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476360" y="620280"/>
            <a:ext cx="6408720" cy="554508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254061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376092"/>
                </a:solidFill>
                <a:latin typeface="Arial"/>
              </a:rPr>
              <a:t>Вот несколько удивительных простых чисел, которые были открыты в XVIII веке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31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331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3331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33331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333331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3333331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3333331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дивительно</a:t>
            </a:r>
            <a:r>
              <a:rPr b="0" lang="ru-RU" sz="2400" spc="-1" strike="noStrike">
                <a:solidFill>
                  <a:srgbClr val="376092"/>
                </a:solidFill>
                <a:latin typeface="Arial"/>
              </a:rPr>
              <a:t>, но следующее число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333333331</a:t>
            </a:r>
            <a:r>
              <a:rPr b="0" lang="ru-RU" sz="2400" spc="-1" strike="noStrike">
                <a:solidFill>
                  <a:srgbClr val="376092"/>
                </a:solidFill>
                <a:latin typeface="Arial"/>
              </a:rPr>
              <a:t> не является простым! Оно делится н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7</a:t>
            </a:r>
            <a:r>
              <a:rPr b="0" lang="ru-RU" sz="2400" spc="-1" strike="noStrike">
                <a:solidFill>
                  <a:srgbClr val="376092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609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76092"/>
                </a:solidFill>
                <a:latin typeface="Arial"/>
              </a:rPr>
              <a:t>17 x 19607843 = 333333331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129" name="Рисунок 3" descr="C:\Documents and Settings\Чупров Леонид\Мои документы\А. наглядность\Анимации цветочные\fleurs.gif"/>
          <p:cNvPicPr/>
          <p:nvPr/>
        </p:nvPicPr>
        <p:blipFill>
          <a:blip r:embed="rId2"/>
          <a:stretch/>
        </p:blipFill>
        <p:spPr>
          <a:xfrm rot="5400000">
            <a:off x="-942840" y="2392200"/>
            <a:ext cx="4954680" cy="1268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1:01:56Z</dcterms:created>
  <dc:creator>Comp</dc:creator>
  <dc:description/>
  <dc:language>en-US</dc:language>
  <cp:lastModifiedBy>ПОЛЬЗОВАТЕЛЬ</cp:lastModifiedBy>
  <dcterms:modified xsi:type="dcterms:W3CDTF">2013-02-12T19:31:45Z</dcterms:modified>
  <cp:revision>29</cp:revision>
  <dc:subject/>
  <dc:title>Слайд 1</dc:title>
</cp:coreProperties>
</file>