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gif" ContentType="image/gif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7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8.png" ContentType="image/png"/>
  <Override PartName="/ppt/media/image32.gif" ContentType="image/gif"/>
  <Override PartName="/ppt/media/image10.gif" ContentType="image/gif"/>
  <Override PartName="/ppt/media/image34.gif" ContentType="image/gif"/>
  <Override PartName="/ppt/media/image9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40.png" ContentType="image/png"/>
  <Override PartName="/ppt/media/image30.png" ContentType="image/png"/>
  <Override PartName="/ppt/media/image5.png" ContentType="image/png"/>
  <Override PartName="/ppt/media/image35.gif" ContentType="image/gif"/>
  <Override PartName="/ppt/media/image28.png" ContentType="image/png"/>
  <Override PartName="/ppt/media/image42.png" ContentType="image/png"/>
  <Override PartName="/ppt/media/image7.gif" ContentType="image/gif"/>
  <Override PartName="/ppt/media/image37.gif" ContentType="image/gif"/>
  <Override PartName="/ppt/media/image44.png" ContentType="image/png"/>
  <Override PartName="/ppt/media/image45.png" ContentType="image/png"/>
  <Override PartName="/ppt/media/image12.gif" ContentType="image/gif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D9FD-4FB0-4449-8071-48E3BEFB49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9551-BE72-4A1E-A2B0-0890F20C8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4D06-6AAC-4F20-BD95-572E8FCD2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3C4-210D-4498-866D-F26000F66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2CF0-0BF7-40B1-96EC-29CBD2228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421-6949-4A54-A729-564EA333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452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BC7-BDFC-40A8-BBD4-9D208D35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677-92BF-462A-8C84-871700D8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353-BF71-4516-A524-3353431F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EB25-83A8-4A64-B59E-084DF605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DAEA-3590-4788-88F5-49A88728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9FF1-554B-4AE3-8187-05F9E34C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B0C7-E0BE-409D-8FC0-07FC0976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92B2-46FB-423E-8401-0EA64070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56840" y="-360"/>
            <a:ext cx="76582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173E-A194-4A24-8586-157CDD6E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A546-5ACC-43AA-A1FC-DD7ADF5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7BB-9FF4-4CA6-8070-BDF0BB45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CB20-663F-42A8-90A2-C2A566D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5B59-A7FA-4573-A575-A1A99F08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452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5EE8-1269-4E08-B0C7-416575CC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BCF7-06B5-43FE-8C88-1FE682F2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FD80-EEFF-4D45-80C4-BAB3BE6D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7DB-E406-4173-A1DF-0FE67AEA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A68-EDB1-4C24-BA0D-84CE7B7D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1FA-A53C-43B9-8673-383BA6C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56840" y="-360"/>
            <a:ext cx="76582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0DC-E460-4A81-AF12-3B430A5B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BAA-4DB7-4A85-B2B8-DE5465FC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E44-691C-401C-BBBF-3D71848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F8C-F4DF-4577-91D9-5249B070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6910-5A62-4A0E-B3A7-C9BF385D5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4F02-C3EA-4F6B-8B6D-0AFF92111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2.gif"/><Relationship Id="rId6" Type="http://schemas.openxmlformats.org/officeDocument/2006/relationships/image" Target="../media/image14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322280" y="1047600"/>
            <a:ext cx="6089760" cy="3225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537984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езентация выполнена учителем математики Новоэкономической ОШ Калашник Н. И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1352520" y="-92160"/>
            <a:ext cx="7669080" cy="957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324000" y="10569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73% людей, которые покупают цветы в День Святого Валентина - мужчины, в то время как только 27% процентов – женщины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6" descr="C:\Documents and Settings\Чупров Леонид\Мои документы\А. наглядность\Анимации цветочные\redrosea.gif"/>
          <p:cNvPicPr/>
          <p:nvPr/>
        </p:nvPicPr>
        <p:blipFill>
          <a:blip r:embed="rId2"/>
          <a:stretch/>
        </p:blipFill>
        <p:spPr>
          <a:xfrm>
            <a:off x="3924360" y="1844640"/>
            <a:ext cx="1008000" cy="736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0" y="258192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мый красивый и невероятный подарок любви - Тадж-Махал в Индии. Построенный императором Великих Моголов Шах-Джаханом как памятник жене. Он стоит как эмблема истории вечной любви. Работа над Тадж-Махалом началась в 1634 году и продолжалась в течение почти 22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удилось 20 тысяч рабоч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 всей Инд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нтр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8" descr="C:\Documents and Settings\Чупров Леонид\Мои документы\А. наглядность\А. фон природа\13.gif"/>
          <p:cNvPicPr/>
          <p:nvPr/>
        </p:nvPicPr>
        <p:blipFill>
          <a:blip r:embed="rId3"/>
          <a:stretch/>
        </p:blipFill>
        <p:spPr>
          <a:xfrm>
            <a:off x="3995640" y="4508640"/>
            <a:ext cx="3816360" cy="2089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9" descr="C:\Documents and Settings\Чупров Леонид\Мои документы\А. наглядность\А. люди анимация\arizona05.gif"/>
          <p:cNvPicPr/>
          <p:nvPr/>
        </p:nvPicPr>
        <p:blipFill>
          <a:blip r:embed="rId4"/>
          <a:stretch/>
        </p:blipFill>
        <p:spPr>
          <a:xfrm>
            <a:off x="7524720" y="1557360"/>
            <a:ext cx="1295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Самое длинное официальное название места в мире –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Taumatawhakatangihangakoauauotamateapokaiwhenuakitanatahu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.Оно имеет 85 букв. Это название горы в Новой Зеландии высотой 305 метров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Американские авиалинии сэкономили $40000 в 1987 году, исключив одну оливку из каждой подаваемой порции салата в первом классе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Бамбук может расти со скоростью почти метр за сутки</a:t>
            </a: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Численность кур на земле равняется численности людей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Когда стекло разбивается, трещины двигаются со скоростью до 3000 километров в час.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Более 4 млн. автомобилей в Бразилии в настоящее время работают на газохоле вместо бензина. Газохол - это топливо из сахарного тростника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1842480" y="26028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 разном: о большом и ма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:\Documents and Settings\Чупров Леонид\Мои документы\А. наглядность\Анимации цветочные\icon_010.gif"/>
          <p:cNvPicPr/>
          <p:nvPr/>
        </p:nvPicPr>
        <p:blipFill>
          <a:blip r:embed="rId1"/>
          <a:stretch/>
        </p:blipFill>
        <p:spPr>
          <a:xfrm>
            <a:off x="6588000" y="2060640"/>
            <a:ext cx="363600" cy="210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C:\Documents and Settings\Чупров Леонид\Мои документы\А. наглядность\Анимации цветочные\FLOWER22.gif"/>
          <p:cNvPicPr/>
          <p:nvPr/>
        </p:nvPicPr>
        <p:blipFill>
          <a:blip r:embed="rId2"/>
          <a:stretch/>
        </p:blipFill>
        <p:spPr>
          <a:xfrm>
            <a:off x="5724360" y="3213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C:\Documents and Settings\Чупров Леонид\Мои документы\А. наглядность\Анимации цветочные\FLOWER18.gif"/>
          <p:cNvPicPr/>
          <p:nvPr/>
        </p:nvPicPr>
        <p:blipFill>
          <a:blip r:embed="rId3"/>
          <a:stretch/>
        </p:blipFill>
        <p:spPr>
          <a:xfrm>
            <a:off x="1763640" y="4437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C:\Documents and Settings\Чупров Леонид\Мои документы\А. наглядность\Анимации цветочные\f012.gif"/>
          <p:cNvPicPr/>
          <p:nvPr/>
        </p:nvPicPr>
        <p:blipFill>
          <a:blip r:embed="rId4"/>
          <a:stretch/>
        </p:blipFill>
        <p:spPr>
          <a:xfrm>
            <a:off x="630072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C:\Documents and Settings\Чупров Леонид\Мои документы\А. наглядность\Анимации цветочные\f011.gif"/>
          <p:cNvPicPr/>
          <p:nvPr/>
        </p:nvPicPr>
        <p:blipFill>
          <a:blip r:embed="rId5"/>
          <a:stretch/>
        </p:blipFill>
        <p:spPr>
          <a:xfrm>
            <a:off x="6227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54061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Нормальный человек умрет от полного отсутствия сна раньше, чем от голода. Смерть настанет где-то после 10 дней без сна, в то время как при голодании – через несколько недель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2475576000 секунд - средняя продолжительность жизни. За это время мы в среднем говорим 123205750 слов, проливаем 70 литров слез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К 70 годам сердце человека совершает около 2,5 миллиарда сокращений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В среднем, человек переворачивается 25 раз во время сна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Самый тяжелый мозг человека когда-либо зарегистрированный весил 2,3 кг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1414800" y="260280"/>
            <a:ext cx="46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 человеке и его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D:\всё для презентаций\анимации для презентаций\анимашки\239453721.gif"/>
          <p:cNvPicPr/>
          <p:nvPr/>
        </p:nvPicPr>
        <p:blipFill>
          <a:blip r:embed="rId1"/>
          <a:stretch/>
        </p:blipFill>
        <p:spPr>
          <a:xfrm>
            <a:off x="7020000" y="0"/>
            <a:ext cx="1368360" cy="151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Рисунок18"/>
          <p:cNvPicPr/>
          <p:nvPr/>
        </p:nvPicPr>
        <p:blipFill>
          <a:blip r:embed="rId2"/>
          <a:stretch/>
        </p:blipFill>
        <p:spPr>
          <a:xfrm>
            <a:off x="7596360" y="3716280"/>
            <a:ext cx="944280" cy="8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1128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Самый мощный лазер в мире (Нова Лазер в Ливерморской национальной лаборатории, штат Калифорния, США) генерирует импульс энергии, равной 100.000.000.000.000 Вт мощности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Население мира увеличилось на 3,1 млрд. за последние 40 лет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Первый университет в мире был создан в Индии в 700 до н. э. Более 10500 студентов со всего мира изучали более 60 предметов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Вы вырастаете примерно на 8 мм каждую ночь, когда спите. Но на следующий день вы возвращаетесь к своей обычной высоте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1495080" y="18900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много о разном с цыф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SMILE8"/>
          <p:cNvPicPr/>
          <p:nvPr/>
        </p:nvPicPr>
        <p:blipFill>
          <a:blip r:embed="rId1"/>
          <a:stretch/>
        </p:blipFill>
        <p:spPr>
          <a:xfrm>
            <a:off x="7524720" y="189000"/>
            <a:ext cx="1371600" cy="75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Шустрик"/>
          <p:cNvPicPr/>
          <p:nvPr/>
        </p:nvPicPr>
        <p:blipFill>
          <a:blip r:embed="rId2"/>
          <a:stretch/>
        </p:blipFill>
        <p:spPr>
          <a:xfrm>
            <a:off x="0" y="1844640"/>
            <a:ext cx="1224000" cy="134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7255080" cy="981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899640" y="1197000"/>
            <a:ext cx="748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ушкин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                                       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7 30 48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40 10 01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26 138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40 3 501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Маяковский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2 46 38 1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16 14 20!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5 14 21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4 0 17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53" name="Picture 2" descr="D:\всё для презентаций\анимации для презентаций\анимашки\картинки из квн 5 кл\Animate0035.GIF"/>
          <p:cNvPicPr/>
          <p:nvPr/>
        </p:nvPicPr>
        <p:blipFill>
          <a:blip r:embed="rId2"/>
          <a:stretch/>
        </p:blipFill>
        <p:spPr>
          <a:xfrm>
            <a:off x="1258920" y="1114560"/>
            <a:ext cx="1941480" cy="23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1692360" y="1484280"/>
            <a:ext cx="37432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4 126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32 17 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6 42... 5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04 8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70! 16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14 700 1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12 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7 114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4140360" y="1484280"/>
            <a:ext cx="3078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есел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15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2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7 08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 20 2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 14 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00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7 08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 20 2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6804000" y="1628640"/>
            <a:ext cx="194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Част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7 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9 9 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7 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8 3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"/>
          <p:cNvSpPr/>
          <p:nvPr/>
        </p:nvSpPr>
        <p:spPr>
          <a:xfrm>
            <a:off x="324000" y="1557360"/>
            <a:ext cx="2160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Гру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511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 20 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12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2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7"/>
          <p:cNvSpPr/>
          <p:nvPr/>
        </p:nvSpPr>
        <p:spPr>
          <a:xfrm>
            <a:off x="1332000" y="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46c0a"/>
                </a:solidFill>
                <a:latin typeface="Arial"/>
              </a:rPr>
              <a:t>Проговори э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46c0a"/>
                </a:solidFill>
                <a:latin typeface="Arial"/>
              </a:rPr>
              <a:t>цифровые строки нарас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D:\всё для презентаций\анимации для презентаций\анимашки\картинки из квн 5 кл\AG00383_.GIF"/>
          <p:cNvPicPr/>
          <p:nvPr/>
        </p:nvPicPr>
        <p:blipFill>
          <a:blip r:embed="rId1"/>
          <a:stretch/>
        </p:blipFill>
        <p:spPr>
          <a:xfrm>
            <a:off x="468360" y="3933720"/>
            <a:ext cx="2016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3" descr=""/>
          <p:cNvPicPr/>
          <p:nvPr/>
        </p:nvPicPr>
        <p:blipFill>
          <a:blip r:embed="rId1"/>
          <a:stretch/>
        </p:blipFill>
        <p:spPr>
          <a:xfrm>
            <a:off x="1352520" y="-6480"/>
            <a:ext cx="7924680" cy="87156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6" descr=""/>
          <p:cNvPicPr/>
          <p:nvPr/>
        </p:nvPicPr>
        <p:blipFill>
          <a:blip r:embed="rId2"/>
          <a:stretch/>
        </p:blipFill>
        <p:spPr>
          <a:xfrm>
            <a:off x="0" y="0"/>
            <a:ext cx="3995640" cy="278136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7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8713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374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1352520" y="-92160"/>
            <a:ext cx="7669080" cy="957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499760" y="1071360"/>
            <a:ext cx="7358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54061"/>
                </a:solidFill>
                <a:uFillTx/>
                <a:latin typeface="Arial"/>
              </a:rPr>
              <a:t>http://im6-tub.yandex.net/i?id=313833065-30-72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54061"/>
                </a:solidFill>
                <a:uFillTx/>
                <a:latin typeface="Arial"/>
              </a:rPr>
              <a:t>http://uti-puti.com.ua/img/01/41754757_shkola_school.jpg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54061"/>
                </a:solidFill>
                <a:uFillTx/>
                <a:latin typeface="Arial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54061"/>
                </a:solidFill>
                <a:uFillTx/>
                <a:latin typeface="Arial"/>
              </a:rPr>
              <a:t>http://www.vectory.ru/products_pictures/CAW092a.gif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54061"/>
                </a:solidFill>
                <a:uFillTx/>
                <a:latin typeface="Arial"/>
              </a:rPr>
              <a:t>http://stat18.privet.ru/lr/0a2446eea378dac32a93eb6b71162201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67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0" y="3141720"/>
            <a:ext cx="140184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"/>
          <p:cNvPicPr/>
          <p:nvPr/>
        </p:nvPicPr>
        <p:blipFill>
          <a:blip r:embed="rId3"/>
          <a:stretch/>
        </p:blipFill>
        <p:spPr>
          <a:xfrm rot="15812400">
            <a:off x="353160" y="5793480"/>
            <a:ext cx="928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1352520" y="-92160"/>
            <a:ext cx="7669080" cy="957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836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езентация совместно с разработкой внеклассного мероприятия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оможет увидеть красоту математических примеров, нестандартность жизненных фактов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ст возможность посмотреть на математику со стороны «очевидного и невероятного»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никнуться к науке если не любовью, то уважением.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93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6732720" y="1844640"/>
            <a:ext cx="1401480" cy="135720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1352520" y="103320"/>
            <a:ext cx="7669080" cy="1317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332000" y="9853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Если вы ослепнете на один глаз, вы потеряете только около одной пятой вашего поля зрения (но вы потеряете восприятие глубины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2259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ши глаза всегда одного размера от рождения, но наш нос и уши никогда не перестают р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692360" y="3285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ормальный человек смеется пять раз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D:\всё для презентаций\анимации для презентаций\анимашки\картинки из квн 5 кл\Animate0105.GIF"/>
          <p:cNvPicPr/>
          <p:nvPr/>
        </p:nvPicPr>
        <p:blipFill>
          <a:blip r:embed="rId2"/>
          <a:stretch/>
        </p:blipFill>
        <p:spPr>
          <a:xfrm>
            <a:off x="5580000" y="3660840"/>
            <a:ext cx="1728720" cy="19508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2"/>
          <p:cNvSpPr/>
          <p:nvPr/>
        </p:nvSpPr>
        <p:spPr>
          <a:xfrm>
            <a:off x="324000" y="407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среднем, человек имеет 100000 волос на голове. Каждый волос вырастает на 13 см с каждым го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2124000" y="5732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Люди имеют 46 хромосом, горох – 14, раки - 2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D:\всё для презентаций\анимации для презентаций\Глаза\eyes15.gif"/>
          <p:cNvPicPr/>
          <p:nvPr/>
        </p:nvPicPr>
        <p:blipFill>
          <a:blip r:embed="rId3"/>
          <a:stretch/>
        </p:blipFill>
        <p:spPr>
          <a:xfrm>
            <a:off x="250920" y="1557360"/>
            <a:ext cx="1085760" cy="447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:\всё для презентаций\анимации для презентаций\Буквы и цифры\Другие\slovar4.gif"/>
          <p:cNvPicPr/>
          <p:nvPr/>
        </p:nvPicPr>
        <p:blipFill>
          <a:blip r:embed="rId4"/>
          <a:stretch/>
        </p:blipFill>
        <p:spPr>
          <a:xfrm>
            <a:off x="8244000" y="0"/>
            <a:ext cx="574560" cy="98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68360" y="386388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ракан является самым быстрым животным на 6 но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всё для презентаций\анимации для презентаций\животные\colec64.gif"/>
          <p:cNvPicPr/>
          <p:nvPr/>
        </p:nvPicPr>
        <p:blipFill>
          <a:blip r:embed="rId1"/>
          <a:stretch/>
        </p:blipFill>
        <p:spPr>
          <a:xfrm>
            <a:off x="1332000" y="5084640"/>
            <a:ext cx="138888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1352520" y="-92160"/>
            <a:ext cx="7669080" cy="9572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3"/>
          <p:cNvGrpSpPr/>
          <p:nvPr/>
        </p:nvGrpSpPr>
        <p:grpSpPr>
          <a:xfrm>
            <a:off x="6659640" y="2565360"/>
            <a:ext cx="1963800" cy="1295280"/>
            <a:chOff x="6659640" y="2565360"/>
            <a:chExt cx="1963800" cy="1295280"/>
          </a:xfrm>
        </p:grpSpPr>
        <p:pic>
          <p:nvPicPr>
            <p:cNvPr id="107" name="Picture 4" descr="101"/>
            <p:cNvPicPr/>
            <p:nvPr/>
          </p:nvPicPr>
          <p:blipFill>
            <a:blip r:embed="rId3"/>
            <a:stretch/>
          </p:blipFill>
          <p:spPr>
            <a:xfrm>
              <a:off x="7371000" y="2565360"/>
              <a:ext cx="125244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5" descr="101"/>
            <p:cNvPicPr/>
            <p:nvPr/>
          </p:nvPicPr>
          <p:blipFill>
            <a:blip r:embed="rId4"/>
            <a:stretch/>
          </p:blipFill>
          <p:spPr>
            <a:xfrm>
              <a:off x="7680600" y="3274560"/>
              <a:ext cx="927720" cy="5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101"/>
            <p:cNvPicPr/>
            <p:nvPr/>
          </p:nvPicPr>
          <p:blipFill>
            <a:blip r:embed="rId5"/>
            <a:stretch/>
          </p:blipFill>
          <p:spPr>
            <a:xfrm>
              <a:off x="6659640" y="3097080"/>
              <a:ext cx="1128600" cy="71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Rectangle 3"/>
          <p:cNvSpPr/>
          <p:nvPr/>
        </p:nvSpPr>
        <p:spPr>
          <a:xfrm>
            <a:off x="395280" y="11469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Белый медведь может выглядеть неуклюжим и медленным, но во время погони на льду, он может достигать 40 км/ч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8770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теныши тигровой акулы воюют друг с другом в утробе матери. Рождаются выживш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26380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кулы могут жить до 10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2"/>
          <p:cNvSpPr/>
          <p:nvPr/>
        </p:nvSpPr>
        <p:spPr>
          <a:xfrm>
            <a:off x="395280" y="4653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Язык синего кита весит больше, чем весит сл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2580840" y="5300640"/>
            <a:ext cx="46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убы слона могут весить до 9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D:\всё для презентаций\анимации для презентаций\животные\colec52.gif"/>
          <p:cNvPicPr/>
          <p:nvPr/>
        </p:nvPicPr>
        <p:blipFill>
          <a:blip r:embed="rId6"/>
          <a:stretch/>
        </p:blipFill>
        <p:spPr>
          <a:xfrm>
            <a:off x="395280" y="843120"/>
            <a:ext cx="887400" cy="6014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:\всё для презентаций\анимации для презентаций\Буквы и цифры\Другие\slovar4.gif"/>
          <p:cNvPicPr/>
          <p:nvPr/>
        </p:nvPicPr>
        <p:blipFill>
          <a:blip r:embed="rId7"/>
          <a:stretch/>
        </p:blipFill>
        <p:spPr>
          <a:xfrm>
            <a:off x="8182080" y="0"/>
            <a:ext cx="4204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281 0.03144 L -0.65851 0.03144 E">
                                      <p:cBhvr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Это интересно !!!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Красота математики</a:t>
            </a:r>
            <a:r>
              <a:rPr b="1" i="1" lang="ru-RU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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Умножая ряды          имеем :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 x 7 = 4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 x 67 = 44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 x 667 = 444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 x 6667 = 4444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6 x 66667 = 444442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66 x 666667 = 44444422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666 x 6666667 = 4444444222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6666 x 66666667 = 444444442222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66666 x 666666667 = 44444444422222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18" name="Picture 2" descr="D:\всё для презентаций\анимации для презентаций\Буквы и цифры\цифры 3\6_clr.gif"/>
          <p:cNvPicPr/>
          <p:nvPr/>
        </p:nvPicPr>
        <p:blipFill>
          <a:blip r:embed="rId1"/>
          <a:stretch/>
        </p:blipFill>
        <p:spPr>
          <a:xfrm>
            <a:off x="5364000" y="1239840"/>
            <a:ext cx="576360" cy="69228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250920" y="700920"/>
            <a:ext cx="83534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Calibri"/>
                <a:ea typeface="Calibri"/>
              </a:rPr>
              <a:t>                             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  <a:ea typeface="Calibri"/>
              </a:rPr>
              <a:t>Умножая ряды </a:t>
            </a:r>
            <a:r>
              <a:rPr b="0" lang="ru-RU" sz="40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  <a:ea typeface="Calibri"/>
              </a:rPr>
              <a:t>имее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9 x 9 = 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99 x 99 = 9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 x 999 = 998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 x 9999 = 9998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9 x 99999 = 99998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99 x 999999 = 999998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999 x 9999999 = 99999980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9999 x 99999999 = 9999999800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99999 x 999999999 = 999999998000000001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всё для презентаций\анимации для презентаций\Буквы и цифры\цифры 5\9999.gif"/>
          <p:cNvPicPr/>
          <p:nvPr/>
        </p:nvPicPr>
        <p:blipFill>
          <a:blip r:embed="rId1"/>
          <a:stretch/>
        </p:blipFill>
        <p:spPr>
          <a:xfrm>
            <a:off x="5724360" y="549360"/>
            <a:ext cx="648000" cy="93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d7bfbb42edcbbc148491e5164e3ef67"/>
          <p:cNvPicPr/>
          <p:nvPr/>
        </p:nvPicPr>
        <p:blipFill>
          <a:blip r:embed="rId2"/>
          <a:stretch/>
        </p:blipFill>
        <p:spPr>
          <a:xfrm rot="20286000">
            <a:off x="6771960" y="1692360"/>
            <a:ext cx="183528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множение  без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  9 = 111111111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18 = 222222222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27 = 333333333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36 = 444444444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45 = 555555555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54 = 666666666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63 = 777777777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72 = 888888888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81 = 999999999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3" name="Picture 2" descr="D:\всё для презентаций\анимации для презентаций\Буквы и цифры\цифры 6\88888.gif"/>
          <p:cNvPicPr/>
          <p:nvPr/>
        </p:nvPicPr>
        <p:blipFill>
          <a:blip r:embed="rId1"/>
          <a:stretch/>
        </p:blipFill>
        <p:spPr>
          <a:xfrm>
            <a:off x="6126120" y="-30240"/>
            <a:ext cx="750960" cy="81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Числовой палиндром из        :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 x 1 = 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 x 11 = 1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 x 111 = 12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 x 1111 = 123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1 x 11111 = 12345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11 x 111111 = 1234565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111 x 1111111 = 123456765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111 x 11111111 = 12345678765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11111 x 111111111 = 1234567898765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5" name="Picture 2" descr="D:\всё для презентаций\анимации для презентаций\Буквы и цифры\цифры 6\11111.gif"/>
          <p:cNvPicPr/>
          <p:nvPr/>
        </p:nvPicPr>
        <p:blipFill>
          <a:blip r:embed="rId1"/>
          <a:stretch/>
        </p:blipFill>
        <p:spPr>
          <a:xfrm>
            <a:off x="5780160" y="-47520"/>
            <a:ext cx="952560" cy="102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G00020_"/>
          <p:cNvPicPr/>
          <p:nvPr/>
        </p:nvPicPr>
        <p:blipFill>
          <a:blip r:embed="rId2"/>
          <a:stretch/>
        </p:blipFill>
        <p:spPr>
          <a:xfrm>
            <a:off x="6084720" y="1700280"/>
            <a:ext cx="2514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93560" y="-133200"/>
            <a:ext cx="8156880" cy="938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76360" y="620280"/>
            <a:ext cx="6408720" cy="5545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Вот несколько удивительных простых чисел, которые были открыты в XVIII веке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3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33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333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333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дивительно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, но следующее числ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33333331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не является простым! Оно делится 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17 x 19607843 = 333333331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9" name="Рисунок 3" descr="C:\Documents and Settings\Чупров Леонид\Мои документы\А. наглядность\Анимации цветочные\fleurs.gif"/>
          <p:cNvPicPr/>
          <p:nvPr/>
        </p:nvPicPr>
        <p:blipFill>
          <a:blip r:embed="rId2"/>
          <a:stretch/>
        </p:blipFill>
        <p:spPr>
          <a:xfrm rot="5400000">
            <a:off x="-942840" y="2392200"/>
            <a:ext cx="4954680" cy="126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1:01:56Z</dcterms:created>
  <dc:creator>Comp</dc:creator>
  <dc:description/>
  <dc:language>en-US</dc:language>
  <cp:lastModifiedBy>ПОЛЬЗОВАТЕЛЬ</cp:lastModifiedBy>
  <dcterms:modified xsi:type="dcterms:W3CDTF">2013-02-12T19:31:45Z</dcterms:modified>
  <cp:revision>29</cp:revision>
  <dc:subject/>
  <dc:title>Слайд 1</dc:title>
</cp:coreProperties>
</file>