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wmf" ContentType="image/x-wmf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35.png" ContentType="image/png"/>
  <Override PartName="/ppt/media/image36.png" ContentType="image/png"/>
  <Override PartName="/ppt/media/image37.png" ContentType="image/png"/>
  <Override PartName="/ppt/media/image8.wmf" ContentType="image/x-wmf"/>
  <Override PartName="/ppt/media/image11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44.png" ContentType="image/png"/>
  <Override PartName="/ppt/media/image40.jpeg" ContentType="image/jpeg"/>
  <Override PartName="/ppt/media/image42.jpeg" ContentType="image/jpeg"/>
  <Override PartName="/ppt/media/image4.wmf" ContentType="image/x-wmf"/>
  <Override PartName="/ppt/media/image34.wmf" ContentType="image/x-wmf"/>
  <Override PartName="/ppt/media/image43.png" ContentType="image/png"/>
  <Override PartName="/ppt/media/image33.png" ContentType="image/png"/>
  <Override PartName="/ppt/media/image45.png" ContentType="image/png"/>
  <Override PartName="/ppt/media/image12.wmf" ContentType="image/x-wmf"/>
  <Override PartName="/ppt/media/image7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27.jpeg" ContentType="image/jpeg"/>
  <Override PartName="/ppt/media/image13.wmf" ContentType="image/x-wmf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A57-DD7C-4845-81BB-4F2F4A8C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191-99A1-4C1B-9313-18648017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CDA-ED73-4A00-AE26-1279A14A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D86-C32B-43C2-BAB1-CEF89799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8AFA-13E3-4E87-8B55-BF4A0617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FFD8-C510-4B56-8AF8-5E26A7AE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7F29-0342-41E9-B46F-632222AD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B145-C1F9-470A-8322-FCFC0570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1F56-84B4-4509-828B-DFF6284F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1F1D-3FA6-41B4-B5DC-12C13E5E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8F5D-A6E3-4101-A55D-805EDAE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536-51AE-4443-B11D-5E33534C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62C6-C03C-4F15-8F5C-83D6D38D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CA66-C778-4DD0-8E0D-CFD36E9B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781A-A75E-4F98-B065-E3F743D8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4233-97E6-4CC3-8A2A-526E6747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66C8-FF55-4E78-A848-161D71D1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734C-001E-41F3-8B4D-A76F4409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D54D-06A2-4DA8-AECB-83D659E1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EF33-974B-4D3D-B639-DBFF3485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EDB0-9356-460C-97AE-C0A03809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7C03B-59FE-4635-BC06-8F09B283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DF9-3A98-44A7-9295-14F9C9EA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1E8D-1511-4665-83DC-E254B0FD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1266-BE57-4431-B74E-BE32E652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8CC5-8529-4FD1-AF9B-ACD05D57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BFB9-016B-4251-A3DE-118BFA53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614B-9BC1-4137-BB87-4098DD6A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C34E-1071-4A9F-84B4-775D859B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6949A-A5D0-49D1-B32C-EAA332D1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773-08D7-4133-93F2-8AAA9478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17E-CE42-43B5-87A5-FF91D963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F4E-E714-45C1-BE3A-B4483D6E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EDD-77AA-4FB1-AD62-4870263F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412-9993-4CBC-B3A9-EF4FAFA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7F8-AC2B-4932-A866-BA270A2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9f293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26b0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b9f2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e3ded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6b0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b9f2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26b0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f293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07f0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25B2-A91C-4DAE-B408-1D86B3057D3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A345-B3A9-493B-86ED-86B7641DE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B3D-A795-49CE-B110-6C5B43B6E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7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ru-RU" sz="5400" spc="-1" strike="noStrike">
                <a:solidFill>
                  <a:srgbClr val="ff6600"/>
                </a:solidFill>
                <a:latin typeface="Comic Sans MS"/>
              </a:rPr>
              <a:t>	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Comic Sans MS"/>
              </a:rPr>
              <a:t>	</a:t>
            </a: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ru-RU" sz="5400" spc="-1" strike="noStrike">
                <a:solidFill>
                  <a:srgbClr val="ff6600"/>
                </a:solidFill>
                <a:latin typeface="Comic Sans MS"/>
              </a:rPr>
              <a:t>	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ru-RU" sz="54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ru-RU" sz="5400" spc="-1" strike="noStrike">
                <a:solidFill>
                  <a:srgbClr val="ff6600"/>
                </a:solidFill>
                <a:latin typeface="Comic Sans MS"/>
              </a:rPr>
              <a:t>АЗБУКА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Comic Sans MS"/>
              </a:rPr>
              <a:t>ДОРОЖНОГО ДВИЖЕНИЯ</a:t>
            </a:r>
            <a:endParaRPr b="0" lang="en-US" sz="40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6b0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44760" y="2017800"/>
            <a:ext cx="380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ряд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ЮИ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У СОШ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№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1143000" y="2071800"/>
            <a:ext cx="3871800" cy="428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Изображение"/>
          <p:cNvPicPr/>
          <p:nvPr/>
        </p:nvPicPr>
        <p:blipFill>
          <a:blip r:embed="rId2"/>
          <a:srcRect l="0" t="0" r="0" b="-1533"/>
          <a:stretch/>
        </p:blipFill>
        <p:spPr>
          <a:xfrm>
            <a:off x="7500960" y="2000160"/>
            <a:ext cx="123192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2666880"/>
            <a:ext cx="4876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57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b050"/>
                </a:solidFill>
                <a:latin typeface="Impact"/>
              </a:rPr>
              <a:t>На проезжей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3" marL="57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b050"/>
                </a:solidFill>
                <a:latin typeface="Impact"/>
              </a:rPr>
              <a:t>	</a:t>
            </a:r>
            <a:r>
              <a:rPr b="0" i="1" lang="ru-RU" sz="4400" spc="-1" strike="noStrike">
                <a:solidFill>
                  <a:srgbClr val="00b050"/>
                </a:solidFill>
                <a:latin typeface="Impact"/>
              </a:rPr>
              <a:t>	</a:t>
            </a:r>
            <a:r>
              <a:rPr b="0" i="1" lang="ru-RU" sz="4400" spc="-1" strike="noStrike">
                <a:solidFill>
                  <a:srgbClr val="00b050"/>
                </a:solidFill>
                <a:latin typeface="Impact"/>
              </a:rPr>
              <a:t>	</a:t>
            </a:r>
            <a:r>
              <a:rPr b="0" i="1" lang="ru-RU" sz="4400" spc="-1" strike="noStrike">
                <a:solidFill>
                  <a:srgbClr val="00b050"/>
                </a:solidFill>
                <a:latin typeface="Impact"/>
              </a:rPr>
              <a:t>части –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3" marL="57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Impact"/>
              </a:rPr>
              <a:t>не катайтесь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6" descr="PE02043_"/>
          <p:cNvPicPr/>
          <p:nvPr/>
        </p:nvPicPr>
        <p:blipFill>
          <a:blip r:embed="rId1"/>
          <a:stretch/>
        </p:blipFill>
        <p:spPr>
          <a:xfrm>
            <a:off x="5486400" y="1828800"/>
            <a:ext cx="3124080" cy="4038480"/>
          </a:xfrm>
          <a:prstGeom prst="rect">
            <a:avLst/>
          </a:prstGeom>
          <a:ln w="0">
            <a:noFill/>
          </a:ln>
        </p:spPr>
      </p:pic>
      <p:sp>
        <p:nvSpPr>
          <p:cNvPr id="182" name="WordArt 9"/>
          <p:cNvSpPr txBox="1"/>
          <p:nvPr/>
        </p:nvSpPr>
        <p:spPr>
          <a:xfrm>
            <a:off x="1676520" y="228600"/>
            <a:ext cx="6705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762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Внимание: дорога..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8077320" y="59436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10800"/>
                </a:moveTo>
                <a:lnTo>
                  <a:pt x="30758" y="3794"/>
                </a:lnTo>
                <a:lnTo>
                  <a:pt x="3075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 о м н и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рав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дорожн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8ac00"/>
                </a:solidFill>
                <a:latin typeface="Arial"/>
              </a:rPr>
              <a:t>движени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Untitled-12"/>
          <p:cNvPicPr/>
          <p:nvPr/>
        </p:nvPicPr>
        <p:blipFill>
          <a:blip r:embed="rId1"/>
          <a:stretch/>
        </p:blipFill>
        <p:spPr>
          <a:xfrm>
            <a:off x="684360" y="1557360"/>
            <a:ext cx="3536640" cy="47163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5334120" y="2743200"/>
            <a:ext cx="4876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800" spc="-1" strike="noStrike">
                <a:solidFill>
                  <a:srgbClr val="009999"/>
                </a:solidFill>
                <a:latin typeface="Garamond"/>
              </a:rPr>
              <a:t> </a:t>
            </a:r>
            <a:r>
              <a:rPr b="1" i="1" lang="ru-RU" sz="6000" spc="-1" strike="noStrike">
                <a:solidFill>
                  <a:srgbClr val="009999"/>
                </a:solidFill>
                <a:latin typeface="Garamond"/>
              </a:rPr>
              <a:t> </a:t>
            </a:r>
            <a:r>
              <a:rPr b="0" lang="ru-RU" sz="5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786200" y="5143680"/>
            <a:ext cx="4129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2209680" y="617220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3" descr="рис8"/>
          <p:cNvPicPr/>
          <p:nvPr/>
        </p:nvPicPr>
        <p:blipFill>
          <a:blip r:embed="rId2"/>
          <a:stretch/>
        </p:blipFill>
        <p:spPr>
          <a:xfrm>
            <a:off x="6516720" y="476280"/>
            <a:ext cx="2136600" cy="2303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pachka"/>
          <p:cNvPicPr/>
          <p:nvPr/>
        </p:nvPicPr>
        <p:blipFill>
          <a:blip r:embed="rId3"/>
          <a:stretch/>
        </p:blipFill>
        <p:spPr>
          <a:xfrm>
            <a:off x="6588000" y="5445000"/>
            <a:ext cx="1828800" cy="11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3"/>
          <p:cNvSpPr txBox="1"/>
          <p:nvPr/>
        </p:nvSpPr>
        <p:spPr>
          <a:xfrm>
            <a:off x="990720" y="609480"/>
            <a:ext cx="6705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БУС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4" descr="TN00561_"/>
          <p:cNvPicPr/>
          <p:nvPr/>
        </p:nvPicPr>
        <p:blipFill>
          <a:blip r:embed="rId3"/>
          <a:stretch/>
        </p:blipFill>
        <p:spPr>
          <a:xfrm>
            <a:off x="2124000" y="2852640"/>
            <a:ext cx="4567320" cy="347688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>
            <a:off x="609480" y="62485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10800"/>
                </a:moveTo>
                <a:lnTo>
                  <a:pt x="30769" y="3794"/>
                </a:lnTo>
                <a:lnTo>
                  <a:pt x="30769" y="17806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6" descr="МАШИНА.GIF"/>
          <p:cNvPicPr/>
          <p:nvPr/>
        </p:nvPicPr>
        <p:blipFill>
          <a:blip r:embed="rId1"/>
          <a:stretch/>
        </p:blipFill>
        <p:spPr>
          <a:xfrm>
            <a:off x="971640" y="3284640"/>
            <a:ext cx="7018200" cy="2779560"/>
          </a:xfrm>
          <a:prstGeom prst="rect">
            <a:avLst/>
          </a:prstGeom>
          <a:ln w="0">
            <a:noFill/>
          </a:ln>
        </p:spPr>
      </p:pic>
      <p:sp>
        <p:nvSpPr>
          <p:cNvPr id="198" name="WordArt 8"/>
          <p:cNvSpPr txBox="1"/>
          <p:nvPr/>
        </p:nvSpPr>
        <p:spPr>
          <a:xfrm>
            <a:off x="1476360" y="549360"/>
            <a:ext cx="58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ш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4"/>
          <p:cNvPicPr/>
          <p:nvPr/>
        </p:nvPicPr>
        <p:blipFill>
          <a:blip r:embed="rId1"/>
          <a:stretch/>
        </p:blipFill>
        <p:spPr>
          <a:xfrm>
            <a:off x="2124000" y="1916280"/>
            <a:ext cx="4753080" cy="4208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0" name="WordArt 5"/>
          <p:cNvSpPr txBox="1"/>
          <p:nvPr/>
        </p:nvSpPr>
        <p:spPr>
          <a:xfrm>
            <a:off x="1692360" y="333360"/>
            <a:ext cx="58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8a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узов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8a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Untitled-1"/>
          <p:cNvPicPr/>
          <p:nvPr/>
        </p:nvPicPr>
        <p:blipFill>
          <a:blip r:embed="rId1"/>
          <a:stretch/>
        </p:blipFill>
        <p:spPr>
          <a:xfrm>
            <a:off x="1763640" y="1844640"/>
            <a:ext cx="5832720" cy="437688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sp>
        <p:nvSpPr>
          <p:cNvPr id="202" name="WordArt 5"/>
          <p:cNvSpPr txBox="1"/>
          <p:nvPr/>
        </p:nvSpPr>
        <p:spPr>
          <a:xfrm>
            <a:off x="1258920" y="0"/>
            <a:ext cx="626580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оллейбу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1692360" y="260280"/>
            <a:ext cx="547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тоцик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7" descr="TR00172_"/>
          <p:cNvPicPr/>
          <p:nvPr/>
        </p:nvPicPr>
        <p:blipFill>
          <a:blip r:embed="rId1"/>
          <a:stretch/>
        </p:blipFill>
        <p:spPr>
          <a:xfrm>
            <a:off x="1403280" y="1989000"/>
            <a:ext cx="6359760" cy="39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giant_brass"/>
          <p:cNvPicPr/>
          <p:nvPr/>
        </p:nvPicPr>
        <p:blipFill>
          <a:blip r:embed="rId1"/>
          <a:stretch/>
        </p:blipFill>
        <p:spPr>
          <a:xfrm>
            <a:off x="2195640" y="1916280"/>
            <a:ext cx="4537080" cy="4606920"/>
          </a:xfrm>
          <a:prstGeom prst="rect">
            <a:avLst/>
          </a:prstGeom>
          <a:ln w="0">
            <a:noFill/>
          </a:ln>
        </p:spPr>
      </p:pic>
      <p:sp>
        <p:nvSpPr>
          <p:cNvPr id="206" name="WordArt 5"/>
          <p:cNvSpPr txBox="1"/>
          <p:nvPr/>
        </p:nvSpPr>
        <p:spPr>
          <a:xfrm>
            <a:off x="1908000" y="260280"/>
            <a:ext cx="5543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b69db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осип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b69db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ac00"/>
                </a:solidFill>
                <a:latin typeface="Arial"/>
              </a:rPr>
              <a:t>	</a:t>
            </a:r>
            <a:r>
              <a:rPr b="1" lang="ru-RU" sz="6000" spc="-1" strike="noStrike">
                <a:solidFill>
                  <a:srgbClr val="08ac00"/>
                </a:solidFill>
                <a:latin typeface="Arial"/>
              </a:rPr>
              <a:t>Пешеходный </a:t>
            </a:r>
            <a:r>
              <a:rPr b="1" lang="ru-RU" sz="6000" spc="-1" strike="noStrike">
                <a:solidFill>
                  <a:srgbClr val="08ac00"/>
                </a:solidFill>
                <a:latin typeface="Arial"/>
              </a:rPr>
              <a:t>	</a:t>
            </a:r>
            <a:r>
              <a:rPr b="1" lang="ru-RU" sz="6000" spc="-1" strike="noStrike">
                <a:solidFill>
                  <a:srgbClr val="08ac00"/>
                </a:solidFill>
                <a:latin typeface="Arial"/>
              </a:rPr>
              <a:t>перех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5" descr="CG33.png"/>
          <p:cNvPicPr/>
          <p:nvPr/>
        </p:nvPicPr>
        <p:blipFill>
          <a:blip r:embed="rId1"/>
          <a:stretch/>
        </p:blipFill>
        <p:spPr>
          <a:xfrm>
            <a:off x="4572000" y="1844640"/>
            <a:ext cx="4321080" cy="4464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3394080" cy="4046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8ac00"/>
                </a:solidFill>
                <a:latin typeface="Arial Black"/>
              </a:rPr>
              <a:t>	</a:t>
            </a:r>
            <a:r>
              <a:rPr b="0" lang="ru-RU" sz="5400" spc="-1" strike="noStrike">
                <a:solidFill>
                  <a:srgbClr val="08ac00"/>
                </a:solidFill>
                <a:latin typeface="Arial Black"/>
              </a:rPr>
              <a:t>Островок </a:t>
            </a:r>
            <a:r>
              <a:rPr b="0" lang="ru-RU" sz="5400" spc="-1" strike="noStrike">
                <a:solidFill>
                  <a:srgbClr val="08ac00"/>
                </a:solidFill>
                <a:latin typeface="Arial Black"/>
              </a:rPr>
              <a:t>	</a:t>
            </a:r>
            <a:r>
              <a:rPr b="0" lang="ru-RU" sz="5400" spc="-1" strike="noStrike">
                <a:solidFill>
                  <a:srgbClr val="08ac00"/>
                </a:solidFill>
                <a:latin typeface="Arial Black"/>
              </a:rPr>
              <a:t>безопас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Untitled-2"/>
          <p:cNvPicPr/>
          <p:nvPr/>
        </p:nvPicPr>
        <p:blipFill>
          <a:blip r:embed="rId1"/>
          <a:stretch/>
        </p:blipFill>
        <p:spPr>
          <a:xfrm>
            <a:off x="1763640" y="2133720"/>
            <a:ext cx="5256360" cy="3962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Tahoma"/>
              </a:rPr>
              <a:t>	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збука города</a:t>
            </a:r>
            <a:endParaRPr b="0" lang="en-US" sz="72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33520" y="2209680"/>
            <a:ext cx="3962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Город, в котором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с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 тобой мы жив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Можем по праву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с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равнить с буква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Азбукой улиц, проспектов,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Город дает нам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се время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Вот она, азбука,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н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ад голов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Знаки развешаны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доль мост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Азбуку города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п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омни все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Чтоб не случилась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с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Arial"/>
              </a:rPr>
              <a:t>тобою б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" action="ppaction://hlinkshowjump?jump=previousslide"/>
          </p:cNvPr>
          <p:cNvSpPr/>
          <p:nvPr/>
        </p:nvSpPr>
        <p:spPr>
          <a:xfrm>
            <a:off x="8229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86868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бунт светофоров"/>
          <p:cNvPicPr/>
          <p:nvPr/>
        </p:nvPicPr>
        <p:blipFill>
          <a:blip r:embed="rId1"/>
          <a:stretch/>
        </p:blipFill>
        <p:spPr>
          <a:xfrm>
            <a:off x="4572000" y="2057400"/>
            <a:ext cx="43830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BD07303_"/>
          <p:cNvPicPr/>
          <p:nvPr/>
        </p:nvPicPr>
        <p:blipFill>
          <a:blip r:embed="rId1"/>
          <a:stretch/>
        </p:blipFill>
        <p:spPr>
          <a:xfrm>
            <a:off x="2124000" y="1628640"/>
            <a:ext cx="4610160" cy="4591080"/>
          </a:xfrm>
          <a:prstGeom prst="rect">
            <a:avLst/>
          </a:prstGeom>
          <a:ln w="0">
            <a:noFill/>
          </a:ln>
        </p:spPr>
      </p:pic>
      <p:sp>
        <p:nvSpPr>
          <p:cNvPr id="213" name="WordArt 5"/>
          <p:cNvSpPr txBox="1"/>
          <p:nvPr/>
        </p:nvSpPr>
        <p:spPr>
          <a:xfrm>
            <a:off x="1763640" y="260280"/>
            <a:ext cx="532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етоф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24000" y="2093040"/>
            <a:ext cx="620208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819520" y="326880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619280" y="2349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55640" y="3284640"/>
            <a:ext cx="51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подожд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476360" y="4797360"/>
            <a:ext cx="40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Arial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cc00"/>
                </a:solidFill>
                <a:latin typeface="Arial"/>
                <a:ea typeface="Times New Roman"/>
              </a:rPr>
              <a:t>проход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svet"/>
          <p:cNvPicPr/>
          <p:nvPr/>
        </p:nvPicPr>
        <p:blipFill>
          <a:blip r:embed="rId1"/>
          <a:stretch/>
        </p:blipFill>
        <p:spPr>
          <a:xfrm>
            <a:off x="5978520" y="333360"/>
            <a:ext cx="3165480" cy="632952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826920" y="476280"/>
            <a:ext cx="5400720" cy="14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етоф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Oval 2"/>
          <p:cNvSpPr/>
          <p:nvPr/>
        </p:nvSpPr>
        <p:spPr>
          <a:xfrm>
            <a:off x="684360" y="4149720"/>
            <a:ext cx="914400" cy="91440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684360" y="249228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611280" y="76500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050920" y="620280"/>
            <a:ext cx="6562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светофоре – красный с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асен путь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хода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 если желтый свет горит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н – «Приготовься!» - гов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еленый вспыхнул вперед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вободен путь – перехо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47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На перекрестке можно увидеть постового милиционера – регулировщ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Рисунок8"/>
          <p:cNvPicPr/>
          <p:nvPr/>
        </p:nvPicPr>
        <p:blipFill>
          <a:blip r:embed="rId1"/>
          <a:stretch/>
        </p:blipFill>
        <p:spPr>
          <a:xfrm>
            <a:off x="2050920" y="1052640"/>
            <a:ext cx="6624720" cy="54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8ac00"/>
                </a:solidFill>
                <a:latin typeface="Slavianskiy"/>
              </a:rPr>
              <a:t>Дорожные зна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Рисунок6"/>
          <p:cNvPicPr/>
          <p:nvPr/>
        </p:nvPicPr>
        <p:blipFill>
          <a:blip r:embed="rId1"/>
          <a:stretch/>
        </p:blipFill>
        <p:spPr>
          <a:xfrm>
            <a:off x="1411200" y="1600200"/>
            <a:ext cx="6321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е пешеходов запреще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одержимое 6" descr="1.gif"/>
          <p:cNvPicPr/>
          <p:nvPr/>
        </p:nvPicPr>
        <p:blipFill>
          <a:blip r:embed="rId1"/>
          <a:stretch/>
        </p:blipFill>
        <p:spPr>
          <a:xfrm>
            <a:off x="1835280" y="1413000"/>
            <a:ext cx="5081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5" descr="CG33.png"/>
          <p:cNvPicPr/>
          <p:nvPr/>
        </p:nvPicPr>
        <p:blipFill>
          <a:blip r:embed="rId1"/>
          <a:stretch/>
        </p:blipFill>
        <p:spPr>
          <a:xfrm>
            <a:off x="1619280" y="1052640"/>
            <a:ext cx="5419800" cy="53625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шеходный перех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Не пытайтесь перейти улицу в неположенном мес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530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j0297579"/>
          <p:cNvPicPr/>
          <p:nvPr/>
        </p:nvPicPr>
        <p:blipFill>
          <a:blip r:embed="rId1"/>
          <a:stretch/>
        </p:blipFill>
        <p:spPr>
          <a:xfrm>
            <a:off x="6605640" y="1905120"/>
            <a:ext cx="2128680" cy="2666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j0343739"/>
          <p:cNvPicPr/>
          <p:nvPr/>
        </p:nvPicPr>
        <p:blipFill>
          <a:blip r:embed="rId2"/>
          <a:stretch/>
        </p:blipFill>
        <p:spPr>
          <a:xfrm>
            <a:off x="4716360" y="5013360"/>
            <a:ext cx="1411560" cy="1359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1187280" y="2022480"/>
            <a:ext cx="46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ac00"/>
                </a:solidFill>
                <a:latin typeface="Times New Roman"/>
              </a:rPr>
              <a:t>Пешеход, пешех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ac00"/>
                </a:solidFill>
                <a:latin typeface="Times New Roman"/>
              </a:rPr>
              <a:t>Помни ты про перех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ac00"/>
                </a:solidFill>
                <a:latin typeface="Times New Roman"/>
              </a:rPr>
              <a:t>Подземный, надзем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ac00"/>
                </a:solidFill>
                <a:latin typeface="Times New Roman"/>
              </a:rPr>
              <a:t>похожий на зеб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ac00"/>
                </a:solidFill>
                <a:latin typeface="Times New Roman"/>
              </a:rPr>
              <a:t>Знай, что только пер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ac00"/>
                </a:solidFill>
                <a:latin typeface="Times New Roman"/>
              </a:rPr>
              <a:t>от беды тебя спас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лосипедная дорож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Содержимое 6" descr="4y.gif"/>
          <p:cNvPicPr/>
          <p:nvPr/>
        </p:nvPicPr>
        <p:blipFill>
          <a:blip r:embed="rId1"/>
          <a:stretch/>
        </p:blipFill>
        <p:spPr>
          <a:xfrm>
            <a:off x="1908000" y="1341360"/>
            <a:ext cx="522144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е на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лосипедах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реще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Содержимое 6" descr="4.gif"/>
          <p:cNvPicPr/>
          <p:nvPr/>
        </p:nvPicPr>
        <p:blipFill>
          <a:blip r:embed="rId1"/>
          <a:stretch/>
        </p:blipFill>
        <p:spPr>
          <a:xfrm>
            <a:off x="1835280" y="1674720"/>
            <a:ext cx="5329080" cy="51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58560" y="476280"/>
            <a:ext cx="6985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Royal Times New Roman"/>
              </a:rPr>
              <a:t>Делаем ребятам предостережение :              Выучите срочно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Royal Times New Roman"/>
              </a:rPr>
              <a:t>правила движения!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Royal Times New Roman"/>
              </a:rPr>
              <a:t>Чтоб не волновались каждый, день родители,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Royal Times New Roman"/>
              </a:rPr>
              <a:t>Чтоб спокойны были за рулем водители.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468360" y="3429000"/>
          <a:ext cx="172872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29000"/>
                    <a:ext cx="172872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304920" y="685800"/>
            <a:ext cx="8534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УПРЕЖДАЮЩИЕ   ЗНАК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0880" y="32767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ПРЕДУПРЕЖДАЮЩИЕ ЗНАКИ ИНФОРМИРУЮТ ВОДИТЕЛЕЙ О ПРИБЛИЖЕНИИ К ОПАСНОМУ УЧАСТКУ ДОРОГИ, ДВИЖЕНИЕ ПО КОТОРОМУ ТРЕБУЕТ ПРИНЯТИЯ МЕР, СООТВЕТСТВУЮЩИХ ОБСТАН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предупреждающие зна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3"/>
          <p:cNvSpPr/>
          <p:nvPr/>
        </p:nvSpPr>
        <p:spPr>
          <a:xfrm>
            <a:off x="8458200" y="47242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609480" y="304920"/>
            <a:ext cx="79250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028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Impact"/>
              </a:rPr>
              <a:t>ЗАПРЕЩАЮЩИЕ   ЗНАК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02800"/>
                  </a:gs>
                  <a:gs pos="100000">
                    <a:srgbClr val="ff0066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7" name="WordArt 3"/>
          <p:cNvSpPr txBox="1"/>
          <p:nvPr/>
        </p:nvSpPr>
        <p:spPr>
          <a:xfrm>
            <a:off x="457200" y="2666880"/>
            <a:ext cx="8153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ЗАПРЕЩАЮЩИЕ  ЗНАКИ</a:t>
            </a:r>
            <a:endParaRPr b="0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ВВОДЯТ  ИЛИ  ОТМЕНЯЮТ </a:t>
            </a:r>
            <a:endParaRPr b="0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ОПРЕДЕЛЕННЫЕ  ОГРАНИЧЕНИЯ  </a:t>
            </a:r>
            <a:endParaRPr b="0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ДВИЖЕНИЯ</a:t>
            </a:r>
            <a:endParaRPr b="0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запрещающие зна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/>
          <p:cNvSpPr/>
          <p:nvPr/>
        </p:nvSpPr>
        <p:spPr>
          <a:xfrm>
            <a:off x="8153280" y="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2"/>
          <p:cNvSpPr txBox="1"/>
          <p:nvPr/>
        </p:nvSpPr>
        <p:spPr>
          <a:xfrm>
            <a:off x="690480" y="2971800"/>
            <a:ext cx="77630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ФОРМИРУЮТ  О  РАСПОЛОЖЕНИИ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ТВЕТСТВУЮЩИХ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ЪЕКТОВ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WordArt 3"/>
          <p:cNvSpPr txBox="1"/>
          <p:nvPr/>
        </p:nvSpPr>
        <p:spPr>
          <a:xfrm>
            <a:off x="685800" y="762120"/>
            <a:ext cx="8001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-указатель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знаки сервиса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3"/>
          <p:cNvSpPr/>
          <p:nvPr/>
        </p:nvSpPr>
        <p:spPr>
          <a:xfrm>
            <a:off x="81532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предписывающ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3"/>
          <p:cNvSpPr/>
          <p:nvPr/>
        </p:nvSpPr>
        <p:spPr>
          <a:xfrm>
            <a:off x="8305920" y="6248520"/>
            <a:ext cx="75960" cy="7596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4">
            <a:hlinkClick r:id="" action="ppaction://hlinkshowjump?jump=nextslide"/>
          </p:cNvPr>
          <p:cNvSpPr/>
          <p:nvPr/>
        </p:nvSpPr>
        <p:spPr>
          <a:xfrm>
            <a:off x="86868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11_perehod_dorogi.mp3" descr=""/>
          <p:cNvPicPr/>
          <p:nvPr/>
        </p:nvPicPr>
        <p:blipFill>
          <a:blip r:embed="rId2"/>
          <a:stretch/>
        </p:blipFill>
        <p:spPr>
          <a:xfrm>
            <a:off x="152280" y="6400800"/>
            <a:ext cx="45720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684360" y="404640"/>
            <a:ext cx="7129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lavianskiy"/>
              </a:rPr>
              <a:t>Знайте правила</a:t>
            </a:r>
            <a:endParaRPr b="1" lang="en-US" sz="18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lavianskiy"/>
              <a:ea typeface="Slavianski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lavianskiy"/>
              </a:rPr>
              <a:t> </a:t>
            </a:r>
            <a:r>
              <a:rPr b="1" lang="en-US" sz="18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lavianskiy"/>
              </a:rPr>
              <a:t>дорожного движения,</a:t>
            </a:r>
            <a:endParaRPr b="1" lang="en-US" sz="18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lavianskiy"/>
              <a:ea typeface="Slavianski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lavianskiy"/>
              </a:rPr>
              <a:t> </a:t>
            </a:r>
            <a:r>
              <a:rPr b="1" lang="en-US" sz="18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lavianskiy"/>
              </a:rPr>
              <a:t>как таблицу умножения!</a:t>
            </a:r>
            <a:endParaRPr b="1" lang="en-US" sz="18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lavianskiy"/>
              <a:ea typeface="Slavianskiy"/>
            </a:endParaRPr>
          </a:p>
        </p:txBody>
      </p:sp>
      <p:pic>
        <p:nvPicPr>
          <p:cNvPr id="260" name="Picture 3" descr="Рисунок9"/>
          <p:cNvPicPr/>
          <p:nvPr/>
        </p:nvPicPr>
        <p:blipFill>
          <a:blip r:embed="rId1"/>
          <a:stretch/>
        </p:blipFill>
        <p:spPr>
          <a:xfrm>
            <a:off x="5508720" y="3983040"/>
            <a:ext cx="3384360" cy="26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1828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981080" y="6094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imes New Roman"/>
              </a:rPr>
              <a:t>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429000" y="9907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Б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800600" y="677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f2936"/>
                </a:solidFill>
                <a:latin typeface="Times New Roman"/>
              </a:rPr>
              <a:t>В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095880" y="9144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d927"/>
                </a:solidFill>
                <a:latin typeface="Times New Roman"/>
              </a:rPr>
              <a:t>Д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7162920" y="762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imes New Roman"/>
              </a:rPr>
              <a:t>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220968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</a:rPr>
              <a:t>Бурлит в движении мост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0" y="29718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Бегут авто, спешат трамва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28600" y="41911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cea700"/>
                </a:solidFill>
                <a:latin typeface="Times New Roman"/>
              </a:rPr>
              <a:t>Все будьте правилу вер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533520" y="5229360"/>
            <a:ext cx="778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47a51d"/>
                </a:solidFill>
                <a:latin typeface="Times New Roman"/>
              </a:rPr>
              <a:t>Держитесь правой сторон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>
            <a:hlinkClick r:id="" action="ppaction://hlinkshowjump?jump=previousslide"/>
          </p:cNvPr>
          <p:cNvSpPr/>
          <p:nvPr/>
        </p:nvSpPr>
        <p:spPr>
          <a:xfrm>
            <a:off x="8229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>
            <a:hlinkClick r:id="" action="ppaction://hlinkshowjump?jump=nextslide"/>
          </p:cNvPr>
          <p:cNvSpPr/>
          <p:nvPr/>
        </p:nvSpPr>
        <p:spPr>
          <a:xfrm>
            <a:off x="86868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5" descr="bd20256_"/>
          <p:cNvPicPr/>
          <p:nvPr/>
        </p:nvPicPr>
        <p:blipFill>
          <a:blip r:embed="rId1"/>
          <a:stretch/>
        </p:blipFill>
        <p:spPr>
          <a:xfrm>
            <a:off x="5486400" y="220968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7968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Ходи только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 по тротуару!</a:t>
            </a:r>
            <a:endParaRPr b="0" lang="en-US" sz="44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Tahoma"/>
              </a:rPr>
              <a:t>Объяснить можно запрост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удь ты юн или стар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6b02"/>
                </a:solidFill>
                <a:latin typeface="Tahoma"/>
              </a:rPr>
              <a:t>Мостовая – для транспорт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ac00"/>
                </a:solidFill>
                <a:latin typeface="Tahoma"/>
              </a:rPr>
              <a:t>Для тебя - тротуар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j0343337"/>
          <p:cNvPicPr/>
          <p:nvPr/>
        </p:nvPicPr>
        <p:blipFill>
          <a:blip r:embed="rId1"/>
          <a:stretch/>
        </p:blipFill>
        <p:spPr>
          <a:xfrm>
            <a:off x="5724360" y="3933720"/>
            <a:ext cx="2808360" cy="2589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j0344203"/>
          <p:cNvPicPr/>
          <p:nvPr/>
        </p:nvPicPr>
        <p:blipFill>
          <a:blip r:embed="rId2"/>
          <a:stretch/>
        </p:blipFill>
        <p:spPr>
          <a:xfrm>
            <a:off x="6948360" y="2133720"/>
            <a:ext cx="1546200" cy="135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066920" y="2017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де улицу надо тебе перейт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 правиле помни просто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 вниманьем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лево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перва погляд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право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взгляни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т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3" descr="BD06663_"/>
          <p:cNvPicPr/>
          <p:nvPr/>
        </p:nvPicPr>
        <p:blipFill>
          <a:blip r:embed="rId1"/>
          <a:stretch/>
        </p:blipFill>
        <p:spPr>
          <a:xfrm>
            <a:off x="0" y="2637000"/>
            <a:ext cx="3809880" cy="330516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1676520" y="0"/>
            <a:ext cx="64767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комендац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ля пешеходо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3ded1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ahoma"/>
              </a:rPr>
              <a:t>Не играйте на проезжей 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части</a:t>
            </a:r>
            <a:r>
              <a:rPr b="1" lang="ru-RU" sz="4800" spc="-1" strike="noStrike">
                <a:solidFill>
                  <a:srgbClr val="ff3300"/>
                </a:solidFill>
                <a:latin typeface="Tahoma"/>
              </a:rPr>
              <a:t>!</a:t>
            </a:r>
            <a:endParaRPr b="0" lang="en-US" sz="48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90512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На проезжей части, дет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Не играйте в игры э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Бегать можно 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без огляд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Во дворе и на площад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4" descr="j023206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057400" y="4281480"/>
            <a:ext cx="2438280" cy="2347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j0345339"/>
          <p:cNvPicPr/>
          <p:nvPr/>
        </p:nvPicPr>
        <p:blipFill>
          <a:blip r:embed="rId2"/>
          <a:stretch/>
        </p:blipFill>
        <p:spPr>
          <a:xfrm>
            <a:off x="5486400" y="4246560"/>
            <a:ext cx="3200400" cy="2230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PE02043_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637320" y="1219320"/>
            <a:ext cx="2033640" cy="2971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1857240"/>
            <a:ext cx="460836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В светофорах применяются </a:t>
            </a: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световые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игналы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цветов:</a:t>
            </a:r>
            <a:endParaRPr b="0" lang="en-US" sz="4400" spc="-1" strike="noStrike">
              <a:solidFill>
                <a:srgbClr val="323232"/>
              </a:solidFill>
              <a:latin typeface="Tahom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840200" y="2362320"/>
            <a:ext cx="29718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ЛЕНОГ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840200" y="3200400"/>
            <a:ext cx="29718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НОГ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764240" y="4114800"/>
            <a:ext cx="3047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ТОГ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7f09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BD07304_"/>
          <p:cNvPicPr/>
          <p:nvPr/>
        </p:nvPicPr>
        <p:blipFill>
          <a:blip r:embed="rId1"/>
          <a:stretch/>
        </p:blipFill>
        <p:spPr>
          <a:xfrm>
            <a:off x="5076720" y="4579920"/>
            <a:ext cx="2291040" cy="227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WordArt 12"/>
          <p:cNvSpPr txBox="1"/>
          <p:nvPr/>
        </p:nvSpPr>
        <p:spPr>
          <a:xfrm>
            <a:off x="1908000" y="692280"/>
            <a:ext cx="460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етоф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16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6b0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6b02"/>
                </a:solidFill>
                <a:latin typeface="Arial Black"/>
              </a:rPr>
              <a:t>Зона остановки – опасное место для ребенк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7" descr="4"/>
          <p:cNvPicPr/>
          <p:nvPr/>
        </p:nvPicPr>
        <p:blipFill>
          <a:blip r:embed="rId1"/>
          <a:stretch/>
        </p:blipFill>
        <p:spPr>
          <a:xfrm>
            <a:off x="533520" y="2362320"/>
            <a:ext cx="3962160" cy="419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8" name="WordArt 8"/>
          <p:cNvSpPr txBox="1"/>
          <p:nvPr/>
        </p:nvSpPr>
        <p:spPr>
          <a:xfrm>
            <a:off x="1371600" y="228600"/>
            <a:ext cx="6858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24a11"/>
                    </a:gs>
                    <a:gs pos="100000">
                      <a:srgbClr val="6b9f25"/>
                    </a:gs>
                  </a:gsLst>
                  <a:lin ang="5400000"/>
                </a:gradFill>
                <a:latin typeface="Arial"/>
              </a:rPr>
              <a:t>ПОМНИ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24a11"/>
                  </a:gs>
                  <a:gs pos="100000">
                    <a:srgbClr val="6b9f2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800100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6:57:39Z</dcterms:created>
  <dc:creator>Светлана</dc:creator>
  <dc:description/>
  <dc:language>en-US</dc:language>
  <cp:lastModifiedBy>Света</cp:lastModifiedBy>
  <dcterms:modified xsi:type="dcterms:W3CDTF">2013-02-12T07:25:05Z</dcterms:modified>
  <cp:revision>15</cp:revision>
  <dc:subject/>
  <dc:title>Слайд 1</dc:title>
</cp:coreProperties>
</file>