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A3AD-B82C-4AAF-BF63-DD79787D2D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FF21-8658-45C0-8EEB-52B1B120CB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991B-BD98-44E3-80FD-6626404E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129-F0E6-4077-859C-F7F77FF0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0A4-4B0C-4626-8ECD-C5275A6B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5DE-306A-4207-ABAB-6A9A4E16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C03E-4FD8-4F21-A11E-66085E17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6B13-5C1C-4E4A-A4F8-500CB111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2006-B247-463E-9A35-751A3DC0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34D7-88CA-4A94-A6C2-6F349E53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0973-01DE-42A2-B29C-C938C2F1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C514-52B2-42A0-A8B6-95623C87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35C3-6A87-4806-B726-26C8CCE7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35A-9971-425E-B37C-F7BBE66E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58B1-15A1-4287-8F4B-A839754E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BFF1-2CFD-4E28-B76C-9FADC818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67E6-8E11-401F-941B-4A9279E8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2252-5389-4BE1-9DB9-146C67A3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EB4C-48CD-42EF-8814-8CFA87A3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264A5-B8D1-41E9-82D6-4B73AAAC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FD75A-F435-4C74-BE3A-93BB0655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B8DA6-F012-4D19-822E-DB5F82AB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6F7CC-588E-4CF3-88EE-5115E0E6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B538D-5676-49D9-A2CE-12423128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EE8D-4852-4D07-AFFF-49595681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01AD4-8967-49BF-ADCB-D10F2C7D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5ABB1-ADE5-4A8A-BE33-BB0753CD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9DAA7-6C90-498C-90AF-922FEDEE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DB160-98D5-4408-9038-C87899D2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C8868-527B-4F06-90E1-B58AA722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7678E-8B42-4658-AF8F-5CB4F3B4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7DB68-7934-4DE1-B09F-4F67AA8B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44535-D5F5-4D9C-90C0-334365F7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06834-9BC2-4BF6-89E6-F3D3B10A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316D6-F583-4084-900F-95C1FEE8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DD9-358E-4E92-85C2-FDA0F38D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C99F8-6DC7-46D2-B750-0D9BF801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B7FF5-7EE3-4F2F-A5F1-2F91150B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5D1B2-2CB1-40F3-99D2-747646A5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E0C92-4324-4E86-A5D1-89026AB6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3E587-87E2-47F8-8B6B-F0AE7F78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90408-EAAD-4C68-B9B5-53D9A886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CE6BF-4B8A-4C40-B3AE-C268E8D2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89C84-6340-4611-ABAA-82619771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DD23B-E057-4522-9E25-E81625BB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EED42-C1E9-4376-B708-EBF8FE31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1358-6787-4AA1-A5A7-8B7A4D77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3B4D4-8A26-41A7-8E25-E3148D33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C394F-B47E-4B0B-987A-AC2EFC47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C2663-EBBA-4F4E-95F3-50F54274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B4777-066A-4193-8AA4-1002BD77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200D9-9A89-4550-B0EB-EC3A47D4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2C2E1-7581-4B45-B48A-85257165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BCAF6-E3D8-465F-B086-4CA30EFE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4E262-5EB3-49BE-855D-41352442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0674D-90D5-48FF-AB71-AEC11D89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0AC8D-B2D4-4766-9B85-3690609E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26E-9719-4FE4-BBE1-5142D652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4B6B1-A0AD-44E4-8B81-659FC28B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848-8EA7-49CE-922C-869A6F2A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E28-8944-49BE-B9B4-6C99A421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F3A-7C18-46B7-9008-A6C82570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8F51-FDE5-475F-B574-C41C39DC2AAD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5DAF-0C1F-4F25-ACEC-7FE759C7758F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C30E-BADE-44E4-BF11-50FD1F1B4DB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CC4C-4C51-4442-8012-168403B11C7B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8E48-3800-49DD-95E7-5728193743E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9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6991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3" descr=""/>
          <p:cNvPicPr/>
          <p:nvPr/>
        </p:nvPicPr>
        <p:blipFill>
          <a:blip r:embed="rId1"/>
          <a:stretch/>
        </p:blipFill>
        <p:spPr>
          <a:xfrm>
            <a:off x="182520" y="133200"/>
            <a:ext cx="7596360" cy="83664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4" descr=""/>
          <p:cNvPicPr/>
          <p:nvPr/>
        </p:nvPicPr>
        <p:blipFill>
          <a:blip r:embed="rId2"/>
          <a:stretch/>
        </p:blipFill>
        <p:spPr>
          <a:xfrm>
            <a:off x="-122400" y="1054080"/>
            <a:ext cx="3646800" cy="61596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6" descr=""/>
          <p:cNvPicPr/>
          <p:nvPr/>
        </p:nvPicPr>
        <p:blipFill>
          <a:blip r:embed="rId3"/>
          <a:stretch/>
        </p:blipFill>
        <p:spPr>
          <a:xfrm>
            <a:off x="3164040" y="1841400"/>
            <a:ext cx="3870000" cy="61596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7" descr=""/>
          <p:cNvPicPr/>
          <p:nvPr/>
        </p:nvPicPr>
        <p:blipFill>
          <a:blip r:embed="rId4"/>
          <a:stretch/>
        </p:blipFill>
        <p:spPr>
          <a:xfrm>
            <a:off x="384120" y="2766960"/>
            <a:ext cx="4827600" cy="62244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8" descr=""/>
          <p:cNvPicPr/>
          <p:nvPr/>
        </p:nvPicPr>
        <p:blipFill>
          <a:blip r:embed="rId5"/>
          <a:stretch/>
        </p:blipFill>
        <p:spPr>
          <a:xfrm>
            <a:off x="4578480" y="4767120"/>
            <a:ext cx="2023920" cy="62244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оугольник 9" descr=""/>
          <p:cNvPicPr/>
          <p:nvPr/>
        </p:nvPicPr>
        <p:blipFill>
          <a:blip r:embed="rId6"/>
          <a:stretch/>
        </p:blipFill>
        <p:spPr>
          <a:xfrm>
            <a:off x="1305000" y="3840120"/>
            <a:ext cx="3363840" cy="6159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340360" y="333360"/>
            <a:ext cx="31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Закончи послов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720" y="126828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уд человека кормит, 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4560" y="2060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удо тому, к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1800" y="292428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 соврал – навек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0200" y="378936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то других не любит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720" y="1341360"/>
            <a:ext cx="30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а не делает ник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44360" y="213372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нь пор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16720" y="29242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 себя гу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89080" y="3716280"/>
            <a:ext cx="17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гуном с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402920" y="260280"/>
            <a:ext cx="51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Определите зачины и ко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8360" y="112536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c66bb"/>
                </a:solidFill>
                <a:latin typeface="Arial"/>
              </a:rPr>
              <a:t>Зачи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51640" y="112536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c66bb"/>
                </a:solidFill>
                <a:latin typeface="Arial"/>
              </a:rPr>
              <a:t>Конц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92360" y="17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а тридевять земель, в  тридеся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е 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63640" y="278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тали они жить-поживать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а наживать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63640" y="3716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Я там был, мёд-пиво пи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бороде текло, а в 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попало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34560" y="494172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Жили-были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500720" y="1052640"/>
            <a:ext cx="2939760" cy="33843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68360" y="189000"/>
            <a:ext cx="4680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зовите сказки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"/>
          <p:cNvSpPr/>
          <p:nvPr/>
        </p:nvSpPr>
        <p:spPr>
          <a:xfrm>
            <a:off x="446400" y="1628640"/>
            <a:ext cx="34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Кот, петух и л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24960" y="3068640"/>
            <a:ext cx="26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Лиса и дроз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8640" y="4211640"/>
            <a:ext cx="26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Лиса и коз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681200" y="1484280"/>
            <a:ext cx="57816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  </a:t>
            </a: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ец!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ы сделал правильный выбор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6804000" y="544500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3794"/>
                </a:moveTo>
                <a:lnTo>
                  <a:pt x="19947" y="10800"/>
                </a:lnTo>
                <a:lnTo>
                  <a:pt x="5934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547640" y="1773360"/>
            <a:ext cx="5400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умай ещё!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">
            <a:hlinkClick r:id="rId3" action="ppaction://hlinksldjump"/>
          </p:cNvPr>
          <p:cNvSpPr/>
          <p:nvPr/>
        </p:nvSpPr>
        <p:spPr>
          <a:xfrm>
            <a:off x="6877080" y="580536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5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5" y="20200"/>
                </a:lnTo>
                <a:lnTo>
                  <a:pt x="28805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5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5" h="21600">
                <a:moveTo>
                  <a:pt x="8096" y="10800"/>
                </a:moveTo>
                <a:lnTo>
                  <a:pt x="22109" y="3794"/>
                </a:lnTo>
                <a:lnTo>
                  <a:pt x="22109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4464000" cy="31687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95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6200" y="3995640"/>
            <a:ext cx="29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ff"/>
                </a:solidFill>
                <a:latin typeface="Arial"/>
              </a:rPr>
              <a:t>Волк - ду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2400" y="4932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ff"/>
                </a:solidFill>
                <a:latin typeface="Arial"/>
              </a:rPr>
              <a:t>Лисичка-сестричка и вол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7840" y="5724360"/>
            <a:ext cx="26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ff"/>
                </a:solidFill>
                <a:latin typeface="Arial"/>
              </a:rPr>
              <a:t>Волк и л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681200" y="1484280"/>
            <a:ext cx="57816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  </a:t>
            </a: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ец!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ы сделал правильный выбор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08720" y="6165720"/>
            <a:ext cx="682920" cy="538200"/>
          </a:xfrm>
          <a:custGeom>
            <a:avLst/>
            <a:gdLst>
              <a:gd name="textAreaLeft" fmla="*/ 34560 w 682920"/>
              <a:gd name="textAreaRight" fmla="*/ 648360 w 682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7404" h="21600">
                <a:moveTo>
                  <a:pt x="0" y="0"/>
                </a:moveTo>
                <a:lnTo>
                  <a:pt x="27404" y="0"/>
                </a:lnTo>
                <a:lnTo>
                  <a:pt x="27404" y="21600"/>
                </a:lnTo>
                <a:lnTo>
                  <a:pt x="0" y="21600"/>
                </a:lnTo>
                <a:close/>
              </a:path>
              <a:path fill="lightenLess" w="27404" h="21600">
                <a:moveTo>
                  <a:pt x="0" y="0"/>
                </a:moveTo>
                <a:lnTo>
                  <a:pt x="27404" y="0"/>
                </a:lnTo>
                <a:lnTo>
                  <a:pt x="26004" y="1400"/>
                </a:lnTo>
                <a:lnTo>
                  <a:pt x="1400" y="1400"/>
                </a:lnTo>
                <a:close/>
              </a:path>
              <a:path fill="darken" w="27404" h="21600">
                <a:moveTo>
                  <a:pt x="27404" y="0"/>
                </a:moveTo>
                <a:lnTo>
                  <a:pt x="27404" y="21600"/>
                </a:lnTo>
                <a:lnTo>
                  <a:pt x="26004" y="20200"/>
                </a:lnTo>
                <a:lnTo>
                  <a:pt x="26004" y="1400"/>
                </a:lnTo>
                <a:close/>
              </a:path>
              <a:path fill="darkenLess" w="27404" h="21600">
                <a:moveTo>
                  <a:pt x="27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04" y="20200"/>
                </a:lnTo>
                <a:close/>
              </a:path>
              <a:path fill="lighten" w="27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04" h="21600">
                <a:moveTo>
                  <a:pt x="6696" y="3794"/>
                </a:moveTo>
                <a:lnTo>
                  <a:pt x="20709" y="10800"/>
                </a:lnTo>
                <a:lnTo>
                  <a:pt x="6696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547640" y="1773360"/>
            <a:ext cx="5400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умай ещё!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"/>
          <p:cNvSpPr/>
          <p:nvPr/>
        </p:nvSpPr>
        <p:spPr>
          <a:xfrm>
            <a:off x="7020000" y="6021360"/>
            <a:ext cx="755640" cy="61128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98" h="21600">
                <a:moveTo>
                  <a:pt x="0" y="0"/>
                </a:moveTo>
                <a:lnTo>
                  <a:pt x="26698" y="0"/>
                </a:lnTo>
                <a:lnTo>
                  <a:pt x="26698" y="21600"/>
                </a:lnTo>
                <a:lnTo>
                  <a:pt x="0" y="21600"/>
                </a:lnTo>
                <a:close/>
              </a:path>
              <a:path fill="lightenLess" w="26698" h="21600">
                <a:moveTo>
                  <a:pt x="0" y="0"/>
                </a:moveTo>
                <a:lnTo>
                  <a:pt x="26698" y="0"/>
                </a:lnTo>
                <a:lnTo>
                  <a:pt x="25298" y="1400"/>
                </a:lnTo>
                <a:lnTo>
                  <a:pt x="1400" y="1400"/>
                </a:lnTo>
                <a:close/>
              </a:path>
              <a:path fill="darken" w="26698" h="21600">
                <a:moveTo>
                  <a:pt x="26698" y="0"/>
                </a:moveTo>
                <a:lnTo>
                  <a:pt x="26698" y="21600"/>
                </a:lnTo>
                <a:lnTo>
                  <a:pt x="25298" y="20200"/>
                </a:lnTo>
                <a:lnTo>
                  <a:pt x="25298" y="1400"/>
                </a:lnTo>
                <a:close/>
              </a:path>
              <a:path fill="darkenLess" w="26698" h="21600">
                <a:moveTo>
                  <a:pt x="26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8" y="20200"/>
                </a:lnTo>
                <a:close/>
              </a:path>
              <a:path fill="lighten" w="26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8" h="21600">
                <a:moveTo>
                  <a:pt x="6343" y="10800"/>
                </a:moveTo>
                <a:lnTo>
                  <a:pt x="20356" y="3794"/>
                </a:lnTo>
                <a:lnTo>
                  <a:pt x="20356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29440" cy="37274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52000" y="4292640"/>
            <a:ext cx="27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ff"/>
                </a:solidFill>
                <a:latin typeface="Arial"/>
              </a:rPr>
              <a:t>Муж да ж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30760" y="4788000"/>
            <a:ext cx="51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ff"/>
                </a:solidFill>
                <a:latin typeface="Arial"/>
              </a:rPr>
              <a:t>Как старик домовнич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3480" y="5435640"/>
            <a:ext cx="35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ff"/>
                </a:solidFill>
                <a:latin typeface="Arial"/>
              </a:rPr>
              <a:t>Каша из топ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461000" cy="1176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дивляется народ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Едет печка, дым идет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А Емеля на печ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Ест большие калачи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1681200" y="1484280"/>
            <a:ext cx="57816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  </a:t>
            </a: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ец!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ы сделал правильный выбор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24720" y="6381720"/>
            <a:ext cx="611280" cy="466920"/>
          </a:xfrm>
          <a:custGeom>
            <a:avLst/>
            <a:gdLst>
              <a:gd name="textAreaLeft" fmla="*/ 30240 w 611280"/>
              <a:gd name="textAreaRight" fmla="*/ 581040 w 61128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28273" h="21600">
                <a:moveTo>
                  <a:pt x="0" y="0"/>
                </a:moveTo>
                <a:lnTo>
                  <a:pt x="28273" y="0"/>
                </a:lnTo>
                <a:lnTo>
                  <a:pt x="28273" y="21600"/>
                </a:lnTo>
                <a:lnTo>
                  <a:pt x="0" y="21600"/>
                </a:lnTo>
                <a:close/>
              </a:path>
              <a:path fill="lightenLess" w="28273" h="21600">
                <a:moveTo>
                  <a:pt x="0" y="0"/>
                </a:moveTo>
                <a:lnTo>
                  <a:pt x="28273" y="0"/>
                </a:lnTo>
                <a:lnTo>
                  <a:pt x="26873" y="1400"/>
                </a:lnTo>
                <a:lnTo>
                  <a:pt x="1400" y="1400"/>
                </a:lnTo>
                <a:close/>
              </a:path>
              <a:path fill="darken" w="28273" h="21600">
                <a:moveTo>
                  <a:pt x="28273" y="0"/>
                </a:moveTo>
                <a:lnTo>
                  <a:pt x="28273" y="21600"/>
                </a:lnTo>
                <a:lnTo>
                  <a:pt x="26873" y="20200"/>
                </a:lnTo>
                <a:lnTo>
                  <a:pt x="26873" y="1400"/>
                </a:lnTo>
                <a:close/>
              </a:path>
              <a:path fill="darkenLess" w="28273" h="21600">
                <a:moveTo>
                  <a:pt x="282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3" y="20200"/>
                </a:lnTo>
                <a:close/>
              </a:path>
              <a:path fill="lighten" w="282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3" h="21600">
                <a:moveTo>
                  <a:pt x="7130" y="3794"/>
                </a:moveTo>
                <a:lnTo>
                  <a:pt x="21143" y="10800"/>
                </a:lnTo>
                <a:lnTo>
                  <a:pt x="7130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547640" y="1773360"/>
            <a:ext cx="5400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умай ещё!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"/>
          <p:cNvSpPr/>
          <p:nvPr/>
        </p:nvSpPr>
        <p:spPr>
          <a:xfrm>
            <a:off x="7380360" y="6165720"/>
            <a:ext cx="611280" cy="466920"/>
          </a:xfrm>
          <a:custGeom>
            <a:avLst/>
            <a:gdLst>
              <a:gd name="textAreaLeft" fmla="*/ 30240 w 611280"/>
              <a:gd name="textAreaRight" fmla="*/ 581040 w 61128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28273" h="21600">
                <a:moveTo>
                  <a:pt x="0" y="0"/>
                </a:moveTo>
                <a:lnTo>
                  <a:pt x="28273" y="0"/>
                </a:lnTo>
                <a:lnTo>
                  <a:pt x="28273" y="21600"/>
                </a:lnTo>
                <a:lnTo>
                  <a:pt x="0" y="21600"/>
                </a:lnTo>
                <a:close/>
              </a:path>
              <a:path fill="lightenLess" w="28273" h="21600">
                <a:moveTo>
                  <a:pt x="0" y="0"/>
                </a:moveTo>
                <a:lnTo>
                  <a:pt x="28273" y="0"/>
                </a:lnTo>
                <a:lnTo>
                  <a:pt x="26873" y="1400"/>
                </a:lnTo>
                <a:lnTo>
                  <a:pt x="1400" y="1400"/>
                </a:lnTo>
                <a:close/>
              </a:path>
              <a:path fill="darken" w="28273" h="21600">
                <a:moveTo>
                  <a:pt x="28273" y="0"/>
                </a:moveTo>
                <a:lnTo>
                  <a:pt x="28273" y="21600"/>
                </a:lnTo>
                <a:lnTo>
                  <a:pt x="26873" y="20200"/>
                </a:lnTo>
                <a:lnTo>
                  <a:pt x="26873" y="1400"/>
                </a:lnTo>
                <a:close/>
              </a:path>
              <a:path fill="darkenLess" w="28273" h="21600">
                <a:moveTo>
                  <a:pt x="282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3" y="20200"/>
                </a:lnTo>
                <a:close/>
              </a:path>
              <a:path fill="lighten" w="282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3" h="21600">
                <a:moveTo>
                  <a:pt x="7130" y="10800"/>
                </a:moveTo>
                <a:lnTo>
                  <a:pt x="21143" y="3794"/>
                </a:lnTo>
                <a:lnTo>
                  <a:pt x="21143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83240" y="1484280"/>
            <a:ext cx="787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99"/>
                </a:solidFill>
                <a:latin typeface="Arial"/>
              </a:rPr>
              <a:t>«Сказка – ложь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99"/>
                </a:solidFill>
                <a:latin typeface="Arial"/>
              </a:rPr>
              <a:t>да в ней намек….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Прямоугольни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0360" y="3249720"/>
            <a:ext cx="6461280" cy="115092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3080" y="1444680"/>
            <a:ext cx="8083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55600" y="2279520"/>
            <a:ext cx="7493040" cy="1152720"/>
          </a:xfrm>
          <a:prstGeom prst="rect">
            <a:avLst/>
          </a:prstGeom>
          <a:ln w="0">
            <a:noFill/>
          </a:ln>
        </p:spPr>
      </p:pic>
      <p:sp>
        <p:nvSpPr>
          <p:cNvPr id="233" name="Управляющая кнопка: далее 4">
            <a:hlinkClick r:id="rId2" action="ppaction://hlinksldjump"/>
          </p:cNvPr>
          <p:cNvSpPr/>
          <p:nvPr/>
        </p:nvSpPr>
        <p:spPr>
          <a:xfrm>
            <a:off x="7072200" y="6072120"/>
            <a:ext cx="685800" cy="614520"/>
          </a:xfrm>
          <a:custGeom>
            <a:avLst/>
            <a:gdLst>
              <a:gd name="textAreaLeft" fmla="*/ 39600 w 685800"/>
              <a:gd name="textAreaRight" fmla="*/ 646200 w 68580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4104" h="21600">
                <a:moveTo>
                  <a:pt x="0" y="0"/>
                </a:moveTo>
                <a:lnTo>
                  <a:pt x="24104" y="0"/>
                </a:lnTo>
                <a:lnTo>
                  <a:pt x="24104" y="21600"/>
                </a:lnTo>
                <a:lnTo>
                  <a:pt x="0" y="21600"/>
                </a:lnTo>
                <a:close/>
              </a:path>
              <a:path fill="lightenLess" w="24104" h="21600">
                <a:moveTo>
                  <a:pt x="0" y="0"/>
                </a:moveTo>
                <a:lnTo>
                  <a:pt x="24104" y="0"/>
                </a:lnTo>
                <a:lnTo>
                  <a:pt x="22704" y="1400"/>
                </a:lnTo>
                <a:lnTo>
                  <a:pt x="1400" y="1400"/>
                </a:lnTo>
                <a:close/>
              </a:path>
              <a:path fill="darken" w="24104" h="21600">
                <a:moveTo>
                  <a:pt x="24104" y="0"/>
                </a:moveTo>
                <a:lnTo>
                  <a:pt x="24104" y="21600"/>
                </a:lnTo>
                <a:lnTo>
                  <a:pt x="22704" y="20200"/>
                </a:lnTo>
                <a:lnTo>
                  <a:pt x="22704" y="1400"/>
                </a:lnTo>
                <a:close/>
              </a:path>
              <a:path fill="darkenLess" w="24104" h="21600">
                <a:moveTo>
                  <a:pt x="24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4" y="20200"/>
                </a:lnTo>
                <a:close/>
              </a:path>
              <a:path fill="lighten" w="24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4" h="21600">
                <a:moveTo>
                  <a:pt x="5046" y="3794"/>
                </a:moveTo>
                <a:lnTo>
                  <a:pt x="19058" y="10800"/>
                </a:lnTo>
                <a:lnTo>
                  <a:pt x="5046" y="17806"/>
                </a:lnTo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3" descr=""/>
          <p:cNvPicPr/>
          <p:nvPr/>
        </p:nvPicPr>
        <p:blipFill>
          <a:blip r:embed="rId1"/>
          <a:stretch/>
        </p:blipFill>
        <p:spPr>
          <a:xfrm>
            <a:off x="-371520" y="2786040"/>
            <a:ext cx="8777160" cy="1212840"/>
          </a:xfrm>
          <a:prstGeom prst="rect">
            <a:avLst/>
          </a:prstGeom>
          <a:ln w="0">
            <a:noFill/>
          </a:ln>
        </p:spPr>
      </p:pic>
      <p:sp>
        <p:nvSpPr>
          <p:cNvPr id="235" name="Управляющая кнопка: назад 4">
            <a:hlinkClick r:id="rId2" action="ppaction://hlinksldjump"/>
          </p:cNvPr>
          <p:cNvSpPr/>
          <p:nvPr/>
        </p:nvSpPr>
        <p:spPr>
          <a:xfrm>
            <a:off x="7286760" y="6072120"/>
            <a:ext cx="757080" cy="614520"/>
          </a:xfrm>
          <a:custGeom>
            <a:avLst/>
            <a:gdLst>
              <a:gd name="textAreaLeft" fmla="*/ 39600 w 757080"/>
              <a:gd name="textAreaRight" fmla="*/ 717480 w 75708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6608" h="21600">
                <a:moveTo>
                  <a:pt x="0" y="0"/>
                </a:moveTo>
                <a:lnTo>
                  <a:pt x="26608" y="0"/>
                </a:lnTo>
                <a:lnTo>
                  <a:pt x="26608" y="21600"/>
                </a:lnTo>
                <a:lnTo>
                  <a:pt x="0" y="21600"/>
                </a:lnTo>
                <a:close/>
              </a:path>
              <a:path fill="lightenLess" w="26608" h="21600">
                <a:moveTo>
                  <a:pt x="0" y="0"/>
                </a:moveTo>
                <a:lnTo>
                  <a:pt x="26608" y="0"/>
                </a:lnTo>
                <a:lnTo>
                  <a:pt x="25208" y="1400"/>
                </a:lnTo>
                <a:lnTo>
                  <a:pt x="1400" y="1400"/>
                </a:lnTo>
                <a:close/>
              </a:path>
              <a:path fill="darken" w="26608" h="21600">
                <a:moveTo>
                  <a:pt x="26608" y="0"/>
                </a:moveTo>
                <a:lnTo>
                  <a:pt x="26608" y="21600"/>
                </a:lnTo>
                <a:lnTo>
                  <a:pt x="25208" y="20200"/>
                </a:lnTo>
                <a:lnTo>
                  <a:pt x="25208" y="1400"/>
                </a:lnTo>
                <a:close/>
              </a:path>
              <a:path fill="darkenLess" w="26608" h="21600">
                <a:moveTo>
                  <a:pt x="26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08" y="20200"/>
                </a:lnTo>
                <a:close/>
              </a:path>
              <a:path fill="lighten" w="26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08" h="21600">
                <a:moveTo>
                  <a:pt x="6297" y="10800"/>
                </a:moveTo>
                <a:lnTo>
                  <a:pt x="20310" y="3794"/>
                </a:lnTo>
                <a:lnTo>
                  <a:pt x="20310" y="17806"/>
                </a:lnTo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4"/>
          <p:cNvSpPr/>
          <p:nvPr/>
        </p:nvSpPr>
        <p:spPr>
          <a:xfrm>
            <a:off x="1143000" y="785880"/>
            <a:ext cx="5786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У кого ты ни спроси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Всем известно на Ру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То он царь, то из крестьян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А зовут его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Прямоугольник 2" descr=""/>
          <p:cNvPicPr/>
          <p:nvPr/>
        </p:nvPicPr>
        <p:blipFill>
          <a:blip r:embed="rId1"/>
          <a:stretch/>
        </p:blipFill>
        <p:spPr>
          <a:xfrm>
            <a:off x="1122480" y="615960"/>
            <a:ext cx="3887640" cy="163980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200" y="2736720"/>
            <a:ext cx="52228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extBox 2" descr=""/>
          <p:cNvPicPr/>
          <p:nvPr/>
        </p:nvPicPr>
        <p:blipFill>
          <a:blip r:embed="rId1"/>
          <a:stretch/>
        </p:blipFill>
        <p:spPr>
          <a:xfrm>
            <a:off x="291960" y="2571840"/>
            <a:ext cx="6432840" cy="982440"/>
          </a:xfrm>
          <a:prstGeom prst="rect">
            <a:avLst/>
          </a:prstGeom>
          <a:ln w="0">
            <a:noFill/>
          </a:ln>
        </p:spPr>
      </p:pic>
      <p:sp>
        <p:nvSpPr>
          <p:cNvPr id="240" name="Управляющая кнопка: далее 4">
            <a:hlinkClick r:id="rId2" action="ppaction://hlinksldjump"/>
          </p:cNvPr>
          <p:cNvSpPr/>
          <p:nvPr/>
        </p:nvSpPr>
        <p:spPr>
          <a:xfrm>
            <a:off x="7286760" y="6072120"/>
            <a:ext cx="757080" cy="614520"/>
          </a:xfrm>
          <a:custGeom>
            <a:avLst/>
            <a:gdLst>
              <a:gd name="textAreaLeft" fmla="*/ 39600 w 757080"/>
              <a:gd name="textAreaRight" fmla="*/ 717480 w 75708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6608" h="21600">
                <a:moveTo>
                  <a:pt x="0" y="0"/>
                </a:moveTo>
                <a:lnTo>
                  <a:pt x="26608" y="0"/>
                </a:lnTo>
                <a:lnTo>
                  <a:pt x="26608" y="21600"/>
                </a:lnTo>
                <a:lnTo>
                  <a:pt x="0" y="21600"/>
                </a:lnTo>
                <a:close/>
              </a:path>
              <a:path fill="lightenLess" w="26608" h="21600">
                <a:moveTo>
                  <a:pt x="0" y="0"/>
                </a:moveTo>
                <a:lnTo>
                  <a:pt x="26608" y="0"/>
                </a:lnTo>
                <a:lnTo>
                  <a:pt x="25208" y="1400"/>
                </a:lnTo>
                <a:lnTo>
                  <a:pt x="1400" y="1400"/>
                </a:lnTo>
                <a:close/>
              </a:path>
              <a:path fill="darken" w="26608" h="21600">
                <a:moveTo>
                  <a:pt x="26608" y="0"/>
                </a:moveTo>
                <a:lnTo>
                  <a:pt x="26608" y="21600"/>
                </a:lnTo>
                <a:lnTo>
                  <a:pt x="25208" y="20200"/>
                </a:lnTo>
                <a:lnTo>
                  <a:pt x="25208" y="1400"/>
                </a:lnTo>
                <a:close/>
              </a:path>
              <a:path fill="darkenLess" w="26608" h="21600">
                <a:moveTo>
                  <a:pt x="26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08" y="20200"/>
                </a:lnTo>
                <a:close/>
              </a:path>
              <a:path fill="lighten" w="26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08" h="21600">
                <a:moveTo>
                  <a:pt x="6297" y="3794"/>
                </a:moveTo>
                <a:lnTo>
                  <a:pt x="20310" y="10800"/>
                </a:lnTo>
                <a:lnTo>
                  <a:pt x="6297" y="17806"/>
                </a:lnTo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extBox 1" descr=""/>
          <p:cNvPicPr/>
          <p:nvPr/>
        </p:nvPicPr>
        <p:blipFill>
          <a:blip r:embed="rId1"/>
          <a:stretch/>
        </p:blipFill>
        <p:spPr>
          <a:xfrm>
            <a:off x="-66600" y="2212920"/>
            <a:ext cx="8004240" cy="981000"/>
          </a:xfrm>
          <a:prstGeom prst="rect">
            <a:avLst/>
          </a:prstGeom>
          <a:ln w="0">
            <a:noFill/>
          </a:ln>
        </p:spPr>
      </p:pic>
      <p:sp>
        <p:nvSpPr>
          <p:cNvPr id="242" name="Управляющая кнопка: назад 2">
            <a:hlinkClick r:id="rId2" action="ppaction://hlinksldjump"/>
          </p:cNvPr>
          <p:cNvSpPr/>
          <p:nvPr/>
        </p:nvSpPr>
        <p:spPr>
          <a:xfrm>
            <a:off x="7215120" y="6143760"/>
            <a:ext cx="757440" cy="542880"/>
          </a:xfrm>
          <a:custGeom>
            <a:avLst/>
            <a:gdLst>
              <a:gd name="textAreaLeft" fmla="*/ 34920 w 757440"/>
              <a:gd name="textAreaRight" fmla="*/ 722520 w 75744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30131" h="21600">
                <a:moveTo>
                  <a:pt x="0" y="0"/>
                </a:moveTo>
                <a:lnTo>
                  <a:pt x="30131" y="0"/>
                </a:lnTo>
                <a:lnTo>
                  <a:pt x="30131" y="21600"/>
                </a:lnTo>
                <a:lnTo>
                  <a:pt x="0" y="21600"/>
                </a:lnTo>
                <a:close/>
              </a:path>
              <a:path fill="lightenLess" w="30131" h="21600">
                <a:moveTo>
                  <a:pt x="0" y="0"/>
                </a:moveTo>
                <a:lnTo>
                  <a:pt x="30131" y="0"/>
                </a:lnTo>
                <a:lnTo>
                  <a:pt x="28731" y="1400"/>
                </a:lnTo>
                <a:lnTo>
                  <a:pt x="1400" y="1400"/>
                </a:lnTo>
                <a:close/>
              </a:path>
              <a:path fill="darken" w="30131" h="21600">
                <a:moveTo>
                  <a:pt x="30131" y="0"/>
                </a:moveTo>
                <a:lnTo>
                  <a:pt x="30131" y="21600"/>
                </a:lnTo>
                <a:lnTo>
                  <a:pt x="28731" y="20200"/>
                </a:lnTo>
                <a:lnTo>
                  <a:pt x="28731" y="1400"/>
                </a:lnTo>
                <a:close/>
              </a:path>
              <a:path fill="darkenLess" w="30131" h="21600">
                <a:moveTo>
                  <a:pt x="30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1" y="20200"/>
                </a:lnTo>
                <a:close/>
              </a:path>
              <a:path fill="lighten" w="30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1" h="21600">
                <a:moveTo>
                  <a:pt x="8059" y="10800"/>
                </a:moveTo>
                <a:lnTo>
                  <a:pt x="22072" y="3794"/>
                </a:lnTo>
                <a:lnTo>
                  <a:pt x="22072" y="17806"/>
                </a:lnTo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3:54:32Z</dcterms:created>
  <dc:creator>Наталья</dc:creator>
  <dc:description/>
  <dc:language>en-US</dc:language>
  <cp:lastModifiedBy>Grisha</cp:lastModifiedBy>
  <dcterms:modified xsi:type="dcterms:W3CDTF">2009-08-25T18:59:13Z</dcterms:modified>
  <cp:revision>15</cp:revision>
  <dc:subject/>
  <dc:title>Русская народная сказка</dc:title>
</cp:coreProperties>
</file>