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jpeg" ContentType="image/jpeg"/>
  <Override PartName="/ppt/media/image2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6820-3D1B-43E6-8778-994964DCDE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001C-D6C9-4F5E-A48B-CAEA0AB274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53EA-614C-433A-99F8-0DA8DE728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9087-82EE-4A72-AD4F-7ADBBCE7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5861-C5F1-41E7-B688-777B02C0B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C3D5-BF6F-4150-AE3D-C216B1C94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BCCEF-1944-4F2D-8690-D8C13F2C8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02F0-4137-4D2A-B20B-C8CC4BF0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033E6-E45A-4027-8874-754DD377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18777-81A5-4A28-913E-0693B42E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2423A-8A94-49D0-9C7F-2ADB07E6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4D6E-1533-4282-B1DB-452B725A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7F5C-E516-41B8-9A57-F4473D67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FDD4-36CA-49A9-BFA9-637F64AA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9B8B-008B-4CFC-80F7-3970AA35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60208-5016-406F-B4F0-8726C4A3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7DE9-DFD8-4E9A-A313-BE6B71B9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228E-8645-4617-9961-D56B9966F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B73E-2673-4D20-AB19-D98340234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51B78-AF8E-4EEC-B734-0FBF7AFDC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89345-87D8-4FA9-ACB1-50FC8235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EBD30-DB16-4580-87CB-425B55E5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929DC-1B1C-4D0B-A12F-15744E8F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BE917-65CE-478A-8A20-98737271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A7E8-2D75-4CB2-B29C-18F9EA15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806FC-C608-4309-B454-D26C6D5A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B3EFD-66CF-4238-8429-8F428E14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B6115-7F04-4B9A-97C7-90E83DBA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52F8D-FA20-4C77-80B7-92E7B271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42576-1C23-44E9-AEF1-D07D5A7C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26491-D6D1-462D-8F29-BF9E3469A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1F26E-D4C3-4428-A795-B967DD35F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7A1B9-BE15-4655-A3CE-27AC0F780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49394-06EB-43DA-8DED-130F33CE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7ABFA-B24B-4AD5-9337-E1537BA7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AF84-0050-4676-9495-83B3D709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E37F5-8132-4754-AD11-F8BDD828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9DD6F-461B-4035-9D64-769E2E94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BC21F-A195-4A68-8068-E099588B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CFE57-CBD9-401F-8F60-CC8EC008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794E0-C04E-40C0-BBC3-F958D621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E2EB5-A59F-4C9C-AE7F-351DD0A9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B55E3-47A9-4F0F-BDE9-8C6E19CA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5EBE8-726C-47D9-AE10-D82849EF6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C29A6-02EF-4032-B155-B244C07F2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1D5AF-2151-40FC-980A-E845D4771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9A33-CD43-4F57-B4DE-7F83B3FF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75394-B1C4-4AF8-9702-29D36E6A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346C5-0CC3-40F7-AC63-50F95502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E5F47-23EA-4275-A03B-DA661E33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E48F4-EC83-4AA1-B72F-D1EF48F1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CF98F-6616-4D01-8805-D0ECA683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5D0F0-4DD7-4C55-AF43-222626F7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7401A-DC13-4B4D-9783-35DADD0B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E5EDD-332D-4F3D-94D1-DEF64B6B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A2D50-864C-4AE8-BE39-BD642BDB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4D7F1-CC0E-429D-B1EA-695A550CB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2D9A-B0FC-4759-B599-C7D264E8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19536-544F-4FF9-A421-F385CA27C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E885-CCFE-4351-B7C7-B7E3645D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1023-3C88-477F-AAD8-AF7D404E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345A-2A7D-410B-A5D1-DFF900C8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A279-089D-4D30-BB4A-4C5AB5ACE870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83CB-B80B-4206-A64B-411D286F52C7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5260-25F4-4D7F-82A2-9AAA6739842F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2D08-3C70-4BC2-9737-E923A9C114BF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D92B-0572-47E9-A62F-311BAF90B9DE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9.xm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69916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3" descr=""/>
          <p:cNvPicPr/>
          <p:nvPr/>
        </p:nvPicPr>
        <p:blipFill>
          <a:blip r:embed="rId1"/>
          <a:stretch/>
        </p:blipFill>
        <p:spPr>
          <a:xfrm>
            <a:off x="182520" y="133200"/>
            <a:ext cx="7596360" cy="836640"/>
          </a:xfrm>
          <a:prstGeom prst="rect">
            <a:avLst/>
          </a:prstGeom>
          <a:ln w="0">
            <a:noFill/>
          </a:ln>
        </p:spPr>
      </p:pic>
      <p:pic>
        <p:nvPicPr>
          <p:cNvPr id="244" name="Прямоугольник 4" descr=""/>
          <p:cNvPicPr/>
          <p:nvPr/>
        </p:nvPicPr>
        <p:blipFill>
          <a:blip r:embed="rId2"/>
          <a:stretch/>
        </p:blipFill>
        <p:spPr>
          <a:xfrm>
            <a:off x="-122400" y="1054080"/>
            <a:ext cx="3646800" cy="615960"/>
          </a:xfrm>
          <a:prstGeom prst="rect">
            <a:avLst/>
          </a:prstGeom>
          <a:ln w="0">
            <a:noFill/>
          </a:ln>
        </p:spPr>
      </p:pic>
      <p:pic>
        <p:nvPicPr>
          <p:cNvPr id="245" name="Прямоугольник 6" descr=""/>
          <p:cNvPicPr/>
          <p:nvPr/>
        </p:nvPicPr>
        <p:blipFill>
          <a:blip r:embed="rId3"/>
          <a:stretch/>
        </p:blipFill>
        <p:spPr>
          <a:xfrm>
            <a:off x="3164040" y="1841400"/>
            <a:ext cx="3870000" cy="615960"/>
          </a:xfrm>
          <a:prstGeom prst="rect">
            <a:avLst/>
          </a:prstGeom>
          <a:ln w="0">
            <a:noFill/>
          </a:ln>
        </p:spPr>
      </p:pic>
      <p:pic>
        <p:nvPicPr>
          <p:cNvPr id="246" name="Прямоугольник 7" descr=""/>
          <p:cNvPicPr/>
          <p:nvPr/>
        </p:nvPicPr>
        <p:blipFill>
          <a:blip r:embed="rId4"/>
          <a:stretch/>
        </p:blipFill>
        <p:spPr>
          <a:xfrm>
            <a:off x="384120" y="2766960"/>
            <a:ext cx="4827600" cy="622440"/>
          </a:xfrm>
          <a:prstGeom prst="rect">
            <a:avLst/>
          </a:prstGeom>
          <a:ln w="0">
            <a:noFill/>
          </a:ln>
        </p:spPr>
      </p:pic>
      <p:pic>
        <p:nvPicPr>
          <p:cNvPr id="247" name="Прямоугольник 8" descr=""/>
          <p:cNvPicPr/>
          <p:nvPr/>
        </p:nvPicPr>
        <p:blipFill>
          <a:blip r:embed="rId5"/>
          <a:stretch/>
        </p:blipFill>
        <p:spPr>
          <a:xfrm>
            <a:off x="4578480" y="4767120"/>
            <a:ext cx="2023920" cy="622440"/>
          </a:xfrm>
          <a:prstGeom prst="rect">
            <a:avLst/>
          </a:prstGeom>
          <a:ln w="0">
            <a:noFill/>
          </a:ln>
        </p:spPr>
      </p:pic>
      <p:pic>
        <p:nvPicPr>
          <p:cNvPr id="248" name="Прямоугольник 9" descr=""/>
          <p:cNvPicPr/>
          <p:nvPr/>
        </p:nvPicPr>
        <p:blipFill>
          <a:blip r:embed="rId6"/>
          <a:stretch/>
        </p:blipFill>
        <p:spPr>
          <a:xfrm>
            <a:off x="1305000" y="3840120"/>
            <a:ext cx="3363840" cy="6159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340360" y="333360"/>
            <a:ext cx="31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Закончи послови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4720" y="126828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уд человека кормит, 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94560" y="206064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удо тому, кто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1800" y="2924280"/>
            <a:ext cx="25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 соврал – навек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0200" y="3789360"/>
            <a:ext cx="27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то других не любит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72720" y="1341360"/>
            <a:ext cx="30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бра не делает ник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644360" y="2133720"/>
            <a:ext cx="175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нь порт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716720" y="292428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 себя губ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789080" y="3716280"/>
            <a:ext cx="175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гуном ст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402920" y="260280"/>
            <a:ext cx="51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99"/>
                </a:solidFill>
                <a:latin typeface="Arial"/>
              </a:rPr>
              <a:t>Определите зачины и конц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28360" y="1125360"/>
            <a:ext cx="123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c66bb"/>
                </a:solidFill>
                <a:latin typeface="Arial"/>
              </a:rPr>
              <a:t>Зачин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651640" y="112536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c66bb"/>
                </a:solidFill>
                <a:latin typeface="Arial"/>
              </a:rPr>
              <a:t>Концо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692360" y="170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За тридевять земель, в  тридеся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сударстве 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763640" y="2781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Стали они жить-поживать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бра наживать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763640" y="3716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Я там был, мёд-пиво пи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бороде текло, а в р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попало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834560" y="4941720"/>
            <a:ext cx="189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Жили-были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4500720" y="1052640"/>
            <a:ext cx="2939760" cy="33843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468360" y="189000"/>
            <a:ext cx="4680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зовите сказки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7" name=""/>
          <p:cNvSpPr/>
          <p:nvPr/>
        </p:nvSpPr>
        <p:spPr>
          <a:xfrm>
            <a:off x="446400" y="1628640"/>
            <a:ext cx="34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de66"/>
                </a:solidFill>
                <a:uFillTx/>
                <a:latin typeface="Arial"/>
                <a:hlinkClick r:id="rId2" action="ppaction://hlinksldjump"/>
              </a:rPr>
              <a:t>Кот, петух и ли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24960" y="3068640"/>
            <a:ext cx="266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de66"/>
                </a:solidFill>
                <a:uFillTx/>
                <a:latin typeface="Arial"/>
                <a:hlinkClick r:id="rId3" action="ppaction://hlinksldjump"/>
              </a:rPr>
              <a:t>Лиса и дроз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8640" y="4211640"/>
            <a:ext cx="261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de66"/>
                </a:solidFill>
                <a:uFillTx/>
                <a:latin typeface="Arial"/>
                <a:hlinkClick r:id="rId4" action="ppaction://hlinksldjump"/>
              </a:rPr>
              <a:t>Лиса и коз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1681200" y="1484280"/>
            <a:ext cx="578160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          </a:t>
            </a: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лодец! 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ы сделал правильный выбор.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1" name="">
            <a:hlinkClick r:id="rId1" action="ppaction://hlinksldjump"/>
          </p:cNvPr>
          <p:cNvSpPr/>
          <p:nvPr/>
        </p:nvSpPr>
        <p:spPr>
          <a:xfrm>
            <a:off x="6804000" y="5445000"/>
            <a:ext cx="863640" cy="7207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5881" h="21600">
                <a:moveTo>
                  <a:pt x="0" y="0"/>
                </a:moveTo>
                <a:lnTo>
                  <a:pt x="25881" y="0"/>
                </a:lnTo>
                <a:lnTo>
                  <a:pt x="25881" y="21600"/>
                </a:lnTo>
                <a:lnTo>
                  <a:pt x="0" y="21600"/>
                </a:lnTo>
                <a:close/>
              </a:path>
              <a:path fill="lightenLess" w="25881" h="21600">
                <a:moveTo>
                  <a:pt x="0" y="0"/>
                </a:moveTo>
                <a:lnTo>
                  <a:pt x="25881" y="0"/>
                </a:lnTo>
                <a:lnTo>
                  <a:pt x="24481" y="1400"/>
                </a:lnTo>
                <a:lnTo>
                  <a:pt x="1400" y="1400"/>
                </a:lnTo>
                <a:close/>
              </a:path>
              <a:path fill="darken" w="25881" h="21600">
                <a:moveTo>
                  <a:pt x="25881" y="0"/>
                </a:moveTo>
                <a:lnTo>
                  <a:pt x="25881" y="21600"/>
                </a:lnTo>
                <a:lnTo>
                  <a:pt x="24481" y="20200"/>
                </a:lnTo>
                <a:lnTo>
                  <a:pt x="24481" y="1400"/>
                </a:lnTo>
                <a:close/>
              </a:path>
              <a:path fill="darkenLess" w="25881" h="21600">
                <a:moveTo>
                  <a:pt x="25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81" y="20200"/>
                </a:lnTo>
                <a:close/>
              </a:path>
              <a:path fill="lighten" w="25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81" h="21600">
                <a:moveTo>
                  <a:pt x="5934" y="3794"/>
                </a:moveTo>
                <a:lnTo>
                  <a:pt x="19947" y="10800"/>
                </a:lnTo>
                <a:lnTo>
                  <a:pt x="5934" y="17806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547640" y="1773360"/>
            <a:ext cx="54007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думай ещё!</a:t>
            </a:r>
            <a:endParaRPr b="1" i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3" name="">
            <a:hlinkClick r:id="rId3" action="ppaction://hlinksldjump"/>
          </p:cNvPr>
          <p:cNvSpPr/>
          <p:nvPr/>
        </p:nvSpPr>
        <p:spPr>
          <a:xfrm>
            <a:off x="6877080" y="5805360"/>
            <a:ext cx="1008000" cy="7207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0205" h="21600">
                <a:moveTo>
                  <a:pt x="0" y="0"/>
                </a:moveTo>
                <a:lnTo>
                  <a:pt x="30205" y="0"/>
                </a:lnTo>
                <a:lnTo>
                  <a:pt x="30205" y="21600"/>
                </a:lnTo>
                <a:lnTo>
                  <a:pt x="0" y="21600"/>
                </a:lnTo>
                <a:close/>
              </a:path>
              <a:path fill="lightenLess" w="30205" h="21600">
                <a:moveTo>
                  <a:pt x="0" y="0"/>
                </a:moveTo>
                <a:lnTo>
                  <a:pt x="30205" y="0"/>
                </a:lnTo>
                <a:lnTo>
                  <a:pt x="28805" y="1400"/>
                </a:lnTo>
                <a:lnTo>
                  <a:pt x="1400" y="1400"/>
                </a:lnTo>
                <a:close/>
              </a:path>
              <a:path fill="darken" w="30205" h="21600">
                <a:moveTo>
                  <a:pt x="30205" y="0"/>
                </a:moveTo>
                <a:lnTo>
                  <a:pt x="30205" y="21600"/>
                </a:lnTo>
                <a:lnTo>
                  <a:pt x="28805" y="20200"/>
                </a:lnTo>
                <a:lnTo>
                  <a:pt x="28805" y="1400"/>
                </a:lnTo>
                <a:close/>
              </a:path>
              <a:path fill="darkenLess" w="30205" h="21600">
                <a:moveTo>
                  <a:pt x="30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5" y="20200"/>
                </a:lnTo>
                <a:close/>
              </a:path>
              <a:path fill="lighten" w="30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05" h="21600">
                <a:moveTo>
                  <a:pt x="8096" y="10800"/>
                </a:moveTo>
                <a:lnTo>
                  <a:pt x="22109" y="3794"/>
                </a:lnTo>
                <a:lnTo>
                  <a:pt x="22109" y="17806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403280" y="476280"/>
            <a:ext cx="4464000" cy="31687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395280" y="429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76200" y="3995640"/>
            <a:ext cx="29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ff"/>
                </a:solidFill>
                <a:latin typeface="Arial"/>
              </a:rPr>
              <a:t>Волк - дур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02400" y="493236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ff"/>
                </a:solidFill>
                <a:latin typeface="Arial"/>
              </a:rPr>
              <a:t>Лисичка-сестричка и вол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47840" y="5724360"/>
            <a:ext cx="260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ff"/>
                </a:solidFill>
                <a:latin typeface="Arial"/>
              </a:rPr>
              <a:t>Волк и ли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1681200" y="1484280"/>
            <a:ext cx="578160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          </a:t>
            </a: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лодец! 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ы сделал правильный выбор.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308720" y="6165720"/>
            <a:ext cx="682920" cy="538200"/>
          </a:xfrm>
          <a:custGeom>
            <a:avLst/>
            <a:gdLst>
              <a:gd name="textAreaLeft" fmla="*/ 34560 w 682920"/>
              <a:gd name="textAreaRight" fmla="*/ 648360 w 6829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7404" h="21600">
                <a:moveTo>
                  <a:pt x="0" y="0"/>
                </a:moveTo>
                <a:lnTo>
                  <a:pt x="27404" y="0"/>
                </a:lnTo>
                <a:lnTo>
                  <a:pt x="27404" y="21600"/>
                </a:lnTo>
                <a:lnTo>
                  <a:pt x="0" y="21600"/>
                </a:lnTo>
                <a:close/>
              </a:path>
              <a:path fill="lightenLess" w="27404" h="21600">
                <a:moveTo>
                  <a:pt x="0" y="0"/>
                </a:moveTo>
                <a:lnTo>
                  <a:pt x="27404" y="0"/>
                </a:lnTo>
                <a:lnTo>
                  <a:pt x="26004" y="1400"/>
                </a:lnTo>
                <a:lnTo>
                  <a:pt x="1400" y="1400"/>
                </a:lnTo>
                <a:close/>
              </a:path>
              <a:path fill="darken" w="27404" h="21600">
                <a:moveTo>
                  <a:pt x="27404" y="0"/>
                </a:moveTo>
                <a:lnTo>
                  <a:pt x="27404" y="21600"/>
                </a:lnTo>
                <a:lnTo>
                  <a:pt x="26004" y="20200"/>
                </a:lnTo>
                <a:lnTo>
                  <a:pt x="26004" y="1400"/>
                </a:lnTo>
                <a:close/>
              </a:path>
              <a:path fill="darkenLess" w="27404" h="21600">
                <a:moveTo>
                  <a:pt x="274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04" y="20200"/>
                </a:lnTo>
                <a:close/>
              </a:path>
              <a:path fill="lighten" w="274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04" h="21600">
                <a:moveTo>
                  <a:pt x="6696" y="3794"/>
                </a:moveTo>
                <a:lnTo>
                  <a:pt x="20709" y="10800"/>
                </a:lnTo>
                <a:lnTo>
                  <a:pt x="6696" y="17806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1547640" y="1773360"/>
            <a:ext cx="54007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думай ещё!</a:t>
            </a:r>
            <a:endParaRPr b="1" i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2" name=""/>
          <p:cNvSpPr/>
          <p:nvPr/>
        </p:nvSpPr>
        <p:spPr>
          <a:xfrm>
            <a:off x="7020000" y="6021360"/>
            <a:ext cx="755640" cy="611280"/>
          </a:xfrm>
          <a:custGeom>
            <a:avLst/>
            <a:gdLst>
              <a:gd name="textAreaLeft" fmla="*/ 39600 w 755640"/>
              <a:gd name="textAreaRight" fmla="*/ 716040 w 7556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6698" h="21600">
                <a:moveTo>
                  <a:pt x="0" y="0"/>
                </a:moveTo>
                <a:lnTo>
                  <a:pt x="26698" y="0"/>
                </a:lnTo>
                <a:lnTo>
                  <a:pt x="26698" y="21600"/>
                </a:lnTo>
                <a:lnTo>
                  <a:pt x="0" y="21600"/>
                </a:lnTo>
                <a:close/>
              </a:path>
              <a:path fill="lightenLess" w="26698" h="21600">
                <a:moveTo>
                  <a:pt x="0" y="0"/>
                </a:moveTo>
                <a:lnTo>
                  <a:pt x="26698" y="0"/>
                </a:lnTo>
                <a:lnTo>
                  <a:pt x="25298" y="1400"/>
                </a:lnTo>
                <a:lnTo>
                  <a:pt x="1400" y="1400"/>
                </a:lnTo>
                <a:close/>
              </a:path>
              <a:path fill="darken" w="26698" h="21600">
                <a:moveTo>
                  <a:pt x="26698" y="0"/>
                </a:moveTo>
                <a:lnTo>
                  <a:pt x="26698" y="21600"/>
                </a:lnTo>
                <a:lnTo>
                  <a:pt x="25298" y="20200"/>
                </a:lnTo>
                <a:lnTo>
                  <a:pt x="25298" y="1400"/>
                </a:lnTo>
                <a:close/>
              </a:path>
              <a:path fill="darkenLess" w="26698" h="21600">
                <a:moveTo>
                  <a:pt x="26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98" y="20200"/>
                </a:lnTo>
                <a:close/>
              </a:path>
              <a:path fill="lighten" w="26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98" h="21600">
                <a:moveTo>
                  <a:pt x="6343" y="10800"/>
                </a:moveTo>
                <a:lnTo>
                  <a:pt x="20356" y="3794"/>
                </a:lnTo>
                <a:lnTo>
                  <a:pt x="20356" y="17806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29440" cy="37274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252000" y="4292640"/>
            <a:ext cx="27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ff"/>
                </a:solidFill>
                <a:latin typeface="Arial"/>
              </a:rPr>
              <a:t>Муж да ж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30760" y="4788000"/>
            <a:ext cx="510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ff"/>
                </a:solidFill>
                <a:latin typeface="Arial"/>
              </a:rPr>
              <a:t>Как старик домовнич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3480" y="5435640"/>
            <a:ext cx="350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ff"/>
                </a:solidFill>
                <a:latin typeface="Arial"/>
              </a:rPr>
              <a:t>Каша из топ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7461000" cy="11764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Удивляется народ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Едет печка, дым идет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А Емеля на печ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Ест большие калачи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1681200" y="1484280"/>
            <a:ext cx="578160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          </a:t>
            </a: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лодец! 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ы сделал правильный выбор.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524720" y="6381720"/>
            <a:ext cx="611280" cy="466920"/>
          </a:xfrm>
          <a:custGeom>
            <a:avLst/>
            <a:gdLst>
              <a:gd name="textAreaLeft" fmla="*/ 30240 w 611280"/>
              <a:gd name="textAreaRight" fmla="*/ 581040 w 61128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28273" h="21600">
                <a:moveTo>
                  <a:pt x="0" y="0"/>
                </a:moveTo>
                <a:lnTo>
                  <a:pt x="28273" y="0"/>
                </a:lnTo>
                <a:lnTo>
                  <a:pt x="28273" y="21600"/>
                </a:lnTo>
                <a:lnTo>
                  <a:pt x="0" y="21600"/>
                </a:lnTo>
                <a:close/>
              </a:path>
              <a:path fill="lightenLess" w="28273" h="21600">
                <a:moveTo>
                  <a:pt x="0" y="0"/>
                </a:moveTo>
                <a:lnTo>
                  <a:pt x="28273" y="0"/>
                </a:lnTo>
                <a:lnTo>
                  <a:pt x="26873" y="1400"/>
                </a:lnTo>
                <a:lnTo>
                  <a:pt x="1400" y="1400"/>
                </a:lnTo>
                <a:close/>
              </a:path>
              <a:path fill="darken" w="28273" h="21600">
                <a:moveTo>
                  <a:pt x="28273" y="0"/>
                </a:moveTo>
                <a:lnTo>
                  <a:pt x="28273" y="21600"/>
                </a:lnTo>
                <a:lnTo>
                  <a:pt x="26873" y="20200"/>
                </a:lnTo>
                <a:lnTo>
                  <a:pt x="26873" y="1400"/>
                </a:lnTo>
                <a:close/>
              </a:path>
              <a:path fill="darkenLess" w="28273" h="21600">
                <a:moveTo>
                  <a:pt x="282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73" y="20200"/>
                </a:lnTo>
                <a:close/>
              </a:path>
              <a:path fill="lighten" w="282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73" h="21600">
                <a:moveTo>
                  <a:pt x="7130" y="3794"/>
                </a:moveTo>
                <a:lnTo>
                  <a:pt x="21143" y="10800"/>
                </a:lnTo>
                <a:lnTo>
                  <a:pt x="7130" y="17806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1547640" y="1773360"/>
            <a:ext cx="54007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думай ещё!</a:t>
            </a:r>
            <a:endParaRPr b="1" i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0" name=""/>
          <p:cNvSpPr/>
          <p:nvPr/>
        </p:nvSpPr>
        <p:spPr>
          <a:xfrm>
            <a:off x="7380360" y="6165720"/>
            <a:ext cx="611280" cy="466920"/>
          </a:xfrm>
          <a:custGeom>
            <a:avLst/>
            <a:gdLst>
              <a:gd name="textAreaLeft" fmla="*/ 30240 w 611280"/>
              <a:gd name="textAreaRight" fmla="*/ 581040 w 61128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28273" h="21600">
                <a:moveTo>
                  <a:pt x="0" y="0"/>
                </a:moveTo>
                <a:lnTo>
                  <a:pt x="28273" y="0"/>
                </a:lnTo>
                <a:lnTo>
                  <a:pt x="28273" y="21600"/>
                </a:lnTo>
                <a:lnTo>
                  <a:pt x="0" y="21600"/>
                </a:lnTo>
                <a:close/>
              </a:path>
              <a:path fill="lightenLess" w="28273" h="21600">
                <a:moveTo>
                  <a:pt x="0" y="0"/>
                </a:moveTo>
                <a:lnTo>
                  <a:pt x="28273" y="0"/>
                </a:lnTo>
                <a:lnTo>
                  <a:pt x="26873" y="1400"/>
                </a:lnTo>
                <a:lnTo>
                  <a:pt x="1400" y="1400"/>
                </a:lnTo>
                <a:close/>
              </a:path>
              <a:path fill="darken" w="28273" h="21600">
                <a:moveTo>
                  <a:pt x="28273" y="0"/>
                </a:moveTo>
                <a:lnTo>
                  <a:pt x="28273" y="21600"/>
                </a:lnTo>
                <a:lnTo>
                  <a:pt x="26873" y="20200"/>
                </a:lnTo>
                <a:lnTo>
                  <a:pt x="26873" y="1400"/>
                </a:lnTo>
                <a:close/>
              </a:path>
              <a:path fill="darkenLess" w="28273" h="21600">
                <a:moveTo>
                  <a:pt x="282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73" y="20200"/>
                </a:lnTo>
                <a:close/>
              </a:path>
              <a:path fill="lighten" w="282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73" h="21600">
                <a:moveTo>
                  <a:pt x="7130" y="10800"/>
                </a:moveTo>
                <a:lnTo>
                  <a:pt x="21143" y="3794"/>
                </a:lnTo>
                <a:lnTo>
                  <a:pt x="21143" y="17806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83240" y="1484280"/>
            <a:ext cx="7876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cc0099"/>
                </a:solidFill>
                <a:latin typeface="Arial"/>
              </a:rPr>
              <a:t>«Сказка – ложь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cc0099"/>
                </a:solidFill>
                <a:latin typeface="Arial"/>
              </a:rPr>
              <a:t>да в ней намек….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Прямоугольник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60360" y="3249720"/>
            <a:ext cx="6461280" cy="1150920"/>
          </a:xfrm>
          <a:prstGeom prst="rect">
            <a:avLst/>
          </a:prstGeom>
          <a:ln w="0">
            <a:noFill/>
          </a:ln>
        </p:spPr>
      </p:pic>
      <p:pic>
        <p:nvPicPr>
          <p:cNvPr id="231" name="Прямоугольник 6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3080" y="1444680"/>
            <a:ext cx="8083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255600" y="2279520"/>
            <a:ext cx="7493040" cy="1152720"/>
          </a:xfrm>
          <a:prstGeom prst="rect">
            <a:avLst/>
          </a:prstGeom>
          <a:ln w="0">
            <a:noFill/>
          </a:ln>
        </p:spPr>
      </p:pic>
      <p:sp>
        <p:nvSpPr>
          <p:cNvPr id="233" name="Управляющая кнопка: далее 4">
            <a:hlinkClick r:id="rId2" action="ppaction://hlinksldjump"/>
          </p:cNvPr>
          <p:cNvSpPr/>
          <p:nvPr/>
        </p:nvSpPr>
        <p:spPr>
          <a:xfrm>
            <a:off x="7072200" y="6072120"/>
            <a:ext cx="685800" cy="614520"/>
          </a:xfrm>
          <a:custGeom>
            <a:avLst/>
            <a:gdLst>
              <a:gd name="textAreaLeft" fmla="*/ 39600 w 685800"/>
              <a:gd name="textAreaRight" fmla="*/ 646200 w 685800"/>
              <a:gd name="textAreaTop" fmla="*/ 39600 h 614520"/>
              <a:gd name="textAreaBottom" fmla="*/ 574920 h 614520"/>
            </a:gdLst>
            <a:ahLst/>
            <a:rect l="textAreaLeft" t="textAreaTop" r="textAreaRight" b="textAreaBottom"/>
            <a:pathLst>
              <a:path w="24104" h="21600">
                <a:moveTo>
                  <a:pt x="0" y="0"/>
                </a:moveTo>
                <a:lnTo>
                  <a:pt x="24104" y="0"/>
                </a:lnTo>
                <a:lnTo>
                  <a:pt x="24104" y="21600"/>
                </a:lnTo>
                <a:lnTo>
                  <a:pt x="0" y="21600"/>
                </a:lnTo>
                <a:close/>
              </a:path>
              <a:path fill="lightenLess" w="24104" h="21600">
                <a:moveTo>
                  <a:pt x="0" y="0"/>
                </a:moveTo>
                <a:lnTo>
                  <a:pt x="24104" y="0"/>
                </a:lnTo>
                <a:lnTo>
                  <a:pt x="22704" y="1400"/>
                </a:lnTo>
                <a:lnTo>
                  <a:pt x="1400" y="1400"/>
                </a:lnTo>
                <a:close/>
              </a:path>
              <a:path fill="darken" w="24104" h="21600">
                <a:moveTo>
                  <a:pt x="24104" y="0"/>
                </a:moveTo>
                <a:lnTo>
                  <a:pt x="24104" y="21600"/>
                </a:lnTo>
                <a:lnTo>
                  <a:pt x="22704" y="20200"/>
                </a:lnTo>
                <a:lnTo>
                  <a:pt x="22704" y="1400"/>
                </a:lnTo>
                <a:close/>
              </a:path>
              <a:path fill="darkenLess" w="24104" h="21600">
                <a:moveTo>
                  <a:pt x="24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04" y="20200"/>
                </a:lnTo>
                <a:close/>
              </a:path>
              <a:path fill="lighten" w="24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04" h="21600">
                <a:moveTo>
                  <a:pt x="5046" y="3794"/>
                </a:moveTo>
                <a:lnTo>
                  <a:pt x="19058" y="10800"/>
                </a:lnTo>
                <a:lnTo>
                  <a:pt x="5046" y="17806"/>
                </a:lnTo>
                <a:close/>
              </a:path>
            </a:pathLst>
          </a:cu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Прямоугольник 3" descr=""/>
          <p:cNvPicPr/>
          <p:nvPr/>
        </p:nvPicPr>
        <p:blipFill>
          <a:blip r:embed="rId1"/>
          <a:stretch/>
        </p:blipFill>
        <p:spPr>
          <a:xfrm>
            <a:off x="-371520" y="2786040"/>
            <a:ext cx="8777160" cy="1212840"/>
          </a:xfrm>
          <a:prstGeom prst="rect">
            <a:avLst/>
          </a:prstGeom>
          <a:ln w="0">
            <a:noFill/>
          </a:ln>
        </p:spPr>
      </p:pic>
      <p:sp>
        <p:nvSpPr>
          <p:cNvPr id="235" name="Управляющая кнопка: назад 4">
            <a:hlinkClick r:id="rId2" action="ppaction://hlinksldjump"/>
          </p:cNvPr>
          <p:cNvSpPr/>
          <p:nvPr/>
        </p:nvSpPr>
        <p:spPr>
          <a:xfrm>
            <a:off x="7286760" y="6072120"/>
            <a:ext cx="757080" cy="614520"/>
          </a:xfrm>
          <a:custGeom>
            <a:avLst/>
            <a:gdLst>
              <a:gd name="textAreaLeft" fmla="*/ 39600 w 757080"/>
              <a:gd name="textAreaRight" fmla="*/ 717480 w 757080"/>
              <a:gd name="textAreaTop" fmla="*/ 39600 h 614520"/>
              <a:gd name="textAreaBottom" fmla="*/ 574920 h 614520"/>
            </a:gdLst>
            <a:ahLst/>
            <a:rect l="textAreaLeft" t="textAreaTop" r="textAreaRight" b="textAreaBottom"/>
            <a:pathLst>
              <a:path w="26608" h="21600">
                <a:moveTo>
                  <a:pt x="0" y="0"/>
                </a:moveTo>
                <a:lnTo>
                  <a:pt x="26608" y="0"/>
                </a:lnTo>
                <a:lnTo>
                  <a:pt x="26608" y="21600"/>
                </a:lnTo>
                <a:lnTo>
                  <a:pt x="0" y="21600"/>
                </a:lnTo>
                <a:close/>
              </a:path>
              <a:path fill="lightenLess" w="26608" h="21600">
                <a:moveTo>
                  <a:pt x="0" y="0"/>
                </a:moveTo>
                <a:lnTo>
                  <a:pt x="26608" y="0"/>
                </a:lnTo>
                <a:lnTo>
                  <a:pt x="25208" y="1400"/>
                </a:lnTo>
                <a:lnTo>
                  <a:pt x="1400" y="1400"/>
                </a:lnTo>
                <a:close/>
              </a:path>
              <a:path fill="darken" w="26608" h="21600">
                <a:moveTo>
                  <a:pt x="26608" y="0"/>
                </a:moveTo>
                <a:lnTo>
                  <a:pt x="26608" y="21600"/>
                </a:lnTo>
                <a:lnTo>
                  <a:pt x="25208" y="20200"/>
                </a:lnTo>
                <a:lnTo>
                  <a:pt x="25208" y="1400"/>
                </a:lnTo>
                <a:close/>
              </a:path>
              <a:path fill="darkenLess" w="26608" h="21600">
                <a:moveTo>
                  <a:pt x="26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08" y="20200"/>
                </a:lnTo>
                <a:close/>
              </a:path>
              <a:path fill="lighten" w="26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08" h="21600">
                <a:moveTo>
                  <a:pt x="6297" y="10800"/>
                </a:moveTo>
                <a:lnTo>
                  <a:pt x="20310" y="3794"/>
                </a:lnTo>
                <a:lnTo>
                  <a:pt x="20310" y="17806"/>
                </a:lnTo>
                <a:close/>
              </a:path>
            </a:pathLst>
          </a:cu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4"/>
          <p:cNvSpPr/>
          <p:nvPr/>
        </p:nvSpPr>
        <p:spPr>
          <a:xfrm>
            <a:off x="1143000" y="785880"/>
            <a:ext cx="5786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У кого ты ни спроси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Всем известно на Рус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То он царь, то из крестьян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А зовут его 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Прямоугольник 2" descr=""/>
          <p:cNvPicPr/>
          <p:nvPr/>
        </p:nvPicPr>
        <p:blipFill>
          <a:blip r:embed="rId1"/>
          <a:stretch/>
        </p:blipFill>
        <p:spPr>
          <a:xfrm>
            <a:off x="1122480" y="615960"/>
            <a:ext cx="3887640" cy="1639800"/>
          </a:xfrm>
          <a:prstGeom prst="rect">
            <a:avLst/>
          </a:prstGeom>
          <a:ln w="0">
            <a:noFill/>
          </a:ln>
        </p:spPr>
      </p:pic>
      <p:pic>
        <p:nvPicPr>
          <p:cNvPr id="238" name="Прямоугольник 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1200" y="2736720"/>
            <a:ext cx="522288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TextBox 2" descr=""/>
          <p:cNvPicPr/>
          <p:nvPr/>
        </p:nvPicPr>
        <p:blipFill>
          <a:blip r:embed="rId1"/>
          <a:stretch/>
        </p:blipFill>
        <p:spPr>
          <a:xfrm>
            <a:off x="291960" y="2571840"/>
            <a:ext cx="6432840" cy="982440"/>
          </a:xfrm>
          <a:prstGeom prst="rect">
            <a:avLst/>
          </a:prstGeom>
          <a:ln w="0">
            <a:noFill/>
          </a:ln>
        </p:spPr>
      </p:pic>
      <p:sp>
        <p:nvSpPr>
          <p:cNvPr id="240" name="Управляющая кнопка: далее 4">
            <a:hlinkClick r:id="rId2" action="ppaction://hlinksldjump"/>
          </p:cNvPr>
          <p:cNvSpPr/>
          <p:nvPr/>
        </p:nvSpPr>
        <p:spPr>
          <a:xfrm>
            <a:off x="7286760" y="6072120"/>
            <a:ext cx="757080" cy="614520"/>
          </a:xfrm>
          <a:custGeom>
            <a:avLst/>
            <a:gdLst>
              <a:gd name="textAreaLeft" fmla="*/ 39600 w 757080"/>
              <a:gd name="textAreaRight" fmla="*/ 717480 w 757080"/>
              <a:gd name="textAreaTop" fmla="*/ 39600 h 614520"/>
              <a:gd name="textAreaBottom" fmla="*/ 574920 h 614520"/>
            </a:gdLst>
            <a:ahLst/>
            <a:rect l="textAreaLeft" t="textAreaTop" r="textAreaRight" b="textAreaBottom"/>
            <a:pathLst>
              <a:path w="26608" h="21600">
                <a:moveTo>
                  <a:pt x="0" y="0"/>
                </a:moveTo>
                <a:lnTo>
                  <a:pt x="26608" y="0"/>
                </a:lnTo>
                <a:lnTo>
                  <a:pt x="26608" y="21600"/>
                </a:lnTo>
                <a:lnTo>
                  <a:pt x="0" y="21600"/>
                </a:lnTo>
                <a:close/>
              </a:path>
              <a:path fill="lightenLess" w="26608" h="21600">
                <a:moveTo>
                  <a:pt x="0" y="0"/>
                </a:moveTo>
                <a:lnTo>
                  <a:pt x="26608" y="0"/>
                </a:lnTo>
                <a:lnTo>
                  <a:pt x="25208" y="1400"/>
                </a:lnTo>
                <a:lnTo>
                  <a:pt x="1400" y="1400"/>
                </a:lnTo>
                <a:close/>
              </a:path>
              <a:path fill="darken" w="26608" h="21600">
                <a:moveTo>
                  <a:pt x="26608" y="0"/>
                </a:moveTo>
                <a:lnTo>
                  <a:pt x="26608" y="21600"/>
                </a:lnTo>
                <a:lnTo>
                  <a:pt x="25208" y="20200"/>
                </a:lnTo>
                <a:lnTo>
                  <a:pt x="25208" y="1400"/>
                </a:lnTo>
                <a:close/>
              </a:path>
              <a:path fill="darkenLess" w="26608" h="21600">
                <a:moveTo>
                  <a:pt x="26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08" y="20200"/>
                </a:lnTo>
                <a:close/>
              </a:path>
              <a:path fill="lighten" w="26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08" h="21600">
                <a:moveTo>
                  <a:pt x="6297" y="3794"/>
                </a:moveTo>
                <a:lnTo>
                  <a:pt x="20310" y="10800"/>
                </a:lnTo>
                <a:lnTo>
                  <a:pt x="6297" y="17806"/>
                </a:lnTo>
                <a:close/>
              </a:path>
            </a:pathLst>
          </a:cu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extBox 1" descr=""/>
          <p:cNvPicPr/>
          <p:nvPr/>
        </p:nvPicPr>
        <p:blipFill>
          <a:blip r:embed="rId1"/>
          <a:stretch/>
        </p:blipFill>
        <p:spPr>
          <a:xfrm>
            <a:off x="-66600" y="2212920"/>
            <a:ext cx="8004240" cy="981000"/>
          </a:xfrm>
          <a:prstGeom prst="rect">
            <a:avLst/>
          </a:prstGeom>
          <a:ln w="0">
            <a:noFill/>
          </a:ln>
        </p:spPr>
      </p:pic>
      <p:sp>
        <p:nvSpPr>
          <p:cNvPr id="242" name="Управляющая кнопка: назад 2">
            <a:hlinkClick r:id="rId2" action="ppaction://hlinksldjump"/>
          </p:cNvPr>
          <p:cNvSpPr/>
          <p:nvPr/>
        </p:nvSpPr>
        <p:spPr>
          <a:xfrm>
            <a:off x="7215120" y="6143760"/>
            <a:ext cx="757440" cy="542880"/>
          </a:xfrm>
          <a:custGeom>
            <a:avLst/>
            <a:gdLst>
              <a:gd name="textAreaLeft" fmla="*/ 34920 w 757440"/>
              <a:gd name="textAreaRight" fmla="*/ 722520 w 75744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30131" h="21600">
                <a:moveTo>
                  <a:pt x="0" y="0"/>
                </a:moveTo>
                <a:lnTo>
                  <a:pt x="30131" y="0"/>
                </a:lnTo>
                <a:lnTo>
                  <a:pt x="30131" y="21600"/>
                </a:lnTo>
                <a:lnTo>
                  <a:pt x="0" y="21600"/>
                </a:lnTo>
                <a:close/>
              </a:path>
              <a:path fill="lightenLess" w="30131" h="21600">
                <a:moveTo>
                  <a:pt x="0" y="0"/>
                </a:moveTo>
                <a:lnTo>
                  <a:pt x="30131" y="0"/>
                </a:lnTo>
                <a:lnTo>
                  <a:pt x="28731" y="1400"/>
                </a:lnTo>
                <a:lnTo>
                  <a:pt x="1400" y="1400"/>
                </a:lnTo>
                <a:close/>
              </a:path>
              <a:path fill="darken" w="30131" h="21600">
                <a:moveTo>
                  <a:pt x="30131" y="0"/>
                </a:moveTo>
                <a:lnTo>
                  <a:pt x="30131" y="21600"/>
                </a:lnTo>
                <a:lnTo>
                  <a:pt x="28731" y="20200"/>
                </a:lnTo>
                <a:lnTo>
                  <a:pt x="28731" y="1400"/>
                </a:lnTo>
                <a:close/>
              </a:path>
              <a:path fill="darkenLess" w="30131" h="21600">
                <a:moveTo>
                  <a:pt x="30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1" y="20200"/>
                </a:lnTo>
                <a:close/>
              </a:path>
              <a:path fill="lighten" w="30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1" h="21600">
                <a:moveTo>
                  <a:pt x="8059" y="10800"/>
                </a:moveTo>
                <a:lnTo>
                  <a:pt x="22072" y="3794"/>
                </a:lnTo>
                <a:lnTo>
                  <a:pt x="22072" y="17806"/>
                </a:lnTo>
                <a:close/>
              </a:path>
            </a:pathLst>
          </a:cu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7T13:54:32Z</dcterms:created>
  <dc:creator>Наталья</dc:creator>
  <dc:description/>
  <dc:language>en-US</dc:language>
  <cp:lastModifiedBy>Grisha</cp:lastModifiedBy>
  <dcterms:modified xsi:type="dcterms:W3CDTF">2009-08-25T18:59:13Z</dcterms:modified>
  <cp:revision>15</cp:revision>
  <dc:subject/>
  <dc:title>Русская народная сказка</dc:title>
</cp:coreProperties>
</file>