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0CF-E000-409A-BF6A-D5F9D0CCD2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2F3-D74F-491F-BFFD-FCD3A9349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E96-5D8C-4589-81A1-032EC9DE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849-1F5C-4E88-A784-4AA761FE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3B9-804E-437B-8607-F6B23414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6D0-6C0A-4714-AAB4-FAFFD518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EDC8-FC6F-44E2-9A92-82ACD244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719C2-45A7-4205-9F00-35BC27E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0B41C-4159-493A-848F-11FF68C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F5876-15E3-490D-9647-952982D0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B9B7E-E1DE-4FEB-8E2D-84F6B54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29F8-C8C3-4717-93F3-B6B2C1E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8A429-9F49-48E3-B95A-BE7A9F0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E99-D441-4936-B145-017A4AAA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BBED-9C74-4FF7-B9A8-1697A7E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1ADBD-4A24-469B-94D7-F45F796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F49DF-4E55-4057-A6E7-1B3FE99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7C46A-D08A-419F-A049-DABC2B05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20061-441B-4E64-B839-405A5E14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7AE7-CF26-411D-B717-BC6E7966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913B-C49B-4AF0-AB95-AE982922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6C78-699C-4DA1-9DF5-75CFC10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3DCF-685E-4F95-B7BF-018A51B6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46ED-17FF-486C-9411-022E207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973-2B50-4FE2-B243-089B188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F1B3-07C5-4341-B5E6-5677EF4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DC0D-F251-44C0-8AD6-6856864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356D-1821-4411-9E64-85C5E44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65BB-5B3A-474A-AF8B-B816AB0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F138-F9C4-4036-80E5-3618D75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A3E4-AF20-4EEF-9407-41586D3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1F50-F107-4F62-93F3-156B1353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C1683-5CDB-4F9B-BE20-CB829CE7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F80DE-5487-44A0-9EC9-D2C0CD6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98035-4795-4D8F-B406-D2FC213E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68B-879D-4368-B8EF-511BAD3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60C9A-537A-4F6F-8563-C1F9CA0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D76C1-F66E-4F4D-980C-8BBCCD5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6C54F-6A22-4A5F-A2C7-61CD91A8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C8D63-7017-4563-842D-776EB582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2965F-1C3C-4183-AE66-6392841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F7BD3-9076-48C6-B656-E34C8DF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B3BCE-B910-45EC-877A-CE3CF317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CC555-A2DE-45E3-8D1A-FD8857FD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80377-3952-4D77-AFE1-66FBC7A5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B69-86F1-4063-82FC-C6DD218E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381-2425-4A8D-ACD4-C9115F4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9F1-5ACF-4BF6-B645-6D11D75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162-3297-41B4-9E3A-A3B2A13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BC6-6575-47D6-BD34-908630A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6CFE-9159-4177-8EF0-EAF469DF6D2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A30E-6F13-4FE3-B081-04BFE73EA82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C722-9F37-49B5-A624-3170A3BAEB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199-E45B-4F68-BB91-E99D38A26B0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Heinkel_He_111" TargetMode="External"/><Relationship Id="rId3" Type="http://schemas.openxmlformats.org/officeDocument/2006/relationships/hyperlink" Target="http://ru.wikipedia.org/wiki/&#1043;&#1077;&#1088;&#1084;&#1072;&#1085;&#1080;&#1103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142920" y="500040"/>
            <a:ext cx="8715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F:\0_56076_285bfbe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6"/>
          <p:cNvSpPr/>
          <p:nvPr/>
        </p:nvSpPr>
        <p:spPr>
          <a:xfrm>
            <a:off x="428760" y="285840"/>
            <a:ext cx="76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довия в годы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52920" y="-219240"/>
            <a:ext cx="4230720" cy="6370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IMG_0493.JPG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360" y="134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Родина внесла свой посильный вклад в дело победы над фашистам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земляки воевали не только на фронтах Великой Отечественной войны, они делали очень много для победы и в тылу. На территории нашей Республики Мордовия не  было боёв, но женщины и дети внесли огромный вклад: на заводах изготавливали боеприпасы , в госпиталях лечили раненых, помогая им быстрее вернуться в строй; на полях выращивали хлеб и кок-сагыз(растения из сока которого изготавливали каучук для производства резины, которая шла на нужды фронта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горжусь, что родился и живу в Мордовии, славной своей историей и богатой великими подвигам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341280" y="-79200"/>
            <a:ext cx="8352000" cy="135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IMG_0495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 всегда интересовала история моей Роди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очень хочется узнать больше о своих предках. Я думаю, что  и мои земляки – уроженцы Мордовии, всегда  были вместе со всей страной,  и в тяжелые годы испытаний – Великой Отечественной войне  (1941 - 1945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сегда со своими родителями бываю на Параде Победы – 9 мая, вижу участников войны, иногда разговариваю с ними, дарю цветы. Я думаю, что среди  моих земляков есть и такие, которые стали Героями своей страны, имеют ордена и мед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5280" y="2276280"/>
            <a:ext cx="82915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материалы  по  теме. Побывать в Музее Боевой Славы. Узнать о жизни жителей  Мордовии в годы  В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своих одноклассников  с  некоторыми фактами военной биографии наших земля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ыть тем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ыскать наиболее интересные факт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сти  итоги своей работ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92160" y="146160"/>
            <a:ext cx="8601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42880" y="571680"/>
            <a:ext cx="45910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22 июня... В этот день невольно вспоминается уже далекая война. Трудные годы 1941-1945г.г. Кровь и боль, горечь потерь и поражений, гибель родных людей, тяжелый труд… Весь народ - и стар, и млад, встали на защиту своей Роди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9 мая - День Победы нашей страны, победившей фашизм. Не все вернулись с дымных полей войны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Рисунок 3" descr="IMG_0500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151920"/>
            <a:ext cx="81151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cb95"/>
                </a:solidFill>
                <a:latin typeface="Times New Roman"/>
                <a:ea typeface="Times New Roman"/>
              </a:rPr>
              <a:t>Вклад моих земляков в победу</a:t>
            </a:r>
            <a:r>
              <a:rPr b="0" lang="ru-RU" sz="2800" spc="-1" strike="noStrike">
                <a:solidFill>
                  <a:srgbClr val="becb95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Содержимое 4" descr="devetaev-1.jpg"/>
          <p:cNvPicPr/>
          <p:nvPr/>
        </p:nvPicPr>
        <p:blipFill>
          <a:blip r:embed="rId1"/>
          <a:stretch/>
        </p:blipFill>
        <p:spPr>
          <a:xfrm>
            <a:off x="642960" y="1571760"/>
            <a:ext cx="3500280" cy="4357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647960" y="928440"/>
            <a:ext cx="40590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Мужчины Мордовии уходили на фронт целыми семьями, и сегодня их могилы разбросаны по всей Европе. Особенно много их погибло в1941-1942 гг. Они воевали в Польше и Венгрии, Румынии и Болгарии, брали Берлин. А до этого многие из них защищали Москву, сражались на Курской дуге и под Сталинградом, освобождали от блокады Ленинград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чень многие  мои земляки за проявленные мужество и героизм были награждены орденами и медалями, многие стали Героями Советского Союза. Среди них</a:t>
            </a:r>
            <a:r>
              <a:rPr b="0" lang="en-US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гвардии старший лейтенант, лётчик-истребитель</a:t>
            </a:r>
            <a:r>
              <a:rPr b="0" lang="en-US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Михаил Петрович Девятаев. Его подвиг стал известен всей стране….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н мордвин. Он был у матери тринадцатым ребенком. В 1934 году в мордовский поселок Торбеево прилетел самолет – забрать больного. Михаилу было шестнадцать лет. Вид самолета на поле, короткий разговор с летчиком поселили в юной душе мечту. Школа окончена. Матери он сказал: «Еду в Казань. Вернусь летчиком».Путей в летчики сразу найти не мог, определился в речной техникум. И окончил его успешно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4" descr="heinkel.jpg"/>
          <p:cNvPicPr/>
          <p:nvPr/>
        </p:nvPicPr>
        <p:blipFill>
          <a:blip r:embed="rId1"/>
          <a:stretch/>
        </p:blipFill>
        <p:spPr>
          <a:xfrm>
            <a:off x="285840" y="1000080"/>
            <a:ext cx="4214880" cy="4857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00360" y="142560"/>
            <a:ext cx="4206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дновременно учился в аэроклубе. Потом военное училище. В 1939 году он явился в родное Торбеево лейтенантом: «Мама, я – летчик!». Война застала его под Минском. Уже 23 июня Михаил Девятаев участвовал в воздушном бою. 24 июня он сбил вражеский самолет. К лету 44-го года он сбил девять вражеских самолетов. Пять раз сбивали его. У него были прострелены рука и нога. Лежал в госпитале. Снова вернулся на самолет. Полтора года из-за ранений летал на «кукурузнике», но потом добился возвращения в истребительный полк. К 1944 году летчик Девятаев был награжден тремя боевыми орденами. День 13 июля  1944 года был переломным в его военной судьбе. Накануне наступления под Львовом он сопровождал бомбардировщиков, сделал за день три боевых вылета. Уже на заходе солнца поднялся в четвертый раз навстречу летевшим «Юнкерсам». Он не заметил, как из-за облака вынырнул «Мессершмитт»... Машина словно споткнулась. В кабине – дым, перед глазами – языки пламени... Со стороны безнадежность его положения была, наверное, особенно ясной. «Мордвин, прыгай!» «Мордвин» – позывной Девятаева. «Миша, приказываю!» – это был голос его командира... Бой шел за линией Фронта. Прыгая из самолета, который вот-вот взорвется, Михаил ударился о хвостовой стабилизатор и приземленья на парашюте уже не помнил. Очнулся в землянке среди летчиков. Но речь – чужая… Это был плен.  Бежать! Бежать во что бы то ни стало... Попытка к побегу каралась немедленной смертью. И все-таки несколько человек, тщательно присмотревшись друг к другу, решились. Надежда вырваться на свободу была у всех связана с самолетом. 8 февраля 1945 года</a:t>
            </a: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группа советских военнопленных из 10 человек захватила немецкий бомбардировщик </a:t>
            </a:r>
            <a:r>
              <a:rPr b="0" lang="ru-RU" sz="1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HeinkelHe 111 H-22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и совершила на нём побег из концлагеря на острове Узедом (</a:t>
            </a:r>
            <a:r>
              <a:rPr b="0" lang="ru-RU" sz="1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3"/>
              </a:rPr>
              <a:t>Германия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). Пилотировал его Девятае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Так воевали мои земляки, защищая свой отчий дом, родной край и всю страну. Они нежно любили свою малую родину и надеялись вернуться с победой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908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4" descr="K9VOeVnnCX.jpg"/>
          <p:cNvPicPr/>
          <p:nvPr/>
        </p:nvPicPr>
        <p:blipFill>
          <a:blip r:embed="rId2"/>
          <a:stretch/>
        </p:blipFill>
        <p:spPr>
          <a:xfrm>
            <a:off x="457200" y="1143000"/>
            <a:ext cx="4059360" cy="2571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Говоря о героических делах народа в годы войны, особенно хочется сказать о трудовых подвигах женщин. В первые дни войны, преодолевая огромные трудности, они заменили своих мужей, отцов и братьев, осваивали их специальности. Их труд золотыми буквами вписан в героическую летопись истории нашей Родин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31 декабря 1941 года взрыв на Механическом заводе в Саранске унес жизни тринадцати молодых девушек, работавших в цеху по изготовлению боеприпасов. Тогда об этой трагедии говорили мало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Имена погибших долгие годы оставались забытыми, поскольку большинство из них были уроженками Ленинграда, эвакуированными в Мордовию в годы войны. Их похоронили в братской могиле на городском кладбище около телецентра. Однако памятник был установлен только одной – Нине Лысовой, о чём позаботилась её родная сестра. А за безымянной братской могилой долгие годы, увы, вообще никто не ухаживал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42200" cy="86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F:\war_11.jpg"/>
          <p:cNvPicPr/>
          <p:nvPr/>
        </p:nvPicPr>
        <p:blipFill>
          <a:blip r:embed="rId2"/>
          <a:stretch/>
        </p:blipFill>
        <p:spPr>
          <a:xfrm>
            <a:off x="5072040" y="1285920"/>
            <a:ext cx="3857760" cy="42861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6"/>
          <p:cNvSpPr/>
          <p:nvPr/>
        </p:nvSpPr>
        <p:spPr>
          <a:xfrm>
            <a:off x="571680" y="1071720"/>
            <a:ext cx="4286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Рядом со старшими братьями и сестрами трудились и школьники, их посылали туда, где нужна была помощь старшим. Тяжелой ношей легли на детские плечи заботы трудового фронта. И по истине огромными были нормы выработки на полях, где трудились мальчишки и девчонки, тысячи гектаров скошенного хлеба, тысячи связанных снопов, тысячи намолоченного зер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Несмотря на тяжелые условия, в которых жили дети: голод, холод им приходилось вставать чуть свет, идти помогать своим мамам, сестрам, бабушкам, дедушкам, они, дети, понимали, что без их помощи в тылу просто не обойтись. Я не могу себе представить, что дети совершили такой подвиг. Я просто удивляюсь, откуда у женщин брались силы работать в голод и холод, ухаживать за своими детьми, отправлять письма и посылки на фрон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43280" y="285480"/>
            <a:ext cx="40593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>
              <a:lnSpc>
                <a:spcPct val="80000"/>
              </a:lnSpc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В годы войны на полях Мордовии для производства резины для нужд фронта выращивали кок-сагыз – цветы, похожие на одуванчик. Если на стебле такого цветка сделать надрез, то из него начинает вытекать белый сок. Этот сок постепенно густеет и превращается в резину, из которой можно делать мячи, калоши, колеса. Колхозы военного времени в Мордовии на больших площадях выращивали кок-сагыз, особенно в Атяшевском районе который за свое плодородие называли  «мордовской Кубанью». Об этом напоминают и заголовки в подшивке районной газеты тех лет: «Больше внимания кок-сагызу!», «Больше стратегического сырья нашей промышленности!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449280">
              <a:lnSpc>
                <a:spcPct val="80000"/>
              </a:lnSpc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Я горжусь, что мои земляки делали все, что могли для победы в тылу и на фронте. Несмотря на суровые условия, жители Мордовии  внесли большой вклад своим трудом в победу над враг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4492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F:\image8880024.jpg"/>
          <p:cNvPicPr/>
          <p:nvPr/>
        </p:nvPicPr>
        <p:blipFill>
          <a:blip r:embed="rId1"/>
          <a:stretch/>
        </p:blipFill>
        <p:spPr>
          <a:xfrm>
            <a:off x="324000" y="714240"/>
            <a:ext cx="3890880" cy="542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9:05:27Z</dcterms:created>
  <dc:creator>USER</dc:creator>
  <dc:description/>
  <dc:language>en-US</dc:language>
  <cp:lastModifiedBy>пользователь</cp:lastModifiedBy>
  <dcterms:modified xsi:type="dcterms:W3CDTF">2013-02-12T08:26:17Z</dcterms:modified>
  <cp:revision>30</cp:revision>
  <dc:subject/>
  <dc:title>Слайд 1</dc:title>
</cp:coreProperties>
</file>