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68E9-10C4-4EF7-ADFE-EE45C14258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EE34-FD94-4A58-80F9-6691619BC2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07D-6D8A-4E1B-82D3-3B08BEF1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5FA-BB8F-49F0-B4DE-5F0D2FD9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BA0-606F-435B-87A0-5560F3D8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191-7B21-462C-98B3-549CCF6A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17028-E20D-4CE3-94B9-5200C384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062C2-8029-41EF-BFA8-6C1033FC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48C0D-0F73-4860-914D-D27D73A6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9D132-2AB7-47FA-BBA2-7DEA6FD9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48095-C531-44E8-8E76-4FD563EF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04D47-171A-4E42-96ED-FC80DBCE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4A49E-07D8-4506-AC8B-478254C8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E30-4A93-41CC-B2FC-6170793A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B4A79-9731-4616-BCE3-89BF7A1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667B2-EFF9-489F-9E20-8326CC34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38C09-508E-4F75-B50F-6755D427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FE7F4-27AC-4807-A7BF-3B2044E1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F5F00-375E-4999-9B0F-65B168FE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5EE5-0356-4F7E-B6B1-51A5AA41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1A08-F491-4491-A7C5-3E7CEC80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1576-B5C0-4E6C-942B-8E412F1C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75EA-0633-479E-B6A9-08F2123C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94F3-7BC5-46D3-AE18-3375EB1E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255-85A0-4DE0-A7C1-755B9A1E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4DFE6-0545-428D-9D34-E227A83A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44A6-EA3B-418A-85FF-E68BDAD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CFCF-0168-4F39-ABAC-44AADF6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FEAE-11BF-4D32-A6C1-814323E4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74C9A-9332-4778-8855-E03BA135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A9D04-AACF-42D5-9CF6-A187121E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B775-CDE7-432A-A779-AB9F3F2A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DE86C-5FD1-4E16-AE52-B25F2C1F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BFEB3-193D-461E-9E15-EA3CB259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C4206-17F6-451C-A662-A6B6E045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604-BDB6-476D-830E-FCF4363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D12A0-3868-4903-9A25-DEAED3B3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7FECC-FADC-4F52-8424-897E1918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1452E-4CE2-4F1F-8CB7-78CB519E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20B49-3C0A-4A6C-9B36-F0E084F7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239D2-BFEF-49B8-8E69-E52E47FB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05C7CE-CE2F-429B-BCCB-9889DBC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6BC031-5AAD-40CC-9CC4-2159088E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B43E5-C2E5-44FF-AC1F-18CA419F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807A5-3766-4CC0-AA48-8A05C231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068-6F73-46CC-BB56-83EAEE4B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50F-94FE-42A1-ADE6-00F4E842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8D5-80D6-4D61-8C63-2842A313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3BD-06A7-41B6-8056-83A02139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626-E316-4C76-90A1-B2BF704A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3789-A3D9-4790-9CC6-2EA5AE7763A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EDDE-1E1A-4FF9-BC54-FE686E40B23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121C-3888-4726-B7CA-FE8736F2BF7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F52E-8B40-4681-8008-DCCBCFCC456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Heinkel_He_111" TargetMode="External"/><Relationship Id="rId3" Type="http://schemas.openxmlformats.org/officeDocument/2006/relationships/hyperlink" Target="http://ru.wikipedia.org/wiki/&#1043;&#1077;&#1088;&#1084;&#1072;&#1085;&#1080;&#1103;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142920" y="500040"/>
            <a:ext cx="8715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F:\0_56076_285bfbe1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6"/>
          <p:cNvSpPr/>
          <p:nvPr/>
        </p:nvSpPr>
        <p:spPr>
          <a:xfrm>
            <a:off x="428760" y="285840"/>
            <a:ext cx="764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рдовия в годы Великой Отечественной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4552920" y="-219240"/>
            <a:ext cx="4230720" cy="63709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IMG_0493.JPG"/>
          <p:cNvPicPr/>
          <p:nvPr/>
        </p:nvPicPr>
        <p:blipFill>
          <a:blip r:embed="rId2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360" y="1341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Родина внесла свой посильный вклад в дело победы над фашистам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и земляки воевали не только на фронтах Великой Отечественной войны, они делали очень много для победы и в тылу. На территории нашей Республики Мордовия не  было боёв, но женщины и дети внесли огромный вклад: на заводах изготавливали боеприпасы , в госпиталях лечили раненых, помогая им быстрее вернуться в строй; на полях выращивали хлеб и кок-сагыз(растения из сока которого изготавливали каучук для производства резины, которая шла на нужды фронта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горжусь, что родился и живу в Мордовии, славной своей историей и богатой великими подвигами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341280" y="-79200"/>
            <a:ext cx="8352000" cy="1353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IMG_0495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206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000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я всегда интересовала история моей Роди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очень хочется узнать больше о своих предках. Я думаю, что  и мои земляки – уроженцы Мордовии, всегда  были вместе со всей страной,  и в тяжелые годы испытаний – Великой Отечественной войне  (1941 - 1945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всегда со своими родителями бываю на Параде Победы – 9 мая, вижу участников войны, иногда разговариваю с ними, дарю цветы. Я думаю, что среди  моих земляков есть и такие, которые стали Героями своей страны, имеют ордена и медал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5280" y="2276280"/>
            <a:ext cx="829152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 материалы  по  теме. Побывать в Музее Боевой Славы. Узнать о жизни жителей  Мордовии в годы  В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своих одноклассников  с  некоторыми фактами военной биографии наших земляк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ыть тем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ыскать наиболее интересные факт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сти  итоги своей работ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92160" y="146160"/>
            <a:ext cx="86011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142880" y="571680"/>
            <a:ext cx="45910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22 июня... В этот день невольно вспоминается уже далекая война. Трудные годы 1941-1945г.г. Кровь и боль, горечь потерь и поражений, гибель родных людей, тяжелый труд… Весь народ - и стар, и млад, встали на защиту своей Роди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9 мая - День Победы нашей страны, победившей фашизм. Не все вернулись с дымных полей войны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Рисунок 3" descr="IMG_0500.JPG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151920"/>
            <a:ext cx="811512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ecb95"/>
                </a:solidFill>
                <a:latin typeface="Times New Roman"/>
                <a:ea typeface="Times New Roman"/>
              </a:rPr>
              <a:t>Вклад моих земляков в победу</a:t>
            </a:r>
            <a:r>
              <a:rPr b="0" lang="ru-RU" sz="2800" spc="-1" strike="noStrike">
                <a:solidFill>
                  <a:srgbClr val="becb95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9" name="Содержимое 4" descr="devetaev-1.jpg"/>
          <p:cNvPicPr/>
          <p:nvPr/>
        </p:nvPicPr>
        <p:blipFill>
          <a:blip r:embed="rId1"/>
          <a:stretch/>
        </p:blipFill>
        <p:spPr>
          <a:xfrm>
            <a:off x="642960" y="1571760"/>
            <a:ext cx="3500280" cy="4357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647960" y="928440"/>
            <a:ext cx="40590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Мужчины Мордовии уходили на фронт целыми семьями, и сегодня их могилы разбросаны по всей Европе. Особенно много их погибло в1941-1942 гг. Они воевали в Польше и Венгрии, Румынии и Болгарии, брали Берлин. А до этого многие из них защищали Москву, сражались на Курской дуге и под Сталинградом, освобождали от блокады Ленинград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Очень многие  мои земляки за проявленные мужество и героизм были награждены орденами и медалями, многие стали Героями Советского Союза. Среди них</a:t>
            </a:r>
            <a:r>
              <a:rPr b="0" lang="en-US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гвардии старший лейтенант, лётчик-истребитель</a:t>
            </a:r>
            <a:r>
              <a:rPr b="0" lang="en-US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Михаил Петрович Девятаев. Его подвиг стал известен всей стране….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Он мордвин. Он был у матери тринадцатым ребенком. В 1934 году в мордовский поселок Торбеево прилетел самолет – забрать больного. Михаилу было шестнадцать лет. Вид самолета на поле, короткий разговор с летчиком поселили в юной душе мечту. Школа окончена. Матери он сказал: «Еду в Казань. Вернусь летчиком».Путей в летчики сразу найти не мог, определился в речной техникум. И окончил его успешно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Содержимое 4" descr="heinkel.jpg"/>
          <p:cNvPicPr/>
          <p:nvPr/>
        </p:nvPicPr>
        <p:blipFill>
          <a:blip r:embed="rId1"/>
          <a:stretch/>
        </p:blipFill>
        <p:spPr>
          <a:xfrm>
            <a:off x="285840" y="1000080"/>
            <a:ext cx="4214880" cy="4857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00360" y="142560"/>
            <a:ext cx="4206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Одновременно учился в аэроклубе. Потом военное училище. В 1939 году он явился в родное Торбеево лейтенантом: «Мама, я – летчик!». Война застала его под Минском. Уже 23 июня Михаил Девятаев участвовал в воздушном бою. 24 июня он сбил вражеский самолет. К лету 44-го года он сбил девять вражеских самолетов. Пять раз сбивали его. У него были прострелены рука и нога. Лежал в госпитале. Снова вернулся на самолет. Полтора года из-за ранений летал на «кукурузнике», но потом добился возвращения в истребительный полк. К 1944 году летчик Девятаев был награжден тремя боевыми орденами. День 13 июля  1944 года был переломным в его военной судьбе. Накануне наступления под Львовом он сопровождал бомбардировщиков, сделал за день три боевых вылета. Уже на заходе солнца поднялся в четвертый раз навстречу летевшим «Юнкерсам». Он не заметил, как из-за облака вынырнул «Мессершмитт»... Машина словно споткнулась. В кабине – дым, перед глазами – языки пламени... Со стороны безнадежность его положения была, наверное, особенно ясной. «Мордвин, прыгай!» «Мордвин» – позывной Девятаева. «Миша, приказываю!» – это был голос его командира... Бой шел за линией Фронта. Прыгая из самолета, который вот-вот взорвется, Михаил ударился о хвостовой стабилизатор и приземленья на парашюте уже не помнил. Очнулся в землянке среди летчиков. Но речь – чужая… Это был плен.  Бежать! Бежать во что бы то ни стало... Попытка к побегу каралась немедленной смертью. И все-таки несколько человек, тщательно присмотревшись друг к другу, решились. Надежда вырваться на свободу была у всех связана с самолетом. 8 февраля 1945 года</a:t>
            </a: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группа советских военнопленных из 10 человек захватила немецкий бомбардировщик </a:t>
            </a:r>
            <a:r>
              <a:rPr b="0" lang="ru-RU" sz="12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2"/>
              </a:rPr>
              <a:t>HeinkelHe 111 H-22</a:t>
            </a:r>
            <a:r>
              <a:rPr b="0" lang="ru-RU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и совершила на нём побег из концлагеря на острове Узедом (</a:t>
            </a:r>
            <a:r>
              <a:rPr b="0" lang="ru-RU" sz="12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3"/>
              </a:rPr>
              <a:t>Германия</a:t>
            </a:r>
            <a:r>
              <a:rPr b="0" lang="ru-RU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). Пилотировал его Девятаев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Так воевали мои земляки, защищая свой отчий дом, родной край и всю страну. Они нежно любили свою малую родину и надеялись вернуться с победой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9084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4" descr="K9VOeVnnCX.jpg"/>
          <p:cNvPicPr/>
          <p:nvPr/>
        </p:nvPicPr>
        <p:blipFill>
          <a:blip r:embed="rId2"/>
          <a:stretch/>
        </p:blipFill>
        <p:spPr>
          <a:xfrm>
            <a:off x="457200" y="1143000"/>
            <a:ext cx="4059360" cy="2571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Говоря о героических делах народа в годы войны, особенно хочется сказать о трудовых подвигах женщин. В первые дни войны, преодолевая огромные трудности, они заменили своих мужей, отцов и братьев, осваивали их специальности. Их труд золотыми буквами вписан в героическую летопись истории нашей Родин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31 декабря 1941 года взрыв на Механическом заводе в Саранске унес жизни тринадцати молодых девушек, работавших в цеху по изготовлению боеприпасов. Тогда об этой трагедии говорили мало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Имена погибших долгие годы оставались забытыми, поскольку большинство из них были уроженками Ленинграда, эвакуированными в Мордовию в годы войны. Их похоронили в братской могиле на городском кладбище около телецентра. Однако памятник был установлен только одной – Нине Лысовой, о чём позаботилась её родная сестра. А за безымянной братской могилой долгие годы, увы, вообще никто не ухаживал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20840" y="146160"/>
            <a:ext cx="8242200" cy="86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F:\war_11.jpg"/>
          <p:cNvPicPr/>
          <p:nvPr/>
        </p:nvPicPr>
        <p:blipFill>
          <a:blip r:embed="rId2"/>
          <a:stretch/>
        </p:blipFill>
        <p:spPr>
          <a:xfrm>
            <a:off x="5072040" y="1285920"/>
            <a:ext cx="3857760" cy="428616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6"/>
          <p:cNvSpPr/>
          <p:nvPr/>
        </p:nvSpPr>
        <p:spPr>
          <a:xfrm>
            <a:off x="571680" y="1071720"/>
            <a:ext cx="4286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Рядом со старшими братьями и сестрами трудились и школьники, их посылали туда, где нужна была помощь старшим. Тяжелой ношей легли на детские плечи заботы трудового фронта. И по истине огромными были нормы выработки на полях, где трудились мальчишки и девчонки, тысячи гектаров скошенного хлеба, тысячи связанных снопов, тысячи намолоченного зер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Несмотря на тяжелые условия, в которых жили дети: голод, холод им приходилось вставать чуть свет, идти помогать своим мамам, сестрам, бабушкам, дедушкам, они, дети, понимали, что без их помощи в тылу просто не обойтись. Я не могу себе представить, что дети совершили такой подвиг. Я просто удивляюсь, откуда у женщин брались силы работать в голод и холод, ухаживать за своими детьми, отправлять письма и посылки на фрон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643280" y="285480"/>
            <a:ext cx="40593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>
              <a:lnSpc>
                <a:spcPct val="80000"/>
              </a:lnSpc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В годы войны на полях Мордовии для производства резины для нужд фронта выращивали кок-сагыз – цветы, похожие на одуванчик. Если на стебле такого цветка сделать надрез, то из него начинает вытекать белый сок. Этот сок постепенно густеет и превращается в резину, из которой можно делать мячи, калоши, колеса. Колхозы военного времени в Мордовии на больших площадях выращивали кок-сагыз, особенно в Атяшевском районе который за свое плодородие называли  «мордовской Кубанью». Об этом напоминают и заголовки в подшивке районной газеты тех лет: «Больше внимания кок-сагызу!», «Больше стратегического сырья нашей промышленности!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449280">
              <a:lnSpc>
                <a:spcPct val="80000"/>
              </a:lnSpc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e5ca"/>
                </a:solidFill>
                <a:latin typeface="Times New Roman"/>
                <a:ea typeface="Times New Roman"/>
              </a:rPr>
              <a:t>Я горжусь, что мои земляки делали все, что могли для победы в тылу и на фронте. Несмотря на суровые условия, жители Мордовии  внесли большой вклад своим трудом в победу над враго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4492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F:\image8880024.jpg"/>
          <p:cNvPicPr/>
          <p:nvPr/>
        </p:nvPicPr>
        <p:blipFill>
          <a:blip r:embed="rId1"/>
          <a:stretch/>
        </p:blipFill>
        <p:spPr>
          <a:xfrm>
            <a:off x="324000" y="714240"/>
            <a:ext cx="3890880" cy="5429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9:05:27Z</dcterms:created>
  <dc:creator>USER</dc:creator>
  <dc:description/>
  <dc:language>en-US</dc:language>
  <cp:lastModifiedBy>пользователь</cp:lastModifiedBy>
  <dcterms:modified xsi:type="dcterms:W3CDTF">2013-02-12T08:26:17Z</dcterms:modified>
  <cp:revision>30</cp:revision>
  <dc:subject/>
  <dc:title>Слайд 1</dc:title>
</cp:coreProperties>
</file>