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4C2-A215-4B47-BBDA-3E5E114F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30B-D5AC-4BF9-A2B0-305B0A4C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02C56-289C-4F63-970B-E6075BFF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74B11-3C51-481B-895F-CB4B17B6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70B13-C9CF-4E07-9BCB-2AAD1735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DF0BF-09E3-41C9-90E0-481E66A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08F4C-263D-4E18-AD17-B23A555E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4E9F3-B8BF-4F37-B37F-3566473B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40558-D177-4D2E-AE7C-8F30E2AD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1737C-1A54-4AAD-A983-FF9706FA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5EFE8-4346-4FD4-83E1-F9617391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E9335-7E49-47F8-A9B4-D8DDC64C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B0D-8B1C-431E-9722-E61B5948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2FB3F-E943-474D-8158-8748D2E0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3F613-F1E6-4862-A483-F248CA0D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D3450-9365-4E18-BEDC-30F2B5C6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C7FE5-BDE3-4AC8-8D1C-EFCFFF66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E6C8B-D9EC-4569-A626-53399596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98F29-863D-41CB-B58C-C1D1BEFC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863A5-1F2C-4E78-9BDB-B672C816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68E83-4346-40BD-8DDE-5338AB1D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0D33F-3DC9-4EE6-923C-29CE9F93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E2BF2-AB03-4FB7-8BB8-91CDD6C9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325-4FFA-495C-B0A5-DDA0A206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53F2B-5502-47CE-8E42-9F395E49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E909C-2B40-4A36-B8F5-FDDF804E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526AB-163A-43A4-8771-02247CCC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745D7-69A2-445A-860D-44929231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AD110-42AF-4C96-A6D5-2AC7FA89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0289B-DBC9-4799-AB43-E2DA4825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F095E-755D-41E1-95AE-009A1E8B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E1715-B437-46FE-835F-81C5ABE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C2DC7-E681-4ED5-B3AD-31C0306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A608C-2227-41AD-9A1F-9A52A48E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4CEF-F1AF-4FCC-BF77-0F5D9042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B05EF-7921-45F1-9BE1-E735F63C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D3A26-9E4E-4221-89A0-5F624EC0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F0679-128C-44B8-BE33-76142956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D6C94-8A66-43E6-AB17-15B797B1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5FB95-CFC2-4C60-87DF-1A4EFEEE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CDAEB-92BB-42D9-BE2E-923A4DA7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C7588-6139-47DA-9B1D-4EB7F8DA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02CD8-CC0B-4BDB-B41A-01A707FD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18992-7533-4F15-923C-4F0A1B48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B4526-DF19-496D-B594-C8BCC7C7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0D9C-9685-44F9-B8E1-16CEC2AC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D1CA8-C91C-430D-92E0-BFD3069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CB84F-3765-4482-9423-9A90EA8B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926FE-EDB0-429D-B840-5E44E64C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9F4F0-8A33-4E81-A705-AB4B750B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9D8F5-58A9-4B46-9A6F-C9A68A02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6E6E2-9905-407B-ABAF-BB3B710A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FB5E7-A743-4159-99B7-9EBE990D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5DF9B-9119-46B7-A545-3E53F2E1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CA312-61E1-4128-ACE6-9828C208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A7471-1026-4994-AD68-ED608326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8527-5070-4C9D-84C4-8AC8F6E8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D0990-0C7C-4F31-B49B-AB9D5257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B3C0B-D61A-42ED-B971-85DD11E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CCDBC-2A86-4A84-8C07-39769F25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F75E7-F8DB-422D-B3CE-4F07EDC2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F04F9-7FF5-4C36-8586-EA901628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A0BB9-4D81-4F62-ABBA-A893FA95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38995-C4B0-45E8-9732-60953F6D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C11A-BBDA-4E4A-B485-BD6464CF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9520-7DE4-49C8-8EA1-AFA9CAA3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F642-6AB0-448B-8638-4F9AF15D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9A1E-67EA-48C7-B4F0-B2734FB8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0F7-9F94-462C-8904-A877EC4D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4BC9-6B64-4EB5-9BF9-2340240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8490-CA5D-4CEE-B78B-B2A8D3CD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4391-20C8-422A-8757-FA39472D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D646-3AB5-435B-AF42-45DA9206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2076-BD40-449D-BC4D-D0E298C5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16F9-93E0-4067-9B06-15533421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43DE-F503-4171-842D-5E3F0627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01E52-CB26-4074-BFE4-C7063F5F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22A6A-93BD-4A6C-9B57-C131EBD1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E063-FDD5-4120-9CCC-604BB9EF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874-F4F3-4D4C-93E2-04955449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A759-5C14-4137-9D25-264DC5DA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6D6D-C0DB-4B63-A724-415CE658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641D-C12F-4DD8-AFCD-8596BD55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CB914-832B-479C-9071-AEFE887A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29F4-91E5-4EA7-937D-1E3961DD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2928E-E3BA-4495-9833-F5BA859B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7BCE2-F201-4823-B966-EDB0F295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7C27-A8EF-41BA-8F65-C976BCD2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9B38-D5BA-4FD4-A848-11AFD091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3A1E-5797-43E5-9A98-EE02A381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2A0-72C5-4413-AE1F-8EA75732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DF85-0FE4-4A6C-8A90-AED28DA8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C388-F14A-4515-926B-792A9AB2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48414-D1FF-43BF-BC47-B55A9125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7C09-3965-4B8A-AE0C-931574EA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2966-BC4A-486F-9379-11E1EBFF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C5F1A-F18F-46F9-AF20-F055C7E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4FF9-CBCA-432F-A9A5-1585E43F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7B84-A138-4B18-B263-1A3DE55F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ABBF-B49C-40DC-ADE1-D3998F6A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C501E-CA8E-4C87-B8A0-B27C0C70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4B1-ACB7-43C0-9C6F-3D7998B9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DAB7B-4995-48BF-9288-5AC68FA2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3A56E-8D06-4CEA-9DED-1EBFFA57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188A-2BC8-4504-89E6-2ADFAC03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4D348-613C-420F-A577-2E3A0EB8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1AE4-D05C-4EA5-8766-81B74467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7F494-9934-4AE5-9D96-C6CC20B7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0D1A1-D4A5-4D8F-BA50-8199CBA1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C43B4-35D7-4A86-B0C1-0C3EC108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54112-CE49-45B9-803A-D809A119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81687-3C4B-453F-8F13-71C17A43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EE0-85CC-48F8-995A-D7942C94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CFAF1-22CA-4634-836E-81DF06D3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390A1-B539-4DCF-A35B-5D3E33B6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EE0DA-BB6D-4BC4-ADCF-D7E6662C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FC79-2E7B-46C6-AC0F-2ACC334B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52D1B-AF37-47D0-B1FE-ECE40156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9532-735E-422B-891A-7BE83857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A1B67-8E6D-47D6-927B-BA085FB9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F62ED-D38B-4DE4-AE2E-0FE23297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03F4-489F-46C5-AD4B-04E48660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3533A-BBBD-4CC8-9C36-F6282F94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C09-0197-481D-BEA3-4DE2CB39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5F6F0-7E2E-4DCE-A633-BA9E2365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402C-65CD-401A-84FB-D2A4BFD8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DE68-EE91-4097-B271-F7555474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4790C-889F-4C2B-B8ED-B115B01A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688EE-5827-47F6-A863-F5A98B89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986D6-2B68-4A92-A738-A44F64D5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ACC14-E23B-47DC-97F7-C6CEF9FF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FE67B-815C-4B00-AEE8-C8DED83E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93639-04D0-4DEE-9C56-C7B86AE7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62BFF-2663-4D62-AA77-A6F83102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B98-7D91-48F1-8A50-73507179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CFDF3-6BC8-4CAA-8D1C-C2B6403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84413-CFBF-486D-9058-B6B9BBF0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E9AFC-6B75-4454-A755-FFB726B2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50E80-AEFB-4E74-BD54-BF59C245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7FB9B-1BD1-417C-913D-B12ACA36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0840B-5F5F-44A4-B420-D7FE95D7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A0620-BFDA-4176-86C9-D9397E86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869EF-62D4-42A8-A7F1-E5716A1F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6BAE0-7EFD-4281-BC71-D8BB8F96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21D7D-136D-41C8-B575-112129C8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019-11B0-45EF-826F-FEF387CE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23A2E-4D7D-41F6-B5B5-2BA6698F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45023-6230-4CE9-9FFA-876C591D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5DD69-4136-43B4-93AD-D25C223B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8DCCD-88F8-43C5-8B6A-38DBD966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9845D-26DF-4F0B-91C8-D92BDFC1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9E4D4-0203-458A-BBFB-524861F7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C775D-13F6-461B-A7A7-A58DA4C4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63CCB-F893-4549-8E70-BD068BA3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04353-0C3C-4B8C-B15E-240C2558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A7AF0-A38A-497E-80BF-748384F5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4551-D951-4806-8FE4-740260AF245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35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8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9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CEED-6248-4117-9799-8DDEC44FE2C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91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1082-C7ED-46C7-8CDD-4AEF5572411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747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4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D87F-1A2D-4C97-BD36-CBE04673202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7AA1-CB0C-4262-9EAC-5D80211FC4B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6"/>
          <p:cNvGrpSpPr/>
          <p:nvPr/>
        </p:nvGrpSpPr>
        <p:grpSpPr>
          <a:xfrm>
            <a:off x="685800" y="-360"/>
            <a:ext cx="8001000" cy="7950600"/>
            <a:chOff x="685800" y="-360"/>
            <a:chExt cx="8001000" cy="7950600"/>
          </a:xfrm>
        </p:grpSpPr>
        <p:sp>
          <p:nvSpPr>
            <p:cNvPr id="74" name="Pie 7"/>
            <p:cNvSpPr/>
            <p:nvPr/>
          </p:nvSpPr>
          <p:spPr>
            <a:xfrm flipH="1" flipV="1">
              <a:off x="1256760" y="5778720"/>
              <a:ext cx="2171520" cy="2171520"/>
            </a:xfrm>
            <a:custGeom>
              <a:avLst/>
              <a:gdLst>
                <a:gd name="textAreaLeft" fmla="*/ 317880 w 2171520"/>
                <a:gd name="textAreaRight" fmla="*/ 1853640 w 2171520"/>
                <a:gd name="textAreaTop" fmla="*/ 317880 h 2171520"/>
                <a:gd name="textAreaBottom" fmla="*/ 1853640 h 2171520"/>
              </a:gdLst>
              <a:ahLst/>
              <a:rect l="textAreaLeft" t="textAreaTop" r="textAreaRight" b="textAreaBottom"/>
              <a:pathLst>
                <a:path w="2171701" h="2171700">
                  <a:moveTo>
                    <a:pt x="2171701" y="1085850"/>
                  </a:moveTo>
                  <a:lnTo>
                    <a:pt x="2171701" y="1085850"/>
                  </a:lnTo>
                  <a:arcTo wR="1085851" hR="1085850" stAng="0" swAng="10800003"/>
                  <a:lnTo>
                    <a:pt x="1085851" y="1085850"/>
                  </a:lnTo>
                  <a:close/>
                </a:path>
              </a:pathLst>
            </a:cu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-360"/>
              <a:ext cx="8001000" cy="6856200"/>
              <a:chOff x="685800" y="-360"/>
              <a:chExt cx="8001000" cy="6856200"/>
            </a:xfrm>
          </p:grpSpPr>
          <p:sp>
            <p:nvSpPr>
              <p:cNvPr id="76" name="Freeform 9"/>
              <p:cNvSpPr/>
              <p:nvPr/>
            </p:nvSpPr>
            <p:spPr>
              <a:xfrm>
                <a:off x="685800" y="5879880"/>
                <a:ext cx="1143000" cy="97596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Oval 10"/>
              <p:cNvSpPr/>
              <p:nvPr/>
            </p:nvSpPr>
            <p:spPr>
              <a:xfrm>
                <a:off x="2590560" y="5181120"/>
                <a:ext cx="914400" cy="914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Oval 11"/>
              <p:cNvSpPr/>
              <p:nvPr/>
            </p:nvSpPr>
            <p:spPr>
              <a:xfrm>
                <a:off x="838080" y="5790960"/>
                <a:ext cx="457200" cy="4568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Oval 12"/>
              <p:cNvSpPr/>
              <p:nvPr/>
            </p:nvSpPr>
            <p:spPr>
              <a:xfrm>
                <a:off x="2361960" y="594324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1676160" y="5625720"/>
                <a:ext cx="457200" cy="4568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1981080" y="533376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1942920" y="556236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2361960" y="502884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009960" y="441936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2971800" y="464796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3314520" y="472392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3619440" y="502884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Oval 21"/>
              <p:cNvSpPr/>
              <p:nvPr/>
            </p:nvSpPr>
            <p:spPr>
              <a:xfrm>
                <a:off x="1384200" y="548604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Oval 22"/>
              <p:cNvSpPr/>
              <p:nvPr/>
            </p:nvSpPr>
            <p:spPr>
              <a:xfrm>
                <a:off x="3505320" y="525744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Oval 23"/>
              <p:cNvSpPr/>
              <p:nvPr/>
            </p:nvSpPr>
            <p:spPr>
              <a:xfrm>
                <a:off x="1295280" y="566388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Oval 24"/>
              <p:cNvSpPr/>
              <p:nvPr/>
            </p:nvSpPr>
            <p:spPr>
              <a:xfrm>
                <a:off x="1447560" y="551160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Oval 25"/>
              <p:cNvSpPr/>
              <p:nvPr/>
            </p:nvSpPr>
            <p:spPr>
              <a:xfrm>
                <a:off x="1600200" y="548604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Oval 26"/>
              <p:cNvSpPr/>
              <p:nvPr/>
            </p:nvSpPr>
            <p:spPr>
              <a:xfrm>
                <a:off x="3352680" y="594324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Freeform 27"/>
              <p:cNvSpPr/>
              <p:nvPr/>
            </p:nvSpPr>
            <p:spPr>
              <a:xfrm flipV="1">
                <a:off x="5486400" y="-720"/>
                <a:ext cx="1143000" cy="97596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Oval 28"/>
              <p:cNvSpPr/>
              <p:nvPr/>
            </p:nvSpPr>
            <p:spPr>
              <a:xfrm flipV="1">
                <a:off x="7391520" y="759600"/>
                <a:ext cx="914400" cy="914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Oval 29"/>
              <p:cNvSpPr/>
              <p:nvPr/>
            </p:nvSpPr>
            <p:spPr>
              <a:xfrm flipV="1">
                <a:off x="5638680" y="60696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Oval 30"/>
              <p:cNvSpPr/>
              <p:nvPr/>
            </p:nvSpPr>
            <p:spPr>
              <a:xfrm flipV="1">
                <a:off x="7162920" y="1501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Oval 31"/>
              <p:cNvSpPr/>
              <p:nvPr/>
            </p:nvSpPr>
            <p:spPr>
              <a:xfrm flipV="1">
                <a:off x="6477120" y="77220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Oval 32"/>
              <p:cNvSpPr/>
              <p:nvPr/>
            </p:nvSpPr>
            <p:spPr>
              <a:xfrm flipV="1">
                <a:off x="6782040" y="116604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Oval 33"/>
              <p:cNvSpPr/>
              <p:nvPr/>
            </p:nvSpPr>
            <p:spPr>
              <a:xfrm flipV="1">
                <a:off x="6743880" y="8611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Oval 34"/>
              <p:cNvSpPr/>
              <p:nvPr/>
            </p:nvSpPr>
            <p:spPr>
              <a:xfrm flipV="1">
                <a:off x="7162920" y="106488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35"/>
              <p:cNvSpPr/>
              <p:nvPr/>
            </p:nvSpPr>
            <p:spPr>
              <a:xfrm flipV="1">
                <a:off x="7810560" y="208008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Oval 36"/>
              <p:cNvSpPr/>
              <p:nvPr/>
            </p:nvSpPr>
            <p:spPr>
              <a:xfrm flipV="1">
                <a:off x="7772400" y="17755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Oval 37"/>
              <p:cNvSpPr/>
              <p:nvPr/>
            </p:nvSpPr>
            <p:spPr>
              <a:xfrm flipV="1">
                <a:off x="8115480" y="192852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Oval 38"/>
              <p:cNvSpPr/>
              <p:nvPr/>
            </p:nvSpPr>
            <p:spPr>
              <a:xfrm flipV="1">
                <a:off x="8420400" y="16239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Oval 39"/>
              <p:cNvSpPr/>
              <p:nvPr/>
            </p:nvSpPr>
            <p:spPr>
              <a:xfrm flipV="1">
                <a:off x="6184800" y="124272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Oval 40"/>
              <p:cNvSpPr/>
              <p:nvPr/>
            </p:nvSpPr>
            <p:spPr>
              <a:xfrm flipV="1">
                <a:off x="8305920" y="13953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Oval 41"/>
              <p:cNvSpPr/>
              <p:nvPr/>
            </p:nvSpPr>
            <p:spPr>
              <a:xfrm flipV="1">
                <a:off x="6096240" y="106488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Oval 42"/>
              <p:cNvSpPr/>
              <p:nvPr/>
            </p:nvSpPr>
            <p:spPr>
              <a:xfrm flipV="1">
                <a:off x="6248520" y="1217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43"/>
              <p:cNvSpPr/>
              <p:nvPr/>
            </p:nvSpPr>
            <p:spPr>
              <a:xfrm flipV="1">
                <a:off x="6400800" y="124272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44"/>
              <p:cNvSpPr/>
              <p:nvPr/>
            </p:nvSpPr>
            <p:spPr>
              <a:xfrm flipV="1">
                <a:off x="8153640" y="3783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Oval 45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Oval 46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Oval 47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83D9-C8F6-472C-9C16-B0489E11B7F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0788-DF76-49EB-B8AC-3BA3D257208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6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230" name="Oval 7"/>
            <p:cNvSpPr/>
            <p:nvPr/>
          </p:nvSpPr>
          <p:spPr>
            <a:xfrm>
              <a:off x="624996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Oval 8"/>
            <p:cNvSpPr/>
            <p:nvPr/>
          </p:nvSpPr>
          <p:spPr>
            <a:xfrm>
              <a:off x="5513040" y="5048280"/>
              <a:ext cx="1103400" cy="11030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Oval 9"/>
            <p:cNvSpPr/>
            <p:nvPr/>
          </p:nvSpPr>
          <p:spPr>
            <a:xfrm>
              <a:off x="624996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Oval 10"/>
            <p:cNvSpPr/>
            <p:nvPr/>
          </p:nvSpPr>
          <p:spPr>
            <a:xfrm>
              <a:off x="615780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Oval 11"/>
            <p:cNvSpPr/>
            <p:nvPr/>
          </p:nvSpPr>
          <p:spPr>
            <a:xfrm>
              <a:off x="5697360" y="2133720"/>
              <a:ext cx="1839960" cy="1839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707724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4806720" y="471024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Oval 18"/>
            <p:cNvSpPr/>
            <p:nvPr/>
          </p:nvSpPr>
          <p:spPr>
            <a:xfrm>
              <a:off x="459252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Oval 19"/>
            <p:cNvSpPr/>
            <p:nvPr/>
          </p:nvSpPr>
          <p:spPr>
            <a:xfrm>
              <a:off x="496080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Oval 20"/>
            <p:cNvSpPr/>
            <p:nvPr/>
          </p:nvSpPr>
          <p:spPr>
            <a:xfrm>
              <a:off x="5329080" y="47102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609480" y="990360"/>
            <a:ext cx="1179720" cy="1357560"/>
            <a:chOff x="609480" y="990360"/>
            <a:chExt cx="1179720" cy="1357560"/>
          </a:xfrm>
        </p:grpSpPr>
        <p:sp>
          <p:nvSpPr>
            <p:cNvPr id="241" name="Oval 22"/>
            <p:cNvSpPr/>
            <p:nvPr/>
          </p:nvSpPr>
          <p:spPr>
            <a:xfrm>
              <a:off x="898200" y="1457280"/>
              <a:ext cx="891000" cy="8906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Oval 25"/>
            <p:cNvSpPr/>
            <p:nvPr/>
          </p:nvSpPr>
          <p:spPr>
            <a:xfrm flipV="1">
              <a:off x="647280" y="1294560"/>
              <a:ext cx="355680" cy="355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 flipV="1">
              <a:off x="609480" y="990000"/>
              <a:ext cx="432000" cy="4316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2FDE-374A-4AB1-BBEE-E839B1ED69A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BF94-F286-469F-B9C1-439B654E439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ADA2-8B2B-45A0-A310-D2EB5634936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F820-6ABA-4FE3-96D8-06E6BE520A4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6C0E-A916-4B02-98E2-48AFD70475C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579" name="Oval 9"/>
            <p:cNvSpPr/>
            <p:nvPr/>
          </p:nvSpPr>
          <p:spPr>
            <a:xfrm>
              <a:off x="4695840" y="5048280"/>
              <a:ext cx="110484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7066080" y="457200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Oval 11"/>
            <p:cNvSpPr/>
            <p:nvPr/>
          </p:nvSpPr>
          <p:spPr>
            <a:xfrm>
              <a:off x="5340240" y="48960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Oval 12"/>
            <p:cNvSpPr/>
            <p:nvPr/>
          </p:nvSpPr>
          <p:spPr>
            <a:xfrm>
              <a:off x="6694560" y="3048120"/>
              <a:ext cx="1839960" cy="18414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Oval 13"/>
            <p:cNvSpPr/>
            <p:nvPr/>
          </p:nvSpPr>
          <p:spPr>
            <a:xfrm>
              <a:off x="791712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Oval 14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Oval 17"/>
            <p:cNvSpPr/>
            <p:nvPr/>
          </p:nvSpPr>
          <p:spPr>
            <a:xfrm>
              <a:off x="6551640" y="512136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Oval 19"/>
            <p:cNvSpPr/>
            <p:nvPr/>
          </p:nvSpPr>
          <p:spPr>
            <a:xfrm>
              <a:off x="6781680" y="556272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Oval 20"/>
            <p:cNvSpPr/>
            <p:nvPr/>
          </p:nvSpPr>
          <p:spPr>
            <a:xfrm>
              <a:off x="6705720" y="5181840"/>
              <a:ext cx="306360" cy="3078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Oval 21"/>
            <p:cNvSpPr/>
            <p:nvPr/>
          </p:nvSpPr>
          <p:spPr>
            <a:xfrm>
              <a:off x="7074000" y="512136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0" name="Oval 24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Oval 25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4F9D-78F5-476D-8246-C4E6BACAEA8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Rectangle 2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854280"/>
          </a:xfrm>
          <a:prstGeom prst="rect">
            <a:avLst/>
          </a:prstGeom>
          <a:ln w="0">
            <a:noFill/>
          </a:ln>
        </p:spPr>
      </p:pic>
      <p:pic>
        <p:nvPicPr>
          <p:cNvPr id="876" name="Rectangle 3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3273480" y="2846520"/>
            <a:ext cx="5877000" cy="1858680"/>
          </a:xfrm>
          <a:prstGeom prst="rect">
            <a:avLst/>
          </a:prstGeom>
          <a:ln w="0">
            <a:noFill/>
          </a:ln>
        </p:spPr>
      </p:pic>
      <p:sp>
        <p:nvSpPr>
          <p:cNvPr id="877" name="WordArt 4"/>
          <p:cNvSpPr txBox="1"/>
          <p:nvPr/>
        </p:nvSpPr>
        <p:spPr>
          <a:xfrm>
            <a:off x="1066680" y="1523880"/>
            <a:ext cx="67820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ДОРОВЬ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 ДЕТ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78" name="Rectangle 5"/>
          <p:cNvSpPr/>
          <p:nvPr/>
        </p:nvSpPr>
        <p:spPr>
          <a:xfrm>
            <a:off x="609480" y="5029200"/>
            <a:ext cx="853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втор – составитель: инструктор по физической культу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ДОУ ДСКВ №1 «Сказк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нтипина  Марина Валерье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. Мегио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01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Rectangle 3" descr="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  <p:pic>
        <p:nvPicPr>
          <p:cNvPr id="880" name="Прямоугольник 6" descr=""/>
          <p:cNvPicPr/>
          <p:nvPr/>
        </p:nvPicPr>
        <p:blipFill>
          <a:blip r:embed="rId2"/>
          <a:stretch/>
        </p:blipFill>
        <p:spPr>
          <a:xfrm>
            <a:off x="822240" y="444600"/>
            <a:ext cx="7139160" cy="168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Rectangle 2" descr=""/>
          <p:cNvPicPr/>
          <p:nvPr/>
        </p:nvPicPr>
        <p:blipFill>
          <a:blip r:embed="rId1"/>
          <a:stretch/>
        </p:blipFill>
        <p:spPr>
          <a:xfrm>
            <a:off x="2084400" y="30240"/>
            <a:ext cx="7066080" cy="134784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 txBox="1"/>
          <p:nvPr/>
        </p:nvSpPr>
        <p:spPr>
          <a:xfrm>
            <a:off x="2180160" y="446040"/>
            <a:ext cx="5011560" cy="215532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3" name="Солнце 5"/>
          <p:cNvSpPr/>
          <p:nvPr/>
        </p:nvSpPr>
        <p:spPr>
          <a:xfrm>
            <a:off x="914400" y="14479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Солнце 6"/>
          <p:cNvSpPr/>
          <p:nvPr/>
        </p:nvSpPr>
        <p:spPr>
          <a:xfrm>
            <a:off x="914400" y="251460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Солнце 7"/>
          <p:cNvSpPr/>
          <p:nvPr/>
        </p:nvSpPr>
        <p:spPr>
          <a:xfrm>
            <a:off x="914400" y="3581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Солнце 8"/>
          <p:cNvSpPr/>
          <p:nvPr/>
        </p:nvSpPr>
        <p:spPr>
          <a:xfrm>
            <a:off x="914400" y="4724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Солнце 9"/>
          <p:cNvSpPr/>
          <p:nvPr/>
        </p:nvSpPr>
        <p:spPr>
          <a:xfrm>
            <a:off x="914400" y="571500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Прямоугольник 10"/>
          <p:cNvSpPr/>
          <p:nvPr/>
        </p:nvSpPr>
        <p:spPr>
          <a:xfrm>
            <a:off x="2057400" y="1295280"/>
            <a:ext cx="6400800" cy="106704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ствовать улучшению физического развития, стимулировать работу органов и систем, нормализовать протекание нервных процессов, повысить эмоциональное состояние детей 5-7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Прямоугольник 11"/>
          <p:cNvSpPr/>
          <p:nvPr/>
        </p:nvSpPr>
        <p:spPr>
          <a:xfrm>
            <a:off x="2057400" y="2438280"/>
            <a:ext cx="6400800" cy="106704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ботать  силовую и общую выносливость мышц туловища, укрепить мышечный «корсет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Прямоугольник 12"/>
          <p:cNvSpPr/>
          <p:nvPr/>
        </p:nvSpPr>
        <p:spPr>
          <a:xfrm>
            <a:off x="2057400" y="3505320"/>
            <a:ext cx="6400800" cy="106668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ть и закрепить навык правильной осан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Прямоугольник 13"/>
          <p:cNvSpPr/>
          <p:nvPr/>
        </p:nvSpPr>
        <p:spPr>
          <a:xfrm>
            <a:off x="2057400" y="4648320"/>
            <a:ext cx="6400800" cy="106668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ствовать правильному формированию свода стоп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Прямоугольник 14"/>
          <p:cNvSpPr/>
          <p:nvPr/>
        </p:nvSpPr>
        <p:spPr>
          <a:xfrm>
            <a:off x="2057400" y="5791320"/>
            <a:ext cx="6400800" cy="106668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одить коррекцию плоскостопия и косолап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8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Солнце 3"/>
          <p:cNvSpPr/>
          <p:nvPr/>
        </p:nvSpPr>
        <p:spPr>
          <a:xfrm>
            <a:off x="2514600" y="2286000"/>
            <a:ext cx="411480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02c"/>
                </a:solidFill>
                <a:latin typeface="Times New Roman"/>
                <a:ea typeface="Times New Roman"/>
              </a:rPr>
              <a:t>Принцип построения програм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Выноска-облако 4"/>
          <p:cNvSpPr/>
          <p:nvPr/>
        </p:nvSpPr>
        <p:spPr>
          <a:xfrm>
            <a:off x="0" y="2057400"/>
            <a:ext cx="2514600" cy="1447920"/>
          </a:xfrm>
          <a:prstGeom prst="cloudCallout">
            <a:avLst>
              <a:gd name="adj1" fmla="val -26342"/>
              <a:gd name="adj2" fmla="val 6999"/>
            </a:avLst>
          </a:prstGeom>
          <a:solidFill>
            <a:srgbClr val="00b0f0"/>
          </a:solidFill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наглядности и доступ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Выноска-облако 6"/>
          <p:cNvSpPr/>
          <p:nvPr/>
        </p:nvSpPr>
        <p:spPr>
          <a:xfrm>
            <a:off x="5715000" y="5562720"/>
            <a:ext cx="2743200" cy="1295280"/>
          </a:xfrm>
          <a:prstGeom prst="cloudCallout">
            <a:avLst>
              <a:gd name="adj1" fmla="val -32745"/>
              <a:gd name="adj2" fmla="val 7953"/>
            </a:avLst>
          </a:prstGeom>
          <a:solidFill>
            <a:srgbClr val="00b0f0"/>
          </a:solidFill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от простого к сложном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Выноска-облако 7"/>
          <p:cNvSpPr/>
          <p:nvPr/>
        </p:nvSpPr>
        <p:spPr>
          <a:xfrm>
            <a:off x="0" y="609480"/>
            <a:ext cx="3124080" cy="1371600"/>
          </a:xfrm>
          <a:prstGeom prst="cloudCallout">
            <a:avLst>
              <a:gd name="adj1" fmla="val -26592"/>
              <a:gd name="adj2" fmla="val -990"/>
            </a:avLst>
          </a:prstGeom>
          <a:solidFill>
            <a:srgbClr val="00b0f0"/>
          </a:solidFill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сочетания общего и специального воздейст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Выноска-облако 8"/>
          <p:cNvSpPr/>
          <p:nvPr/>
        </p:nvSpPr>
        <p:spPr>
          <a:xfrm>
            <a:off x="2209680" y="5410080"/>
            <a:ext cx="3505320" cy="1447920"/>
          </a:xfrm>
          <a:prstGeom prst="cloudCallout">
            <a:avLst>
              <a:gd name="adj1" fmla="val -21337"/>
              <a:gd name="adj2" fmla="val 15745"/>
            </a:avLst>
          </a:prstGeom>
          <a:solidFill>
            <a:srgbClr val="00b0f0"/>
          </a:solidFill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чередования, или рассеянной мышечной нагруз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Выноска-облако 9"/>
          <p:cNvSpPr/>
          <p:nvPr/>
        </p:nvSpPr>
        <p:spPr>
          <a:xfrm>
            <a:off x="228600" y="3505320"/>
            <a:ext cx="2895480" cy="1523880"/>
          </a:xfrm>
          <a:prstGeom prst="cloudCallout">
            <a:avLst>
              <a:gd name="adj1" fmla="val -35273"/>
              <a:gd name="adj2" fmla="val -15824"/>
            </a:avLst>
          </a:prstGeom>
          <a:solidFill>
            <a:srgbClr val="00b0f0"/>
          </a:solidFill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индивидуального подхода к каждому ребенк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Выноска-облако 10"/>
          <p:cNvSpPr/>
          <p:nvPr/>
        </p:nvSpPr>
        <p:spPr>
          <a:xfrm>
            <a:off x="0" y="5105520"/>
            <a:ext cx="2743200" cy="1143000"/>
          </a:xfrm>
          <a:prstGeom prst="cloudCallout">
            <a:avLst>
              <a:gd name="adj1" fmla="val -21337"/>
              <a:gd name="adj2" fmla="val -2953"/>
            </a:avLst>
          </a:prstGeom>
          <a:solidFill>
            <a:srgbClr val="00b0f0"/>
          </a:solidFill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учета возрастного развития движ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Выноска-облако 11"/>
          <p:cNvSpPr/>
          <p:nvPr/>
        </p:nvSpPr>
        <p:spPr>
          <a:xfrm>
            <a:off x="6095880" y="2971800"/>
            <a:ext cx="3048120" cy="1143000"/>
          </a:xfrm>
          <a:prstGeom prst="cloudCallout">
            <a:avLst>
              <a:gd name="adj1" fmla="val -18560"/>
              <a:gd name="adj2" fmla="val -1740"/>
            </a:avLst>
          </a:prstGeom>
          <a:solidFill>
            <a:srgbClr val="00b0f0"/>
          </a:solidFill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синкретич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Выноска-облако 12"/>
          <p:cNvSpPr/>
          <p:nvPr/>
        </p:nvSpPr>
        <p:spPr>
          <a:xfrm>
            <a:off x="6248520" y="4038480"/>
            <a:ext cx="2895480" cy="1447920"/>
          </a:xfrm>
          <a:prstGeom prst="cloudCallout">
            <a:avLst>
              <a:gd name="adj1" fmla="val -20833"/>
              <a:gd name="adj2" fmla="val -7356"/>
            </a:avLst>
          </a:prstGeom>
          <a:solidFill>
            <a:srgbClr val="00b0f0"/>
          </a:solidFill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творческой направл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Выноска-облако 13"/>
          <p:cNvSpPr/>
          <p:nvPr/>
        </p:nvSpPr>
        <p:spPr>
          <a:xfrm>
            <a:off x="5943600" y="1676520"/>
            <a:ext cx="3048120" cy="1371600"/>
          </a:xfrm>
          <a:prstGeom prst="cloudCallout">
            <a:avLst>
              <a:gd name="adj1" fmla="val -26740"/>
              <a:gd name="adj2" fmla="val -5175"/>
            </a:avLst>
          </a:prstGeom>
          <a:solidFill>
            <a:srgbClr val="00b0f0"/>
          </a:solidFill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индивидуально-дифференцированного подх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Выноска-облако 14"/>
          <p:cNvSpPr/>
          <p:nvPr/>
        </p:nvSpPr>
        <p:spPr>
          <a:xfrm>
            <a:off x="6400800" y="380880"/>
            <a:ext cx="2743200" cy="1219320"/>
          </a:xfrm>
          <a:prstGeom prst="cloudCallout">
            <a:avLst>
              <a:gd name="adj1" fmla="val -18814"/>
              <a:gd name="adj2" fmla="val -9092"/>
            </a:avLst>
          </a:prstGeom>
          <a:solidFill>
            <a:srgbClr val="00b0f0"/>
          </a:solidFill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сознательности и актив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Выноска-облако 15"/>
          <p:cNvSpPr/>
          <p:nvPr/>
        </p:nvSpPr>
        <p:spPr>
          <a:xfrm>
            <a:off x="3048120" y="0"/>
            <a:ext cx="3200400" cy="1523880"/>
          </a:xfrm>
          <a:prstGeom prst="cloudCallout">
            <a:avLst>
              <a:gd name="adj1" fmla="val -32023"/>
              <a:gd name="adj2" fmla="val -6185"/>
            </a:avLst>
          </a:prstGeom>
          <a:solidFill>
            <a:srgbClr val="00b0f0"/>
          </a:solidFill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последовательности и систематич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Заголовок 1" descr=""/>
          <p:cNvPicPr/>
          <p:nvPr/>
        </p:nvPicPr>
        <p:blipFill>
          <a:blip r:embed="rId1"/>
          <a:stretch/>
        </p:blipFill>
        <p:spPr>
          <a:xfrm>
            <a:off x="324000" y="225360"/>
            <a:ext cx="7454880" cy="938160"/>
          </a:xfrm>
          <a:prstGeom prst="rect">
            <a:avLst/>
          </a:prstGeom>
          <a:ln w="0">
            <a:noFill/>
          </a:ln>
        </p:spPr>
      </p:pic>
      <p:pic>
        <p:nvPicPr>
          <p:cNvPr id="906" name="Содержимое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2432160" y="225360"/>
            <a:ext cx="6718320" cy="6480360"/>
          </a:xfrm>
          <a:prstGeom prst="rect">
            <a:avLst/>
          </a:prstGeom>
          <a:ln w="0">
            <a:noFill/>
          </a:ln>
        </p:spPr>
      </p:pic>
      <p:sp>
        <p:nvSpPr>
          <p:cNvPr id="907" name="Стрелка вправо 3"/>
          <p:cNvSpPr/>
          <p:nvPr/>
        </p:nvSpPr>
        <p:spPr>
          <a:xfrm>
            <a:off x="838080" y="1371600"/>
            <a:ext cx="1295640" cy="8380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b050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Стрелка вправо 9"/>
          <p:cNvSpPr/>
          <p:nvPr/>
        </p:nvSpPr>
        <p:spPr>
          <a:xfrm>
            <a:off x="685800" y="3505320"/>
            <a:ext cx="1295280" cy="8380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00b050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Стрелка вправо 10"/>
          <p:cNvSpPr/>
          <p:nvPr/>
        </p:nvSpPr>
        <p:spPr>
          <a:xfrm>
            <a:off x="685800" y="2590920"/>
            <a:ext cx="1295280" cy="8380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00b050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Стрелка вправо 11"/>
          <p:cNvSpPr/>
          <p:nvPr/>
        </p:nvSpPr>
        <p:spPr>
          <a:xfrm>
            <a:off x="685800" y="4495680"/>
            <a:ext cx="1295280" cy="8384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50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Стрелка вправо 12"/>
          <p:cNvSpPr/>
          <p:nvPr/>
        </p:nvSpPr>
        <p:spPr>
          <a:xfrm>
            <a:off x="685800" y="5486400"/>
            <a:ext cx="1295280" cy="8380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00b050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Заголовок 1" descr=""/>
          <p:cNvPicPr/>
          <p:nvPr/>
        </p:nvPicPr>
        <p:blipFill>
          <a:blip r:embed="rId1"/>
          <a:stretch/>
        </p:blipFill>
        <p:spPr>
          <a:xfrm>
            <a:off x="1444680" y="-6480"/>
            <a:ext cx="6692760" cy="1768680"/>
          </a:xfrm>
          <a:prstGeom prst="rect">
            <a:avLst/>
          </a:prstGeom>
          <a:ln w="0">
            <a:noFill/>
          </a:ln>
        </p:spPr>
      </p:pic>
      <p:sp>
        <p:nvSpPr>
          <p:cNvPr id="913" name="Прямоугольник 3"/>
          <p:cNvSpPr/>
          <p:nvPr/>
        </p:nvSpPr>
        <p:spPr>
          <a:xfrm>
            <a:off x="1219320" y="1523880"/>
            <a:ext cx="7543800" cy="106704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ЕИВАНИЕ НАГРУЗКИ (Т.Е. НЕОБХАДИМО ЧЕРЕДОВАТЬ УПРАЖНЕНИЯ ДЛЯ РАЗЛИЧНЫХ МЫШЕЧНЫХ ГРУПП: ВЕРХНИХ И НИЖНИХ КОНЕЧНОСТЕЙ, МЫШЦ СПИНЫ И БРЮШНОГО ПРЕССА, МЫШЦ ШЕИ И ГРУДНЫХ МЫШЦ И Т.Д.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Прямоугольник 7"/>
          <p:cNvSpPr/>
          <p:nvPr/>
        </p:nvSpPr>
        <p:spPr>
          <a:xfrm>
            <a:off x="1905120" y="2743200"/>
            <a:ext cx="6858000" cy="106668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ЕПЕННЫЙ ПЕРЕХОД ОТ ПРОСТЫХ УПРАЖНЕ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 БОЛЕЕ СЛОЖН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Прямоугольник 8"/>
          <p:cNvSpPr/>
          <p:nvPr/>
        </p:nvSpPr>
        <p:spPr>
          <a:xfrm>
            <a:off x="2209680" y="3962520"/>
            <a:ext cx="6553440" cy="106668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ЕПЕННОЕ УВЕЛИЧЕНИЕ НАГРУЗ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Прямоугольник 9"/>
          <p:cNvSpPr/>
          <p:nvPr/>
        </p:nvSpPr>
        <p:spPr>
          <a:xfrm>
            <a:off x="2590920" y="5181480"/>
            <a:ext cx="6172200" cy="1067040"/>
          </a:xfrm>
          <a:prstGeom prst="rect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ДЫХАТЕЛЬНЫХ УПРАЖНЕНИЙ ПОСЛЕ ИНТЕНСИВНЫХ, ТРУДНЫХ УПРАЖНЕНИЙ И УПРАЖНЕНИЙ, ПРИ КОТОРЫХ ГЛУБОКОЕ ДЫХАНИЕ ЗАТРУДНЕ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Заголовок 1" descr=""/>
          <p:cNvPicPr/>
          <p:nvPr/>
        </p:nvPicPr>
        <p:blipFill>
          <a:blip r:embed="rId1"/>
          <a:stretch/>
        </p:blipFill>
        <p:spPr>
          <a:xfrm>
            <a:off x="1268280" y="549360"/>
            <a:ext cx="6815160" cy="1212840"/>
          </a:xfrm>
          <a:prstGeom prst="rect">
            <a:avLst/>
          </a:prstGeom>
          <a:ln w="0">
            <a:noFill/>
          </a:ln>
        </p:spPr>
      </p:pic>
      <p:pic>
        <p:nvPicPr>
          <p:cNvPr id="918" name="Содержимое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2664000" y="1212840"/>
            <a:ext cx="6486480" cy="5164200"/>
          </a:xfrm>
          <a:prstGeom prst="rect">
            <a:avLst/>
          </a:prstGeom>
          <a:ln w="0">
            <a:noFill/>
          </a:ln>
        </p:spPr>
      </p:pic>
      <p:sp>
        <p:nvSpPr>
          <p:cNvPr id="919" name="Блок-схема: память с посл. доступом 3"/>
          <p:cNvSpPr/>
          <p:nvPr/>
        </p:nvSpPr>
        <p:spPr>
          <a:xfrm>
            <a:off x="380880" y="1523880"/>
            <a:ext cx="1905120" cy="1067040"/>
          </a:xfrm>
          <a:prstGeom prst="flowChartMagneticTape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Блок-схема: память с посл. доступом 4"/>
          <p:cNvSpPr/>
          <p:nvPr/>
        </p:nvSpPr>
        <p:spPr>
          <a:xfrm>
            <a:off x="533520" y="2743200"/>
            <a:ext cx="1676160" cy="1143000"/>
          </a:xfrm>
          <a:prstGeom prst="flowChartMagneticTape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Блок-схема: память с посл. доступом 5"/>
          <p:cNvSpPr/>
          <p:nvPr/>
        </p:nvSpPr>
        <p:spPr>
          <a:xfrm>
            <a:off x="609480" y="4038480"/>
            <a:ext cx="1828800" cy="1069920"/>
          </a:xfrm>
          <a:prstGeom prst="flowChartMagneticTape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Блок-схема: память с посл. доступом 6"/>
          <p:cNvSpPr/>
          <p:nvPr/>
        </p:nvSpPr>
        <p:spPr>
          <a:xfrm>
            <a:off x="609480" y="5410080"/>
            <a:ext cx="1981440" cy="1143000"/>
          </a:xfrm>
          <a:prstGeom prst="flowChartMagneticTape">
            <a:avLst/>
          </a:prstGeom>
          <a:solidFill>
            <a:srgbClr val="4203e7"/>
          </a:solidFill>
          <a:ln w="44280">
            <a:solidFill>
              <a:srgbClr val="2a00b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394840" cy="878040"/>
          </a:xfrm>
          <a:prstGeom prst="rect">
            <a:avLst/>
          </a:prstGeom>
          <a:ln w="0">
            <a:noFill/>
          </a:ln>
        </p:spPr>
      </p:pic>
      <p:pic>
        <p:nvPicPr>
          <p:cNvPr id="924" name="Содержимое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450720" y="1212840"/>
            <a:ext cx="824256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83680" cy="184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6" name=""/>
          <p:cNvGraphicFramePr/>
          <p:nvPr/>
        </p:nvGraphicFramePr>
        <p:xfrm>
          <a:off x="228600" y="2286000"/>
          <a:ext cx="8534520" cy="3382920"/>
        </p:xfrm>
        <a:graphic>
          <a:graphicData uri="http://schemas.openxmlformats.org/drawingml/2006/table">
            <a:tbl>
              <a:tblPr/>
              <a:tblGrid>
                <a:gridCol w="1422360"/>
                <a:gridCol w="1015920"/>
                <a:gridCol w="838440"/>
                <a:gridCol w="1447560"/>
                <a:gridCol w="1600200"/>
                <a:gridCol w="1105200"/>
                <a:gridCol w="1104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-2008 уч.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-2009 уч.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 – 2013 уч.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Конец г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Конец г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Конец г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Высо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Средн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cb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Низ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c002c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7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mp</cp:lastModifiedBy>
  <dcterms:modified xsi:type="dcterms:W3CDTF">2013-02-12T08:20:2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